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531-CB35-48F9-99B6-DE6D7CC2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619-E540-4174-AF89-296FE329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063-F5C3-49AB-81F0-5E4DEC6B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37F1-B43C-437F-9E5C-2E48E382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853-2E2C-49D2-8F9E-CD2004A1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02C-6C8D-4C10-B799-172514FB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D879-0C1F-4553-B444-8774BB7A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0092-E2D1-4009-9153-514CA56F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1EE-D660-4930-9D5E-D43618E0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07CF-97F6-41F5-BD84-ADA1B92A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BEAE-C176-4A3E-A1ED-59998BC3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566-108E-4236-93F4-EB8EE338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4A9E-82BF-4F00-BBFC-093D89F9A2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5" descr=""/>
          <p:cNvPicPr/>
          <p:nvPr/>
        </p:nvPicPr>
        <p:blipFill>
          <a:blip r:embed="rId2"/>
          <a:stretch/>
        </p:blipFill>
        <p:spPr>
          <a:xfrm>
            <a:off x="900000" y="3357720"/>
            <a:ext cx="3060720" cy="95724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1593720" y="1890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雅致花朵毕业论文答辩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79280" y="6308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14T12:54:20Z</dcterms:modified>
  <cp:revision>2</cp:revision>
  <dc:subject/>
  <dc:title>PowerPoint 演示文稿</dc:title>
</cp:coreProperties>
</file>