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39484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ppt_汇元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Line 7"/>
          <p:cNvSpPr/>
          <p:nvPr/>
        </p:nvSpPr>
        <p:spPr>
          <a:xfrm>
            <a:off x="7039080" y="6391440"/>
            <a:ext cx="0" cy="46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" name="Picture 9" descr="logo_white"/>
          <p:cNvPicPr/>
          <p:nvPr/>
        </p:nvPicPr>
        <p:blipFill>
          <a:blip r:embed="rId3"/>
          <a:stretch/>
        </p:blipFill>
        <p:spPr>
          <a:xfrm>
            <a:off x="403200" y="6410160"/>
            <a:ext cx="1079640" cy="357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1kat_white"/>
          <p:cNvPicPr/>
          <p:nvPr/>
        </p:nvPicPr>
        <p:blipFill>
          <a:blip r:embed="rId4"/>
          <a:stretch/>
        </p:blipFill>
        <p:spPr>
          <a:xfrm>
            <a:off x="7139160" y="6424560"/>
            <a:ext cx="1712880" cy="3571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1" descr="1haot_white"/>
          <p:cNvPicPr/>
          <p:nvPr/>
        </p:nvPicPr>
        <p:blipFill>
          <a:blip r:embed="rId5"/>
          <a:stretch/>
        </p:blipFill>
        <p:spPr>
          <a:xfrm>
            <a:off x="3562200" y="6440400"/>
            <a:ext cx="162576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4118040" y="1440"/>
            <a:ext cx="4798800" cy="4113360"/>
          </a:xfrm>
          <a:prstGeom prst="rect">
            <a:avLst/>
          </a:prstGeom>
          <a:solidFill>
            <a:srgbClr val="c7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4236120" y="127080"/>
            <a:ext cx="663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H 4.5”</a:t>
            </a:r>
            <a:endParaRPr b="1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: 5.25”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osition:</a:t>
            </a:r>
            <a:endParaRPr b="1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H: 4.5”</a:t>
            </a:r>
            <a:endParaRPr b="1" lang="en-US" sz="10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V: 0</a:t>
            </a:r>
            <a:endParaRPr b="1" lang="en-US" sz="1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Line 48"/>
          <p:cNvSpPr/>
          <p:nvPr/>
        </p:nvSpPr>
        <p:spPr>
          <a:xfrm>
            <a:off x="7039080" y="6391440"/>
            <a:ext cx="0" cy="46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169920" y="6560640"/>
            <a:ext cx="37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D443-1E4F-474F-880E-7CE8B76910BA}" type="slidenum">
              <a:rPr b="1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1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body"/>
          </p:nvPr>
        </p:nvSpPr>
        <p:spPr>
          <a:xfrm>
            <a:off x="193680" y="2039400"/>
            <a:ext cx="387360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0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Line 39"/>
          <p:cNvSpPr/>
          <p:nvPr/>
        </p:nvSpPr>
        <p:spPr>
          <a:xfrm>
            <a:off x="7039080" y="6391440"/>
            <a:ext cx="0" cy="46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" name="Rectangle 40"/>
          <p:cNvSpPr/>
          <p:nvPr/>
        </p:nvSpPr>
        <p:spPr>
          <a:xfrm>
            <a:off x="169920" y="6560640"/>
            <a:ext cx="37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617A-7D73-42A4-BE5F-0824DFA3BAEA}" type="slidenum">
              <a:rPr b="1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1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body"/>
          </p:nvPr>
        </p:nvSpPr>
        <p:spPr>
          <a:xfrm>
            <a:off x="190080" y="2037960"/>
            <a:ext cx="3876840" cy="126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title"/>
          </p:nvPr>
        </p:nvSpPr>
        <p:spPr>
          <a:xfrm>
            <a:off x="255600" y="766800"/>
            <a:ext cx="3795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Line 42"/>
          <p:cNvSpPr/>
          <p:nvPr/>
        </p:nvSpPr>
        <p:spPr>
          <a:xfrm>
            <a:off x="7039080" y="6391440"/>
            <a:ext cx="0" cy="46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169920" y="6560640"/>
            <a:ext cx="37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3FE0-BCCB-46A6-BF66-F9D9CD694973}" type="slidenum">
              <a:rPr b="1" lang="zh-CN" sz="11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1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255600" y="3981240"/>
            <a:ext cx="381168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4195800" y="3865320"/>
            <a:ext cx="4718160" cy="106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-565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7680" indent="-1681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17424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84760" indent="-166320">
              <a:spcBef>
                <a:spcPts val="50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ppt_汇元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394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矩形 6"/>
          <p:cNvSpPr/>
          <p:nvPr/>
        </p:nvSpPr>
        <p:spPr>
          <a:xfrm>
            <a:off x="1407600" y="1228680"/>
            <a:ext cx="58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汉仪大隶书简"/>
                <a:ea typeface="汉仪大隶书简"/>
              </a:rPr>
              <a:t>雅致闲逸中国风</a:t>
            </a:r>
            <a:r>
              <a:rPr b="0" lang="en-US" sz="4400" spc="-1" strike="noStrike">
                <a:solidFill>
                  <a:srgbClr val="c00000"/>
                </a:solidFill>
                <a:latin typeface="汉仪大隶书简"/>
                <a:ea typeface="汉仪大隶书简"/>
              </a:rPr>
              <a:t>PPT</a:t>
            </a:r>
            <a:r>
              <a:rPr b="0" lang="zh-CN" sz="4400" spc="-1" strike="noStrike">
                <a:solidFill>
                  <a:srgbClr val="c00000"/>
                </a:solidFill>
                <a:latin typeface="汉仪大隶书简"/>
                <a:ea typeface="汉仪大隶书简"/>
              </a:rPr>
              <a:t>模板在线下载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矩形 3"/>
          <p:cNvSpPr/>
          <p:nvPr/>
        </p:nvSpPr>
        <p:spPr>
          <a:xfrm>
            <a:off x="599544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修  性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4" name="矩形 4"/>
          <p:cNvSpPr/>
          <p:nvPr/>
        </p:nvSpPr>
        <p:spPr>
          <a:xfrm>
            <a:off x="2654280" y="1968480"/>
            <a:ext cx="596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依修行始能成就者，称为修；不待修行而本来具足者，称为性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修性者以正浩然气，开心胸之广阔，以己度人，淡泊功利，则德高才重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矩形 1"/>
          <p:cNvSpPr/>
          <p:nvPr/>
        </p:nvSpPr>
        <p:spPr>
          <a:xfrm>
            <a:off x="316332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帷  谋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6" name="矩形 2"/>
          <p:cNvSpPr/>
          <p:nvPr/>
        </p:nvSpPr>
        <p:spPr>
          <a:xfrm>
            <a:off x="1768320" y="1968480"/>
            <a:ext cx="59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运筹帷幄之中，制胜於无形。”帷谋者以机，勤思善辩，先听而后言，观不语谋后动，不惟小利而诱，不以局部而动全身，则谋国之栋梁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矩形 1"/>
          <p:cNvSpPr/>
          <p:nvPr/>
        </p:nvSpPr>
        <p:spPr>
          <a:xfrm>
            <a:off x="5284080" y="431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静  心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8" name="矩形 2"/>
          <p:cNvSpPr/>
          <p:nvPr/>
        </p:nvSpPr>
        <p:spPr>
          <a:xfrm>
            <a:off x="2232000" y="1968480"/>
            <a:ext cx="596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心境平则不躁，心静则心态平；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人之劣根惟情绪矣，平心静气，感悟知觉，戒浮戒躁，养自信以自强，则生生不息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矩形 1"/>
          <p:cNvSpPr/>
          <p:nvPr/>
        </p:nvSpPr>
        <p:spPr>
          <a:xfrm>
            <a:off x="5258880" y="444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哺  德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1" name="矩形 2"/>
          <p:cNvSpPr/>
          <p:nvPr/>
        </p:nvSpPr>
        <p:spPr>
          <a:xfrm>
            <a:off x="2378160" y="1790640"/>
            <a:ext cx="596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持德以恒，惟有德者人敬之；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德既素养，质高则才备，予人以善，持公心戒私心，益人益事，亲民乐助，则德行无量。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494000" y="829800"/>
            <a:ext cx="61560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 </a:t>
            </a:r>
            <a:r>
              <a:rPr b="1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8:58:30Z</dcterms:created>
  <dc:creator>ybh</dc:creator>
  <dc:description/>
  <dc:language>en-US</dc:language>
  <cp:lastModifiedBy>yu wang</cp:lastModifiedBy>
  <dcterms:modified xsi:type="dcterms:W3CDTF">2015-08-14T12:54:24Z</dcterms:modified>
  <cp:revision>251</cp:revision>
  <dc:subject/>
  <dc:title>Slide 1</dc:title>
</cp:coreProperties>
</file>