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9592-B241-4A60-B543-6692C919969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A55-C187-486A-B067-937A0F7EBF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4E9-5C59-4044-A974-6DD15903D3D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BA3-4A3D-4B5E-8969-8BE96C461F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093-57E9-4264-9D6B-377AAAE8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BF4-9207-4131-B8BB-D2B4432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F0C-C39C-48F2-A28A-98980D52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A27-CCCA-4C57-ADF8-09C180F8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29B-2D5B-437C-B333-FD79B3C0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0D55-D6E8-4142-9F31-04E2ADE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524-73C1-43BF-8BEE-47ED64E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E84E-1B26-46CE-A1C4-2FED1DCE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207-B075-465C-BCE1-9FD05F9D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7640" y="404640"/>
            <a:ext cx="8280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43C9-F9B2-42F6-95A6-906385F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2556-CC30-48F9-8B61-AA554C1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F48-0563-43FA-9C8E-917A4C5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66A8-6EFD-422B-AAE1-C5B32864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0C09-9D95-4852-BD03-F7B7849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349-44BF-4614-BBFE-709A350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2B32-8395-49C5-889C-FFE23303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09240"/>
            <a:ext cx="264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736-AC97-4E8B-A2F9-1B0B84D1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BD4-D460-42B5-BDCB-564A8DD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9D2-507C-4702-9FDB-175174D3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58E-6633-40F1-AFB4-5CAA55E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7640" y="404640"/>
            <a:ext cx="8280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7BF-DB23-4B61-91E0-ABE807AA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204-D302-46BF-8EF8-697C5DC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0924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E32-4A53-488A-8466-5D60C06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365400"/>
            <a:ext cx="828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09240"/>
            <a:ext cx="82296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B9B-3DCA-416F-BE03-A6D0ABB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"/>
          <p:cNvSpPr/>
          <p:nvPr/>
        </p:nvSpPr>
        <p:spPr>
          <a:xfrm>
            <a:off x="-11160" y="79200"/>
            <a:ext cx="9155160" cy="162108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-20520" y="3319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9F8-26AB-4A34-96B4-DB93D521B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0" y="105264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10152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7"/>
          <p:cNvSpPr/>
          <p:nvPr/>
        </p:nvSpPr>
        <p:spPr>
          <a:xfrm>
            <a:off x="8500680" y="6583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A0D-B264-4650-BD5D-61BF692E2299}" type="slidenum">
              <a:rPr b="1" lang="zh-CN" sz="12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" name="ShockwaveFlash1"/>
          <p:cNvGraphicFramePr/>
          <p:nvPr/>
        </p:nvGraphicFramePr>
        <p:xfrm>
          <a:off x="108000" y="6553080"/>
          <a:ext cx="468360" cy="2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6553080"/>
                    <a:ext cx="46836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Picture 20" descr=""/>
          <p:cNvPicPr/>
          <p:nvPr/>
        </p:nvPicPr>
        <p:blipFill>
          <a:blip r:embed="rId7"/>
          <a:stretch/>
        </p:blipFill>
        <p:spPr>
          <a:xfrm>
            <a:off x="7091280" y="-587520"/>
            <a:ext cx="2017800" cy="15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>
            <a:hlinkClick r:id="rId3" action="ppaction://hlinksldjump"/>
          </p:cNvPr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250920" y="333360"/>
            <a:ext cx="1079280" cy="696600"/>
            <a:chOff x="250920" y="333360"/>
            <a:chExt cx="1079280" cy="696600"/>
          </a:xfrm>
        </p:grpSpPr>
        <p:sp>
          <p:nvSpPr>
            <p:cNvPr id="54" name="Text Box 17"/>
            <p:cNvSpPr/>
            <p:nvPr/>
          </p:nvSpPr>
          <p:spPr>
            <a:xfrm>
              <a:off x="250920" y="5094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33da9"/>
                  </a:solidFill>
                  <a:latin typeface="Arial"/>
                </a:rPr>
                <a:t>U</a:t>
              </a:r>
              <a:r>
                <a:rPr b="1" lang="en-US" sz="2800" spc="-1" strike="noStrike">
                  <a:solidFill>
                    <a:srgbClr val="233da9"/>
                  </a:solidFill>
                  <a:latin typeface="Arial"/>
                </a:rPr>
                <a:t>e</a:t>
              </a:r>
              <a:r>
                <a:rPr b="1" lang="en-US" sz="2000" spc="-1" strike="noStrike">
                  <a:solidFill>
                    <a:srgbClr val="233da9"/>
                  </a:solidFill>
                  <a:latin typeface="Arial"/>
                </a:rPr>
                <a:t>S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8"/>
            <p:cNvSpPr/>
            <p:nvPr/>
          </p:nvSpPr>
          <p:spPr>
            <a:xfrm rot="5400000">
              <a:off x="643680" y="39600"/>
              <a:ext cx="272880" cy="86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30" descr=""/>
          <p:cNvPicPr/>
          <p:nvPr/>
        </p:nvPicPr>
        <p:blipFill>
          <a:blip r:embed="rId4"/>
          <a:stretch/>
        </p:blipFill>
        <p:spPr>
          <a:xfrm>
            <a:off x="7091280" y="620640"/>
            <a:ext cx="2017800" cy="1568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B3BB-F9BB-4659-8935-AE6D5D98BF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20.xml"/><Relationship Id="rId6" Type="http://schemas.openxmlformats.org/officeDocument/2006/relationships/slide" Target="slide26.xml"/><Relationship Id="rId7" Type="http://schemas.openxmlformats.org/officeDocument/2006/relationships/slide" Target="slide40.xml"/><Relationship Id="rId8" Type="http://schemas.openxmlformats.org/officeDocument/2006/relationships/slide" Target="slide45.xml"/><Relationship Id="rId9" Type="http://schemas.openxmlformats.org/officeDocument/2006/relationships/slide" Target="slide3.xml"/><Relationship Id="rId10" Type="http://schemas.openxmlformats.org/officeDocument/2006/relationships/hyperlink" Target="http://www.eeppt.com/" TargetMode="External"/><Relationship Id="rId11" Type="http://schemas.openxmlformats.org/officeDocument/2006/relationships/hyperlink" Target="http://www.eeppt.com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20640"/>
            <a:ext cx="770436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Unicode MS"/>
              </a:rPr>
              <a:t>自动化工程学院答辩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Unicode MS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627280" y="3716280"/>
            <a:ext cx="55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专    业：测试计量技术及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答辩人：黄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导    师：黄琦   副教授  博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alkPt"/>
          <p:cNvPicPr/>
          <p:nvPr/>
        </p:nvPicPr>
        <p:blipFill>
          <a:blip r:embed="rId1"/>
          <a:srcRect l="18102" t="0" r="17900" b="26998"/>
          <a:stretch/>
        </p:blipFill>
        <p:spPr>
          <a:xfrm>
            <a:off x="1042920" y="3860640"/>
            <a:ext cx="1476360" cy="1373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2484360" y="5877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子科技大学自动化工程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26920" y="1989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828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</a:rPr>
              <a:t>答辩提纲</a:t>
            </a:r>
            <a:endParaRPr b="1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6264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" action="ppaction://hlinksldjump"/>
              </a:rPr>
              <a:t>课题背景及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2" action="ppaction://hlinksldjump"/>
              </a:rPr>
              <a:t>控制器需求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3" action="ppaction://hlinksldjump"/>
              </a:rPr>
              <a:t>控制器总体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4" action="ppaction://hlinksldjump"/>
              </a:rPr>
              <a:t>斩波电路设计与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5" action="ppaction://hlinksldjump"/>
              </a:rPr>
              <a:t>控制器控制电路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6" action="ppaction://hlinksldjump"/>
              </a:rPr>
              <a:t>控制器软件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7" action="ppaction://hlinksldjump"/>
              </a:rPr>
              <a:t>控制器测试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8" action="ppaction://hlinksldjump"/>
              </a:rPr>
              <a:t>总结及下一步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9" action="ppaction://hlinksldjump"/>
              </a:rPr>
              <a:t>致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9640" y="6462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7da0d3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845964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感谢各位专家！</a:t>
            </a:r>
            <a:endParaRPr b="1" lang="en-US" sz="8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16000" y="3789360"/>
            <a:ext cx="7704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电子科技大学对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的培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各位老师、同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我的导师黄琦老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谢我的父母、家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Unicode MS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da0d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7da0d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1T07:48:56Z</dcterms:created>
  <dc:creator>孟静</dc:creator>
  <dc:description/>
  <dc:language>en-US</dc:language>
  <cp:lastModifiedBy>yu wang</cp:lastModifiedBy>
  <dcterms:modified xsi:type="dcterms:W3CDTF">2015-08-14T12:53:54Z</dcterms:modified>
  <cp:revision>142</cp:revision>
  <dc:subject/>
  <dc:title>第四章  外存管理和文件系统</dc:title>
</cp:coreProperties>
</file>