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232-8D5B-483F-B0AD-512CD2E3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10400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0D6-7190-41FF-AEB0-D7C0A1F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4264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275-6920-4CF4-9922-806C0A36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424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9076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424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9076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4A8-69D2-4954-B1B8-246A0655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BF55-222D-445B-978D-C6B66B98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5E32-82DF-41D3-9206-14539190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C79-85C5-470D-A56C-BBD20B1A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58C0-D22C-4F49-9D7B-0C640400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CAEE-EFCE-46B7-B3BB-8EB1E5B8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6537-7D08-4722-930C-FE2BA2E8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FFE2-8639-4482-BFDA-CB5A6AC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A846-E7AD-42CA-965A-5A53CDD9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4264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6E2A-B19C-426E-BEDE-E47465D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903-E879-4240-B8B1-C77A7CD2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7720" y="410400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C3A2-52DA-4447-A3F8-2070950F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4264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A8F9-65DA-452B-83DE-4717C2BC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1424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90760" y="167616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772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1424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90760" y="4104000"/>
            <a:ext cx="2453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E360-6E19-4656-9FC4-B1571D68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117-ECC8-48C2-8E69-81ED6A9B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1980-0BEB-4FD6-BF48-32891165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1AFD-12DD-467C-AD8B-6226491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360" y="228240"/>
            <a:ext cx="70102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3F8-CB40-48E9-9D6F-B8CC7AE8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A11-84EB-4C61-A96D-3961910B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42640" y="410400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88F3-DB9B-4255-9D31-140BA478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2640" y="1676160"/>
            <a:ext cx="37184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104000"/>
            <a:ext cx="76201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AB77-A212-4B89-8599-136B456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7" descr="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094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0" y="641520"/>
            <a:ext cx="9144000" cy="9180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1440" y="762120"/>
            <a:ext cx="9142560" cy="136656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81F4-59AA-4E7C-8D51-933CCDB08BF0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版权所有  孙同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7724-CE91-485D-AB62-C72847EFB00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38080" y="228600"/>
            <a:ext cx="7365960" cy="797040"/>
          </a:xfrm>
          <a:prstGeom prst="roundRect">
            <a:avLst>
              <a:gd name="adj" fmla="val 41870"/>
            </a:avLst>
          </a:prstGeom>
          <a:gradFill rotWithShape="0">
            <a:gsLst>
              <a:gs pos="0">
                <a:srgbClr val="990099">
                  <a:alpha val="80000"/>
                </a:srgbClr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AutoShape 17"/>
          <p:cNvSpPr/>
          <p:nvPr/>
        </p:nvSpPr>
        <p:spPr>
          <a:xfrm rot="5400000">
            <a:off x="293760" y="-65160"/>
            <a:ext cx="272880" cy="86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d12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10" name="Text Box 25"/>
          <p:cNvSpPr/>
          <p:nvPr/>
        </p:nvSpPr>
        <p:spPr>
          <a:xfrm>
            <a:off x="1066680" y="1523880"/>
            <a:ext cx="609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1440" y="3803760"/>
            <a:ext cx="9142560" cy="1301760"/>
          </a:xfrm>
          <a:prstGeom prst="rect">
            <a:avLst/>
          </a:prstGeom>
          <a:gradFill rotWithShape="0">
            <a:gsLst>
              <a:gs pos="0">
                <a:srgbClr val="81cfeb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48" name="Rectangle 19"/>
          <p:cNvSpPr/>
          <p:nvPr/>
        </p:nvSpPr>
        <p:spPr>
          <a:xfrm>
            <a:off x="0" y="2590920"/>
            <a:ext cx="9144000" cy="1158840"/>
          </a:xfrm>
          <a:prstGeom prst="rect">
            <a:avLst/>
          </a:prstGeom>
          <a:gradFill rotWithShape="0">
            <a:gsLst>
              <a:gs pos="0">
                <a:srgbClr val="3191d3"/>
              </a:gs>
              <a:gs pos="100000">
                <a:srgbClr val="1743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buClr>
                <a:srgbClr val="0d125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4114800" y="5838840"/>
            <a:ext cx="1079640" cy="635760"/>
            <a:chOff x="4114800" y="5838840"/>
            <a:chExt cx="1079640" cy="635760"/>
          </a:xfrm>
        </p:grpSpPr>
        <p:sp>
          <p:nvSpPr>
            <p:cNvPr id="50" name="Text Box 14"/>
            <p:cNvSpPr/>
            <p:nvPr/>
          </p:nvSpPr>
          <p:spPr>
            <a:xfrm>
              <a:off x="4114800" y="60148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d1259"/>
                  </a:solidFill>
                  <a:latin typeface="Arial"/>
                  <a:ea typeface="宋体"/>
                </a:rPr>
                <a:t>LOGO</a:t>
              </a:r>
              <a:endParaRPr b="0" lang="en-US" sz="2400" spc="-1" strike="noStrike">
                <a:solidFill>
                  <a:srgbClr val="0d1259"/>
                </a:solidFill>
                <a:latin typeface="Times New Roman"/>
              </a:endParaRPr>
            </a:p>
          </p:txBody>
        </p:sp>
        <p:sp>
          <p:nvSpPr>
            <p:cNvPr id="51" name="AutoShape 15"/>
            <p:cNvSpPr/>
            <p:nvPr/>
          </p:nvSpPr>
          <p:spPr>
            <a:xfrm rot="5400000">
              <a:off x="4508640" y="55450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1c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1125"/>
                </a:spcBef>
                <a:buClr>
                  <a:srgbClr val="0d125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d1259"/>
                </a:solidFill>
                <a:latin typeface="Times New Roman"/>
              </a:endParaRPr>
            </a:p>
          </p:txBody>
        </p:sp>
      </p:grpSp>
      <p:pic>
        <p:nvPicPr>
          <p:cNvPr id="52" name="Picture 2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622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e4aa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3191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d125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d1259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d1259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1259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d125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EB2F-D96C-474D-85C8-41B1FE033C3E}" type="datetime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d125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FF3-F4DF-4C82-82C7-4CED9A7707B2}" type="slidenum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2882-6A54-4072-AB64-9AE025CE18DE}" type="datetime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6553080" y="64771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D1F7-843D-4416-A7DE-8FEC595EDCDE}" type="slidenum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1</a:t>
            </a:fld>
            <a:endParaRPr b="0" lang="en-US" sz="12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1760" y="2590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华文行楷"/>
              </a:rPr>
              <a:t>炫动线条企业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华文行楷"/>
              </a:rPr>
              <a:t>模板免费下载</a:t>
            </a:r>
            <a:endParaRPr b="0" lang="en-US" sz="40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d125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d125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d12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日期占位符 3"/>
          <p:cNvSpPr/>
          <p:nvPr/>
        </p:nvSpPr>
        <p:spPr>
          <a:xfrm>
            <a:off x="45720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6694-7E75-467D-BE22-404C1DFE5F9A}" type="datetime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99" name="页脚占位符 4"/>
          <p:cNvSpPr/>
          <p:nvPr/>
        </p:nvSpPr>
        <p:spPr>
          <a:xfrm>
            <a:off x="3124080" y="6400800"/>
            <a:ext cx="2895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100" name="灯片编号占位符 5"/>
          <p:cNvSpPr/>
          <p:nvPr/>
        </p:nvSpPr>
        <p:spPr>
          <a:xfrm>
            <a:off x="6553080" y="6400800"/>
            <a:ext cx="2133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985-D642-4EF2-B2A3-6BB18765DA67}" type="slidenum">
              <a:rPr b="0" lang="zh-CN" sz="1200" spc="-1" strike="noStrike">
                <a:solidFill>
                  <a:srgbClr val="0d125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d1259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010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本课程的结构体系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d125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站点介绍：</a:t>
            </a: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黑体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r>
              <a:rPr b="0" lang="zh-CN" sz="1000" spc="-1" strike="noStrike" u="sng">
                <a:solidFill>
                  <a:srgbClr val="6fb7b7"/>
                </a:solidFill>
                <a:uFillTx/>
                <a:latin typeface="黑体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6fb7b7"/>
                </a:solidFill>
                <a:uFillTx/>
                <a:latin typeface="黑体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 </a:t>
            </a: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特别说明：</a:t>
            </a: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黑体"/>
              </a:rPr>
              <a:t>栏目推荐：</a:t>
            </a:r>
            <a:endParaRPr b="0" lang="en-US" sz="10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dongtai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chuangyi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ongzuo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an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shangwu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sucai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fengjing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njie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6fb7b7"/>
                </a:solidFill>
                <a:uFillTx/>
                <a:latin typeface="黑体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jiaoyu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lunwen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黑体"/>
              </a:rPr>
              <a:t>http://www.eeppt.com/moban/yiliao/</a:t>
            </a: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d1259"/>
              </a:solidFill>
              <a:latin typeface="黑体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d125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ppt宝藏</dc:creator>
  <dc:description>版权所有  孙同超</dc:description>
  <dc:language>en-US</dc:language>
  <cp:lastModifiedBy>yu wang</cp:lastModifiedBy>
  <dcterms:modified xsi:type="dcterms:W3CDTF">2015-08-12T14:53:22Z</dcterms:modified>
  <cp:revision>114</cp:revision>
  <dc:subject>CIS</dc:subject>
  <dc:title>www.pptbz.com</dc:title>
</cp:coreProperties>
</file>