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B11A56-AB99-4F68-9144-04B096956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28D070-BB14-4DE2-8882-068DCD4BFB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907-99C3-426A-9E8F-0927EA30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E48-C200-4200-9F60-A021AB5B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692-B155-4A06-B104-E3F5FF20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E0CF-A110-4F19-AE57-85ED54AB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97EB-A31F-41CA-B3EA-B4300E13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F627-C659-4E86-9B2B-BF1957EF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21C4-2A7D-4F2B-B10D-23DFEDC6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42C8-7C68-477C-B32E-2D26EF2F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7BFA-26AA-4F3C-B93F-3A324E32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5704-9F7A-4142-80C2-4134B38F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07F5-81A3-4BB9-8EFB-20D12911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132-AC6B-47D6-9EA2-1AE0B7E8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D892-3729-4BE7-8553-88C15338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B1EA-87A9-4721-BD32-85D3AFFC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C74C-F478-4A2F-B6EE-AFEA6E48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1E5C-53C5-4ECF-AB46-3771457B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F116-9207-4892-99E6-54237F6B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E47-F0B4-4C08-96DB-138E5AB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3D8-BA76-4A65-A421-7B73671A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023-CED7-4258-A289-48164E48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24C-8E8E-478F-9AD9-61523CE6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60E-99B2-4BD2-9455-B4D9ACA0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2EA-6416-46D0-B4CE-C8B622E1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A4E-3D49-4897-B1D6-68BCE8D7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9A9CF1-8B0C-40EA-BF2D-F78B0320AA5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A91F0D-4CF1-4AD1-B183-F0F39A0153B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89" name="矩形 9"/>
          <p:cNvSpPr/>
          <p:nvPr/>
        </p:nvSpPr>
        <p:spPr>
          <a:xfrm>
            <a:off x="4212000" y="2259360"/>
            <a:ext cx="1800000" cy="37663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432360" y="17640"/>
            <a:ext cx="14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白人运动篇第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771560" y="373680"/>
            <a:ext cx="5013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纵观白领们的运动企业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5293440" y="234432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双人车那是小资，如果喜欢可以骑汽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连接符 8"/>
          <p:cNvCxnSpPr/>
          <p:nvPr/>
        </p:nvCxnSpPr>
        <p:spPr>
          <a:xfrm>
            <a:off x="4569480" y="2343960"/>
            <a:ext cx="4035240" cy="18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pic>
        <p:nvPicPr>
          <p:cNvPr id="94" name="Picture 5" descr="J:\关于工作\十月\2010年10月第一周\LOGO3.png"/>
          <p:cNvPicPr/>
          <p:nvPr/>
        </p:nvPicPr>
        <p:blipFill>
          <a:blip r:embed="rId2"/>
          <a:stretch/>
        </p:blipFill>
        <p:spPr>
          <a:xfrm>
            <a:off x="7758720" y="46800"/>
            <a:ext cx="1384920" cy="57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4620960" y="2692440"/>
            <a:ext cx="3960000" cy="1401480"/>
          </a:xfrm>
          <a:prstGeom prst="rect">
            <a:avLst/>
          </a:prstGeom>
          <a:ln w="0">
            <a:noFill/>
          </a:ln>
        </p:spPr>
      </p:pic>
      <p:sp>
        <p:nvSpPr>
          <p:cNvPr id="96" name="矩形 12"/>
          <p:cNvSpPr/>
          <p:nvPr/>
        </p:nvSpPr>
        <p:spPr>
          <a:xfrm>
            <a:off x="612720" y="5363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 flipH="1">
            <a:off x="5446800" y="2061000"/>
            <a:ext cx="3445560" cy="344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5640" y="62388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99" name="矩形 8"/>
          <p:cNvSpPr/>
          <p:nvPr/>
        </p:nvSpPr>
        <p:spPr>
          <a:xfrm>
            <a:off x="4212000" y="2259360"/>
            <a:ext cx="1800000" cy="37663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0" name="直接连接符 36"/>
          <p:cNvCxnSpPr/>
          <p:nvPr/>
        </p:nvCxnSpPr>
        <p:spPr>
          <a:xfrm>
            <a:off x="0" y="5449680"/>
            <a:ext cx="9144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pic>
        <p:nvPicPr>
          <p:cNvPr id="101" name="Picture 5" descr="J:\关于工作\十月\2010年10月第一周\LOGO3.png"/>
          <p:cNvPicPr/>
          <p:nvPr/>
        </p:nvPicPr>
        <p:blipFill>
          <a:blip r:embed="rId3"/>
          <a:stretch/>
        </p:blipFill>
        <p:spPr>
          <a:xfrm>
            <a:off x="7758720" y="19800"/>
            <a:ext cx="1384920" cy="578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0"/>
          <p:cNvSpPr/>
          <p:nvPr/>
        </p:nvSpPr>
        <p:spPr>
          <a:xfrm>
            <a:off x="4502160" y="91332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轻高富帅登山搏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5117400" y="1619640"/>
            <a:ext cx="237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如果不懂的，可以看看杜拉拉升职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接连接符 13"/>
          <p:cNvCxnSpPr/>
          <p:nvPr/>
        </p:nvCxnSpPr>
        <p:spPr>
          <a:xfrm>
            <a:off x="3707280" y="1619640"/>
            <a:ext cx="446544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-1440" y="60876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106" name="矩形 16"/>
          <p:cNvSpPr/>
          <p:nvPr/>
        </p:nvSpPr>
        <p:spPr>
          <a:xfrm>
            <a:off x="4284000" y="2259360"/>
            <a:ext cx="1800000" cy="37663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7" name="直接连接符 5"/>
          <p:cNvCxnSpPr/>
          <p:nvPr/>
        </p:nvCxnSpPr>
        <p:spPr>
          <a:xfrm>
            <a:off x="0" y="5449680"/>
            <a:ext cx="9144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08" name="TextBox 8"/>
          <p:cNvSpPr/>
          <p:nvPr/>
        </p:nvSpPr>
        <p:spPr>
          <a:xfrm>
            <a:off x="5206320" y="768960"/>
            <a:ext cx="3160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打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CS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长大的白领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接连接符 9"/>
          <p:cNvCxnSpPr/>
          <p:nvPr/>
        </p:nvCxnSpPr>
        <p:spPr>
          <a:xfrm>
            <a:off x="4625640" y="1479960"/>
            <a:ext cx="432180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10" name="TextBox 10"/>
          <p:cNvSpPr/>
          <p:nvPr/>
        </p:nvSpPr>
        <p:spPr>
          <a:xfrm>
            <a:off x="6298200" y="1479960"/>
            <a:ext cx="231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 go go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亲这里是中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J:\关于工作\十月\2010年10月第一周\LOGO3.png"/>
          <p:cNvPicPr/>
          <p:nvPr/>
        </p:nvPicPr>
        <p:blipFill>
          <a:blip r:embed="rId2"/>
          <a:stretch/>
        </p:blipFill>
        <p:spPr>
          <a:xfrm>
            <a:off x="7758720" y="19800"/>
            <a:ext cx="1384920" cy="578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5724000" y="2288880"/>
            <a:ext cx="2523600" cy="2733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 flipH="1">
            <a:off x="4212360" y="73188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114" name="矩形 17"/>
          <p:cNvSpPr/>
          <p:nvPr/>
        </p:nvSpPr>
        <p:spPr>
          <a:xfrm>
            <a:off x="3060000" y="2259360"/>
            <a:ext cx="1800000" cy="37663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softEdge rad="3938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15" name="直接连接符 9"/>
          <p:cNvCxnSpPr/>
          <p:nvPr/>
        </p:nvCxnSpPr>
        <p:spPr>
          <a:xfrm>
            <a:off x="0" y="5449680"/>
            <a:ext cx="9144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16" name="TextBox 13"/>
          <p:cNvSpPr/>
          <p:nvPr/>
        </p:nvSpPr>
        <p:spPr>
          <a:xfrm>
            <a:off x="1169280" y="55296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最简单的跑步总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接连接符 14"/>
          <p:cNvCxnSpPr/>
          <p:nvPr/>
        </p:nvCxnSpPr>
        <p:spPr>
          <a:xfrm>
            <a:off x="448200" y="1263960"/>
            <a:ext cx="446400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18" name="TextBox 15"/>
          <p:cNvSpPr/>
          <p:nvPr/>
        </p:nvSpPr>
        <p:spPr>
          <a:xfrm>
            <a:off x="1437120" y="1263960"/>
            <a:ext cx="264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健身房玩跑步机的不是新人就是高手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J:\关于工作\十月\2010年10月第一周\LOGO3.png"/>
          <p:cNvPicPr/>
          <p:nvPr/>
        </p:nvPicPr>
        <p:blipFill>
          <a:blip r:embed="rId2"/>
          <a:stretch/>
        </p:blipFill>
        <p:spPr>
          <a:xfrm>
            <a:off x="7758720" y="19800"/>
            <a:ext cx="1384920" cy="578160"/>
          </a:xfrm>
          <a:prstGeom prst="rect">
            <a:avLst/>
          </a:prstGeom>
          <a:ln w="0">
            <a:noFill/>
          </a:ln>
        </p:spPr>
      </p:pic>
      <p:sp>
        <p:nvSpPr>
          <p:cNvPr id="120" name="Picture 3"/>
          <p:cNvSpPr/>
          <p:nvPr/>
        </p:nvSpPr>
        <p:spPr>
          <a:xfrm>
            <a:off x="1043640" y="2065320"/>
            <a:ext cx="2520000" cy="252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innerShdw blurRad="114300">
              <a:srgbClr val="000000"/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1610640" y="4588200"/>
            <a:ext cx="14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绝对不是跑的快就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7640" y="1835640"/>
            <a:ext cx="3629160" cy="362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981960" y="409320"/>
            <a:ext cx="5173560" cy="5173560"/>
          </a:xfrm>
          <a:prstGeom prst="rect">
            <a:avLst/>
          </a:prstGeom>
          <a:ln w="0">
            <a:noFill/>
          </a:ln>
        </p:spPr>
      </p:pic>
      <p:sp>
        <p:nvSpPr>
          <p:cNvPr id="124" name="矩形 7"/>
          <p:cNvSpPr/>
          <p:nvPr/>
        </p:nvSpPr>
        <p:spPr>
          <a:xfrm>
            <a:off x="3420000" y="-141120"/>
            <a:ext cx="935640" cy="585576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softEdge rad="228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25" name="直接连接符 4"/>
          <p:cNvCxnSpPr/>
          <p:nvPr/>
        </p:nvCxnSpPr>
        <p:spPr>
          <a:xfrm>
            <a:off x="0" y="5449680"/>
            <a:ext cx="9144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26" name="TextBox 8"/>
          <p:cNvSpPr/>
          <p:nvPr/>
        </p:nvSpPr>
        <p:spPr>
          <a:xfrm>
            <a:off x="1085760" y="813960"/>
            <a:ext cx="231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这些都是娱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J:\关于工作\十月\2010年10月第一周\LOGO3.png"/>
          <p:cNvPicPr/>
          <p:nvPr/>
        </p:nvPicPr>
        <p:blipFill>
          <a:blip r:embed="rId3"/>
          <a:stretch/>
        </p:blipFill>
        <p:spPr>
          <a:xfrm>
            <a:off x="7758720" y="19800"/>
            <a:ext cx="1384920" cy="578160"/>
          </a:xfrm>
          <a:prstGeom prst="rect">
            <a:avLst/>
          </a:prstGeom>
          <a:ln w="0">
            <a:noFill/>
          </a:ln>
        </p:spPr>
      </p:pic>
      <p:cxnSp>
        <p:nvCxnSpPr>
          <p:cNvPr id="128" name="直接连接符 14"/>
          <p:cNvCxnSpPr/>
          <p:nvPr/>
        </p:nvCxnSpPr>
        <p:spPr>
          <a:xfrm>
            <a:off x="395280" y="1489320"/>
            <a:ext cx="3736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29" name="TextBox 2"/>
          <p:cNvSpPr/>
          <p:nvPr/>
        </p:nvSpPr>
        <p:spPr>
          <a:xfrm>
            <a:off x="1494720" y="1489320"/>
            <a:ext cx="2009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些金领还喜欢玩这些，不骗你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11560" y="543924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786600"/>
            <a:ext cx="4407840" cy="440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294800" y="913320"/>
            <a:ext cx="4536360" cy="4536360"/>
          </a:xfrm>
          <a:prstGeom prst="rect">
            <a:avLst/>
          </a:prstGeom>
          <a:ln w="0">
            <a:noFill/>
          </a:ln>
        </p:spPr>
      </p:pic>
      <p:sp>
        <p:nvSpPr>
          <p:cNvPr id="133" name="矩形 12"/>
          <p:cNvSpPr/>
          <p:nvPr/>
        </p:nvSpPr>
        <p:spPr>
          <a:xfrm>
            <a:off x="3636000" y="-110520"/>
            <a:ext cx="935640" cy="585576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softEdge rad="228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34" name="直接连接符 9"/>
          <p:cNvCxnSpPr/>
          <p:nvPr/>
        </p:nvCxnSpPr>
        <p:spPr>
          <a:xfrm>
            <a:off x="0" y="5449680"/>
            <a:ext cx="9144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35" name="TextBox 12"/>
          <p:cNvSpPr/>
          <p:nvPr/>
        </p:nvSpPr>
        <p:spPr>
          <a:xfrm>
            <a:off x="4318200" y="759600"/>
            <a:ext cx="322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肌肉练多了再去玩搏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直接连接符 13"/>
          <p:cNvCxnSpPr/>
          <p:nvPr/>
        </p:nvCxnSpPr>
        <p:spPr>
          <a:xfrm>
            <a:off x="3275640" y="1479960"/>
            <a:ext cx="5113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37" name="TextBox 14"/>
          <p:cNvSpPr/>
          <p:nvPr/>
        </p:nvSpPr>
        <p:spPr>
          <a:xfrm>
            <a:off x="6388200" y="147996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听过在绝对实力面前一切都是浮云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J:\关于工作\十月\2010年10月第一周\LOGO3.png"/>
          <p:cNvPicPr/>
          <p:nvPr/>
        </p:nvPicPr>
        <p:blipFill>
          <a:blip r:embed="rId3"/>
          <a:stretch/>
        </p:blipFill>
        <p:spPr>
          <a:xfrm>
            <a:off x="7758720" y="19800"/>
            <a:ext cx="1384920" cy="57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11600" y="1553040"/>
            <a:ext cx="4183920" cy="4183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 flipH="1">
            <a:off x="4267440" y="55260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665880" y="70200"/>
            <a:ext cx="935640" cy="56833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softEdge rad="228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42" name="直接连接符 4"/>
          <p:cNvCxnSpPr/>
          <p:nvPr/>
        </p:nvCxnSpPr>
        <p:spPr>
          <a:xfrm>
            <a:off x="0" y="5449680"/>
            <a:ext cx="9144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43" name="TextBox 7"/>
          <p:cNvSpPr/>
          <p:nvPr/>
        </p:nvSpPr>
        <p:spPr>
          <a:xfrm>
            <a:off x="1621800" y="48096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在瑜伽教室总是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直接连接符 8"/>
          <p:cNvCxnSpPr/>
          <p:nvPr/>
        </p:nvCxnSpPr>
        <p:spPr>
          <a:xfrm>
            <a:off x="737280" y="1191960"/>
            <a:ext cx="4483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45" name="TextBox 9"/>
          <p:cNvSpPr/>
          <p:nvPr/>
        </p:nvSpPr>
        <p:spPr>
          <a:xfrm>
            <a:off x="2093760" y="1191960"/>
            <a:ext cx="237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女人，一种漂亮，一种显得漂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J:\关于工作\十月\2010年10月第一周\LOGO3.png"/>
          <p:cNvPicPr/>
          <p:nvPr/>
        </p:nvPicPr>
        <p:blipFill>
          <a:blip r:embed="rId3"/>
          <a:stretch/>
        </p:blipFill>
        <p:spPr>
          <a:xfrm>
            <a:off x="7758720" y="19800"/>
            <a:ext cx="1384920" cy="578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5640" y="59688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148" name="矩形 12"/>
          <p:cNvSpPr/>
          <p:nvPr/>
        </p:nvSpPr>
        <p:spPr>
          <a:xfrm>
            <a:off x="4500000" y="29520"/>
            <a:ext cx="935640" cy="341136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softEdge rad="228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4500000" y="-141120"/>
            <a:ext cx="935640" cy="585576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softEdge rad="228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50" name="Picture 5" descr="J:\关于工作\十月\2010年10月第一周\LOGO3.png"/>
          <p:cNvPicPr/>
          <p:nvPr/>
        </p:nvPicPr>
        <p:blipFill>
          <a:blip r:embed="rId2"/>
          <a:stretch/>
        </p:blipFill>
        <p:spPr>
          <a:xfrm>
            <a:off x="7758720" y="19800"/>
            <a:ext cx="1384920" cy="578160"/>
          </a:xfrm>
          <a:prstGeom prst="rect">
            <a:avLst/>
          </a:prstGeom>
          <a:ln w="0">
            <a:noFill/>
          </a:ln>
        </p:spPr>
      </p:pic>
      <p:cxnSp>
        <p:nvCxnSpPr>
          <p:cNvPr id="151" name="直接连接符 4"/>
          <p:cNvCxnSpPr/>
          <p:nvPr/>
        </p:nvCxnSpPr>
        <p:spPr>
          <a:xfrm>
            <a:off x="0" y="5449680"/>
            <a:ext cx="9144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52" name="TextBox 7"/>
          <p:cNvSpPr/>
          <p:nvPr/>
        </p:nvSpPr>
        <p:spPr>
          <a:xfrm>
            <a:off x="5078160" y="98532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去打保龄球有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直接连接符 9"/>
          <p:cNvCxnSpPr/>
          <p:nvPr/>
        </p:nvCxnSpPr>
        <p:spPr>
          <a:xfrm>
            <a:off x="4315320" y="1696320"/>
            <a:ext cx="403344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54" name="TextBox 9"/>
          <p:cNvSpPr/>
          <p:nvPr/>
        </p:nvSpPr>
        <p:spPr>
          <a:xfrm>
            <a:off x="5589720" y="1696320"/>
            <a:ext cx="210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龄球馆里有很多帅哥，美女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icture 3"/>
          <p:cNvSpPr/>
          <p:nvPr/>
        </p:nvSpPr>
        <p:spPr>
          <a:xfrm>
            <a:off x="5596200" y="2209320"/>
            <a:ext cx="2575800" cy="2575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innerShdw blurRad="114300">
              <a:srgbClr val="000000"/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"/>
          <p:cNvSpPr/>
          <p:nvPr/>
        </p:nvSpPr>
        <p:spPr>
          <a:xfrm rot="5400000">
            <a:off x="2608560" y="-2331000"/>
            <a:ext cx="935640" cy="585576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softEdge rad="228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6219000" y="4785480"/>
            <a:ext cx="141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过大部分都不会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绅士！淑女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898920" y="51559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3699" t="0" r="0" b="0"/>
          <a:stretch/>
        </p:blipFill>
        <p:spPr>
          <a:xfrm>
            <a:off x="0" y="573120"/>
            <a:ext cx="4695840" cy="4876560"/>
          </a:xfrm>
          <a:prstGeom prst="rect">
            <a:avLst/>
          </a:prstGeom>
          <a:ln w="0">
            <a:noFill/>
          </a:ln>
        </p:spPr>
      </p:pic>
      <p:sp>
        <p:nvSpPr>
          <p:cNvPr id="160" name="矩形 10"/>
          <p:cNvSpPr/>
          <p:nvPr/>
        </p:nvSpPr>
        <p:spPr>
          <a:xfrm>
            <a:off x="4500000" y="2353320"/>
            <a:ext cx="935640" cy="341136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softEdge rad="228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61" name="Picture 5" descr="J:\关于工作\十月\2010年10月第一周\LOGO3.png"/>
          <p:cNvPicPr/>
          <p:nvPr/>
        </p:nvPicPr>
        <p:blipFill>
          <a:blip r:embed="rId2"/>
          <a:stretch/>
        </p:blipFill>
        <p:spPr>
          <a:xfrm>
            <a:off x="7758720" y="19800"/>
            <a:ext cx="1384920" cy="578160"/>
          </a:xfrm>
          <a:prstGeom prst="rect">
            <a:avLst/>
          </a:prstGeom>
          <a:ln w="0">
            <a:noFill/>
          </a:ln>
        </p:spPr>
      </p:pic>
      <p:cxnSp>
        <p:nvCxnSpPr>
          <p:cNvPr id="162" name="直接连接符 4"/>
          <p:cNvCxnSpPr/>
          <p:nvPr/>
        </p:nvCxnSpPr>
        <p:spPr>
          <a:xfrm>
            <a:off x="0" y="5449680"/>
            <a:ext cx="9144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63" name="TextBox 7"/>
          <p:cNvSpPr/>
          <p:nvPr/>
        </p:nvSpPr>
        <p:spPr>
          <a:xfrm>
            <a:off x="4902120" y="127332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最后愿你在事业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6429240" y="1837080"/>
            <a:ext cx="1827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d60000"/>
                </a:solidFill>
                <a:latin typeface="微软雅黑"/>
                <a:ea typeface="微软雅黑"/>
              </a:rPr>
              <a:t>越来越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直接连接符 2"/>
          <p:cNvCxnSpPr/>
          <p:nvPr/>
        </p:nvCxnSpPr>
        <p:spPr>
          <a:xfrm>
            <a:off x="4499640" y="2760480"/>
            <a:ext cx="446508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66" name="TextBox 6"/>
          <p:cNvSpPr/>
          <p:nvPr/>
        </p:nvSpPr>
        <p:spPr>
          <a:xfrm>
            <a:off x="5769720" y="2760480"/>
            <a:ext cx="2545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运动篇完结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不过下周二开启新篇章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  <Words>349</Words>
  <Paragraphs>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02:48:13Z</dcterms:created>
  <dc:creator>shenshimao</dc:creator>
  <dc:description/>
  <dc:language>en-US</dc:language>
  <cp:lastModifiedBy>yu wang</cp:lastModifiedBy>
  <dcterms:modified xsi:type="dcterms:W3CDTF">2015-08-14T12:53:19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10)</vt:lpwstr>
  </property>
  <property fmtid="{D5CDD505-2E9C-101B-9397-08002B2CF9AE}" pid="4" name="Slides">
    <vt:r8>10</vt:r8>
  </property>
</Properties>
</file>