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01280" y="390780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34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4872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616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0128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4872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616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01280" y="233280"/>
            <a:ext cx="78296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134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01280" y="390780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34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4872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6160" y="162828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0128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4872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6160" y="3907800"/>
            <a:ext cx="25210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01280" y="233280"/>
            <a:ext cx="78296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3480" y="390780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1280" y="186120"/>
            <a:ext cx="7829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012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628280"/>
            <a:ext cx="38206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01280" y="3907800"/>
            <a:ext cx="782964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01280" y="233280"/>
            <a:ext cx="7829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5" descr="6月通报模板图1"/>
          <p:cNvPicPr/>
          <p:nvPr/>
        </p:nvPicPr>
        <p:blipFill>
          <a:blip r:embed="rId3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tone Sans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701280" y="233280"/>
            <a:ext cx="78296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"/>
          <p:cNvSpPr/>
          <p:nvPr/>
        </p:nvSpPr>
        <p:spPr>
          <a:xfrm>
            <a:off x="2207880" y="95400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中国移动通信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1280" y="233280"/>
            <a:ext cx="782964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工作计划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01280" y="1628280"/>
            <a:ext cx="782964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2050920" y="5113440"/>
            <a:ext cx="4167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</a:rPr>
              <a:t>谢　　谢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Verdana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0:21Z</dcterms:modified>
  <cp:revision>332</cp:revision>
  <dc:subject/>
  <dc:title>PowerPoint Presentation</dc:title>
</cp:coreProperties>
</file>