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A20-4A92-43EC-A5B2-CBC56273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CC5-5790-4571-B27B-B3C51BC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08C-5C1F-4505-AF24-4C8B73E3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676-2EB5-446F-B366-D94A967B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83D4-04CE-4BE1-8E98-B3A40E73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F6F1-B7CD-448C-AE5D-51E1563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505-5E34-4367-AF90-6AFD1DD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A66-B937-4FE8-992F-2F9437C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3DB3-0FAB-400B-B90D-3451F31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FA90-CB62-4F5E-AAF1-EFDEB1C4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C17-6984-41AA-9AC9-0C6878D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549-BF26-468E-9125-3983CF2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5AF3-7953-43EE-88F6-D7B9D96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1C84-8A2F-45F9-AB40-F845751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886A-6890-45E1-B816-E5AB441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2899-5E99-4926-BDDF-58C333D6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567B-63D8-49B1-B388-6F708791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0E7-A293-45F2-ACE8-135B08F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4B4-2456-424F-8444-D14ED0FC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37B-FC4B-41B8-A0C2-28A9D734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6B2-B843-4AC8-8E06-4CC51A39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532-93F3-43C4-991C-A148FBD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06F-0BF3-4658-86F0-F3EA731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94B-E905-4428-820B-27848B58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487F3-7A3F-4F25-917E-7BBF9F8F10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28F9F0-C411-4EAB-B976-73509944C7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467640" y="476640"/>
            <a:ext cx="3096000" cy="3096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6"/>
          <p:cNvGrpSpPr/>
          <p:nvPr/>
        </p:nvGrpSpPr>
        <p:grpSpPr>
          <a:xfrm>
            <a:off x="949320" y="958680"/>
            <a:ext cx="2132280" cy="2132280"/>
            <a:chOff x="949320" y="958680"/>
            <a:chExt cx="2132280" cy="2132280"/>
          </a:xfrm>
        </p:grpSpPr>
        <p:sp>
          <p:nvSpPr>
            <p:cNvPr id="85" name="椭圆 3"/>
            <p:cNvSpPr/>
            <p:nvPr/>
          </p:nvSpPr>
          <p:spPr>
            <a:xfrm>
              <a:off x="1031400" y="1040760"/>
              <a:ext cx="1968120" cy="1968120"/>
            </a:xfrm>
            <a:prstGeom prst="ellipse">
              <a:avLst/>
            </a:prstGeom>
            <a:solidFill>
              <a:srgbClr val="00b0f0">
                <a:alpha val="6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Rectangle 3 copy copy copy"/>
            <p:cNvSpPr/>
            <p:nvPr/>
          </p:nvSpPr>
          <p:spPr>
            <a:xfrm>
              <a:off x="949320" y="958680"/>
              <a:ext cx="2132280" cy="2132280"/>
            </a:xfrm>
            <a:custGeom>
              <a:avLst/>
              <a:gdLst>
                <a:gd name="textAreaLeft" fmla="*/ 0 w 2132280"/>
                <a:gd name="textAreaRight" fmla="*/ 2132640 w 2132280"/>
                <a:gd name="textAreaTop" fmla="*/ 0 h 2132280"/>
                <a:gd name="textAreaBottom" fmla="*/ 2132640 h 2132280"/>
              </a:gdLst>
              <a:ahLst/>
              <a:rect l="textAreaLeft" t="textAreaTop" r="textAreaRight" b="textAreaBottom"/>
              <a:pathLst>
                <a:path w="2932556" h="1672208">
                  <a:moveTo>
                    <a:pt x="1466278" y="43822"/>
                  </a:moveTo>
                  <a:cubicBezTo>
                    <a:pt x="698919" y="43822"/>
                    <a:pt x="76851" y="398539"/>
                    <a:pt x="76851" y="836104"/>
                  </a:cubicBezTo>
                  <a:cubicBezTo>
                    <a:pt x="76851" y="1273669"/>
                    <a:pt x="698919" y="1628386"/>
                    <a:pt x="1466278" y="1628386"/>
                  </a:cubicBezTo>
                  <a:cubicBezTo>
                    <a:pt x="2233637" y="1628386"/>
                    <a:pt x="2855705" y="1273669"/>
                    <a:pt x="2855705" y="836104"/>
                  </a:cubicBezTo>
                  <a:cubicBezTo>
                    <a:pt x="2855705" y="398539"/>
                    <a:pt x="2233637" y="43822"/>
                    <a:pt x="1466278" y="43822"/>
                  </a:cubicBezTo>
                  <a:close/>
                  <a:moveTo>
                    <a:pt x="1466278" y="0"/>
                  </a:moveTo>
                  <a:cubicBezTo>
                    <a:pt x="2276081" y="0"/>
                    <a:pt x="2932556" y="374337"/>
                    <a:pt x="2932556" y="836104"/>
                  </a:cubicBezTo>
                  <a:cubicBezTo>
                    <a:pt x="2932556" y="1297871"/>
                    <a:pt x="2276081" y="1672208"/>
                    <a:pt x="1466278" y="1672208"/>
                  </a:cubicBezTo>
                  <a:cubicBezTo>
                    <a:pt x="656475" y="1672208"/>
                    <a:pt x="0" y="1297871"/>
                    <a:pt x="0" y="836104"/>
                  </a:cubicBezTo>
                  <a:cubicBezTo>
                    <a:pt x="0" y="374337"/>
                    <a:pt x="656475" y="0"/>
                    <a:pt x="1466278" y="0"/>
                  </a:cubicBezTo>
                  <a:close/>
                </a:path>
              </a:pathLst>
            </a:custGeom>
            <a:solidFill>
              <a:srgbClr val="00b0f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7" name="TextBox 11"/>
          <p:cNvSpPr txBox="1"/>
          <p:nvPr/>
        </p:nvSpPr>
        <p:spPr>
          <a:xfrm>
            <a:off x="1331640" y="1225080"/>
            <a:ext cx="1367640" cy="15991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镂空文字</a:t>
            </a:r>
            <a:endParaRPr b="0" lang="en-US" sz="4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0" y="3062520"/>
            <a:ext cx="9143640" cy="5018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299" strike="noStrike">
                <a:solidFill>
                  <a:schemeClr val="lt1"/>
                </a:solidFill>
                <a:latin typeface="微软雅黑"/>
                <a:ea typeface="微软雅黑"/>
              </a:rPr>
              <a:t>镂空文字效果</a:t>
            </a:r>
            <a:r>
              <a:rPr b="1" lang="en-US" sz="4000" spc="299" strike="noStrike">
                <a:solidFill>
                  <a:schemeClr val="lt1"/>
                </a:solidFill>
                <a:latin typeface="微软雅黑"/>
                <a:ea typeface="微软雅黑"/>
              </a:rPr>
              <a:t>PPT</a:t>
            </a:r>
            <a:r>
              <a:rPr b="1" lang="zh-CN" sz="4000" spc="299" strike="noStrike">
                <a:solidFill>
                  <a:schemeClr val="lt1"/>
                </a:solidFill>
                <a:latin typeface="微软雅黑"/>
                <a:ea typeface="微软雅黑"/>
              </a:rPr>
              <a:t>设计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38040" y="6546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插入图片，复制一张对齐页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2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插入矩形，用来定位镂空字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1043640" y="90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裁剪一图片与矩形等大，并压缩复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1043640" y="90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插入文字，并与矩形左右上下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475640" y="1271520"/>
            <a:ext cx="1800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镂空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1043640" y="90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5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选中文字，设置填充属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TextBox 5"/>
          <p:cNvSpPr txBox="1"/>
          <p:nvPr/>
        </p:nvSpPr>
        <p:spPr>
          <a:xfrm>
            <a:off x="1475640" y="1271520"/>
            <a:ext cx="1800000" cy="1938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镂空文字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4325760" y="39960"/>
            <a:ext cx="4452120" cy="416592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404240" y="135000"/>
            <a:ext cx="4295520" cy="397620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5652000" y="2123280"/>
            <a:ext cx="1223640" cy="153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5724000" y="2828160"/>
            <a:ext cx="1439640" cy="153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10"/>
          <p:cNvSpPr/>
          <p:nvPr/>
        </p:nvSpPr>
        <p:spPr>
          <a:xfrm>
            <a:off x="5476320" y="1189800"/>
            <a:ext cx="1183320" cy="153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11"/>
          <p:cNvSpPr/>
          <p:nvPr/>
        </p:nvSpPr>
        <p:spPr>
          <a:xfrm>
            <a:off x="6470640" y="1922040"/>
            <a:ext cx="621360" cy="153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1043640" y="90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4437000"/>
            <a:ext cx="9143640" cy="129564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6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、选中文本框</a:t>
            </a: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-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文字效果</a:t>
            </a: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-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转化</a:t>
            </a:r>
            <a:r>
              <a:rPr b="1" lang="en-US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-</a:t>
            </a:r>
            <a:r>
              <a:rPr b="1" lang="zh-CN" sz="3600" spc="299" strike="noStrike">
                <a:solidFill>
                  <a:schemeClr val="lt1"/>
                </a:solidFill>
                <a:latin typeface="微软雅黑"/>
                <a:ea typeface="微软雅黑"/>
              </a:rPr>
              <a:t>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5"/>
          <p:cNvSpPr txBox="1"/>
          <p:nvPr/>
        </p:nvSpPr>
        <p:spPr>
          <a:xfrm>
            <a:off x="1475640" y="1271520"/>
            <a:ext cx="1800000" cy="1938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镂空文字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58760" y="6429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yikuaiqu.net/tyftp/image/0/0/7/1930/1280443_.320x240.800x480.1024x768.1280x80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 copy" descr="http://www.yikuaiqu.net/tyftp/image/0/0/7/1930/1280443_.320x240.800x480.1024x768.1280x800.jpg"/>
          <p:cNvPicPr/>
          <p:nvPr/>
        </p:nvPicPr>
        <p:blipFill>
          <a:blip r:embed="rId2"/>
          <a:stretch/>
        </p:blipFill>
        <p:spPr>
          <a:xfrm>
            <a:off x="1043640" y="90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1043640" y="908640"/>
            <a:ext cx="2664000" cy="2664000"/>
          </a:xfrm>
          <a:prstGeom prst="rect">
            <a:avLst/>
          </a:pr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Rectangle 4 copy copy"/>
          <p:cNvSpPr/>
          <p:nvPr/>
        </p:nvSpPr>
        <p:spPr>
          <a:xfrm>
            <a:off x="837000" y="702360"/>
            <a:ext cx="3076920" cy="3076920"/>
          </a:xfrm>
          <a:custGeom>
            <a:avLst/>
            <a:gdLst>
              <a:gd name="textAreaLeft" fmla="*/ 0 w 3076920"/>
              <a:gd name="textAreaRight" fmla="*/ 3077280 w 3076920"/>
              <a:gd name="textAreaTop" fmla="*/ 0 h 3076920"/>
              <a:gd name="textAreaBottom" fmla="*/ 3077280 h 3076920"/>
            </a:gdLst>
            <a:ahLst/>
            <a:rect l="textAreaLeft" t="textAreaTop" r="textAreaRight" b="textAreaBottom"/>
            <a:pathLst>
              <a:path w="2952328" h="2952328">
                <a:moveTo>
                  <a:pt x="144016" y="144016"/>
                </a:moveTo>
                <a:lnTo>
                  <a:pt x="144016" y="2808312"/>
                </a:lnTo>
                <a:lnTo>
                  <a:pt x="2808312" y="2808312"/>
                </a:lnTo>
                <a:lnTo>
                  <a:pt x="2808312" y="144016"/>
                </a:lnTo>
                <a:close/>
                <a:moveTo>
                  <a:pt x="0" y="0"/>
                </a:moveTo>
                <a:lnTo>
                  <a:pt x="2952328" y="0"/>
                </a:lnTo>
                <a:lnTo>
                  <a:pt x="2952328" y="2952328"/>
                </a:lnTo>
                <a:lnTo>
                  <a:pt x="0" y="2952328"/>
                </a:lnTo>
                <a:close/>
              </a:path>
            </a:pathLst>
          </a:custGeom>
          <a:solidFill>
            <a:srgbClr val="00b0f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TextBox 5"/>
          <p:cNvSpPr txBox="1"/>
          <p:nvPr/>
        </p:nvSpPr>
        <p:spPr>
          <a:xfrm>
            <a:off x="1475640" y="1271520"/>
            <a:ext cx="1800000" cy="1938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4"/>
          <p:cNvGrpSpPr/>
          <p:nvPr/>
        </p:nvGrpSpPr>
        <p:grpSpPr>
          <a:xfrm>
            <a:off x="846360" y="3898800"/>
            <a:ext cx="3058200" cy="648000"/>
            <a:chOff x="846360" y="3898800"/>
            <a:chExt cx="3058200" cy="648000"/>
          </a:xfrm>
        </p:grpSpPr>
        <p:cxnSp>
          <p:nvCxnSpPr>
            <p:cNvPr id="129" name="直接连接符 13"/>
            <p:cNvCxnSpPr/>
            <p:nvPr/>
          </p:nvCxnSpPr>
          <p:spPr>
            <a:xfrm>
              <a:off x="846360" y="3898800"/>
              <a:ext cx="360" cy="648360"/>
            </a:xfrm>
            <a:prstGeom prst="straightConnector1">
              <a:avLst/>
            </a:prstGeom>
            <a:ln w="38100">
              <a:solidFill>
                <a:srgbClr val="00b0f0">
                  <a:alpha val="48000"/>
                </a:srgbClr>
              </a:solidFill>
              <a:round/>
            </a:ln>
          </p:spPr>
        </p:cxnSp>
        <p:cxnSp>
          <p:nvCxnSpPr>
            <p:cNvPr id="130" name="直接连接符 15"/>
            <p:cNvCxnSpPr/>
            <p:nvPr/>
          </p:nvCxnSpPr>
          <p:spPr>
            <a:xfrm>
              <a:off x="3904560" y="3898800"/>
              <a:ext cx="360" cy="648360"/>
            </a:xfrm>
            <a:prstGeom prst="straightConnector1">
              <a:avLst/>
            </a:prstGeom>
            <a:ln w="38100">
              <a:solidFill>
                <a:srgbClr val="00b0f0">
                  <a:alpha val="48000"/>
                </a:srgbClr>
              </a:solidFill>
              <a:round/>
            </a:ln>
          </p:spPr>
        </p:cxnSp>
      </p:grpSp>
      <p:sp>
        <p:nvSpPr>
          <p:cNvPr id="131" name="TextBox 16"/>
          <p:cNvSpPr/>
          <p:nvPr/>
        </p:nvSpPr>
        <p:spPr>
          <a:xfrm>
            <a:off x="935640" y="3930840"/>
            <a:ext cx="288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b0f0">
                    <a:alpha val="48000"/>
                  </a:srgbClr>
                </a:solidFill>
                <a:latin typeface="微软雅黑"/>
                <a:ea typeface="微软雅黑"/>
              </a:rPr>
              <a:t>木木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  <Words>245</Words>
  <Paragraphs>4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6:22:09Z</dcterms:created>
  <dc:creator>Windows</dc:creator>
  <dc:description/>
  <dc:language>en-US</dc:language>
  <cp:lastModifiedBy>yu wang</cp:lastModifiedBy>
  <dcterms:modified xsi:type="dcterms:W3CDTF">2015-08-14T12:54:19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