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CA0C-E30D-4095-86E4-04DD13FA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A111-789E-459E-BE35-35AA0F4D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3F04-A078-4C07-B756-168CCA6E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E34-A4EA-4566-ADB1-3DC68309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3517-DDDE-4151-8A9B-01AA3EF1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12D1-233F-48CD-AC70-1125E2E9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FA0D-D622-44A3-95DE-A778735A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B381-EAB1-4521-8086-F8BE30E8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1F72-6716-4142-9134-58488571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4695-58E6-40C2-92DE-8453489F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92FC-8071-489A-9D7B-C6C14850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2D39-7B2B-4FD4-84FA-7561CD06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1D56-20C9-4721-A1B9-BFE64407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CFCF-232D-4F99-85FE-A0D50C1C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AB54-FFC3-4C9A-94AD-A43B7FB0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7187-BED5-4CF7-905A-5A616606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70B0-E1CA-4DE5-AF56-E8539527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4AF7-F7D9-4B25-AC40-A819E5E5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1B2A-2D2B-4850-8079-1C6978CA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722A-D1CF-4C6B-B278-2E1EE074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BC82-5187-402A-AE70-7328C2D6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94DD-5068-465E-9667-762D4A43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4584-54BA-4FEB-AAE0-B261C6BC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6700-2511-4A63-94C9-BE6DE4BA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4513-736D-4B69-8AF6-6FC3969E97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BDB0-BBA1-42DF-865F-6AE07846EE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99ff"/>
                </a:solidFill>
                <a:latin typeface="Arial"/>
                <a:ea typeface="宋体"/>
              </a:rPr>
              <a:t>紫色的热情企业</a:t>
            </a:r>
            <a:r>
              <a:rPr b="0" lang="en-US" sz="4000" spc="-1" strike="noStrike">
                <a:solidFill>
                  <a:srgbClr val="cc99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cc99ff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  <a:ea typeface="宋体"/>
              </a:rPr>
              <a:t>Add Your Subtitl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Arial"/>
                <a:ea typeface="宋体"/>
              </a:rPr>
              <a:t>Add Your Topic He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  <a:ea typeface="宋体"/>
              </a:rPr>
              <a:t>Add Subtopics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Arial"/>
                <a:ea typeface="宋体"/>
              </a:rPr>
              <a:t>Printable Pag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dd Subtopics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99ff"/>
                </a:solidFill>
                <a:latin typeface="Times New Roman"/>
                <a:ea typeface="宋体"/>
              </a:rPr>
              <a:t>Transition Pag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50920" y="63072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22:02:32Z</dcterms:created>
  <dc:creator>eclipse</dc:creator>
  <dc:description/>
  <dc:language>en-US</dc:language>
  <cp:lastModifiedBy>yu wang</cp:lastModifiedBy>
  <dcterms:modified xsi:type="dcterms:W3CDTF">2015-08-14T12:53:14Z</dcterms:modified>
  <cp:revision>3</cp:revision>
  <dc:subject/>
  <dc:title>PURPLE PASSION</dc:title>
</cp:coreProperties>
</file>