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9D95-911B-4974-93C7-387D0E40E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2E6A-2F7C-495E-85D1-92CF50982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1D19-CF03-444F-AFFD-537677453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7AA1-8F31-4DA0-B693-A7910D257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DE155-1011-4251-825D-947C413E1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8A59D-9DF9-4303-82CB-2400A192C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AE7CB-205F-49DB-BFC6-544E9E40D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3D2F6-03C7-4FEC-B881-D5D0A5C69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2BF3D-157C-445C-A932-E5DACFB37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D3F1B-B619-494D-ABC1-36D02C378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C966D-87BB-457F-BF96-DB247307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7276-D816-475E-9844-41237B125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4E0E3-4357-4649-9CB7-B2FA3370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CBBA1-74F2-48CD-9070-6A1D107B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67267-0126-4469-BA25-5B9737897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08648-8764-464E-8B48-66B4A917B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DD030-82AA-498D-AA75-EEC81C5CD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2C1D9-C437-4179-A5DD-6B92FF6AB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962B6-176E-4F4F-B5AA-E9AE20BC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CEE78-9C0C-4E66-97B1-5224BE71C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54F76-13DD-4858-93BD-3A2CEAFD1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EA3ED-05E7-455C-ADC7-FF070E516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3D84-73CD-4788-B83A-FA87DE69D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1B33D-4093-456B-934D-450085AD8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450FB-1CA4-4377-A86F-7C078AEA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5BB40-64E6-460E-9A1E-14124B0F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C0C1B-A608-42F6-BBCA-F2057EA6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5006C-9EC5-4CBB-B813-FA680267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070C5-6BA7-44AA-94FA-E196779BE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2F2EA-1048-45BE-A593-11BCEBDB3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5FF0-5C28-44EA-ACBE-CE8E36777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C684-08E9-4E20-AEAF-5CD2F50F0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1567-6B0E-4F44-912A-8AA47A0AA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8782-478E-4C5E-B135-67DEB81B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155C-55AD-4D70-92D4-FA90DCE4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5695-B4D8-4ADA-9C6A-0CF9DC7A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59ECD-3EA0-45CE-906A-7546238BD77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solidFill>
            <a:srgbClr val="9933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34CB9-D066-4CF0-87AD-B558A930146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0" y="6550200"/>
            <a:ext cx="9144000" cy="342720"/>
          </a:xfrm>
          <a:prstGeom prst="rect">
            <a:avLst/>
          </a:prstGeom>
          <a:solidFill>
            <a:srgbClr val="9933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2B0EE-28E8-49BC-A100-5694B116DF4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shangwu/" TargetMode="External"/><Relationship Id="rId2" Type="http://schemas.openxmlformats.org/officeDocument/2006/relationships/hyperlink" Target="http://www.eeppt.com/moban/shangwu/" TargetMode="External"/><Relationship Id="rId3" Type="http://schemas.openxmlformats.org/officeDocument/2006/relationships/hyperlink" Target="http://www.eeppt.com/moban/shangwu/" TargetMode="External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2"/>
          <p:cNvSpPr/>
          <p:nvPr/>
        </p:nvSpPr>
        <p:spPr>
          <a:xfrm flipV="1">
            <a:off x="0" y="-27720"/>
            <a:ext cx="9180360" cy="6885000"/>
          </a:xfrm>
          <a:prstGeom prst="flowChartPunchedCard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0" y="2709720"/>
            <a:ext cx="7236000" cy="4148280"/>
          </a:xfrm>
          <a:prstGeom prst="rtTriangle">
            <a:avLst/>
          </a:prstGeom>
          <a:solidFill>
            <a:srgbClr val="b13b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0" y="3086280"/>
            <a:ext cx="6750000" cy="37717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 rot="1740000">
            <a:off x="1959840" y="387828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紫色斜边设计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2"/>
          <p:cNvGrpSpPr/>
          <p:nvPr/>
        </p:nvGrpSpPr>
        <p:grpSpPr>
          <a:xfrm>
            <a:off x="1187280" y="2205000"/>
            <a:ext cx="6635520" cy="2190600"/>
            <a:chOff x="1187280" y="2205000"/>
            <a:chExt cx="6635520" cy="2190600"/>
          </a:xfrm>
        </p:grpSpPr>
        <p:sp>
          <p:nvSpPr>
            <p:cNvPr id="131" name="AutoShape 85"/>
            <p:cNvSpPr/>
            <p:nvPr/>
          </p:nvSpPr>
          <p:spPr>
            <a:xfrm>
              <a:off x="3991680" y="3453840"/>
              <a:ext cx="1095120" cy="941760"/>
            </a:xfrm>
            <a:prstGeom prst="roundRect">
              <a:avLst>
                <a:gd name="adj" fmla="val 8579"/>
              </a:avLst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86"/>
            <p:cNvSpPr/>
            <p:nvPr/>
          </p:nvSpPr>
          <p:spPr>
            <a:xfrm>
              <a:off x="3926160" y="3483360"/>
              <a:ext cx="1248480" cy="364680"/>
            </a:xfrm>
            <a:prstGeom prst="roundRect">
              <a:avLst>
                <a:gd name="adj" fmla="val 20954"/>
              </a:avLst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85"/>
            <p:cNvSpPr/>
            <p:nvPr/>
          </p:nvSpPr>
          <p:spPr>
            <a:xfrm>
              <a:off x="2621160" y="3453840"/>
              <a:ext cx="1110960" cy="941760"/>
            </a:xfrm>
            <a:prstGeom prst="roundRect">
              <a:avLst>
                <a:gd name="adj" fmla="val 8579"/>
              </a:avLst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86"/>
            <p:cNvSpPr/>
            <p:nvPr/>
          </p:nvSpPr>
          <p:spPr>
            <a:xfrm>
              <a:off x="2586600" y="3485160"/>
              <a:ext cx="1217520" cy="364680"/>
            </a:xfrm>
            <a:prstGeom prst="roundRect">
              <a:avLst>
                <a:gd name="adj" fmla="val 20954"/>
              </a:avLst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85"/>
            <p:cNvSpPr/>
            <p:nvPr/>
          </p:nvSpPr>
          <p:spPr>
            <a:xfrm>
              <a:off x="1277640" y="3453840"/>
              <a:ext cx="1096200" cy="941760"/>
            </a:xfrm>
            <a:prstGeom prst="roundRect">
              <a:avLst>
                <a:gd name="adj" fmla="val 8579"/>
              </a:avLst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86"/>
            <p:cNvSpPr/>
            <p:nvPr/>
          </p:nvSpPr>
          <p:spPr>
            <a:xfrm>
              <a:off x="1187280" y="3485160"/>
              <a:ext cx="1217880" cy="364680"/>
            </a:xfrm>
            <a:prstGeom prst="roundRect">
              <a:avLst>
                <a:gd name="adj" fmla="val 20954"/>
              </a:avLst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85"/>
            <p:cNvSpPr/>
            <p:nvPr/>
          </p:nvSpPr>
          <p:spPr>
            <a:xfrm>
              <a:off x="6712560" y="3453840"/>
              <a:ext cx="1080360" cy="941760"/>
            </a:xfrm>
            <a:prstGeom prst="roundRect">
              <a:avLst>
                <a:gd name="adj" fmla="val 8579"/>
              </a:avLst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86"/>
            <p:cNvSpPr/>
            <p:nvPr/>
          </p:nvSpPr>
          <p:spPr>
            <a:xfrm>
              <a:off x="6666120" y="3485160"/>
              <a:ext cx="1156680" cy="364680"/>
            </a:xfrm>
            <a:prstGeom prst="roundRect">
              <a:avLst>
                <a:gd name="adj" fmla="val 20954"/>
              </a:avLst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85"/>
            <p:cNvSpPr/>
            <p:nvPr/>
          </p:nvSpPr>
          <p:spPr>
            <a:xfrm>
              <a:off x="5338080" y="3453840"/>
              <a:ext cx="1096560" cy="941760"/>
            </a:xfrm>
            <a:prstGeom prst="roundRect">
              <a:avLst>
                <a:gd name="adj" fmla="val 8579"/>
              </a:avLst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86"/>
            <p:cNvSpPr/>
            <p:nvPr/>
          </p:nvSpPr>
          <p:spPr>
            <a:xfrm>
              <a:off x="5266080" y="3485160"/>
              <a:ext cx="1278000" cy="364680"/>
            </a:xfrm>
            <a:prstGeom prst="roundRect">
              <a:avLst>
                <a:gd name="adj" fmla="val 20954"/>
              </a:avLst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1" name="직선 화살표 연결선 380"/>
            <p:cNvCxnSpPr>
              <a:stCxn id="131" idx="0"/>
            </p:cNvCxnSpPr>
            <p:nvPr/>
          </p:nvCxnSpPr>
          <p:spPr>
            <a:xfrm flipV="1">
              <a:off x="4536360" y="3072600"/>
              <a:ext cx="3240" cy="37980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</p:cxnSp>
        <p:cxnSp>
          <p:nvCxnSpPr>
            <p:cNvPr id="142" name="직선 화살표 연결선 382"/>
            <p:cNvCxnSpPr/>
            <p:nvPr/>
          </p:nvCxnSpPr>
          <p:spPr>
            <a:xfrm flipV="1">
              <a:off x="3205080" y="2761920"/>
              <a:ext cx="3240" cy="69012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43" name="직선 화살표 연결선 383"/>
            <p:cNvCxnSpPr/>
            <p:nvPr/>
          </p:nvCxnSpPr>
          <p:spPr>
            <a:xfrm flipV="1">
              <a:off x="1846800" y="2761920"/>
              <a:ext cx="3240" cy="69012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44" name="직선 화살표 연결선 384"/>
            <p:cNvCxnSpPr/>
            <p:nvPr/>
          </p:nvCxnSpPr>
          <p:spPr>
            <a:xfrm flipV="1">
              <a:off x="7248600" y="2761920"/>
              <a:ext cx="3240" cy="69012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45" name="직선 화살표 연결선 385"/>
            <p:cNvCxnSpPr/>
            <p:nvPr/>
          </p:nvCxnSpPr>
          <p:spPr>
            <a:xfrm flipV="1">
              <a:off x="5890320" y="2761920"/>
              <a:ext cx="3240" cy="69012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46" name="AutoShape 18"/>
            <p:cNvCxnSpPr/>
            <p:nvPr/>
          </p:nvCxnSpPr>
          <p:spPr>
            <a:xfrm flipV="1">
              <a:off x="1849680" y="2752920"/>
              <a:ext cx="1772640" cy="1872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</p:cxnSp>
        <p:sp>
          <p:nvSpPr>
            <p:cNvPr id="147" name="AutoShape 85"/>
            <p:cNvSpPr/>
            <p:nvPr/>
          </p:nvSpPr>
          <p:spPr>
            <a:xfrm>
              <a:off x="3743640" y="2205000"/>
              <a:ext cx="1643760" cy="852480"/>
            </a:xfrm>
            <a:prstGeom prst="roundRect">
              <a:avLst>
                <a:gd name="adj" fmla="val 8579"/>
              </a:avLst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86"/>
            <p:cNvSpPr/>
            <p:nvPr/>
          </p:nvSpPr>
          <p:spPr>
            <a:xfrm>
              <a:off x="3682800" y="2205000"/>
              <a:ext cx="1826280" cy="364680"/>
            </a:xfrm>
            <a:prstGeom prst="roundRect">
              <a:avLst>
                <a:gd name="adj" fmla="val 20954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9" name="AutoShape 21"/>
            <p:cNvCxnSpPr/>
            <p:nvPr/>
          </p:nvCxnSpPr>
          <p:spPr>
            <a:xfrm>
              <a:off x="5447880" y="2753280"/>
              <a:ext cx="1803960" cy="104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  <a:headEnd len="med" type="triangle" w="med"/>
            </a:ln>
          </p:spPr>
        </p:cxnSp>
        <p:sp>
          <p:nvSpPr>
            <p:cNvPr id="150" name="Text Box 22"/>
            <p:cNvSpPr/>
            <p:nvPr/>
          </p:nvSpPr>
          <p:spPr>
            <a:xfrm>
              <a:off x="4250880" y="234864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23"/>
            <p:cNvSpPr/>
            <p:nvPr/>
          </p:nvSpPr>
          <p:spPr>
            <a:xfrm>
              <a:off x="6928920" y="366588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24"/>
            <p:cNvSpPr/>
            <p:nvPr/>
          </p:nvSpPr>
          <p:spPr>
            <a:xfrm>
              <a:off x="4215240" y="366588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25"/>
            <p:cNvSpPr/>
            <p:nvPr/>
          </p:nvSpPr>
          <p:spPr>
            <a:xfrm>
              <a:off x="5562720" y="366588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26"/>
            <p:cNvSpPr/>
            <p:nvPr/>
          </p:nvSpPr>
          <p:spPr>
            <a:xfrm>
              <a:off x="2852640" y="366588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27"/>
            <p:cNvSpPr/>
            <p:nvPr/>
          </p:nvSpPr>
          <p:spPr>
            <a:xfrm>
              <a:off x="1501560" y="366588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2"/>
          <p:cNvGrpSpPr/>
          <p:nvPr/>
        </p:nvGrpSpPr>
        <p:grpSpPr>
          <a:xfrm>
            <a:off x="2278080" y="1727280"/>
            <a:ext cx="4935240" cy="4269960"/>
            <a:chOff x="2278080" y="1727280"/>
            <a:chExt cx="4935240" cy="4269960"/>
          </a:xfrm>
        </p:grpSpPr>
        <p:sp>
          <p:nvSpPr>
            <p:cNvPr id="157" name="AutoShape 3"/>
            <p:cNvSpPr/>
            <p:nvPr/>
          </p:nvSpPr>
          <p:spPr>
            <a:xfrm>
              <a:off x="4208760" y="4121640"/>
              <a:ext cx="1503000" cy="1501560"/>
            </a:xfrm>
            <a:prstGeom prst="cube">
              <a:avLst>
                <a:gd name="adj" fmla="val 25000"/>
              </a:avLst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4"/>
            <p:cNvSpPr/>
            <p:nvPr/>
          </p:nvSpPr>
          <p:spPr>
            <a:xfrm>
              <a:off x="3797640" y="4495320"/>
              <a:ext cx="1501560" cy="15019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19444a"/>
                </a:gs>
                <a:gs pos="100000">
                  <a:srgbClr val="3693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NFRA M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ales 1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ales 2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utomation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Network 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5"/>
            <p:cNvSpPr/>
            <p:nvPr/>
          </p:nvSpPr>
          <p:spPr>
            <a:xfrm>
              <a:off x="2278080" y="3419640"/>
              <a:ext cx="1501560" cy="1501920"/>
            </a:xfrm>
            <a:prstGeom prst="cube">
              <a:avLst>
                <a:gd name="adj" fmla="val 25000"/>
              </a:avLst>
            </a:prstGeom>
            <a:solidFill>
              <a:srgbClr val="cccc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6"/>
            <p:cNvSpPr/>
            <p:nvPr/>
          </p:nvSpPr>
          <p:spPr>
            <a:xfrm>
              <a:off x="4208760" y="2993040"/>
              <a:ext cx="1503000" cy="1501920"/>
            </a:xfrm>
            <a:prstGeom prst="cube">
              <a:avLst>
                <a:gd name="adj" fmla="val 25000"/>
              </a:avLst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7"/>
            <p:cNvSpPr/>
            <p:nvPr/>
          </p:nvSpPr>
          <p:spPr>
            <a:xfrm>
              <a:off x="2609280" y="3419640"/>
              <a:ext cx="1503000" cy="15019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3b3b00"/>
                </a:gs>
                <a:gs pos="100000">
                  <a:srgbClr val="80800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onsulting MU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onsulting 1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onsulting 2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onsulting 3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8"/>
            <p:cNvSpPr/>
            <p:nvPr/>
          </p:nvSpPr>
          <p:spPr>
            <a:xfrm>
              <a:off x="3797640" y="3419640"/>
              <a:ext cx="1501560" cy="15019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762f00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R&amp;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eBiz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biz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9"/>
            <p:cNvSpPr/>
            <p:nvPr/>
          </p:nvSpPr>
          <p:spPr>
            <a:xfrm>
              <a:off x="5119200" y="3229200"/>
              <a:ext cx="1501560" cy="15019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0475e"/>
                </a:gs>
                <a:gs pos="100000">
                  <a:srgbClr val="0099cc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I M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ales 1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ales 2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I System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I Develop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10"/>
            <p:cNvSpPr/>
            <p:nvPr/>
          </p:nvSpPr>
          <p:spPr>
            <a:xfrm>
              <a:off x="5711760" y="3229200"/>
              <a:ext cx="1501560" cy="1501920"/>
            </a:xfrm>
            <a:prstGeom prst="cube">
              <a:avLst>
                <a:gd name="adj" fmla="val 25000"/>
              </a:avLst>
            </a:prstGeom>
            <a:solidFill>
              <a:srgbClr val="99cc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AutoShape 11"/>
            <p:cNvSpPr/>
            <p:nvPr/>
          </p:nvSpPr>
          <p:spPr>
            <a:xfrm>
              <a:off x="3913920" y="2192760"/>
              <a:ext cx="1501560" cy="15019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475e00"/>
                </a:gs>
                <a:gs pos="100000">
                  <a:srgbClr val="99cc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SP M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S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iz 1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iz 2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iz 3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12"/>
            <p:cNvSpPr/>
            <p:nvPr/>
          </p:nvSpPr>
          <p:spPr>
            <a:xfrm>
              <a:off x="3913920" y="1727280"/>
              <a:ext cx="1501560" cy="1501920"/>
            </a:xfrm>
            <a:prstGeom prst="cube">
              <a:avLst>
                <a:gd name="adj" fmla="val 25000"/>
              </a:avLst>
            </a:prstGeom>
            <a:solidFill>
              <a:srgbClr val="ccff3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 Box 7"/>
          <p:cNvSpPr/>
          <p:nvPr/>
        </p:nvSpPr>
        <p:spPr>
          <a:xfrm>
            <a:off x="108000" y="6432480"/>
            <a:ext cx="6251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商务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shangw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0" y="2060640"/>
            <a:ext cx="9144000" cy="2205000"/>
          </a:xfrm>
          <a:prstGeom prst="rect">
            <a:avLst/>
          </a:prstGeom>
          <a:solidFill>
            <a:srgbClr val="9933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"/>
                <a:ea typeface="微软雅黑"/>
              </a:rPr>
              <a:t>谢谢观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3T07:50:13Z</dcterms:created>
  <dc:creator>yellownancy</dc:creator>
  <dc:description/>
  <cp:keywords/>
  <dc:language>en-US</dc:language>
  <cp:lastModifiedBy>yu wang</cp:lastModifiedBy>
  <dcterms:modified xsi:type="dcterms:W3CDTF">2015-08-12T14:54:31Z</dcterms:modified>
  <cp:revision>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