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1C1-2B44-4C74-A6CE-BDE53927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E07-0640-40FD-9949-006F4463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0A8-C178-42F0-8593-2113B816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194-87A0-4CFA-9667-6546C499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2F0D-4F0B-4DF7-9F4D-F8C4CC66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E05D-D935-4776-9F7B-0F7B646A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AB58-22A2-4310-8575-49D66F04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AB6D-2AF9-4807-B365-CF41A03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CE98-5B54-4699-BF12-6C601D2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B43-84CC-420C-A339-52A0444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18D-04E9-4CFA-8933-95DBA8A0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6CA-036D-4C8D-9059-6C90EABF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8F27-181E-48B9-8CE1-68F67B7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5FC9-A255-4CED-AEE6-BA59CFC5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43B-199E-45A0-9F6C-D188C611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19F-5256-41FD-AA66-CCBA6A00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191E-0951-4AC4-8034-A91954C0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BF7E-9F6D-486F-9DAD-D0E14D9F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0768-FA45-4DD3-ABAC-3E92803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EF95-74D1-4C50-8A0F-8316873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8AEE-9919-4566-8632-EC80979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54762-A9F4-4B7E-8DE2-B81400C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B78-7043-4359-BA37-8B793CB7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BC42-07FB-408D-A39C-86E38BC5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FC1F-970C-4FA4-A824-96ECB5A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AEA0-A0FD-421E-B683-6AE36FF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3C54-32D6-4D2B-A5F0-35D440E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5F6D-D005-4406-B880-E813D90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E898-0D88-4D58-BC72-B4980EAC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AAE0-CE6D-4D7C-B5B3-27C1F755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533-29AC-459C-9FE9-E85BAC0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13F-02C4-4FFA-9E7A-36975A07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B94-B6E2-417D-93D8-D800A2D5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D50-BE20-4AB5-BE26-F33015F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47C-27EA-4BB2-96EA-3AC9BE89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02A-70CE-4EB5-9990-9EA59C12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CE8036-606D-46E9-BBAF-46874C58FA2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039AFB-493F-4548-A729-33A83290BC67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4" descr=""/>
          <p:cNvPicPr/>
          <p:nvPr/>
        </p:nvPicPr>
        <p:blipFill>
          <a:blip r:embed="rId2"/>
          <a:stretch/>
        </p:blipFill>
        <p:spPr>
          <a:xfrm>
            <a:off x="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0" y="532440"/>
            <a:ext cx="12191760" cy="57664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CDC23C-E063-41FC-B0D2-AC253D53545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" descr=""/>
          <p:cNvPicPr/>
          <p:nvPr/>
        </p:nvPicPr>
        <p:blipFill>
          <a:blip r:embed="rId1"/>
          <a:stretch/>
        </p:blipFill>
        <p:spPr>
          <a:xfrm>
            <a:off x="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26" name="矩形 9"/>
          <p:cNvSpPr/>
          <p:nvPr/>
        </p:nvSpPr>
        <p:spPr>
          <a:xfrm>
            <a:off x="0" y="1203480"/>
            <a:ext cx="12191760" cy="34948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307880" y="1689840"/>
            <a:ext cx="957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朦胧绿色</a:t>
            </a:r>
            <a:r>
              <a:rPr b="1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连接符 3"/>
          <p:cNvCxnSpPr/>
          <p:nvPr/>
        </p:nvCxnSpPr>
        <p:spPr>
          <a:xfrm>
            <a:off x="3015720" y="3429000"/>
            <a:ext cx="626904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757600" y="1111680"/>
            <a:ext cx="6260760" cy="1122120"/>
            <a:chOff x="2757600" y="1111680"/>
            <a:chExt cx="6260760" cy="1122120"/>
          </a:xfrm>
        </p:grpSpPr>
        <p:pic>
          <p:nvPicPr>
            <p:cNvPr id="131" name="AutoShape 864" descr=""/>
            <p:cNvPicPr/>
            <p:nvPr/>
          </p:nvPicPr>
          <p:blipFill>
            <a:blip r:embed="rId1"/>
            <a:stretch/>
          </p:blipFill>
          <p:spPr>
            <a:xfrm>
              <a:off x="2757600" y="1111680"/>
              <a:ext cx="62607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4"/>
            <p:cNvSpPr/>
            <p:nvPr/>
          </p:nvSpPr>
          <p:spPr>
            <a:xfrm>
              <a:off x="2952720" y="1298880"/>
              <a:ext cx="56988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  <a:ea typeface="Gulim"/>
              </a:endParaRPr>
            </a:p>
          </p:txBody>
        </p:sp>
      </p:grpSp>
      <p:grpSp>
        <p:nvGrpSpPr>
          <p:cNvPr id="133" name="Group 5"/>
          <p:cNvGrpSpPr/>
          <p:nvPr/>
        </p:nvGrpSpPr>
        <p:grpSpPr>
          <a:xfrm>
            <a:off x="3686040" y="1268640"/>
            <a:ext cx="4866840" cy="560160"/>
            <a:chOff x="3686040" y="1268640"/>
            <a:chExt cx="4866840" cy="560160"/>
          </a:xfrm>
        </p:grpSpPr>
        <p:sp>
          <p:nvSpPr>
            <p:cNvPr id="134" name="AutoShape 50"/>
            <p:cNvSpPr/>
            <p:nvPr/>
          </p:nvSpPr>
          <p:spPr>
            <a:xfrm>
              <a:off x="3686040" y="1268640"/>
              <a:ext cx="4866840" cy="56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cadc8"/>
                </a:gs>
                <a:gs pos="100000">
                  <a:srgbClr val="ffffff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1"/>
            <p:cNvSpPr/>
            <p:nvPr/>
          </p:nvSpPr>
          <p:spPr>
            <a:xfrm>
              <a:off x="3801240" y="1336680"/>
              <a:ext cx="4556160" cy="262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14076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</p:grpSp>
      <p:sp>
        <p:nvSpPr>
          <p:cNvPr id="136" name="TextBox 47"/>
          <p:cNvSpPr/>
          <p:nvPr/>
        </p:nvSpPr>
        <p:spPr>
          <a:xfrm>
            <a:off x="3125160" y="1206720"/>
            <a:ext cx="435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2757960" y="2008440"/>
            <a:ext cx="6260400" cy="1115280"/>
            <a:chOff x="2757960" y="2008440"/>
            <a:chExt cx="6260400" cy="1115280"/>
          </a:xfrm>
        </p:grpSpPr>
        <p:grpSp>
          <p:nvGrpSpPr>
            <p:cNvPr id="138" name="Group 10"/>
            <p:cNvGrpSpPr/>
            <p:nvPr/>
          </p:nvGrpSpPr>
          <p:grpSpPr>
            <a:xfrm>
              <a:off x="2757960" y="2008440"/>
              <a:ext cx="6260400" cy="1115280"/>
              <a:chOff x="2757960" y="2008440"/>
              <a:chExt cx="6260400" cy="1115280"/>
            </a:xfrm>
          </p:grpSpPr>
          <p:pic>
            <p:nvPicPr>
              <p:cNvPr id="139" name="AutoShape 8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57960" y="2008440"/>
                <a:ext cx="6260400" cy="11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12"/>
              <p:cNvSpPr/>
              <p:nvPr/>
            </p:nvSpPr>
            <p:spPr>
              <a:xfrm>
                <a:off x="2951640" y="2194920"/>
                <a:ext cx="5699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41" name="Group 13"/>
            <p:cNvGrpSpPr/>
            <p:nvPr/>
          </p:nvGrpSpPr>
          <p:grpSpPr>
            <a:xfrm>
              <a:off x="3714480" y="2185200"/>
              <a:ext cx="4865760" cy="559080"/>
              <a:chOff x="3714480" y="2185200"/>
              <a:chExt cx="4865760" cy="559080"/>
            </a:xfrm>
          </p:grpSpPr>
          <p:sp>
            <p:nvSpPr>
              <p:cNvPr id="142" name="AutoShape 50"/>
              <p:cNvSpPr/>
              <p:nvPr/>
            </p:nvSpPr>
            <p:spPr>
              <a:xfrm>
                <a:off x="3714480" y="2185200"/>
                <a:ext cx="48657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51"/>
              <p:cNvSpPr/>
              <p:nvPr/>
            </p:nvSpPr>
            <p:spPr>
              <a:xfrm>
                <a:off x="3873240" y="2215800"/>
                <a:ext cx="455508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11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44" name="TextBox 53"/>
            <p:cNvSpPr/>
            <p:nvPr/>
          </p:nvSpPr>
          <p:spPr>
            <a:xfrm>
              <a:off x="3125160" y="210312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7"/>
          <p:cNvGrpSpPr/>
          <p:nvPr/>
        </p:nvGrpSpPr>
        <p:grpSpPr>
          <a:xfrm>
            <a:off x="2757960" y="2904480"/>
            <a:ext cx="6260400" cy="1115280"/>
            <a:chOff x="2757960" y="2904480"/>
            <a:chExt cx="6260400" cy="1115280"/>
          </a:xfrm>
        </p:grpSpPr>
        <p:grpSp>
          <p:nvGrpSpPr>
            <p:cNvPr id="146" name="Group 18"/>
            <p:cNvGrpSpPr/>
            <p:nvPr/>
          </p:nvGrpSpPr>
          <p:grpSpPr>
            <a:xfrm>
              <a:off x="2757960" y="2904480"/>
              <a:ext cx="6260400" cy="1115280"/>
              <a:chOff x="2757960" y="2904480"/>
              <a:chExt cx="6260400" cy="1115280"/>
            </a:xfrm>
          </p:grpSpPr>
          <p:pic>
            <p:nvPicPr>
              <p:cNvPr id="147" name="AutoShape 864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7960" y="2904480"/>
                <a:ext cx="6260400" cy="11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20"/>
              <p:cNvSpPr/>
              <p:nvPr/>
            </p:nvSpPr>
            <p:spPr>
              <a:xfrm>
                <a:off x="2951640" y="3090240"/>
                <a:ext cx="5699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49" name="Group 21"/>
            <p:cNvGrpSpPr/>
            <p:nvPr/>
          </p:nvGrpSpPr>
          <p:grpSpPr>
            <a:xfrm>
              <a:off x="3714480" y="3080520"/>
              <a:ext cx="4865760" cy="559080"/>
              <a:chOff x="3714480" y="3080520"/>
              <a:chExt cx="4865760" cy="559080"/>
            </a:xfrm>
          </p:grpSpPr>
          <p:sp>
            <p:nvSpPr>
              <p:cNvPr id="150" name="AutoShape 50"/>
              <p:cNvSpPr/>
              <p:nvPr/>
            </p:nvSpPr>
            <p:spPr>
              <a:xfrm>
                <a:off x="3714480" y="3080520"/>
                <a:ext cx="48657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51"/>
              <p:cNvSpPr/>
              <p:nvPr/>
            </p:nvSpPr>
            <p:spPr>
              <a:xfrm>
                <a:off x="3873240" y="3111120"/>
                <a:ext cx="455508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11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52" name="TextBox 59"/>
            <p:cNvSpPr/>
            <p:nvPr/>
          </p:nvSpPr>
          <p:spPr>
            <a:xfrm>
              <a:off x="3125160" y="299880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5"/>
          <p:cNvGrpSpPr/>
          <p:nvPr/>
        </p:nvGrpSpPr>
        <p:grpSpPr>
          <a:xfrm>
            <a:off x="2757960" y="3800520"/>
            <a:ext cx="6260400" cy="1115280"/>
            <a:chOff x="2757960" y="3800520"/>
            <a:chExt cx="6260400" cy="1115280"/>
          </a:xfrm>
        </p:grpSpPr>
        <p:grpSp>
          <p:nvGrpSpPr>
            <p:cNvPr id="154" name="Group 26"/>
            <p:cNvGrpSpPr/>
            <p:nvPr/>
          </p:nvGrpSpPr>
          <p:grpSpPr>
            <a:xfrm>
              <a:off x="2757960" y="3800520"/>
              <a:ext cx="6260400" cy="1115280"/>
              <a:chOff x="2757960" y="3800520"/>
              <a:chExt cx="6260400" cy="1115280"/>
            </a:xfrm>
          </p:grpSpPr>
          <p:pic>
            <p:nvPicPr>
              <p:cNvPr id="155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2757960" y="3800520"/>
                <a:ext cx="6260400" cy="11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28"/>
              <p:cNvSpPr/>
              <p:nvPr/>
            </p:nvSpPr>
            <p:spPr>
              <a:xfrm>
                <a:off x="2951280" y="3985200"/>
                <a:ext cx="569988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57" name="Group 29"/>
            <p:cNvGrpSpPr/>
            <p:nvPr/>
          </p:nvGrpSpPr>
          <p:grpSpPr>
            <a:xfrm>
              <a:off x="3714480" y="3975840"/>
              <a:ext cx="4865760" cy="557640"/>
              <a:chOff x="3714480" y="3975840"/>
              <a:chExt cx="4865760" cy="557640"/>
            </a:xfrm>
          </p:grpSpPr>
          <p:sp>
            <p:nvSpPr>
              <p:cNvPr id="158" name="AutoShape 50"/>
              <p:cNvSpPr/>
              <p:nvPr/>
            </p:nvSpPr>
            <p:spPr>
              <a:xfrm>
                <a:off x="3714480" y="3975840"/>
                <a:ext cx="4865760" cy="55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51"/>
              <p:cNvSpPr/>
              <p:nvPr/>
            </p:nvSpPr>
            <p:spPr>
              <a:xfrm>
                <a:off x="3873240" y="4006080"/>
                <a:ext cx="4555080" cy="261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0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60" name="TextBox 65"/>
            <p:cNvSpPr/>
            <p:nvPr/>
          </p:nvSpPr>
          <p:spPr>
            <a:xfrm>
              <a:off x="3125160" y="389412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3"/>
          <p:cNvGrpSpPr/>
          <p:nvPr/>
        </p:nvGrpSpPr>
        <p:grpSpPr>
          <a:xfrm>
            <a:off x="2757960" y="4690440"/>
            <a:ext cx="6260400" cy="1121400"/>
            <a:chOff x="2757960" y="4690440"/>
            <a:chExt cx="6260400" cy="1121400"/>
          </a:xfrm>
        </p:grpSpPr>
        <p:grpSp>
          <p:nvGrpSpPr>
            <p:cNvPr id="162" name="Group 34"/>
            <p:cNvGrpSpPr/>
            <p:nvPr/>
          </p:nvGrpSpPr>
          <p:grpSpPr>
            <a:xfrm>
              <a:off x="2757960" y="4690440"/>
              <a:ext cx="6260400" cy="1121400"/>
              <a:chOff x="2757960" y="4690440"/>
              <a:chExt cx="6260400" cy="1121400"/>
            </a:xfrm>
          </p:grpSpPr>
          <p:pic>
            <p:nvPicPr>
              <p:cNvPr id="163" name="AutoShape 864" descr=""/>
              <p:cNvPicPr/>
              <p:nvPr/>
            </p:nvPicPr>
            <p:blipFill>
              <a:blip r:embed="rId5"/>
              <a:stretch/>
            </p:blipFill>
            <p:spPr>
              <a:xfrm>
                <a:off x="2757960" y="4690440"/>
                <a:ext cx="6260400" cy="112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Text Box 36"/>
              <p:cNvSpPr/>
              <p:nvPr/>
            </p:nvSpPr>
            <p:spPr>
              <a:xfrm>
                <a:off x="2951640" y="4880880"/>
                <a:ext cx="5699160" cy="5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Gulim"/>
                </a:endParaRPr>
              </a:p>
            </p:txBody>
          </p:sp>
        </p:grpSp>
        <p:grpSp>
          <p:nvGrpSpPr>
            <p:cNvPr id="165" name="Group 37"/>
            <p:cNvGrpSpPr/>
            <p:nvPr/>
          </p:nvGrpSpPr>
          <p:grpSpPr>
            <a:xfrm>
              <a:off x="3714480" y="4871160"/>
              <a:ext cx="4865760" cy="559080"/>
              <a:chOff x="3714480" y="4871160"/>
              <a:chExt cx="4865760" cy="559080"/>
            </a:xfrm>
          </p:grpSpPr>
          <p:sp>
            <p:nvSpPr>
              <p:cNvPr id="166" name="AutoShape 50"/>
              <p:cNvSpPr/>
              <p:nvPr/>
            </p:nvSpPr>
            <p:spPr>
              <a:xfrm>
                <a:off x="3714480" y="4871160"/>
                <a:ext cx="48657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adc8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51"/>
              <p:cNvSpPr/>
              <p:nvPr/>
            </p:nvSpPr>
            <p:spPr>
              <a:xfrm>
                <a:off x="3873240" y="4901760"/>
                <a:ext cx="455508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4112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68" name="TextBox 71"/>
            <p:cNvSpPr/>
            <p:nvPr/>
          </p:nvSpPr>
          <p:spPr>
            <a:xfrm>
              <a:off x="3125160" y="478944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1"/>
          <p:cNvSpPr/>
          <p:nvPr/>
        </p:nvSpPr>
        <p:spPr>
          <a:xfrm>
            <a:off x="480240" y="24249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矩形 2"/>
          <p:cNvSpPr/>
          <p:nvPr/>
        </p:nvSpPr>
        <p:spPr>
          <a:xfrm>
            <a:off x="0" y="1203480"/>
            <a:ext cx="12191760" cy="34948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1307880" y="2032560"/>
            <a:ext cx="9575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直接连接符 8"/>
          <p:cNvCxnSpPr/>
          <p:nvPr/>
        </p:nvCxnSpPr>
        <p:spPr>
          <a:xfrm>
            <a:off x="3015720" y="3429000"/>
            <a:ext cx="626904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  <Words>273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2:06:39Z</dcterms:created>
  <dc:creator>姓 汤旭铭</dc:creator>
  <dc:description/>
  <dc:language>en-US</dc:language>
  <cp:lastModifiedBy>yu wang</cp:lastModifiedBy>
  <dcterms:modified xsi:type="dcterms:W3CDTF">2015-08-12T14:52:19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