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E4B4-FE9E-4D3F-BE03-952155A7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2E65-D1A3-4D76-B9E6-086F0895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E543-BFEF-4719-B6A5-7683CEA1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92A-6D63-4656-9F27-15576F93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B70-1251-464D-B1D6-6090F842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3A7E-FD59-43B0-BFC5-5D06F8D8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DF1D-2494-4E03-B61F-EE268B54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F0B-EFE3-484E-A487-908E0F48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900-943E-4181-8F34-E13AC92A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5264-2B3A-43C7-A981-D710AF06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CA0-0E18-44F3-8289-0380BE5F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8D46-FBDB-4CA1-8D8C-9287DD8F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DB51-6EC7-4D6C-A066-676DC1501E1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A95E-5C54-49F4-8DA6-3229B25A2A2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286080" y="442908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五一劳动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357720" y="492912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5734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0640" y="44280"/>
            <a:ext cx="78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5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劳动节节日主题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748B-45E6-4234-AC4B-05C25A0C3E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剪去单角的矩形 11"/>
          <p:cNvSpPr/>
          <p:nvPr/>
        </p:nvSpPr>
        <p:spPr>
          <a:xfrm>
            <a:off x="4714920" y="982800"/>
            <a:ext cx="3089160" cy="3089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剪去单角的矩形 12"/>
          <p:cNvSpPr/>
          <p:nvPr/>
        </p:nvSpPr>
        <p:spPr>
          <a:xfrm flipH="1" flipV="1">
            <a:off x="1624680" y="2571120"/>
            <a:ext cx="3089160" cy="3089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3"/>
          <p:cNvSpPr/>
          <p:nvPr/>
        </p:nvSpPr>
        <p:spPr>
          <a:xfrm>
            <a:off x="465516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4"/>
          <p:cNvSpPr/>
          <p:nvPr/>
        </p:nvSpPr>
        <p:spPr>
          <a:xfrm>
            <a:off x="201204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五角星 15"/>
          <p:cNvSpPr/>
          <p:nvPr/>
        </p:nvSpPr>
        <p:spPr>
          <a:xfrm>
            <a:off x="4643280" y="3643200"/>
            <a:ext cx="714600" cy="71460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五角星 16"/>
          <p:cNvSpPr/>
          <p:nvPr/>
        </p:nvSpPr>
        <p:spPr>
          <a:xfrm>
            <a:off x="4857840" y="2214720"/>
            <a:ext cx="714240" cy="714240"/>
          </a:xfrm>
          <a:prstGeom prst="star5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五角星 17"/>
          <p:cNvSpPr/>
          <p:nvPr/>
        </p:nvSpPr>
        <p:spPr>
          <a:xfrm>
            <a:off x="4143240" y="1143000"/>
            <a:ext cx="714600" cy="71424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五角星 18"/>
          <p:cNvSpPr/>
          <p:nvPr/>
        </p:nvSpPr>
        <p:spPr>
          <a:xfrm>
            <a:off x="3857760" y="4714920"/>
            <a:ext cx="714240" cy="714240"/>
          </a:xfrm>
          <a:prstGeom prst="star5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五角星 19"/>
          <p:cNvSpPr/>
          <p:nvPr/>
        </p:nvSpPr>
        <p:spPr>
          <a:xfrm>
            <a:off x="3071880" y="2500200"/>
            <a:ext cx="1150920" cy="115092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500040" y="500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0"/>
          <p:cNvSpPr/>
          <p:nvPr/>
        </p:nvSpPr>
        <p:spPr>
          <a:xfrm>
            <a:off x="465516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494100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2"/>
          <p:cNvSpPr/>
          <p:nvPr/>
        </p:nvSpPr>
        <p:spPr>
          <a:xfrm>
            <a:off x="4369680" y="1357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0"/>
          <p:cNvSpPr/>
          <p:nvPr/>
        </p:nvSpPr>
        <p:spPr>
          <a:xfrm>
            <a:off x="3798000" y="5072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0"/>
          <p:cNvSpPr/>
          <p:nvPr/>
        </p:nvSpPr>
        <p:spPr>
          <a:xfrm>
            <a:off x="172620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燕尾形 10"/>
          <p:cNvSpPr/>
          <p:nvPr/>
        </p:nvSpPr>
        <p:spPr>
          <a:xfrm rot="5400000">
            <a:off x="3785760" y="887040"/>
            <a:ext cx="2327400" cy="2327400"/>
          </a:xfrm>
          <a:custGeom>
            <a:avLst/>
            <a:gdLst>
              <a:gd name="textAreaLeft" fmla="*/ 0 w 2327400"/>
              <a:gd name="textAreaRight" fmla="*/ 2327760 w 2327400"/>
              <a:gd name="textAreaTop" fmla="*/ 0 h 2327400"/>
              <a:gd name="textAreaBottom" fmla="*/ 232776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燕尾形 11"/>
          <p:cNvSpPr/>
          <p:nvPr/>
        </p:nvSpPr>
        <p:spPr>
          <a:xfrm>
            <a:off x="2428920" y="2244600"/>
            <a:ext cx="2327400" cy="2327400"/>
          </a:xfrm>
          <a:custGeom>
            <a:avLst/>
            <a:gdLst>
              <a:gd name="textAreaLeft" fmla="*/ 0 w 2327400"/>
              <a:gd name="textAreaRight" fmla="*/ 2327760 w 2327400"/>
              <a:gd name="textAreaTop" fmla="*/ 0 h 2327400"/>
              <a:gd name="textAreaBottom" fmla="*/ 232776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燕尾形 12"/>
          <p:cNvSpPr/>
          <p:nvPr/>
        </p:nvSpPr>
        <p:spPr>
          <a:xfrm flipH="1" flipV="1" rot="5400000">
            <a:off x="3785040" y="3601800"/>
            <a:ext cx="2327040" cy="2327400"/>
          </a:xfrm>
          <a:custGeom>
            <a:avLst/>
            <a:gdLst>
              <a:gd name="textAreaLeft" fmla="*/ 360 w 2327040"/>
              <a:gd name="textAreaRight" fmla="*/ 2327760 w 2327040"/>
              <a:gd name="textAreaTop" fmla="*/ -360 h 2327400"/>
              <a:gd name="textAreaBottom" fmla="*/ 232740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燕尾形 13"/>
          <p:cNvSpPr/>
          <p:nvPr/>
        </p:nvSpPr>
        <p:spPr>
          <a:xfrm flipH="1">
            <a:off x="5143680" y="2244600"/>
            <a:ext cx="2327040" cy="2327400"/>
          </a:xfrm>
          <a:custGeom>
            <a:avLst/>
            <a:gdLst>
              <a:gd name="textAreaLeft" fmla="*/ 360 w 2327040"/>
              <a:gd name="textAreaRight" fmla="*/ 2327760 w 2327040"/>
              <a:gd name="textAreaTop" fmla="*/ 0 h 2327400"/>
              <a:gd name="textAreaBottom" fmla="*/ 232776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3512160" y="5572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3"/>
          <p:cNvSpPr/>
          <p:nvPr/>
        </p:nvSpPr>
        <p:spPr>
          <a:xfrm>
            <a:off x="586980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4"/>
          <p:cNvSpPr/>
          <p:nvPr/>
        </p:nvSpPr>
        <p:spPr>
          <a:xfrm>
            <a:off x="3512160" y="1143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5"/>
          <p:cNvSpPr/>
          <p:nvPr/>
        </p:nvSpPr>
        <p:spPr>
          <a:xfrm>
            <a:off x="108360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51F-1D90-4657-BD09-FD4131617D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闪电形 11"/>
          <p:cNvSpPr/>
          <p:nvPr/>
        </p:nvSpPr>
        <p:spPr>
          <a:xfrm rot="674400">
            <a:off x="3161880" y="831600"/>
            <a:ext cx="2149560" cy="214920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闪电形 12"/>
          <p:cNvSpPr/>
          <p:nvPr/>
        </p:nvSpPr>
        <p:spPr>
          <a:xfrm rot="19249800">
            <a:off x="2509560" y="1983960"/>
            <a:ext cx="2149560" cy="2149560"/>
          </a:xfrm>
          <a:prstGeom prst="lightningBol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闪电形 13"/>
          <p:cNvSpPr/>
          <p:nvPr/>
        </p:nvSpPr>
        <p:spPr>
          <a:xfrm rot="16770000">
            <a:off x="2752200" y="3026520"/>
            <a:ext cx="2149560" cy="214956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闪电形 14"/>
          <p:cNvSpPr/>
          <p:nvPr/>
        </p:nvSpPr>
        <p:spPr>
          <a:xfrm rot="13190400">
            <a:off x="4158720" y="3620880"/>
            <a:ext cx="2149560" cy="2149200"/>
          </a:xfrm>
          <a:prstGeom prst="lightningBol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闪电形 15"/>
          <p:cNvSpPr/>
          <p:nvPr/>
        </p:nvSpPr>
        <p:spPr>
          <a:xfrm rot="8665800">
            <a:off x="5568120" y="2354400"/>
            <a:ext cx="2149560" cy="214920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闪电形 16"/>
          <p:cNvSpPr/>
          <p:nvPr/>
        </p:nvSpPr>
        <p:spPr>
          <a:xfrm rot="4836600">
            <a:off x="4874760" y="874440"/>
            <a:ext cx="2151000" cy="2151000"/>
          </a:xfrm>
          <a:prstGeom prst="lightningBol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172620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3"/>
          <p:cNvSpPr/>
          <p:nvPr/>
        </p:nvSpPr>
        <p:spPr>
          <a:xfrm>
            <a:off x="558396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4"/>
          <p:cNvSpPr/>
          <p:nvPr/>
        </p:nvSpPr>
        <p:spPr>
          <a:xfrm>
            <a:off x="3869640" y="5143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5"/>
          <p:cNvSpPr/>
          <p:nvPr/>
        </p:nvSpPr>
        <p:spPr>
          <a:xfrm>
            <a:off x="136908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5012640" y="1643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5"/>
          <p:cNvSpPr/>
          <p:nvPr/>
        </p:nvSpPr>
        <p:spPr>
          <a:xfrm>
            <a:off x="2726640" y="1500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斜纹 10"/>
          <p:cNvSpPr/>
          <p:nvPr/>
        </p:nvSpPr>
        <p:spPr>
          <a:xfrm>
            <a:off x="3000240" y="1500120"/>
            <a:ext cx="1857600" cy="1857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斜纹 11"/>
          <p:cNvSpPr/>
          <p:nvPr/>
        </p:nvSpPr>
        <p:spPr>
          <a:xfrm flipH="1" flipV="1">
            <a:off x="4857120" y="3357000"/>
            <a:ext cx="1857240" cy="1857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斜纹 12"/>
          <p:cNvSpPr/>
          <p:nvPr/>
        </p:nvSpPr>
        <p:spPr>
          <a:xfrm flipV="1">
            <a:off x="3000240" y="3357000"/>
            <a:ext cx="1857600" cy="185724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斜纹 13"/>
          <p:cNvSpPr/>
          <p:nvPr/>
        </p:nvSpPr>
        <p:spPr>
          <a:xfrm flipH="1">
            <a:off x="4857120" y="1500120"/>
            <a:ext cx="1857240" cy="18576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201204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515520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501264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172620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新月形 10"/>
          <p:cNvSpPr/>
          <p:nvPr/>
        </p:nvSpPr>
        <p:spPr>
          <a:xfrm>
            <a:off x="2571840" y="1143000"/>
            <a:ext cx="2143080" cy="428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新月形 11"/>
          <p:cNvSpPr/>
          <p:nvPr/>
        </p:nvSpPr>
        <p:spPr>
          <a:xfrm flipH="1">
            <a:off x="5142960" y="1143000"/>
            <a:ext cx="2143080" cy="428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558396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5"/>
          <p:cNvSpPr/>
          <p:nvPr/>
        </p:nvSpPr>
        <p:spPr>
          <a:xfrm>
            <a:off x="108360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虚尾箭头 10"/>
          <p:cNvSpPr/>
          <p:nvPr/>
        </p:nvSpPr>
        <p:spPr>
          <a:xfrm>
            <a:off x="1600200" y="2487600"/>
            <a:ext cx="1614600" cy="1084320"/>
          </a:xfrm>
          <a:custGeom>
            <a:avLst/>
            <a:gdLst>
              <a:gd name="textAreaLeft" fmla="*/ 252000 w 1614600"/>
              <a:gd name="textAreaRight" fmla="*/ 1343880 w 1614600"/>
              <a:gd name="textAreaTop" fmla="*/ 271080 h 1084320"/>
              <a:gd name="textAreaBottom" fmla="*/ 813240 h 1084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4351" y="5400"/>
                </a:lnTo>
                <a:lnTo>
                  <a:pt x="14351" y="0"/>
                </a:lnTo>
                <a:lnTo>
                  <a:pt x="21600" y="10800"/>
                </a:lnTo>
                <a:lnTo>
                  <a:pt x="14351" y="21600"/>
                </a:lnTo>
                <a:lnTo>
                  <a:pt x="14351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虚尾箭头 11"/>
          <p:cNvSpPr/>
          <p:nvPr/>
        </p:nvSpPr>
        <p:spPr>
          <a:xfrm>
            <a:off x="3214800" y="2428920"/>
            <a:ext cx="1614240" cy="1084320"/>
          </a:xfrm>
          <a:custGeom>
            <a:avLst/>
            <a:gdLst>
              <a:gd name="textAreaLeft" fmla="*/ 252000 w 1614240"/>
              <a:gd name="textAreaRight" fmla="*/ 1343160 w 1614240"/>
              <a:gd name="textAreaTop" fmla="*/ 271080 h 1084320"/>
              <a:gd name="textAreaBottom" fmla="*/ 813240 h 1084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4344" y="5400"/>
                </a:lnTo>
                <a:lnTo>
                  <a:pt x="14344" y="0"/>
                </a:lnTo>
                <a:lnTo>
                  <a:pt x="21600" y="10800"/>
                </a:lnTo>
                <a:lnTo>
                  <a:pt x="14344" y="21600"/>
                </a:lnTo>
                <a:lnTo>
                  <a:pt x="14344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虚尾箭头 12"/>
          <p:cNvSpPr/>
          <p:nvPr/>
        </p:nvSpPr>
        <p:spPr>
          <a:xfrm>
            <a:off x="4857840" y="2428920"/>
            <a:ext cx="1614240" cy="1084320"/>
          </a:xfrm>
          <a:custGeom>
            <a:avLst/>
            <a:gdLst>
              <a:gd name="textAreaLeft" fmla="*/ 252000 w 1614240"/>
              <a:gd name="textAreaRight" fmla="*/ 1343160 w 1614240"/>
              <a:gd name="textAreaTop" fmla="*/ 271080 h 1084320"/>
              <a:gd name="textAreaBottom" fmla="*/ 813240 h 1084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4347" y="5400"/>
                </a:lnTo>
                <a:lnTo>
                  <a:pt x="14347" y="0"/>
                </a:lnTo>
                <a:lnTo>
                  <a:pt x="21600" y="10800"/>
                </a:lnTo>
                <a:lnTo>
                  <a:pt x="14347" y="21600"/>
                </a:lnTo>
                <a:lnTo>
                  <a:pt x="14347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虚尾箭头 13"/>
          <p:cNvSpPr/>
          <p:nvPr/>
        </p:nvSpPr>
        <p:spPr>
          <a:xfrm>
            <a:off x="6529320" y="2428920"/>
            <a:ext cx="1614600" cy="1084320"/>
          </a:xfrm>
          <a:custGeom>
            <a:avLst/>
            <a:gdLst>
              <a:gd name="textAreaLeft" fmla="*/ 252000 w 1614600"/>
              <a:gd name="textAreaRight" fmla="*/ 1343520 w 1614600"/>
              <a:gd name="textAreaTop" fmla="*/ 271080 h 1084320"/>
              <a:gd name="textAreaBottom" fmla="*/ 813240 h 1084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4344" y="5400"/>
                </a:lnTo>
                <a:lnTo>
                  <a:pt x="14344" y="0"/>
                </a:lnTo>
                <a:lnTo>
                  <a:pt x="21600" y="10800"/>
                </a:lnTo>
                <a:lnTo>
                  <a:pt x="14344" y="21600"/>
                </a:lnTo>
                <a:lnTo>
                  <a:pt x="14344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265500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3"/>
          <p:cNvSpPr/>
          <p:nvPr/>
        </p:nvSpPr>
        <p:spPr>
          <a:xfrm>
            <a:off x="608400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436968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5"/>
          <p:cNvSpPr/>
          <p:nvPr/>
        </p:nvSpPr>
        <p:spPr>
          <a:xfrm>
            <a:off x="44064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 形 10"/>
          <p:cNvSpPr/>
          <p:nvPr/>
        </p:nvSpPr>
        <p:spPr>
          <a:xfrm>
            <a:off x="3286080" y="3286080"/>
            <a:ext cx="1714680" cy="1714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 形 11"/>
          <p:cNvSpPr/>
          <p:nvPr/>
        </p:nvSpPr>
        <p:spPr>
          <a:xfrm flipH="1">
            <a:off x="5000760" y="3286080"/>
            <a:ext cx="1714320" cy="17146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 形 12"/>
          <p:cNvSpPr/>
          <p:nvPr/>
        </p:nvSpPr>
        <p:spPr>
          <a:xfrm flipH="1" flipV="1">
            <a:off x="5000760" y="1571760"/>
            <a:ext cx="1714320" cy="1714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 形 13"/>
          <p:cNvSpPr/>
          <p:nvPr/>
        </p:nvSpPr>
        <p:spPr>
          <a:xfrm flipV="1">
            <a:off x="3286080" y="1571760"/>
            <a:ext cx="1714680" cy="171432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79808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529812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201204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194076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流程图: 顺序访问存储器 10"/>
          <p:cNvSpPr/>
          <p:nvPr/>
        </p:nvSpPr>
        <p:spPr>
          <a:xfrm>
            <a:off x="2800440" y="1143000"/>
            <a:ext cx="2257200" cy="2259000"/>
          </a:xfrm>
          <a:prstGeom prst="flowChartMagneticTap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流程图: 顺序访问存储器 11"/>
          <p:cNvSpPr/>
          <p:nvPr/>
        </p:nvSpPr>
        <p:spPr>
          <a:xfrm flipV="1">
            <a:off x="2786040" y="3384000"/>
            <a:ext cx="2259000" cy="2259000"/>
          </a:xfrm>
          <a:prstGeom prst="flowChartMagneticTap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流程图: 顺序访问存储器 12"/>
          <p:cNvSpPr/>
          <p:nvPr/>
        </p:nvSpPr>
        <p:spPr>
          <a:xfrm flipH="1" flipV="1">
            <a:off x="5027040" y="3384000"/>
            <a:ext cx="2259000" cy="2259000"/>
          </a:xfrm>
          <a:prstGeom prst="flowChartMagneticTap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流程图: 顺序访问存储器 13"/>
          <p:cNvSpPr/>
          <p:nvPr/>
        </p:nvSpPr>
        <p:spPr>
          <a:xfrm flipH="1">
            <a:off x="5027040" y="1143000"/>
            <a:ext cx="2259000" cy="2259000"/>
          </a:xfrm>
          <a:prstGeom prst="flowChartMagneticTap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2"/>
          <p:cNvSpPr/>
          <p:nvPr/>
        </p:nvSpPr>
        <p:spPr>
          <a:xfrm>
            <a:off x="236916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501264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479808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5"/>
          <p:cNvSpPr/>
          <p:nvPr/>
        </p:nvSpPr>
        <p:spPr>
          <a:xfrm>
            <a:off x="244080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a</cp:lastModifiedBy>
  <dcterms:modified xsi:type="dcterms:W3CDTF">2015-08-12T14:33:44Z</dcterms:modified>
  <cp:revision>29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