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73C-88B0-4EDE-8C83-B55A1C0F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3B2-BAA1-4B12-BA97-365BC5D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9E0-D847-4F4A-86C8-BEE66708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EE5-C511-4E2D-BD5B-873C83F4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2672-57F3-4312-9F6D-0E1351C9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34A8-14C9-4074-AC58-682B3701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BF1D-0E9A-4EF1-ADD7-ED0B3FA5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8541-A360-4355-A38A-9476238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90DA-A250-41BC-8C39-9CC2EE19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F429-6A1B-4CBD-B532-F41D7D59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732-7A9D-4484-8356-82F0B29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579-553B-4BD2-8742-BCBC536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8418-6087-4C1C-ACCB-2EC7FE8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593F-2016-4B88-8359-F9491FE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14CF-D117-4B73-9BF1-E59DC73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E088-51F0-4191-B8A6-E14C9CDE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1A93-EED1-42F0-85EB-8CCFB273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17B-6E77-48E3-AEB8-3BDC295F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4A7-BC9B-45A6-BA34-67FFFC6B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7BF-2179-4668-A632-96DE6344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F0D-82EF-4DAA-8710-06A6AE6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380-FA47-4059-AF6C-4F2A4A1C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B45-AFFF-49CF-89AB-8536C2DA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668-3FB8-46DA-AC46-146A90E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24C-311B-4BB0-B6A0-3D6D86D791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725A-4B27-451B-83EC-EF44BD957E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2490840" y="610236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1720" y="5086440"/>
            <a:ext cx="63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国际劳动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2"/>
          <p:cNvSpPr/>
          <p:nvPr/>
        </p:nvSpPr>
        <p:spPr>
          <a:xfrm>
            <a:off x="0" y="-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34A-966D-4DE0-8514-849808A71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132000" y="51577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3610080" y="60148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03:40Z</dcterms:created>
  <dc:creator>幻灯片之家：www.eeppt.com</dc:creator>
  <dc:description>幻灯片之家：www.eeppt.com</dc:description>
  <cp:keywords>幻灯片之家：www.eeppt.com</cp:keywords>
  <dc:language>en-US</dc:language>
  <cp:lastModifiedBy>lenovo</cp:lastModifiedBy>
  <dcterms:modified xsi:type="dcterms:W3CDTF">2015-08-12T14:33:46Z</dcterms:modified>
  <cp:revision>3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