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F0E6-57D7-42B7-AA44-D8211314C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F0D0-41FE-46CD-A9DC-112A808A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6738-C3AE-4221-A2CE-A6895B0E5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521F-BBC5-45CE-BC97-CFD1CC0C8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E365-4A58-4B4A-BA27-CA25CE79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C61E-4429-455F-B029-FDDD6B9A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E9A6-3B27-42E7-A619-9617FF17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CE52-B2EB-466B-B693-E1D7F685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0B71-0333-434C-B505-22F4867C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93B3-1E70-49D4-A480-62B1F0F0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F3FF-9270-41AE-96C9-E5F87C2A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4E3C-E5F6-4A93-9B9F-BEF7A5C5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9E27-BA30-436C-A1BC-F5B08853013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.png"/><Relationship Id="rId21" Type="http://schemas.openxmlformats.org/officeDocument/2006/relationships/image" Target="../media/image3.png"/><Relationship Id="rId22" Type="http://schemas.openxmlformats.org/officeDocument/2006/relationships/image" Target="../media/image2.png"/><Relationship Id="rId23" Type="http://schemas.openxmlformats.org/officeDocument/2006/relationships/image" Target="../media/image3.png"/><Relationship Id="rId24" Type="http://schemas.openxmlformats.org/officeDocument/2006/relationships/image" Target="../media/image20.png"/><Relationship Id="rId25" Type="http://schemas.openxmlformats.org/officeDocument/2006/relationships/image" Target="../media/image21.png"/><Relationship Id="rId26" Type="http://schemas.openxmlformats.org/officeDocument/2006/relationships/image" Target="../media/image22.png"/><Relationship Id="rId27" Type="http://schemas.openxmlformats.org/officeDocument/2006/relationships/image" Target="../media/image3.png"/><Relationship Id="rId28" Type="http://schemas.openxmlformats.org/officeDocument/2006/relationships/image" Target="../media/image2.png"/><Relationship Id="rId29" Type="http://schemas.openxmlformats.org/officeDocument/2006/relationships/image" Target="../media/image3.png"/><Relationship Id="rId3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6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hyperlink" Target="http://www.eeppt.com" TargetMode="Externa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hyperlink" Target="http://bbs.ruideppt.com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2" descr="0001.png"/>
          <p:cNvPicPr/>
          <p:nvPr/>
        </p:nvPicPr>
        <p:blipFill>
          <a:blip r:embed="rId2"/>
          <a:stretch/>
        </p:blipFill>
        <p:spPr>
          <a:xfrm>
            <a:off x="6143760" y="-485640"/>
            <a:ext cx="500040" cy="485640"/>
          </a:xfrm>
          <a:prstGeom prst="rect">
            <a:avLst/>
          </a:prstGeom>
          <a:ln w="0">
            <a:noFill/>
          </a:ln>
        </p:spPr>
      </p:pic>
      <p:pic>
        <p:nvPicPr>
          <p:cNvPr id="42" name="图片 23" descr="0001.png"/>
          <p:cNvPicPr/>
          <p:nvPr/>
        </p:nvPicPr>
        <p:blipFill>
          <a:blip r:embed="rId3"/>
          <a:stretch/>
        </p:blipFill>
        <p:spPr>
          <a:xfrm>
            <a:off x="7429680" y="-555480"/>
            <a:ext cx="571320" cy="555480"/>
          </a:xfrm>
          <a:prstGeom prst="rect">
            <a:avLst/>
          </a:prstGeom>
          <a:ln w="0">
            <a:noFill/>
          </a:ln>
        </p:spPr>
      </p:pic>
      <p:pic>
        <p:nvPicPr>
          <p:cNvPr id="43" name="图片 21" descr="0001.png"/>
          <p:cNvPicPr/>
          <p:nvPr/>
        </p:nvPicPr>
        <p:blipFill>
          <a:blip r:embed="rId4"/>
          <a:stretch/>
        </p:blipFill>
        <p:spPr>
          <a:xfrm>
            <a:off x="7058160" y="-500040"/>
            <a:ext cx="514080" cy="500040"/>
          </a:xfrm>
          <a:prstGeom prst="rect">
            <a:avLst/>
          </a:prstGeom>
          <a:ln w="0">
            <a:noFill/>
          </a:ln>
        </p:spPr>
      </p:pic>
      <p:pic>
        <p:nvPicPr>
          <p:cNvPr id="44" name="图片 3" descr="1.1.1.1.1.png"/>
          <p:cNvPicPr/>
          <p:nvPr/>
        </p:nvPicPr>
        <p:blipFill>
          <a:blip r:embed="rId5"/>
          <a:srcRect l="14063" t="0" r="25781" b="6251"/>
          <a:stretch/>
        </p:blipFill>
        <p:spPr>
          <a:xfrm>
            <a:off x="1285920" y="0"/>
            <a:ext cx="5500800" cy="642924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4" descr="锐锐虎送爱人.png"/>
          <p:cNvPicPr/>
          <p:nvPr/>
        </p:nvPicPr>
        <p:blipFill>
          <a:blip r:embed="rId6"/>
          <a:stretch/>
        </p:blipFill>
        <p:spPr>
          <a:xfrm>
            <a:off x="1500120" y="3095640"/>
            <a:ext cx="2357640" cy="3262320"/>
          </a:xfrm>
          <a:prstGeom prst="rect">
            <a:avLst/>
          </a:prstGeom>
          <a:ln w="0">
            <a:noFill/>
          </a:ln>
        </p:spPr>
      </p:pic>
      <p:pic>
        <p:nvPicPr>
          <p:cNvPr id="46" name="图片 4" descr="1.1.1.1.2.png"/>
          <p:cNvPicPr/>
          <p:nvPr/>
        </p:nvPicPr>
        <p:blipFill>
          <a:blip r:embed="rId7"/>
          <a:stretch/>
        </p:blipFill>
        <p:spPr>
          <a:xfrm>
            <a:off x="0" y="0"/>
            <a:ext cx="2857680" cy="6234120"/>
          </a:xfrm>
          <a:prstGeom prst="rect">
            <a:avLst/>
          </a:prstGeom>
          <a:ln w="0">
            <a:noFill/>
          </a:ln>
        </p:spPr>
      </p:pic>
      <p:pic>
        <p:nvPicPr>
          <p:cNvPr id="47" name="图片 5" descr="1.1.1.1.3.png"/>
          <p:cNvPicPr/>
          <p:nvPr/>
        </p:nvPicPr>
        <p:blipFill>
          <a:blip r:embed="rId8"/>
          <a:srcRect l="40626" t="0" r="0" b="62502"/>
          <a:stretch/>
        </p:blipFill>
        <p:spPr>
          <a:xfrm>
            <a:off x="3714840" y="0"/>
            <a:ext cx="5429160" cy="25718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13"/>
          <p:cNvGrpSpPr/>
          <p:nvPr/>
        </p:nvGrpSpPr>
        <p:grpSpPr>
          <a:xfrm>
            <a:off x="0" y="0"/>
            <a:ext cx="1509840" cy="5572080"/>
            <a:chOff x="0" y="0"/>
            <a:chExt cx="1509840" cy="5572080"/>
          </a:xfrm>
        </p:grpSpPr>
        <p:pic>
          <p:nvPicPr>
            <p:cNvPr id="49" name="图片 12" descr="1.1.1.1.6.png"/>
            <p:cNvPicPr/>
            <p:nvPr/>
          </p:nvPicPr>
          <p:blipFill>
            <a:blip r:embed="rId9"/>
            <a:stretch/>
          </p:blipFill>
          <p:spPr>
            <a:xfrm>
              <a:off x="0" y="2263680"/>
              <a:ext cx="987120" cy="3308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" name="组合 11"/>
            <p:cNvGrpSpPr/>
            <p:nvPr/>
          </p:nvGrpSpPr>
          <p:grpSpPr>
            <a:xfrm>
              <a:off x="0" y="0"/>
              <a:ext cx="1509840" cy="2960280"/>
              <a:chOff x="0" y="0"/>
              <a:chExt cx="1509840" cy="2960280"/>
            </a:xfrm>
          </p:grpSpPr>
          <p:grpSp>
            <p:nvGrpSpPr>
              <p:cNvPr id="51" name="组合 9"/>
              <p:cNvGrpSpPr/>
              <p:nvPr/>
            </p:nvGrpSpPr>
            <p:grpSpPr>
              <a:xfrm>
                <a:off x="0" y="0"/>
                <a:ext cx="987120" cy="1276920"/>
                <a:chOff x="0" y="0"/>
                <a:chExt cx="987120" cy="1276920"/>
              </a:xfrm>
            </p:grpSpPr>
            <p:pic>
              <p:nvPicPr>
                <p:cNvPr id="52" name="图片 7" descr="1.1.1.1.5.png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32200" y="0"/>
                  <a:ext cx="696960" cy="406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" name="图片 8" descr="1.1.1.1.7.png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0" y="232200"/>
                  <a:ext cx="987120" cy="1044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54" name="图片 10" descr="1.1.1.1.10.png"/>
              <p:cNvPicPr/>
              <p:nvPr/>
            </p:nvPicPr>
            <p:blipFill>
              <a:blip r:embed="rId12"/>
              <a:stretch/>
            </p:blipFill>
            <p:spPr>
              <a:xfrm>
                <a:off x="0" y="1102680"/>
                <a:ext cx="1509840" cy="1857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55" name="图片 15" descr="1.1.1.1.8.png"/>
          <p:cNvPicPr/>
          <p:nvPr/>
        </p:nvPicPr>
        <p:blipFill>
          <a:blip r:embed="rId13"/>
          <a:stretch/>
        </p:blipFill>
        <p:spPr>
          <a:xfrm>
            <a:off x="0" y="6215040"/>
            <a:ext cx="9144000" cy="64296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6" descr="1.1.1.1.11.png"/>
          <p:cNvPicPr/>
          <p:nvPr/>
        </p:nvPicPr>
        <p:blipFill>
          <a:blip r:embed="rId14"/>
          <a:srcRect l="0" t="90628" r="0" b="0"/>
          <a:stretch/>
        </p:blipFill>
        <p:spPr>
          <a:xfrm>
            <a:off x="0" y="6215040"/>
            <a:ext cx="9144000" cy="64296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7" descr="1.1.1.1.12.png"/>
          <p:cNvPicPr/>
          <p:nvPr/>
        </p:nvPicPr>
        <p:blipFill>
          <a:blip r:embed="rId15"/>
          <a:srcRect l="0" t="89586" r="0" b="7291"/>
          <a:stretch/>
        </p:blipFill>
        <p:spPr>
          <a:xfrm>
            <a:off x="0" y="6143760"/>
            <a:ext cx="9144000" cy="214200"/>
          </a:xfrm>
          <a:prstGeom prst="rect">
            <a:avLst/>
          </a:prstGeom>
          <a:ln w="0">
            <a:noFill/>
          </a:ln>
        </p:spPr>
      </p:pic>
      <p:pic>
        <p:nvPicPr>
          <p:cNvPr id="58" name="图片 20" descr="1.1.1.1.1.19.png"/>
          <p:cNvPicPr/>
          <p:nvPr/>
        </p:nvPicPr>
        <p:blipFill>
          <a:blip r:embed="rId16"/>
          <a:srcRect l="29688" t="26042" r="32032" b="54167"/>
          <a:stretch/>
        </p:blipFill>
        <p:spPr>
          <a:xfrm>
            <a:off x="2714760" y="1857240"/>
            <a:ext cx="3500280" cy="1357560"/>
          </a:xfrm>
          <a:prstGeom prst="rect">
            <a:avLst/>
          </a:prstGeom>
          <a:ln w="0">
            <a:noFill/>
          </a:ln>
        </p:spPr>
      </p:pic>
      <p:pic>
        <p:nvPicPr>
          <p:cNvPr id="59" name="图片 24" descr="0001.png"/>
          <p:cNvPicPr/>
          <p:nvPr/>
        </p:nvPicPr>
        <p:blipFill>
          <a:blip r:embed="rId17"/>
          <a:stretch/>
        </p:blipFill>
        <p:spPr>
          <a:xfrm>
            <a:off x="2428920" y="-507960"/>
            <a:ext cx="522360" cy="507960"/>
          </a:xfrm>
          <a:prstGeom prst="rect">
            <a:avLst/>
          </a:prstGeom>
          <a:ln w="0">
            <a:noFill/>
          </a:ln>
        </p:spPr>
      </p:pic>
      <p:pic>
        <p:nvPicPr>
          <p:cNvPr id="60" name="图片 25" descr="0001.png"/>
          <p:cNvPicPr/>
          <p:nvPr/>
        </p:nvPicPr>
        <p:blipFill>
          <a:blip r:embed="rId18"/>
          <a:stretch/>
        </p:blipFill>
        <p:spPr>
          <a:xfrm>
            <a:off x="3429000" y="-571680"/>
            <a:ext cx="587520" cy="571680"/>
          </a:xfrm>
          <a:prstGeom prst="rect">
            <a:avLst/>
          </a:prstGeom>
          <a:ln w="0">
            <a:noFill/>
          </a:ln>
        </p:spPr>
      </p:pic>
      <p:pic>
        <p:nvPicPr>
          <p:cNvPr id="61" name="图片 26" descr="0001.png"/>
          <p:cNvPicPr/>
          <p:nvPr/>
        </p:nvPicPr>
        <p:blipFill>
          <a:blip r:embed="rId19"/>
          <a:stretch/>
        </p:blipFill>
        <p:spPr>
          <a:xfrm>
            <a:off x="2786040" y="-609480"/>
            <a:ext cx="627120" cy="609480"/>
          </a:xfrm>
          <a:prstGeom prst="rect">
            <a:avLst/>
          </a:prstGeom>
          <a:ln w="0">
            <a:noFill/>
          </a:ln>
        </p:spPr>
      </p:pic>
      <p:pic>
        <p:nvPicPr>
          <p:cNvPr id="62" name="图片 27" descr="0001.png"/>
          <p:cNvPicPr/>
          <p:nvPr/>
        </p:nvPicPr>
        <p:blipFill>
          <a:blip r:embed="rId20"/>
          <a:stretch/>
        </p:blipFill>
        <p:spPr>
          <a:xfrm>
            <a:off x="5715000" y="-485640"/>
            <a:ext cx="500040" cy="485640"/>
          </a:xfrm>
          <a:prstGeom prst="rect">
            <a:avLst/>
          </a:prstGeom>
          <a:ln w="0">
            <a:noFill/>
          </a:ln>
        </p:spPr>
      </p:pic>
      <p:pic>
        <p:nvPicPr>
          <p:cNvPr id="63" name="图片 28" descr="0001.png"/>
          <p:cNvPicPr/>
          <p:nvPr/>
        </p:nvPicPr>
        <p:blipFill>
          <a:blip r:embed="rId21"/>
          <a:stretch/>
        </p:blipFill>
        <p:spPr>
          <a:xfrm>
            <a:off x="6572160" y="-555480"/>
            <a:ext cx="571680" cy="555480"/>
          </a:xfrm>
          <a:prstGeom prst="rect">
            <a:avLst/>
          </a:prstGeom>
          <a:ln w="0">
            <a:noFill/>
          </a:ln>
        </p:spPr>
      </p:pic>
      <p:pic>
        <p:nvPicPr>
          <p:cNvPr id="64" name="图片 29" descr="0001.png"/>
          <p:cNvPicPr/>
          <p:nvPr/>
        </p:nvPicPr>
        <p:blipFill>
          <a:blip r:embed="rId22"/>
          <a:stretch/>
        </p:blipFill>
        <p:spPr>
          <a:xfrm>
            <a:off x="5286240" y="-485640"/>
            <a:ext cx="500040" cy="485640"/>
          </a:xfrm>
          <a:prstGeom prst="rect">
            <a:avLst/>
          </a:prstGeom>
          <a:ln w="0">
            <a:noFill/>
          </a:ln>
        </p:spPr>
      </p:pic>
      <p:pic>
        <p:nvPicPr>
          <p:cNvPr id="65" name="图片 33" descr="0001.png"/>
          <p:cNvPicPr/>
          <p:nvPr/>
        </p:nvPicPr>
        <p:blipFill>
          <a:blip r:embed="rId23"/>
          <a:stretch/>
        </p:blipFill>
        <p:spPr>
          <a:xfrm>
            <a:off x="7929720" y="-555480"/>
            <a:ext cx="571320" cy="555480"/>
          </a:xfrm>
          <a:prstGeom prst="rect">
            <a:avLst/>
          </a:prstGeom>
          <a:ln w="0">
            <a:noFill/>
          </a:ln>
        </p:spPr>
      </p:pic>
      <p:pic>
        <p:nvPicPr>
          <p:cNvPr id="66" name="图片 34" descr="0001.png"/>
          <p:cNvPicPr/>
          <p:nvPr/>
        </p:nvPicPr>
        <p:blipFill>
          <a:blip r:embed="rId24"/>
          <a:stretch/>
        </p:blipFill>
        <p:spPr>
          <a:xfrm>
            <a:off x="8740800" y="-608040"/>
            <a:ext cx="403200" cy="393840"/>
          </a:xfrm>
          <a:prstGeom prst="rect">
            <a:avLst/>
          </a:prstGeom>
          <a:ln w="0">
            <a:noFill/>
          </a:ln>
        </p:spPr>
      </p:pic>
      <p:pic>
        <p:nvPicPr>
          <p:cNvPr id="67" name="图片 35" descr="0001.png"/>
          <p:cNvPicPr/>
          <p:nvPr/>
        </p:nvPicPr>
        <p:blipFill>
          <a:blip r:embed="rId25"/>
          <a:stretch/>
        </p:blipFill>
        <p:spPr>
          <a:xfrm>
            <a:off x="8429760" y="-417600"/>
            <a:ext cx="428400" cy="41760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9" descr="1.1.1.12.png"/>
          <p:cNvPicPr/>
          <p:nvPr/>
        </p:nvPicPr>
        <p:blipFill>
          <a:blip r:embed="rId26"/>
          <a:stretch/>
        </p:blipFill>
        <p:spPr>
          <a:xfrm>
            <a:off x="6357960" y="785880"/>
            <a:ext cx="2786040" cy="6072120"/>
          </a:xfrm>
          <a:prstGeom prst="rect">
            <a:avLst/>
          </a:prstGeom>
          <a:ln w="0">
            <a:noFill/>
          </a:ln>
        </p:spPr>
      </p:pic>
      <p:pic>
        <p:nvPicPr>
          <p:cNvPr id="69" name="图片 30" descr="0001.png"/>
          <p:cNvPicPr/>
          <p:nvPr/>
        </p:nvPicPr>
        <p:blipFill>
          <a:blip r:embed="rId27"/>
          <a:stretch/>
        </p:blipFill>
        <p:spPr>
          <a:xfrm>
            <a:off x="3929040" y="-555480"/>
            <a:ext cx="571680" cy="555480"/>
          </a:xfrm>
          <a:prstGeom prst="rect">
            <a:avLst/>
          </a:prstGeom>
          <a:ln w="0">
            <a:noFill/>
          </a:ln>
        </p:spPr>
      </p:pic>
      <p:pic>
        <p:nvPicPr>
          <p:cNvPr id="70" name="图片 31" descr="0001.png"/>
          <p:cNvPicPr/>
          <p:nvPr/>
        </p:nvPicPr>
        <p:blipFill>
          <a:blip r:embed="rId28"/>
          <a:stretch/>
        </p:blipFill>
        <p:spPr>
          <a:xfrm>
            <a:off x="4929120" y="-485640"/>
            <a:ext cx="500040" cy="485640"/>
          </a:xfrm>
          <a:prstGeom prst="rect">
            <a:avLst/>
          </a:prstGeom>
          <a:ln w="0">
            <a:noFill/>
          </a:ln>
        </p:spPr>
      </p:pic>
      <p:pic>
        <p:nvPicPr>
          <p:cNvPr id="71" name="图片 32" descr="0001.png"/>
          <p:cNvPicPr/>
          <p:nvPr/>
        </p:nvPicPr>
        <p:blipFill>
          <a:blip r:embed="rId29"/>
          <a:stretch/>
        </p:blipFill>
        <p:spPr>
          <a:xfrm>
            <a:off x="4429080" y="-555480"/>
            <a:ext cx="571680" cy="555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79280" y="56610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45880" y="33336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爱人新年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32292 -0.35607 C -0.28785 -0.32531 -0.25347 -0.29479 -0.19948 -0.2356 C -0.14601 -0.17595 -0.07274 -0.08763 -1.66667E-006 -3.12139E-006 E">
                                      <p:cBhvr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2" presetSubtype="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7" presetSubtype="8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7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0" repeatCount="indefinite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1.38889E-006 4.39306E-006 C -0.01458 0.01641 -0.02864 0.03237 -0.04531 0.07491 C -0.06198 0.11791 -0.0618 0.1815 -0.10052 0.25664 C -0.13923 0.33133 -0.23021 0.42219 -0.2776 0.52462 C -0.32517 0.62682 -0.36458 0.76901 -0.38594 0.87075 C -0.40712 0.97271 -0.40642 1.05433 -0.40573 1.13618 E">
                                      <p:cBhvr>
                                        <p:cTn id="35" dur="3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path" presetID="0" repeatCount="indefinite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5.55556E-007 -2.71676E-006 C 0.01476 0.04763 0.02969 0.09526 0.02552 0.1422 C 0.02136 0.18914 0.000699999999999999 0.21156 -0.02535 0.28232 C -0.05139 0.35307 -0.10955 0.47237 -0.13055 0.56671 C -0.15156 0.66104 -0.15712 0.76763 -0.15087 0.84879 C -0.14462 0.92995 -0.10278 1.01989 -0.09323 1.05434 E">
                                      <p:cBhvr>
                                        <p:cTn id="37" dur="3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0" repeatCount="indefinite">
                                  <p:stCondLst>
                                    <p:cond delay="4400"/>
                                  </p:stCondLst>
                                  <p:childTnLst>
                                    <p:animMotion origin="layout" path="M -2.5E-006 -3.58382E-006 C -0.02239 0.02937 -0.04462 0.05873 -0.0526 0.10613 C -0.06059 0.15353 -0.06962 0.20809 -0.04757 0.28439 C -0.02552 0.36069 0.05729 0.48393 0.07952 0.56439 C 0.10174 0.64463 0.10486 0.69202 0.08629 0.76717 C 0.06771 0.84231 -0.00694 0.95515 -0.03229 1.01572 C -0.05764 1.0763 -0.06198 1.10358 -0.06614 1.13087 E">
                                      <p:cBhvr>
                                        <p:cTn id="39" dur="3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0" repeatCount="indefinite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2.22222E-006 -3.3526E-006 C 0.01441 0.03099 0.02882 0.06197 0.03229 0.10151 C 0.03576 0.14104 0.0408 0.16 0.02048 0.237 C 0.00017 0.31376 -0.07049 0.45179 -0.08976 0.56416 C -0.10903 0.67653 -0.08351 0.82289 -0.09479 0.91191 C -0.10608 1.0007 -0.13177 1.04879 -0.15747 1.09688 E">
                                      <p:cBhvr>
                                        <p:cTn id="41" dur="3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0" repeatCount="indefinite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1.11022E-016 -7.40741E-007 C -0.01753 0.03588 -0.0349 0.07176 -0.04253 0.16296 C -0.05017 0.2544 -0.03177 0.43125 -0.04583 0.54769 C -0.0599 0.66389 -0.12587 0.75625 -0.12726 0.86157 C -0.12865 0.96736 -0.09149 1.07407 -0.05434 1.18102 E">
                                      <p:cBhvr>
                                        <p:cTn id="43" dur="3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0" repeatCount="indefinite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1.11111E-006 8.43931E-006 C -0.05677 0.0992 -0.11354 0.19862 -0.12534 0.32509 C -0.13715 0.45157 -0.07378 0.63584 -0.07118 0.75839 C -0.06857 0.88093 -0.08941 0.97087 -0.11007 1.06105 E">
                                      <p:cBhvr>
                                        <p:cTn id="45" dur="3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0" repeatCount="indefinite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0.16632 -0.02566 C 0.16962 0.03099 0.17291 0.08787 0.1901 0.14382 C 0.20729 0.19954 0.25729 0.24255 0.26979 0.31076 C 0.28229 0.37896 0.27014 0.47977 0.26475 0.55237 C 0.25937 0.62498 0.23784 0.68116 0.2375 0.74636 C 0.23715 0.81133 0.24444 0.88578 0.26302 0.94289 C 0.28159 0.99977 0.31545 1.04347 0.34948 1.08717 E">
                                      <p:cBhvr>
                                        <p:cTn id="47" dur="3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0" repeatCount="indefinite">
                                  <p:stCondLst>
                                    <p:cond delay="5400"/>
                                  </p:stCondLst>
                                  <p:childTnLst>
                                    <p:animMotion origin="layout" path="M 0.26077 -0.02566 C 0.24445 0.01226 0.22813 0.04995 0.22847 0.10081 C 0.22882 0.15168 0.23281 0.19076 0.2625 0.27908 C 0.29219 0.3674 0.38837 0.53411 0.40643 0.63122 C 0.42448 0.72833 0.38768 0.79029 0.37084 0.86151 C 0.354 0.93272 0.32934 0.99538 0.30486 1.05804 E">
                                      <p:cBhvr>
                                        <p:cTn id="49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0" repeatCount="indefinite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0.19983 -0.02335 C 0.18542 0.01064 0.17101 0.04486 0.16927 0.0918 C 0.16753 0.13873 0.19549 0.18567 0.18958 0.25896 C 0.18368 0.33203 0.1309 0.43145 0.13368 0.52972 C 0.13646 0.62798 0.20035 0.75769 0.2066 0.8481 C 0.21285 0.9385 0.19184 1.00486 0.17101 1.07145 E">
                                      <p:cBhvr>
                                        <p:cTn id="51" dur="3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path" presetID="0" repeatCount="indefinite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.25053 -0.01827 C 0.26285 0.01572 0.27518 0.04971 0.27935 0.1015 C 0.28351 0.15329 0.28629 0.21295 0.27587 0.29318 C 0.26546 0.37318 0.21962 0.48578 0.2165 0.58219 C 0.21337 0.67861 0.25608 0.78566 0.2573 0.87098 C 0.25851 0.95653 0.24098 1.02543 0.22344 1.09456 E">
                                      <p:cBhvr>
                                        <p:cTn id="53" dur="3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0" repeatCount="indefinite">
                                  <p:stCondLst>
                                    <p:cond delay="5100"/>
                                  </p:stCondLst>
                                  <p:childTnLst>
                                    <p:animMotion origin="layout" path="M 0.25764 -0.01596 C 0.26823 0.02011 0.27899 0.05618 0.28316 0.09456 C 0.28732 0.13271 0.29531 0.14358 0.28316 0.21433 C 0.271 0.28508 0.21198 0.41341 0.21024 0.51907 C 0.2085 0.62474 0.26979 0.75144 0.27291 0.84855 C 0.27604 0.94566 0.25243 1.02335 0.22882 1.10127 E">
                                      <p:cBhvr>
                                        <p:cTn id="55" dur="3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0" repeatCount="indefinite">
                                  <p:stCondLst>
                                    <p:cond delay="6100"/>
                                  </p:stCondLst>
                                  <p:childTnLst>
                                    <p:animMotion origin="layout" path="M 0.41823 -0.01248 C 0.43993 0.06913 0.4618 0.15075 0.46076 0.24023 C 0.45972 0.32971 0.4191 0.44 0.41146 0.52463 C 0.40382 0.60925 0.40694 0.67098 0.41493 0.74821 C 0.42291 0.82544 0.45851 0.92694 0.45903 0.98752 C 0.45955 1.04809 0.43889 1.07977 0.41823 1.11168 E">
                                      <p:cBhvr>
                                        <p:cTn id="57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0" repeatCount="indefinite">
                                  <p:stCondLst>
                                    <p:cond delay="4400"/>
                                  </p:stCondLst>
                                  <p:childTnLst>
                                    <p:animMotion origin="layout" path="M 0.57969 0.00601 C 0.55746 0.05641 0.53524 0.10682 0.52899 0.17526 C 0.52274 0.2437 0.55017 0.33063 0.54253 0.41688 C 0.53489 0.50312 0.48854 0.60162 0.48316 0.69225 C 0.47778 0.78289 0.51111 0.89271 0.51024 0.96092 C 0.50937 1.0289 0.49375 1.06474 0.47812 1.10081 E">
                                      <p:cBhvr>
                                        <p:cTn id="59" dur="3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0" repeatCount="indefinite">
                                  <p:stCondLst>
                                    <p:cond delay="5600"/>
                                  </p:stCondLst>
                                  <p:childTnLst>
                                    <p:animMotion origin="layout" path="M 0.42621 -0.00578 C 0.43715 0.04254 0.44809 0.09109 0.44496 0.15884 C 0.44184 0.22659 0.39757 0.30081 0.40764 0.40046 C 0.41771 0.50011 0.48975 0.63537 0.5059 0.75699 C 0.52205 0.87861 0.51302 1.00393 0.50416 1.12948 E">
                                      <p:cBhvr>
                                        <p:cTn id="61" dur="3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26" descr="2.1.1.1.3.png"/>
          <p:cNvPicPr/>
          <p:nvPr/>
        </p:nvPicPr>
        <p:blipFill>
          <a:blip r:embed="rId2"/>
          <a:srcRect l="24220" t="0" r="17187" b="61458"/>
          <a:stretch/>
        </p:blipFill>
        <p:spPr>
          <a:xfrm>
            <a:off x="4000680" y="0"/>
            <a:ext cx="5357520" cy="2643120"/>
          </a:xfrm>
          <a:prstGeom prst="rect">
            <a:avLst/>
          </a:prstGeom>
          <a:ln w="0">
            <a:noFill/>
          </a:ln>
        </p:spPr>
      </p:pic>
      <p:pic>
        <p:nvPicPr>
          <p:cNvPr id="75" name="图片 57" descr="锐锐虎送爱人.png"/>
          <p:cNvPicPr/>
          <p:nvPr/>
        </p:nvPicPr>
        <p:blipFill>
          <a:blip r:embed="rId3"/>
          <a:stretch/>
        </p:blipFill>
        <p:spPr>
          <a:xfrm>
            <a:off x="987480" y="3571920"/>
            <a:ext cx="2168640" cy="3000240"/>
          </a:xfrm>
          <a:prstGeom prst="rect">
            <a:avLst/>
          </a:prstGeom>
          <a:ln w="0">
            <a:noFill/>
          </a:ln>
        </p:spPr>
      </p:pic>
      <p:pic>
        <p:nvPicPr>
          <p:cNvPr id="76" name="图片 4" descr="2.1.1.1.1.png"/>
          <p:cNvPicPr/>
          <p:nvPr/>
        </p:nvPicPr>
        <p:blipFill>
          <a:blip r:embed="rId4"/>
          <a:srcRect l="0" t="44793" r="0" b="0"/>
          <a:stretch/>
        </p:blipFill>
        <p:spPr>
          <a:xfrm>
            <a:off x="0" y="3071880"/>
            <a:ext cx="9144000" cy="3786120"/>
          </a:xfrm>
          <a:prstGeom prst="rect">
            <a:avLst/>
          </a:prstGeom>
          <a:ln w="0">
            <a:noFill/>
          </a:ln>
        </p:spPr>
      </p:pic>
      <p:pic>
        <p:nvPicPr>
          <p:cNvPr id="77" name="图片 16" descr="2.1.1.1.2.png"/>
          <p:cNvPicPr/>
          <p:nvPr/>
        </p:nvPicPr>
        <p:blipFill>
          <a:blip r:embed="rId5"/>
          <a:srcRect l="40626" t="47919" r="5468" b="0"/>
          <a:stretch/>
        </p:blipFill>
        <p:spPr>
          <a:xfrm>
            <a:off x="3714840" y="3286080"/>
            <a:ext cx="4929120" cy="3571920"/>
          </a:xfrm>
          <a:prstGeom prst="rect">
            <a:avLst/>
          </a:prstGeom>
          <a:ln w="0">
            <a:noFill/>
          </a:ln>
        </p:spPr>
      </p:pic>
      <p:pic>
        <p:nvPicPr>
          <p:cNvPr id="78" name="图片 15" descr="2.1.1.1.4.png"/>
          <p:cNvPicPr/>
          <p:nvPr/>
        </p:nvPicPr>
        <p:blipFill>
          <a:blip r:embed="rId6"/>
          <a:srcRect l="20313" t="53126" r="0" b="6251"/>
          <a:stretch/>
        </p:blipFill>
        <p:spPr>
          <a:xfrm>
            <a:off x="1857240" y="3490920"/>
            <a:ext cx="7286760" cy="2786040"/>
          </a:xfrm>
          <a:prstGeom prst="rect">
            <a:avLst/>
          </a:prstGeom>
          <a:ln w="0">
            <a:noFill/>
          </a:ln>
        </p:spPr>
      </p:pic>
      <p:pic>
        <p:nvPicPr>
          <p:cNvPr id="79" name="图片 14" descr="2.1.1.1.9.png"/>
          <p:cNvPicPr/>
          <p:nvPr/>
        </p:nvPicPr>
        <p:blipFill>
          <a:blip r:embed="rId7"/>
          <a:stretch/>
        </p:blipFill>
        <p:spPr>
          <a:xfrm>
            <a:off x="285840" y="1143000"/>
            <a:ext cx="2500200" cy="5214960"/>
          </a:xfrm>
          <a:prstGeom prst="rect">
            <a:avLst/>
          </a:prstGeom>
          <a:ln w="0">
            <a:noFill/>
          </a:ln>
        </p:spPr>
      </p:pic>
      <p:pic>
        <p:nvPicPr>
          <p:cNvPr id="80" name="图片 17" descr="2.1.1.1.9.png"/>
          <p:cNvPicPr/>
          <p:nvPr/>
        </p:nvPicPr>
        <p:blipFill>
          <a:blip r:embed="rId8"/>
          <a:stretch/>
        </p:blipFill>
        <p:spPr>
          <a:xfrm>
            <a:off x="3714840" y="2500200"/>
            <a:ext cx="2000160" cy="714600"/>
          </a:xfrm>
          <a:prstGeom prst="rect">
            <a:avLst/>
          </a:prstGeom>
          <a:ln w="0">
            <a:noFill/>
          </a:ln>
        </p:spPr>
      </p:pic>
      <p:sp>
        <p:nvSpPr>
          <p:cNvPr id="81" name="TextBox 58"/>
          <p:cNvSpPr/>
          <p:nvPr/>
        </p:nvSpPr>
        <p:spPr>
          <a:xfrm>
            <a:off x="5664240" y="422100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黑体"/>
                <a:ea typeface="黑体"/>
              </a:rPr>
              <a:t>锐虎见证爱</a:t>
            </a:r>
            <a:r>
              <a:rPr b="1" lang="en-US" sz="2000" spc="-1" strike="noStrike">
                <a:solidFill>
                  <a:srgbClr val="c00000"/>
                </a:solidFill>
                <a:latin typeface="黑体"/>
                <a:ea typeface="黑体"/>
              </a:rPr>
              <a:t>—</a:t>
            </a:r>
            <a:r>
              <a:rPr b="1" lang="zh-CN" sz="2000" spc="-1" strike="noStrike">
                <a:solidFill>
                  <a:srgbClr val="c00000"/>
                </a:solidFill>
                <a:latin typeface="黑体"/>
                <a:ea typeface="黑体"/>
              </a:rPr>
              <a:t>送爱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9"/>
          <p:cNvSpPr/>
          <p:nvPr/>
        </p:nvSpPr>
        <p:spPr>
          <a:xfrm>
            <a:off x="3124080" y="4867200"/>
            <a:ext cx="553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祝</a:t>
            </a: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相爱的人们恩爱甜美，白头偕老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60" descr="首页1_14.png"/>
          <p:cNvPicPr/>
          <p:nvPr/>
        </p:nvPicPr>
        <p:blipFill>
          <a:blip r:embed="rId9"/>
          <a:stretch/>
        </p:blipFill>
        <p:spPr>
          <a:xfrm>
            <a:off x="5292720" y="4186080"/>
            <a:ext cx="339840" cy="424080"/>
          </a:xfrm>
          <a:prstGeom prst="rect">
            <a:avLst/>
          </a:prstGeom>
          <a:ln w="0">
            <a:noFill/>
          </a:ln>
        </p:spPr>
      </p:pic>
      <p:pic>
        <p:nvPicPr>
          <p:cNvPr id="84" name="图片 65" descr="首页1_10.png"/>
          <p:cNvPicPr/>
          <p:nvPr/>
        </p:nvPicPr>
        <p:blipFill>
          <a:blip r:embed="rId10"/>
          <a:stretch/>
        </p:blipFill>
        <p:spPr>
          <a:xfrm>
            <a:off x="4595760" y="4186080"/>
            <a:ext cx="339840" cy="424080"/>
          </a:xfrm>
          <a:prstGeom prst="rect">
            <a:avLst/>
          </a:prstGeom>
          <a:ln w="0">
            <a:noFill/>
          </a:ln>
        </p:spPr>
      </p:pic>
      <p:pic>
        <p:nvPicPr>
          <p:cNvPr id="85" name="图片 66" descr="首页1_12.png"/>
          <p:cNvPicPr/>
          <p:nvPr/>
        </p:nvPicPr>
        <p:blipFill>
          <a:blip r:embed="rId11"/>
          <a:stretch/>
        </p:blipFill>
        <p:spPr>
          <a:xfrm>
            <a:off x="4944960" y="4186080"/>
            <a:ext cx="338400" cy="424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59259E-006 L -0.19115 -0.00764 E">
                                      <p:cBhvr>
                                        <p:cTn id="6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6763E-006 C 0.0441 -0.01226 0.17657 -0.03145 0.26459 -0.07283 C 0.35261 -0.11422 0.46163 -0.18775 0.52778 -0.24809 C 0.59393 -0.30844 0.63334 -0.39607 0.66111 -0.43491 E">
                                      <p:cBhvr>
                                        <p:cTn id="69" dur="1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1000" fill="hold"/>
                                        <p:tgtEl>
                                          <p:spTgt spid="75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9D01-360D-42A5-BC46-E23DB8E7C5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23" descr="首页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图片 6" descr="首页1_16.png"/>
          <p:cNvPicPr/>
          <p:nvPr/>
        </p:nvPicPr>
        <p:blipFill>
          <a:blip r:embed="rId2"/>
          <a:stretch/>
        </p:blipFill>
        <p:spPr>
          <a:xfrm>
            <a:off x="0" y="1798560"/>
            <a:ext cx="9144000" cy="1336680"/>
          </a:xfrm>
          <a:prstGeom prst="rect">
            <a:avLst/>
          </a:prstGeom>
          <a:ln w="0">
            <a:noFill/>
          </a:ln>
        </p:spPr>
      </p:pic>
      <p:sp>
        <p:nvSpPr>
          <p:cNvPr id="92" name="TextBox 26">
            <a:hlinkClick r:id="rId3"/>
          </p:cNvPr>
          <p:cNvSpPr/>
          <p:nvPr/>
        </p:nvSpPr>
        <p:spPr>
          <a:xfrm>
            <a:off x="2800440" y="2487600"/>
            <a:ext cx="3786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6T02:12:07Z</dcterms:created>
  <dc:creator>幻灯片之家：www.eeppt.com</dc:creator>
  <dc:description>幻灯片之家：www.eeppt.com</dc:description>
  <cp:keywords>幻灯片之家：www.eeppt.com</cp:keywords>
  <dc:language>en-US</dc:language>
  <cp:lastModifiedBy>jccook</cp:lastModifiedBy>
  <dcterms:modified xsi:type="dcterms:W3CDTF">2015-08-12T14:35:54Z</dcterms:modified>
  <cp:revision>2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电话号码">
    <vt:lpwstr>010-58423531</vt:lpwstr>
  </property>
</Properties>
</file>