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DB2-D5DE-440E-A155-9736A99B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F3C-37F1-4BC6-B65E-5367E655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267-F284-4DD5-906F-2B9C05BC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A2AE-8104-46F0-B895-0AA7E42D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05C-F7F3-43F2-809A-2BE45C7A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0E9D-A6D0-4485-8F93-45E2D2D8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1A8E-2AD2-4A23-8512-40138FE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474-CFA6-4AC6-A29D-F46BD5F2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7F75-B130-42FA-8BF5-C64CCF7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DFBC-B7FA-40DC-A44B-3514CE2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D65-0DB4-4197-B3AE-2A7F162F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E79-D9C8-4CC2-8739-F82A37F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A91-3C6B-467F-BB51-D5F7A9B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76E-3971-4F43-A33C-08B4BE4E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3B42-106A-4502-9DDB-28D8FA4E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1A0A-747F-457F-9199-F8FB9DA1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97E0-44AB-4DEB-BD7C-C57703B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2E7-22EA-4BFC-A444-C53A52EB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353-CE8D-4035-B40F-C6857429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8C3-4FE2-48EA-B5C9-D19A6E0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8BF-A07D-431E-A3E1-9847D41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BA2-AC13-4F13-8A87-2A1567A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1733-5BC1-428A-A6CD-78739AD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96A-7262-4068-8055-44F2755A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5064-05FB-4B95-95CE-18191DE3D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29A-2827-4706-8089-A24DF95F18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133720"/>
            <a:ext cx="77709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毕业论文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58672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B3A-9DA0-4231-850B-6B71DC4A9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1c1c1c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0" y="58672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4:24:32Z</dcterms:created>
  <dc:creator>幻灯片之家：www.eeppt.com</dc:creator>
  <dc:description>幻灯片之家：www.eeppt.com</dc:description>
  <cp:keywords>幻灯片之家：www.eeppt.com</cp:keywords>
  <dc:language>en-US</dc:language>
  <cp:lastModifiedBy>mike</cp:lastModifiedBy>
  <dcterms:modified xsi:type="dcterms:W3CDTF">2015-08-12T14:35:4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