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E02-8F17-4AAB-9865-35C70D19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D55-7A06-4E39-AFDC-E68E732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091-5447-46CD-A0C0-8B37E3D3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509-262A-4E58-BD94-818CF067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301-F72B-41A0-B770-BB46CD16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FE2-CB31-4812-952E-3A919E7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04B-30A4-4008-8698-58454FDD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D7B-B42E-411F-9263-724A1A0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95C-2BE0-46B7-AC29-803378AA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E75-A27D-4D25-89A8-7017117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B10-F891-450B-A0B7-15E8B1D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419-7304-4320-AC3C-56462E8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4B11-3D8B-46DB-AAF3-57D0DB8445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565360"/>
            <a:ext cx="244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自动播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下"/>
          <p:cNvSpPr/>
          <p:nvPr/>
        </p:nvSpPr>
        <p:spPr>
          <a:xfrm>
            <a:off x="3132000" y="3083040"/>
            <a:ext cx="2880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上"/>
          <p:cNvSpPr/>
          <p:nvPr/>
        </p:nvSpPr>
        <p:spPr>
          <a:xfrm>
            <a:off x="3132000" y="3083040"/>
            <a:ext cx="2880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208960" y="549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触屏动态个人简历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833 E">
                                      <p:cBhvr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0083 E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.08833 L 0 0 E">
                                      <p:cBhvr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10083 L 0 0 E"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348000" y="1700280"/>
            <a:ext cx="2232000" cy="2233440"/>
            <a:chOff x="3348000" y="1700280"/>
            <a:chExt cx="2232000" cy="2233440"/>
          </a:xfrm>
        </p:grpSpPr>
        <p:sp>
          <p:nvSpPr>
            <p:cNvPr id="47" name="椭圆 1"/>
            <p:cNvSpPr/>
            <p:nvPr/>
          </p:nvSpPr>
          <p:spPr>
            <a:xfrm>
              <a:off x="3811320" y="2157480"/>
              <a:ext cx="1305000" cy="130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8"/>
            <p:cNvSpPr/>
            <p:nvPr/>
          </p:nvSpPr>
          <p:spPr>
            <a:xfrm>
              <a:off x="3609720" y="1957320"/>
              <a:ext cx="1719360" cy="171936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椭圆 9"/>
            <p:cNvSpPr/>
            <p:nvPr/>
          </p:nvSpPr>
          <p:spPr>
            <a:xfrm>
              <a:off x="3348000" y="1700280"/>
              <a:ext cx="2232000" cy="2233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6" descr="C:\Users\Administrator\Desktop\手1.png"/>
          <p:cNvPicPr/>
          <p:nvPr/>
        </p:nvPicPr>
        <p:blipFill>
          <a:blip r:embed="rId1"/>
          <a:srcRect l="0" t="0" r="0" b="20524"/>
          <a:stretch/>
        </p:blipFill>
        <p:spPr>
          <a:xfrm>
            <a:off x="4067280" y="2565360"/>
            <a:ext cx="3025800" cy="4143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3389040" y="2249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古隶简体"/>
                <a:ea typeface="方正古隶简体"/>
              </a:rPr>
              <a:t>我的简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4"/>
          <p:cNvSpPr/>
          <p:nvPr/>
        </p:nvSpPr>
        <p:spPr>
          <a:xfrm>
            <a:off x="2771640" y="3213000"/>
            <a:ext cx="33130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300" fill="hold"/>
                                        <p:tgtEl>
                                          <p:spTgt spid="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17327 0.27523 E">
                                      <p:cBhvr>
                                        <p:cTn id="48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3.05556E-006 0.02917 E">
                                      <p:cBhvr>
                                        <p:cTn id="51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"/>
                            </p:stCondLst>
                            <p:childTnLst>
                              <p:par>
                                <p:cTn id="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3.05556E-006 0.03379 E">
                                      <p:cBhvr>
                                        <p:cTn id="54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b1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-2336760" y="27000"/>
            <a:ext cx="8853480" cy="772308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0"/>
          <p:cNvSpPr/>
          <p:nvPr/>
        </p:nvSpPr>
        <p:spPr>
          <a:xfrm>
            <a:off x="2411280" y="3213000"/>
            <a:ext cx="39610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160080" y="21556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古隶简体"/>
                <a:ea typeface="方正古隶简体"/>
              </a:rPr>
              <a:t>我的简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536200" y="277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523760" y="2770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3141000" y="2828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917880" y="2752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5286600" y="2803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300" fill="hold"/>
                                        <p:tgtEl>
                                          <p:spTgt spid="53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3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300" fill="hold"/>
                                        <p:tgtEl>
                                          <p:spTgt spid="5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3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7483 -0.04584 E">
                                      <p:cBhvr>
                                        <p:cTn id="92" dur="3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95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7876E-006 L -0.00452 0.0789 E">
                                      <p:cBhvr>
                                        <p:cTn id="97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0.07338 E">
                                      <p:cBhvr>
                                        <p:cTn id="99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"/>
                            </p:stCondLst>
                            <p:childTnLst>
                              <p:par>
                                <p:cTn id="1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02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04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06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6551 L -0.14497 0.76088 E">
                                      <p:cBhvr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13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15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1.94444E-006 -3.7037E-007 L 0.05816 0.66597 E">
                                      <p:cBhvr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3.33333E-006 L 0.03941 0.68241 E">
                                      <p:cBhvr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27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29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31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125 0.03657 L -0.14028 0.68194 E">
                                      <p:cBhvr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38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40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42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399 1.48148E-006 L 0.00017 0.07338 E">
                                      <p:cBhvr>
                                        <p:cTn id="144" dur="1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7483 -0.04584 L 0.06701 0.04861 E">
                                      <p:cBhvr>
                                        <p:cTn id="146" dur="1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72222E-006 1.85185E-006 L -0.00452 0.07893 E">
                                      <p:cBhvr>
                                        <p:cTn id="148" dur="1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6 3.33333E-006 L -0.08993 0.69051 E">
                                      <p:cBhvr>
                                        <p:cTn id="153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99 0.02107 L 0.00017 0.71412 E">
                                      <p:cBhvr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8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749520" y="595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085880" y="5889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68200" y="5889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491560" y="559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6006600" y="6149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4609080" y="620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芸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394880" y="162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4967280" y="26589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肥工业大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4629600" y="3740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515480" y="4890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881800" y="620640"/>
            <a:ext cx="4263480" cy="5035320"/>
            <a:chOff x="2881800" y="620640"/>
            <a:chExt cx="4263480" cy="5035320"/>
          </a:xfrm>
        </p:grpSpPr>
        <p:sp>
          <p:nvSpPr>
            <p:cNvPr id="73" name="TextBox 20"/>
            <p:cNvSpPr/>
            <p:nvPr/>
          </p:nvSpPr>
          <p:spPr>
            <a:xfrm>
              <a:off x="4594320" y="6206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白芸玮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21"/>
            <p:cNvSpPr/>
            <p:nvPr/>
          </p:nvSpPr>
          <p:spPr>
            <a:xfrm>
              <a:off x="4380480" y="1628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女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22"/>
            <p:cNvSpPr/>
            <p:nvPr/>
          </p:nvSpPr>
          <p:spPr>
            <a:xfrm>
              <a:off x="4952880" y="2659320"/>
              <a:ext cx="219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肥工业大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3"/>
            <p:cNvSpPr/>
            <p:nvPr/>
          </p:nvSpPr>
          <p:spPr>
            <a:xfrm>
              <a:off x="4614480" y="37396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广告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24"/>
            <p:cNvSpPr/>
            <p:nvPr/>
          </p:nvSpPr>
          <p:spPr>
            <a:xfrm>
              <a:off x="4500000" y="48916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26"/>
            <p:cNvSpPr/>
            <p:nvPr/>
          </p:nvSpPr>
          <p:spPr>
            <a:xfrm>
              <a:off x="2881800" y="651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姓名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7"/>
            <p:cNvSpPr/>
            <p:nvPr/>
          </p:nvSpPr>
          <p:spPr>
            <a:xfrm>
              <a:off x="2881800" y="4922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历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8"/>
            <p:cNvSpPr/>
            <p:nvPr/>
          </p:nvSpPr>
          <p:spPr>
            <a:xfrm>
              <a:off x="2881800" y="1659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性别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29"/>
            <p:cNvSpPr/>
            <p:nvPr/>
          </p:nvSpPr>
          <p:spPr>
            <a:xfrm>
              <a:off x="2881800" y="3770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30"/>
            <p:cNvSpPr/>
            <p:nvPr/>
          </p:nvSpPr>
          <p:spPr>
            <a:xfrm>
              <a:off x="2881800" y="2690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校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直接连接符 45"/>
          <p:cNvSpPr/>
          <p:nvPr/>
        </p:nvSpPr>
        <p:spPr>
          <a:xfrm>
            <a:off x="2671920" y="1413000"/>
            <a:ext cx="33908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Administrator\Desktop\手2.png"/>
          <p:cNvPicPr/>
          <p:nvPr/>
        </p:nvPicPr>
        <p:blipFill>
          <a:blip r:embed="rId1"/>
          <a:stretch/>
        </p:blipFill>
        <p:spPr>
          <a:xfrm>
            <a:off x="12600" y="6397560"/>
            <a:ext cx="3475080" cy="7688160"/>
          </a:xfrm>
          <a:prstGeom prst="rect">
            <a:avLst/>
          </a:prstGeom>
          <a:ln w="0">
            <a:noFill/>
          </a:ln>
        </p:spPr>
      </p:pic>
      <p:sp>
        <p:nvSpPr>
          <p:cNvPr id="85" name="直接连接符 44"/>
          <p:cNvSpPr/>
          <p:nvPr/>
        </p:nvSpPr>
        <p:spPr>
          <a:xfrm>
            <a:off x="272880" y="2492280"/>
            <a:ext cx="66535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49"/>
          <p:cNvSpPr/>
          <p:nvPr/>
        </p:nvSpPr>
        <p:spPr>
          <a:xfrm>
            <a:off x="272880" y="5013360"/>
            <a:ext cx="667548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Administrator\Desktop\手3-2.png"/>
          <p:cNvPicPr/>
          <p:nvPr/>
        </p:nvPicPr>
        <p:blipFill>
          <a:blip r:embed="rId2"/>
          <a:srcRect l="0" t="0" r="32240" b="56814"/>
          <a:stretch/>
        </p:blipFill>
        <p:spPr>
          <a:xfrm rot="19980600">
            <a:off x="3641400" y="104400"/>
            <a:ext cx="6819840" cy="8061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066480" y="-1407960"/>
            <a:ext cx="11754720" cy="11529720"/>
            <a:chOff x="3066480" y="-1407960"/>
            <a:chExt cx="11754720" cy="11529720"/>
          </a:xfrm>
        </p:grpSpPr>
        <p:pic>
          <p:nvPicPr>
            <p:cNvPr id="89" name="食指" descr=""/>
            <p:cNvPicPr/>
            <p:nvPr/>
          </p:nvPicPr>
          <p:blipFill>
            <a:blip r:embed="rId3"/>
            <a:srcRect l="0" t="0" r="0" b="66005"/>
            <a:stretch/>
          </p:blipFill>
          <p:spPr>
            <a:xfrm rot="20877600">
              <a:off x="3646080" y="-376200"/>
              <a:ext cx="10595160" cy="66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透明食指" descr=""/>
            <p:cNvPicPr/>
            <p:nvPr/>
          </p:nvPicPr>
          <p:blipFill>
            <a:blip r:embed="rId4"/>
            <a:stretch/>
          </p:blipFill>
          <p:spPr>
            <a:xfrm rot="10077600">
              <a:off x="5207040" y="2178720"/>
              <a:ext cx="8875800" cy="70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794160" y="2833560"/>
            <a:ext cx="5933160" cy="1961280"/>
            <a:chOff x="794160" y="2833560"/>
            <a:chExt cx="5933160" cy="1961280"/>
          </a:xfrm>
        </p:grpSpPr>
        <p:sp>
          <p:nvSpPr>
            <p:cNvPr id="92" name="TextBox 33"/>
            <p:cNvSpPr/>
            <p:nvPr/>
          </p:nvSpPr>
          <p:spPr>
            <a:xfrm>
              <a:off x="2062800" y="2833560"/>
              <a:ext cx="466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技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玩转 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ord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xcel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！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4"/>
            <p:cNvSpPr/>
            <p:nvPr/>
          </p:nvSpPr>
          <p:spPr>
            <a:xfrm>
              <a:off x="3144600" y="427428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熬夜！加班！出差！没问题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6"/>
            <p:cNvSpPr/>
            <p:nvPr/>
          </p:nvSpPr>
          <p:spPr>
            <a:xfrm>
              <a:off x="794160" y="3769920"/>
              <a:ext cx="57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流 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hotoshop\CorelDRW\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会声会影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直接连接符 72"/>
          <p:cNvSpPr/>
          <p:nvPr/>
        </p:nvSpPr>
        <p:spPr>
          <a:xfrm>
            <a:off x="-320760" y="3789360"/>
            <a:ext cx="7160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75"/>
          <p:cNvSpPr/>
          <p:nvPr/>
        </p:nvSpPr>
        <p:spPr>
          <a:xfrm>
            <a:off x="7872480" y="2060640"/>
            <a:ext cx="2376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弧形 78"/>
          <p:cNvSpPr/>
          <p:nvPr/>
        </p:nvSpPr>
        <p:spPr>
          <a:xfrm flipV="1">
            <a:off x="6350040" y="2781360"/>
            <a:ext cx="1008000" cy="1008000"/>
          </a:xfrm>
          <a:custGeom>
            <a:avLst/>
            <a:gdLst/>
            <a:ahLst/>
            <a:rect l="l" t="t" r="r" b="b"/>
            <a:pathLst>
              <a:path stroke="0" w="1008063" h="1008063">
                <a:moveTo>
                  <a:pt x="504031" y="0"/>
                </a:moveTo>
                <a:cubicBezTo>
                  <a:pt x="782400" y="0"/>
                  <a:pt x="1008063" y="225663"/>
                  <a:pt x="1008063" y="504032"/>
                </a:cubicBezTo>
                <a:lnTo>
                  <a:pt x="504032" y="504032"/>
                </a:lnTo>
                <a:cubicBezTo>
                  <a:pt x="504032" y="336021"/>
                  <a:pt x="504031" y="168011"/>
                  <a:pt x="504031" y="0"/>
                </a:cubicBezTo>
                <a:close/>
              </a:path>
              <a:path fill="none" w="1008063" h="1008063">
                <a:moveTo>
                  <a:pt x="504031" y="0"/>
                </a:moveTo>
                <a:cubicBezTo>
                  <a:pt x="782400" y="0"/>
                  <a:pt x="1008063" y="225663"/>
                  <a:pt x="1008063" y="504032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弧形 79"/>
          <p:cNvSpPr/>
          <p:nvPr/>
        </p:nvSpPr>
        <p:spPr>
          <a:xfrm flipH="1">
            <a:off x="7367760" y="2060640"/>
            <a:ext cx="1008000" cy="1008000"/>
          </a:xfrm>
          <a:custGeom>
            <a:avLst/>
            <a:gdLst/>
            <a:ahLst/>
            <a:rect l="l" t="t" r="r" b="b"/>
            <a:pathLst>
              <a:path stroke="0" w="1008062" h="1008063">
                <a:moveTo>
                  <a:pt x="504031" y="0"/>
                </a:moveTo>
                <a:cubicBezTo>
                  <a:pt x="782400" y="0"/>
                  <a:pt x="1008062" y="225663"/>
                  <a:pt x="1008062" y="504032"/>
                </a:cubicBezTo>
                <a:lnTo>
                  <a:pt x="504031" y="504032"/>
                </a:lnTo>
                <a:lnTo>
                  <a:pt x="504031" y="0"/>
                </a:lnTo>
                <a:close/>
              </a:path>
              <a:path fill="none" w="1008062" h="1008063">
                <a:moveTo>
                  <a:pt x="504031" y="0"/>
                </a:moveTo>
                <a:cubicBezTo>
                  <a:pt x="782400" y="0"/>
                  <a:pt x="1008062" y="225663"/>
                  <a:pt x="1008062" y="504032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80"/>
          <p:cNvSpPr/>
          <p:nvPr/>
        </p:nvSpPr>
        <p:spPr>
          <a:xfrm flipV="1">
            <a:off x="7358040" y="2565360"/>
            <a:ext cx="9720" cy="719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14283 L 5.55556E-007 2.96296E-006 E">
                                      <p:cBhvr>
                                        <p:cTn id="161" dur="2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91968 L -0.00625 -0.14283 E">
                                      <p:cBhvr>
                                        <p:cTn id="164" dur="75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23316 -0.77708 E">
                                      <p:cBhvr>
                                        <p:cTn id="166" dur="7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91968 L 0.57639 -0.91968 E">
                                      <p:cBhvr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639 -0.91968 L 0.33229 -0.13241 E">
                                      <p:cBhvr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05243 0.15741 E">
                                      <p:cBhvr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10782 -0.60996 E">
                                      <p:cBhvr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76227 L 0.33229 -0.14283 E">
                                      <p:cBhvr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86 -0.76227 L 0.45833 -0.76227 E">
                                      <p:cBhvr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0.76227 L 0.57639 -0.11135 E">
                                      <p:cBhvr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15741 L 0.08941 0.3044 E">
                                      <p:cBhvr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210000" y="2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639 -0.11135 L 0.23785 -0.61528 E">
                                      <p:cBhvr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34167 -0.50093 E">
                                      <p:cBhvr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61528 L 0.77326 -0.61528 E">
                                      <p:cBhvr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7326 -0.61528 L 0.19062 -0.19537 E">
                                      <p:cBhvr>
                                        <p:cTn id="211" dur="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25 0.30463 L 0.0066 0.46204 E">
                                      <p:cBhvr>
                                        <p:cTn id="213" dur="4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400" fill="hold"/>
                                        <p:tgtEl>
                                          <p:spTgt spid="8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9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062 -0.19537 L 0.23785 -0.45787 E">
                                      <p:cBhvr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04271 -0.26273 E">
                                      <p:cBhvr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40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45787 L 0.59219 -0.45787 E">
                                      <p:cBhvr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900"/>
                            </p:stCondLst>
                            <p:childTnLst>
                              <p:par>
                                <p:cTn id="2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219 -0.45787 L 0.69462 -0.14283 E">
                                      <p:cBhvr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0.46204 L -0.02482 0.63009 E">
                                      <p:cBhvr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4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462 -0.14283 L 0.23785 -0.28982 E">
                                      <p:cBhvr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0.45972 -0.14792 E">
                                      <p:cBhvr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900"/>
                            </p:stCondLst>
                            <p:childTnLst>
                              <p:par>
                                <p:cTn id="2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85 -0.28982 L 0.52135 -0.28982 E">
                                      <p:cBhvr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00"/>
                            </p:stCondLst>
                            <p:childTnLst>
                              <p:par>
                                <p:cTn id="2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35 -0.28982 L 0.80868 0.06713 E">
                                      <p:cBhvr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0"/>
                            </p:stCondLst>
                            <p:childTnLst>
                              <p:par>
                                <p:cTn id="2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00">
                                      <p:cBhvr>
                                        <p:cTn id="28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L -0.00365 0.11574 E">
                                      <p:cBhvr>
                                        <p:cTn id="288" dur="3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2 0.63009 L 0.0382 0.36759 E">
                                      <p:cBhvr>
                                        <p:cTn id="293" dur="3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70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3.33333E-006 0.18912 E">
                                      <p:cBhvr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-0.17847 E">
                                      <p:cBhvr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2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700"/>
                            </p:stCondLst>
                            <p:childTnLst>
                              <p:par>
                                <p:cTn id="3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4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990000009536743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700">
                                      <p:cBhvr>
                                        <p:cTn id="3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3.33333E-006 0.18912 E">
                                      <p:cBhvr>
                                        <p:cTn id="318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3.33333E-006 -0.17847 E">
                                      <p:cBhvr>
                                        <p:cTn id="320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-0.00382 0.18912 E">
                                      <p:cBhvr>
                                        <p:cTn id="32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25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8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e1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5"/>
          <p:cNvSpPr/>
          <p:nvPr/>
        </p:nvSpPr>
        <p:spPr>
          <a:xfrm>
            <a:off x="414360" y="400536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论赛辩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志愿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689360" y="558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吧调酒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6234120" y="4797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孤身云南自由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1036800" y="522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级社团宣传副主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85"/>
          <p:cNvSpPr/>
          <p:nvPr/>
        </p:nvSpPr>
        <p:spPr>
          <a:xfrm>
            <a:off x="2297160" y="2060640"/>
            <a:ext cx="0" cy="143676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87"/>
          <p:cNvSpPr/>
          <p:nvPr/>
        </p:nvSpPr>
        <p:spPr>
          <a:xfrm>
            <a:off x="5148360" y="2060640"/>
            <a:ext cx="0" cy="250488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88"/>
          <p:cNvSpPr/>
          <p:nvPr/>
        </p:nvSpPr>
        <p:spPr>
          <a:xfrm>
            <a:off x="3743280" y="2104920"/>
            <a:ext cx="0" cy="1957320"/>
          </a:xfrm>
          <a:prstGeom prst="line">
            <a:avLst/>
          </a:prstGeom>
          <a:ln w="63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58"/>
          <p:cNvSpPr/>
          <p:nvPr/>
        </p:nvSpPr>
        <p:spPr>
          <a:xfrm flipV="1">
            <a:off x="2297160" y="3065400"/>
            <a:ext cx="287280" cy="4320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61"/>
          <p:cNvSpPr/>
          <p:nvPr/>
        </p:nvSpPr>
        <p:spPr>
          <a:xfrm>
            <a:off x="2584440" y="3065400"/>
            <a:ext cx="41292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64"/>
          <p:cNvSpPr/>
          <p:nvPr/>
        </p:nvSpPr>
        <p:spPr>
          <a:xfrm flipV="1">
            <a:off x="3743280" y="3645000"/>
            <a:ext cx="217440" cy="363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66"/>
          <p:cNvSpPr/>
          <p:nvPr/>
        </p:nvSpPr>
        <p:spPr>
          <a:xfrm>
            <a:off x="3960720" y="3645000"/>
            <a:ext cx="27529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68"/>
          <p:cNvSpPr/>
          <p:nvPr/>
        </p:nvSpPr>
        <p:spPr>
          <a:xfrm flipV="1">
            <a:off x="5148360" y="4204800"/>
            <a:ext cx="242640" cy="3603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70"/>
          <p:cNvSpPr/>
          <p:nvPr/>
        </p:nvSpPr>
        <p:spPr>
          <a:xfrm>
            <a:off x="5391000" y="4205160"/>
            <a:ext cx="13226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6"/>
          <p:cNvSpPr/>
          <p:nvPr/>
        </p:nvSpPr>
        <p:spPr>
          <a:xfrm>
            <a:off x="7131960" y="2865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级创新实验项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17"/>
          <p:cNvSpPr/>
          <p:nvPr/>
        </p:nvSpPr>
        <p:spPr>
          <a:xfrm>
            <a:off x="7079760" y="34448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孤身西藏自由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18"/>
          <p:cNvSpPr/>
          <p:nvPr/>
        </p:nvSpPr>
        <p:spPr>
          <a:xfrm>
            <a:off x="7131960" y="40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名地产公司实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5"/>
          <p:cNvSpPr/>
          <p:nvPr/>
        </p:nvSpPr>
        <p:spPr>
          <a:xfrm>
            <a:off x="1317600" y="145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31"/>
          <p:cNvSpPr/>
          <p:nvPr/>
        </p:nvSpPr>
        <p:spPr>
          <a:xfrm>
            <a:off x="4167000" y="145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32"/>
          <p:cNvSpPr/>
          <p:nvPr/>
        </p:nvSpPr>
        <p:spPr>
          <a:xfrm>
            <a:off x="5582160" y="1454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33"/>
          <p:cNvSpPr/>
          <p:nvPr/>
        </p:nvSpPr>
        <p:spPr>
          <a:xfrm>
            <a:off x="2785680" y="145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0" descr="C:\Users\Administrator\Desktop\4.png"/>
          <p:cNvPicPr/>
          <p:nvPr/>
        </p:nvPicPr>
        <p:blipFill>
          <a:blip r:embed="rId1"/>
          <a:srcRect l="0" t="61940" r="0" b="15578"/>
          <a:stretch/>
        </p:blipFill>
        <p:spPr>
          <a:xfrm>
            <a:off x="539640" y="1812960"/>
            <a:ext cx="2041560" cy="85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Administrator\Desktop\1.png"/>
          <p:cNvPicPr/>
          <p:nvPr/>
        </p:nvPicPr>
        <p:blipFill>
          <a:blip r:embed="rId2"/>
          <a:srcRect l="0" t="61940" r="0" b="15578"/>
          <a:stretch/>
        </p:blipFill>
        <p:spPr>
          <a:xfrm>
            <a:off x="1979640" y="1812960"/>
            <a:ext cx="2041560" cy="85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C:\Users\Administrator\Desktop\2.png"/>
          <p:cNvPicPr/>
          <p:nvPr/>
        </p:nvPicPr>
        <p:blipFill>
          <a:blip r:embed="rId3"/>
          <a:srcRect l="0" t="61940" r="0" b="15578"/>
          <a:stretch/>
        </p:blipFill>
        <p:spPr>
          <a:xfrm>
            <a:off x="3419640" y="1812960"/>
            <a:ext cx="2041200" cy="85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Users\Administrator\Desktop\3.png"/>
          <p:cNvPicPr/>
          <p:nvPr/>
        </p:nvPicPr>
        <p:blipFill>
          <a:blip r:embed="rId4"/>
          <a:srcRect l="0" t="61934" r="0" b="15586"/>
          <a:stretch/>
        </p:blipFill>
        <p:spPr>
          <a:xfrm>
            <a:off x="4835520" y="1812960"/>
            <a:ext cx="2040120" cy="85104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82"/>
          <p:cNvSpPr/>
          <p:nvPr/>
        </p:nvSpPr>
        <p:spPr>
          <a:xfrm>
            <a:off x="5867280" y="2349360"/>
            <a:ext cx="0" cy="280836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83"/>
          <p:cNvSpPr/>
          <p:nvPr/>
        </p:nvSpPr>
        <p:spPr>
          <a:xfrm>
            <a:off x="4427640" y="2347920"/>
            <a:ext cx="0" cy="363384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84"/>
          <p:cNvSpPr/>
          <p:nvPr/>
        </p:nvSpPr>
        <p:spPr>
          <a:xfrm>
            <a:off x="3059280" y="2341440"/>
            <a:ext cx="0" cy="324828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38"/>
          <p:cNvSpPr/>
          <p:nvPr/>
        </p:nvSpPr>
        <p:spPr>
          <a:xfrm>
            <a:off x="1625760" y="2341440"/>
            <a:ext cx="0" cy="2311560"/>
          </a:xfrm>
          <a:prstGeom prst="line">
            <a:avLst/>
          </a:prstGeom>
          <a:ln w="633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32"/>
          <p:cNvSpPr/>
          <p:nvPr/>
        </p:nvSpPr>
        <p:spPr>
          <a:xfrm>
            <a:off x="250920" y="2060640"/>
            <a:ext cx="86058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137"/>
          <p:cNvSpPr/>
          <p:nvPr/>
        </p:nvSpPr>
        <p:spPr>
          <a:xfrm>
            <a:off x="4500720" y="198900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1332000" y="1916280"/>
            <a:ext cx="3236760" cy="405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4424400" y="1916280"/>
            <a:ext cx="2852640" cy="4263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96"/>
          <p:cNvSpPr/>
          <p:nvPr/>
        </p:nvSpPr>
        <p:spPr>
          <a:xfrm>
            <a:off x="7077960" y="1362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年累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135"/>
          <p:cNvSpPr/>
          <p:nvPr/>
        </p:nvSpPr>
        <p:spPr>
          <a:xfrm>
            <a:off x="-538200" y="2060640"/>
            <a:ext cx="1078704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push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44305 0.00416 E">
                                      <p:cBhvr>
                                        <p:cTn id="37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44462 0.00926 E">
                                      <p:cBhvr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44 0.09329 L -0.44097 0.01065 E">
                                      <p:cBhvr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5316 0.09236 E">
                                      <p:cBhvr>
                                        <p:cTn id="389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3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5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5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3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5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8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5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15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4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65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75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25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35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6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850"/>
                            </p:stCondLst>
                            <p:childTnLst>
                              <p:par>
                                <p:cTn id="50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4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990000009536743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1350"/>
                            </p:stCondLst>
                            <p:childTnLst>
                              <p:par>
                                <p:cTn id="51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5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1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4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7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0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3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6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2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7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0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6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9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2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8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4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7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0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3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16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44 0.09329 L -0.43889 0.00926 E">
                                      <p:cBhvr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52968 0.08819 E">
                                      <p:cBhvr>
                                        <p:cTn id="60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100"/>
                            </p:stCondLst>
                            <p:childTnLst>
                              <p:par>
                                <p:cTn id="6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05 0.00416 L 0.00191 0.00416 E">
                                      <p:cBhvr>
                                        <p:cTn id="60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62 0.00926 L -0.00365 -0.00116 E">
                                      <p:cBhvr>
                                        <p:cTn id="6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1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2601"/>
                            </p:stCondLst>
                            <p:childTnLst>
                              <p:par>
                                <p:cTn id="6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ECA-4639-4D4F-BFCD-2725E78AD8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a8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椭圆 1"/>
          <p:cNvSpPr/>
          <p:nvPr/>
        </p:nvSpPr>
        <p:spPr>
          <a:xfrm>
            <a:off x="4464000" y="19526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-754200" y="2060640"/>
            <a:ext cx="10785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7189920" y="1352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芸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514680" y="249228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肥工业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155128550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rystal_by9061@163.com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邮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4998960" y="469584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 For  Your  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"/>
                            </p:stCondLst>
                            <p:childTnLst>
                              <p:par>
                                <p:cTn id="6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1"/>
                            </p:stCondLst>
                            <p:childTnLst>
                              <p:par>
                                <p:cTn id="6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2"/>
                            </p:stCondLst>
                            <p:childTnLst>
                              <p:par>
                                <p:cTn id="6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2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6002"/>
                            </p:stCondLst>
                            <p:childTnLst>
                              <p:par>
                                <p:cTn id="657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699">
                                      <p:cBhvr>
                                        <p:cTn id="6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6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7T06:28:5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