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9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37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6907-ADA4-4FF0-B606-5D555EB3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749-FBAD-46B9-9DDB-2B55B3C6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A46-E649-4B41-BB37-0F3DA3E5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2C1-8217-4D68-959C-B276E9EB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0671-7DA4-4C26-8B6B-07C01336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BCB-9EA7-4A39-95CB-FDE8FB23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E013-83C1-4D3B-8C60-AE9BF590F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E5D-1BFA-47BD-896C-20CB75C4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28440" y="285480"/>
            <a:ext cx="7429320" cy="43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72FA-2824-41E2-AFDF-42CFE8A3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747-EB64-4045-AE31-0330A3A8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2C09-40DA-4E63-B6BE-A5A1D2D9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DF7D-E0B7-4FBA-B74B-D870A2F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2289b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1357200"/>
            <a:ext cx="9144000" cy="55008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D:\PPT模版\素材\背景和图片\landscape\sky\cloud2.png"/>
          <p:cNvPicPr/>
          <p:nvPr/>
        </p:nvPicPr>
        <p:blipFill>
          <a:blip r:embed="rId2"/>
          <a:srcRect l="82814" t="53663" r="0" b="0"/>
          <a:stretch/>
        </p:blipFill>
        <p:spPr>
          <a:xfrm>
            <a:off x="7572240" y="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D:\PPT模版\素材\背景和图片\landscape\buildings\building6.png"/>
          <p:cNvPicPr/>
          <p:nvPr/>
        </p:nvPicPr>
        <p:blipFill>
          <a:blip r:embed="rId3"/>
          <a:stretch/>
        </p:blipFill>
        <p:spPr>
          <a:xfrm>
            <a:off x="5407200" y="225360"/>
            <a:ext cx="3760560" cy="22924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D:\PPT模版\素材\背景和图片\landscape\buildings\building1.png"/>
          <p:cNvPicPr/>
          <p:nvPr/>
        </p:nvPicPr>
        <p:blipFill>
          <a:blip r:embed="rId4"/>
          <a:stretch/>
        </p:blipFill>
        <p:spPr>
          <a:xfrm>
            <a:off x="-20520" y="781200"/>
            <a:ext cx="971280" cy="1206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D:\PPT模版\素材\背景和图片\landscape\sky\sun.png"/>
          <p:cNvPicPr/>
          <p:nvPr/>
        </p:nvPicPr>
        <p:blipFill>
          <a:blip r:embed="rId5"/>
          <a:stretch/>
        </p:blipFill>
        <p:spPr>
          <a:xfrm>
            <a:off x="230040" y="-20520"/>
            <a:ext cx="1070280" cy="782640"/>
          </a:xfrm>
          <a:prstGeom prst="rect">
            <a:avLst/>
          </a:prstGeom>
          <a:ln w="0">
            <a:noFill/>
          </a:ln>
        </p:spPr>
      </p:pic>
      <p:pic>
        <p:nvPicPr>
          <p:cNvPr id="6" name="图片 12" descr="图片3.png"/>
          <p:cNvPicPr/>
          <p:nvPr/>
        </p:nvPicPr>
        <p:blipFill>
          <a:blip r:embed="rId6"/>
          <a:stretch/>
        </p:blipFill>
        <p:spPr>
          <a:xfrm>
            <a:off x="420840" y="654120"/>
            <a:ext cx="1822320" cy="1058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B347-E77B-44BA-A47A-CC4DE36D97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矩形 13" descr=""/>
          <p:cNvPicPr/>
          <p:nvPr/>
        </p:nvPicPr>
        <p:blipFill>
          <a:blip r:embed="rId7"/>
          <a:stretch/>
        </p:blipFill>
        <p:spPr>
          <a:xfrm>
            <a:off x="7924680" y="6175440"/>
            <a:ext cx="1133640" cy="53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42720" y="2241360"/>
            <a:ext cx="83516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城市建筑蓝天白云报告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63216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477520" y="1737360"/>
            <a:ext cx="4419360" cy="4558680"/>
            <a:chOff x="2477520" y="1737360"/>
            <a:chExt cx="4419360" cy="4558680"/>
          </a:xfrm>
        </p:grpSpPr>
        <p:grpSp>
          <p:nvGrpSpPr>
            <p:cNvPr id="335" name=""/>
            <p:cNvGrpSpPr/>
            <p:nvPr/>
          </p:nvGrpSpPr>
          <p:grpSpPr>
            <a:xfrm>
              <a:off x="2477520" y="1737360"/>
              <a:ext cx="4419360" cy="4558680"/>
              <a:chOff x="2477520" y="1737360"/>
              <a:chExt cx="4419360" cy="4558680"/>
            </a:xfrm>
          </p:grpSpPr>
          <p:sp>
            <p:nvSpPr>
              <p:cNvPr id="336" name="椭圆 2"/>
              <p:cNvSpPr/>
              <p:nvPr/>
            </p:nvSpPr>
            <p:spPr>
              <a:xfrm>
                <a:off x="2701800" y="1973160"/>
                <a:ext cx="389304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椭圆 11"/>
              <p:cNvSpPr/>
              <p:nvPr/>
            </p:nvSpPr>
            <p:spPr>
              <a:xfrm flipH="1">
                <a:off x="2534400" y="27079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椭圆 12"/>
              <p:cNvSpPr/>
              <p:nvPr/>
            </p:nvSpPr>
            <p:spPr>
              <a:xfrm flipH="1">
                <a:off x="6219360" y="26794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椭圆 13"/>
              <p:cNvSpPr/>
              <p:nvPr/>
            </p:nvSpPr>
            <p:spPr>
              <a:xfrm flipH="1">
                <a:off x="4390200" y="56865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2477520" y="1737360"/>
                <a:ext cx="4419360" cy="4404960"/>
                <a:chOff x="2477520" y="1737360"/>
                <a:chExt cx="4419360" cy="440496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3062160" y="2304720"/>
                  <a:ext cx="3183120" cy="3184560"/>
                  <a:chOff x="3062160" y="2304720"/>
                  <a:chExt cx="3183120" cy="3184560"/>
                </a:xfrm>
              </p:grpSpPr>
              <p:sp>
                <p:nvSpPr>
                  <p:cNvPr id="342" name="饼形 7"/>
                  <p:cNvSpPr/>
                  <p:nvPr/>
                </p:nvSpPr>
                <p:spPr>
                  <a:xfrm>
                    <a:off x="3062160" y="2304720"/>
                    <a:ext cx="3183120" cy="3184560"/>
                  </a:xfrm>
                  <a:custGeom>
                    <a:avLst/>
                    <a:gdLst>
                      <a:gd name="textAreaLeft" fmla="*/ 466200 w 3183120"/>
                      <a:gd name="textAreaRight" fmla="*/ 2716920 w 3183120"/>
                      <a:gd name="textAreaTop" fmla="*/ 466200 h 3184560"/>
                      <a:gd name="textAreaBottom" fmla="*/ 2718360 h 3184560"/>
                    </a:gdLst>
                    <a:ahLst/>
                    <a:rect l="textAreaLeft" t="textAreaTop" r="textAreaRight" b="textAreaBottom"/>
                    <a:pathLst>
                      <a:path w="3183472" h="3184419">
                        <a:moveTo>
                          <a:pt x="184991" y="2337208"/>
                        </a:moveTo>
                        <a:lnTo>
                          <a:pt x="184991" y="2337208"/>
                        </a:lnTo>
                        <a:arcTo wR="1591736" hR="1592210" stAng="9125683" swAng="7074321"/>
                        <a:lnTo>
                          <a:pt x="1591736" y="1592210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饼形 8"/>
                  <p:cNvSpPr/>
                  <p:nvPr/>
                </p:nvSpPr>
                <p:spPr>
                  <a:xfrm>
                    <a:off x="3554280" y="2782440"/>
                    <a:ext cx="2251440" cy="2252880"/>
                  </a:xfrm>
                  <a:custGeom>
                    <a:avLst/>
                    <a:gdLst>
                      <a:gd name="textAreaLeft" fmla="*/ 329760 w 2251440"/>
                      <a:gd name="textAreaRight" fmla="*/ 1921680 w 2251440"/>
                      <a:gd name="textAreaTop" fmla="*/ 329760 h 2252880"/>
                      <a:gd name="textAreaBottom" fmla="*/ 192312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4"/>
                        </a:moveTo>
                        <a:lnTo>
                          <a:pt x="130787" y="1653204"/>
                        </a:lnTo>
                        <a:arcTo wR="1125727" hR="1126294" stAng="9125683" swAng="7074320"/>
                        <a:lnTo>
                          <a:pt x="1125727" y="112629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550600" y="1737360"/>
                  <a:ext cx="4346280" cy="4347000"/>
                  <a:chOff x="2550600" y="1737360"/>
                  <a:chExt cx="4346280" cy="4347000"/>
                </a:xfrm>
              </p:grpSpPr>
              <p:sp>
                <p:nvSpPr>
                  <p:cNvPr id="345" name="饼形 21"/>
                  <p:cNvSpPr/>
                  <p:nvPr/>
                </p:nvSpPr>
                <p:spPr>
                  <a:xfrm rot="7192200">
                    <a:off x="3131280" y="2319120"/>
                    <a:ext cx="3184560" cy="3183120"/>
                  </a:xfrm>
                  <a:custGeom>
                    <a:avLst/>
                    <a:gdLst>
                      <a:gd name="textAreaLeft" fmla="*/ 466200 w 3184560"/>
                      <a:gd name="textAreaRight" fmla="*/ 2718360 w 31845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4419" h="3183472">
                        <a:moveTo>
                          <a:pt x="185230" y="2336859"/>
                        </a:moveTo>
                        <a:lnTo>
                          <a:pt x="185230" y="2336859"/>
                        </a:lnTo>
                        <a:arcTo wR="1592210" hR="1591736" stAng="9125684" swAng="7074320"/>
                        <a:lnTo>
                          <a:pt x="1592210" y="1591736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饼形 22"/>
                  <p:cNvSpPr/>
                  <p:nvPr/>
                </p:nvSpPr>
                <p:spPr>
                  <a:xfrm rot="7192200">
                    <a:off x="3568680" y="279612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5" y="1788908"/>
                        </a:moveTo>
                        <a:lnTo>
                          <a:pt x="217115" y="1788908"/>
                        </a:lnTo>
                        <a:arcTo wR="1126294" hR="1124933" stAng="8631554" swAng="7568452"/>
                        <a:lnTo>
                          <a:pt x="1126294" y="11249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2477520" y="1788840"/>
                  <a:ext cx="4352400" cy="4353480"/>
                  <a:chOff x="2477520" y="1788840"/>
                  <a:chExt cx="4352400" cy="4353480"/>
                </a:xfrm>
              </p:grpSpPr>
              <p:sp>
                <p:nvSpPr>
                  <p:cNvPr id="348" name="饼形 19"/>
                  <p:cNvSpPr/>
                  <p:nvPr/>
                </p:nvSpPr>
                <p:spPr>
                  <a:xfrm rot="14392200">
                    <a:off x="3060360" y="2373840"/>
                    <a:ext cx="3186360" cy="3183120"/>
                  </a:xfrm>
                  <a:custGeom>
                    <a:avLst/>
                    <a:gdLst>
                      <a:gd name="textAreaLeft" fmla="*/ 466560 w 3186360"/>
                      <a:gd name="textAreaRight" fmla="*/ 2719800 w 31863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6006" h="3183472">
                        <a:moveTo>
                          <a:pt x="185476" y="2337149"/>
                        </a:moveTo>
                        <a:lnTo>
                          <a:pt x="185476" y="2337149"/>
                        </a:lnTo>
                        <a:arcTo wR="1593003" hR="1591736" stAng="9125684" swAng="7074321"/>
                        <a:lnTo>
                          <a:pt x="1593003" y="1591736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饼形 15"/>
                  <p:cNvSpPr/>
                  <p:nvPr/>
                </p:nvSpPr>
                <p:spPr>
                  <a:xfrm rot="14392200">
                    <a:off x="3522240" y="280908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6">
                        <a:moveTo>
                          <a:pt x="131226" y="1651911"/>
                        </a:moveTo>
                        <a:lnTo>
                          <a:pt x="131226" y="1651911"/>
                        </a:lnTo>
                        <a:arcTo wR="1126294" hR="1124933" stAng="9125685" swAng="7074318"/>
                        <a:lnTo>
                          <a:pt x="1126294" y="11249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0" name="椭圆 15"/>
              <p:cNvSpPr/>
              <p:nvPr/>
            </p:nvSpPr>
            <p:spPr>
              <a:xfrm>
                <a:off x="4003560" y="323352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1" name="矩形 4" descr=""/>
            <p:cNvPicPr/>
            <p:nvPr/>
          </p:nvPicPr>
          <p:blipFill>
            <a:blip r:embed="rId1"/>
            <a:stretch/>
          </p:blipFill>
          <p:spPr>
            <a:xfrm>
              <a:off x="3938040" y="2407680"/>
              <a:ext cx="2316600" cy="24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矩形 5" descr=""/>
            <p:cNvPicPr/>
            <p:nvPr/>
          </p:nvPicPr>
          <p:blipFill>
            <a:blip r:embed="rId2"/>
            <a:stretch/>
          </p:blipFill>
          <p:spPr>
            <a:xfrm>
              <a:off x="3608640" y="3639240"/>
              <a:ext cx="203616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矩形 6" descr=""/>
            <p:cNvPicPr/>
            <p:nvPr/>
          </p:nvPicPr>
          <p:blipFill>
            <a:blip r:embed="rId3"/>
            <a:stretch/>
          </p:blipFill>
          <p:spPr>
            <a:xfrm>
              <a:off x="3102480" y="2310120"/>
              <a:ext cx="2383560" cy="249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2" descr="D:\PPT模版\素材\png素材\web sites\web sites2\32x32\yen_currency_sign.png"/>
            <p:cNvPicPr/>
            <p:nvPr/>
          </p:nvPicPr>
          <p:blipFill>
            <a:blip r:embed="rId4"/>
            <a:stretch/>
          </p:blipFill>
          <p:spPr>
            <a:xfrm>
              <a:off x="4506840" y="57736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3" descr="D:\PPT模版\素材\png素材\web sites\web sites2\32x32\dollar_currency_sign.png"/>
            <p:cNvPicPr/>
            <p:nvPr/>
          </p:nvPicPr>
          <p:blipFill>
            <a:blip r:embed="rId5"/>
            <a:stretch/>
          </p:blipFill>
          <p:spPr>
            <a:xfrm>
              <a:off x="2650320" y="27943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" descr="D:\PPT模版\素材\png素材\web sites\web sites2\32x32\euro_currency_sign.png"/>
            <p:cNvPicPr/>
            <p:nvPr/>
          </p:nvPicPr>
          <p:blipFill>
            <a:blip r:embed="rId6"/>
            <a:stretch/>
          </p:blipFill>
          <p:spPr>
            <a:xfrm>
              <a:off x="6315840" y="2773440"/>
              <a:ext cx="42048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TextBox 25"/>
          <p:cNvSpPr/>
          <p:nvPr/>
        </p:nvSpPr>
        <p:spPr>
          <a:xfrm>
            <a:off x="235080" y="245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6"/>
          <p:cNvSpPr/>
          <p:nvPr/>
        </p:nvSpPr>
        <p:spPr>
          <a:xfrm>
            <a:off x="6788160" y="245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7"/>
          <p:cNvSpPr/>
          <p:nvPr/>
        </p:nvSpPr>
        <p:spPr>
          <a:xfrm>
            <a:off x="5029200" y="621180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右箭头 2"/>
          <p:cNvSpPr/>
          <p:nvPr/>
        </p:nvSpPr>
        <p:spPr>
          <a:xfrm>
            <a:off x="1758960" y="2992320"/>
            <a:ext cx="3614760" cy="2760840"/>
          </a:xfrm>
          <a:prstGeom prst="rightArrow">
            <a:avLst>
              <a:gd name="adj1" fmla="val 61213"/>
              <a:gd name="adj2" fmla="val 49995"/>
            </a:avLst>
          </a:prstGeom>
          <a:gradFill rotWithShape="0">
            <a:gsLst>
              <a:gs pos="0">
                <a:srgbClr val="ffffff"/>
              </a:gs>
              <a:gs pos="100000">
                <a:srgbClr val="bcbcbc">
                  <a:alpha val="6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17600" y="2496960"/>
            <a:ext cx="1639800" cy="3648240"/>
            <a:chOff x="417600" y="2496960"/>
            <a:chExt cx="1639800" cy="3648240"/>
          </a:xfrm>
        </p:grpSpPr>
        <p:sp>
          <p:nvSpPr>
            <p:cNvPr id="363" name="矩形 4"/>
            <p:cNvSpPr/>
            <p:nvPr/>
          </p:nvSpPr>
          <p:spPr>
            <a:xfrm>
              <a:off x="1143720" y="3739680"/>
              <a:ext cx="154440" cy="10112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28040" y="2496960"/>
              <a:ext cx="1626480" cy="1635840"/>
              <a:chOff x="428040" y="2496960"/>
              <a:chExt cx="1626480" cy="1635840"/>
            </a:xfrm>
          </p:grpSpPr>
          <p:sp>
            <p:nvSpPr>
              <p:cNvPr id="365" name="椭圆 11"/>
              <p:cNvSpPr/>
              <p:nvPr/>
            </p:nvSpPr>
            <p:spPr>
              <a:xfrm>
                <a:off x="428040" y="2496960"/>
                <a:ext cx="1626480" cy="1635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椭圆 3"/>
              <p:cNvSpPr/>
              <p:nvPr/>
            </p:nvSpPr>
            <p:spPr>
              <a:xfrm>
                <a:off x="495720" y="2565000"/>
                <a:ext cx="1491120" cy="14997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椭圆 13"/>
              <p:cNvSpPr/>
              <p:nvPr/>
            </p:nvSpPr>
            <p:spPr>
              <a:xfrm>
                <a:off x="532080" y="2601360"/>
                <a:ext cx="1418400" cy="142668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8" name="组合 47" descr=""/>
            <p:cNvPicPr/>
            <p:nvPr/>
          </p:nvPicPr>
          <p:blipFill>
            <a:blip r:embed="rId1"/>
            <a:stretch/>
          </p:blipFill>
          <p:spPr>
            <a:xfrm>
              <a:off x="417600" y="4495680"/>
              <a:ext cx="1639800" cy="164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矩形 7"/>
            <p:cNvSpPr/>
            <p:nvPr/>
          </p:nvSpPr>
          <p:spPr>
            <a:xfrm flipV="1">
              <a:off x="1045800" y="4259520"/>
              <a:ext cx="34956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圆角矩形 14"/>
          <p:cNvSpPr/>
          <p:nvPr/>
        </p:nvSpPr>
        <p:spPr>
          <a:xfrm>
            <a:off x="5433840" y="282564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7"/>
          <p:cNvSpPr/>
          <p:nvPr/>
        </p:nvSpPr>
        <p:spPr>
          <a:xfrm>
            <a:off x="5907240" y="2963880"/>
            <a:ext cx="25002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8"/>
          <p:cNvSpPr/>
          <p:nvPr/>
        </p:nvSpPr>
        <p:spPr>
          <a:xfrm>
            <a:off x="5761080" y="437040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17"/>
          <p:cNvSpPr/>
          <p:nvPr/>
        </p:nvSpPr>
        <p:spPr>
          <a:xfrm flipV="1">
            <a:off x="5664240" y="4271760"/>
            <a:ext cx="2865240" cy="27000"/>
          </a:xfrm>
          <a:prstGeom prst="line">
            <a:avLst/>
          </a:prstGeom>
          <a:ln w="76320">
            <a:solidFill>
              <a:srgbClr val="897dc1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63"/>
          <p:cNvSpPr/>
          <p:nvPr/>
        </p:nvSpPr>
        <p:spPr>
          <a:xfrm>
            <a:off x="477720" y="16095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4"/>
          <p:cNvSpPr/>
          <p:nvPr/>
        </p:nvSpPr>
        <p:spPr>
          <a:xfrm>
            <a:off x="2293920" y="393552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TextBox 49"/>
          <p:cNvSpPr/>
          <p:nvPr/>
        </p:nvSpPr>
        <p:spPr>
          <a:xfrm>
            <a:off x="2759040" y="21477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50"/>
          <p:cNvSpPr/>
          <p:nvPr/>
        </p:nvSpPr>
        <p:spPr>
          <a:xfrm>
            <a:off x="4545000" y="5133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51"/>
          <p:cNvSpPr/>
          <p:nvPr/>
        </p:nvSpPr>
        <p:spPr>
          <a:xfrm>
            <a:off x="988920" y="5133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52"/>
          <p:cNvSpPr/>
          <p:nvPr/>
        </p:nvSpPr>
        <p:spPr>
          <a:xfrm>
            <a:off x="6551640" y="20541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54"/>
          <p:cNvSpPr/>
          <p:nvPr/>
        </p:nvSpPr>
        <p:spPr>
          <a:xfrm>
            <a:off x="841320" y="16351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763560" y="3013200"/>
            <a:ext cx="7645320" cy="2265120"/>
            <a:chOff x="763560" y="3013200"/>
            <a:chExt cx="7645320" cy="2265120"/>
          </a:xfrm>
        </p:grpSpPr>
        <p:grpSp>
          <p:nvGrpSpPr>
            <p:cNvPr id="383" name=""/>
            <p:cNvGrpSpPr/>
            <p:nvPr/>
          </p:nvGrpSpPr>
          <p:grpSpPr>
            <a:xfrm>
              <a:off x="4676400" y="3459240"/>
              <a:ext cx="1511280" cy="1784520"/>
              <a:chOff x="4676400" y="3459240"/>
              <a:chExt cx="1511280" cy="1784520"/>
            </a:xfrm>
          </p:grpSpPr>
          <p:sp>
            <p:nvSpPr>
              <p:cNvPr id="384" name="矩形 9"/>
              <p:cNvSpPr/>
              <p:nvPr/>
            </p:nvSpPr>
            <p:spPr>
              <a:xfrm>
                <a:off x="5302080" y="4570920"/>
                <a:ext cx="111240" cy="48456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流程图: 决策 36"/>
              <p:cNvSpPr/>
              <p:nvPr/>
            </p:nvSpPr>
            <p:spPr>
              <a:xfrm>
                <a:off x="5646960" y="3950640"/>
                <a:ext cx="540720" cy="35964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组合 5" descr=""/>
              <p:cNvPicPr/>
              <p:nvPr/>
            </p:nvPicPr>
            <p:blipFill>
              <a:blip r:embed="rId1"/>
              <a:stretch/>
            </p:blipFill>
            <p:spPr>
              <a:xfrm>
                <a:off x="4676400" y="3459240"/>
                <a:ext cx="1312200" cy="130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椭圆 7"/>
              <p:cNvSpPr/>
              <p:nvPr/>
            </p:nvSpPr>
            <p:spPr>
              <a:xfrm>
                <a:off x="5208120" y="4935240"/>
                <a:ext cx="310320" cy="3085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928240" y="3013200"/>
              <a:ext cx="1512000" cy="1762920"/>
              <a:chOff x="2928240" y="3013200"/>
              <a:chExt cx="1512000" cy="1762920"/>
            </a:xfrm>
          </p:grpSpPr>
          <p:sp>
            <p:nvSpPr>
              <p:cNvPr id="389" name="矩形 28"/>
              <p:cNvSpPr/>
              <p:nvPr/>
            </p:nvSpPr>
            <p:spPr>
              <a:xfrm>
                <a:off x="3529080" y="3246840"/>
                <a:ext cx="111960" cy="48780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流程图: 决策 15"/>
              <p:cNvSpPr/>
              <p:nvPr/>
            </p:nvSpPr>
            <p:spPr>
              <a:xfrm>
                <a:off x="3895560" y="3968280"/>
                <a:ext cx="544680" cy="36216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1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928240" y="3487320"/>
                <a:ext cx="1303560" cy="128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椭圆 31"/>
              <p:cNvSpPr/>
              <p:nvPr/>
            </p:nvSpPr>
            <p:spPr>
              <a:xfrm>
                <a:off x="3434400" y="3013200"/>
                <a:ext cx="312480" cy="31032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3" name="组合 22" descr=""/>
            <p:cNvPicPr/>
            <p:nvPr/>
          </p:nvPicPr>
          <p:blipFill>
            <a:blip r:embed="rId3"/>
            <a:stretch/>
          </p:blipFill>
          <p:spPr>
            <a:xfrm>
              <a:off x="1085040" y="3470760"/>
              <a:ext cx="1523880" cy="1807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602760" y="3030480"/>
              <a:ext cx="1604160" cy="1896840"/>
              <a:chOff x="6602760" y="3030480"/>
              <a:chExt cx="1604160" cy="1896840"/>
            </a:xfrm>
          </p:grpSpPr>
          <p:pic>
            <p:nvPicPr>
              <p:cNvPr id="395" name="组合 5" descr=""/>
              <p:cNvPicPr/>
              <p:nvPr/>
            </p:nvPicPr>
            <p:blipFill>
              <a:blip r:embed="rId4"/>
              <a:stretch/>
            </p:blipFill>
            <p:spPr>
              <a:xfrm>
                <a:off x="6602760" y="3317040"/>
                <a:ext cx="1604160" cy="161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椭圆 17"/>
              <p:cNvSpPr/>
              <p:nvPr/>
            </p:nvSpPr>
            <p:spPr>
              <a:xfrm>
                <a:off x="7209720" y="3030480"/>
                <a:ext cx="380520" cy="38196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直接连接符 12"/>
            <p:cNvSpPr/>
            <p:nvPr/>
          </p:nvSpPr>
          <p:spPr>
            <a:xfrm>
              <a:off x="763560" y="5073840"/>
              <a:ext cx="1950840" cy="1224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直接连接符 13"/>
            <p:cNvSpPr/>
            <p:nvPr/>
          </p:nvSpPr>
          <p:spPr>
            <a:xfrm>
              <a:off x="2593800" y="315324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直接连接符 14"/>
            <p:cNvSpPr/>
            <p:nvPr/>
          </p:nvSpPr>
          <p:spPr>
            <a:xfrm>
              <a:off x="4314600" y="510228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直接连接符 15"/>
            <p:cNvSpPr/>
            <p:nvPr/>
          </p:nvSpPr>
          <p:spPr>
            <a:xfrm>
              <a:off x="6458040" y="319392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1" name=""/>
          <p:cNvGrpSpPr/>
          <p:nvPr/>
        </p:nvGrpSpPr>
        <p:grpSpPr>
          <a:xfrm>
            <a:off x="2604960" y="2058840"/>
            <a:ext cx="3809160" cy="3903120"/>
            <a:chOff x="2604960" y="2058840"/>
            <a:chExt cx="3809160" cy="3903120"/>
          </a:xfrm>
        </p:grpSpPr>
        <p:sp>
          <p:nvSpPr>
            <p:cNvPr id="402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04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07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077800" y="3324960"/>
              <a:ext cx="1336320" cy="479520"/>
              <a:chOff x="5077800" y="3324960"/>
              <a:chExt cx="1336320" cy="479520"/>
            </a:xfrm>
          </p:grpSpPr>
          <p:sp>
            <p:nvSpPr>
              <p:cNvPr id="410" name="直接连接符 21"/>
              <p:cNvSpPr/>
              <p:nvPr/>
            </p:nvSpPr>
            <p:spPr>
              <a:xfrm flipH="1">
                <a:off x="5077800" y="3549600"/>
                <a:ext cx="1018800" cy="25488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椭圆 22"/>
              <p:cNvSpPr/>
              <p:nvPr/>
            </p:nvSpPr>
            <p:spPr>
              <a:xfrm rot="2982600">
                <a:off x="6113160" y="3373560"/>
                <a:ext cx="246600" cy="25596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13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901400" y="4513320"/>
              <a:ext cx="996840" cy="812520"/>
              <a:chOff x="4901400" y="4513320"/>
              <a:chExt cx="996840" cy="812520"/>
            </a:xfrm>
          </p:grpSpPr>
          <p:sp>
            <p:nvSpPr>
              <p:cNvPr id="416" name="直接连接符 28"/>
              <p:cNvSpPr/>
              <p:nvPr/>
            </p:nvSpPr>
            <p:spPr>
              <a:xfrm flipH="1" flipV="1">
                <a:off x="4901400" y="451332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29"/>
              <p:cNvSpPr/>
              <p:nvPr/>
            </p:nvSpPr>
            <p:spPr>
              <a:xfrm rot="5864400">
                <a:off x="5617800" y="504540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4643640" y="4784400"/>
              <a:ext cx="597240" cy="1177560"/>
              <a:chOff x="4643640" y="4784400"/>
              <a:chExt cx="597240" cy="1177560"/>
            </a:xfrm>
          </p:grpSpPr>
          <p:sp>
            <p:nvSpPr>
              <p:cNvPr id="419" name="椭圆 33"/>
              <p:cNvSpPr/>
              <p:nvPr/>
            </p:nvSpPr>
            <p:spPr>
              <a:xfrm rot="7615200">
                <a:off x="5005080" y="572724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接连接符 34"/>
              <p:cNvSpPr/>
              <p:nvPr/>
            </p:nvSpPr>
            <p:spPr>
              <a:xfrm flipH="1" flipV="1">
                <a:off x="4643640" y="478440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>
                <a:gd name="textAreaLeft" fmla="*/ 1289520 w 1982880"/>
                <a:gd name="textAreaRight" fmla="*/ 1983240 w 1982880"/>
                <a:gd name="textAreaTop" fmla="*/ 45720 h 1982880"/>
                <a:gd name="textAreaBottom" fmla="*/ 1933920 h 1982880"/>
              </a:gdLst>
              <a:ahLst/>
              <a:rect l="textAreaLeft" t="textAreaTop" r="textAreaRight" b="textAreaBottom"/>
              <a:pathLst>
                <a:path stroke="0" w="1983178" h="1983114">
                  <a:moveTo>
                    <a:pt x="1289829" y="45912"/>
                  </a:moveTo>
                  <a:lnTo>
                    <a:pt x="1289829" y="45912"/>
                  </a:lnTo>
                  <a:arcTo wR="991589" hR="991557" stAng="-4349738" swAng="8663381"/>
                  <a:lnTo>
                    <a:pt x="991589" y="991557"/>
                  </a:lnTo>
                  <a:close/>
                </a:path>
                <a:path fill="none" w="1983178" h="1983114">
                  <a:moveTo>
                    <a:pt x="1289829" y="45912"/>
                  </a:moveTo>
                  <a:lnTo>
                    <a:pt x="1289829" y="45912"/>
                  </a:lnTo>
                  <a:arcTo wR="991589" hR="991557" stAng="-4349738" swAng="8663381"/>
                </a:path>
              </a:pathLst>
            </a:custGeom>
            <a:noFill/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439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444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449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454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>
              <a:gd name="textAreaLeft" fmla="*/ 585720 w 3198960"/>
              <a:gd name="textAreaRight" fmla="*/ 2613240 w 3198960"/>
              <a:gd name="textAreaTop" fmla="*/ 466200 h 2382840"/>
              <a:gd name="textAreaBottom" fmla="*/ 1916640 h 2382840"/>
            </a:gdLst>
            <a:ahLst/>
            <a:rect l="textAreaLeft" t="textAreaTop" r="textAreaRight" b="textAreaBottom"/>
            <a:pathLst>
              <a:path w="3198813" h="2382838">
                <a:moveTo>
                  <a:pt x="1885768" y="186575"/>
                </a:moveTo>
                <a:lnTo>
                  <a:pt x="1885768" y="186575"/>
                </a:lnTo>
                <a:arcTo wR="1433501" hR="1025514" stAng="-4445609" swAng="3311125"/>
                <a:lnTo>
                  <a:pt x="3051955" y="726522"/>
                </a:lnTo>
                <a:lnTo>
                  <a:pt x="2962122" y="1003420"/>
                </a:lnTo>
                <a:lnTo>
                  <a:pt x="2634055" y="784175"/>
                </a:lnTo>
                <a:lnTo>
                  <a:pt x="2793121" y="762230"/>
                </a:lnTo>
                <a:lnTo>
                  <a:pt x="2793121" y="762230"/>
                </a:lnTo>
                <a:arcTo wR="1343454" hR="935466" stAng="-1186526" swAng="-3259083"/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>
              <a:gd name="textAreaLeft" fmla="*/ 588960 w 3220920"/>
              <a:gd name="textAreaRight" fmla="*/ 2631960 w 3220920"/>
              <a:gd name="textAreaTop" fmla="*/ 466200 h 2382840"/>
              <a:gd name="textAreaBottom" fmla="*/ 1916640 h 2382840"/>
            </a:gdLst>
            <a:ahLst/>
            <a:rect l="textAreaLeft" t="textAreaTop" r="textAreaRight" b="textAreaBottom"/>
            <a:pathLst>
              <a:path w="3221038" h="2382837">
                <a:moveTo>
                  <a:pt x="1896968" y="186268"/>
                </a:moveTo>
                <a:lnTo>
                  <a:pt x="1896968" y="186268"/>
                </a:lnTo>
                <a:arcTo wR="1444614" hR="1025513" stAng="-4445606" swAng="3311044"/>
                <a:lnTo>
                  <a:pt x="3071032" y="723728"/>
                </a:lnTo>
                <a:lnTo>
                  <a:pt x="2983735" y="1001971"/>
                </a:lnTo>
                <a:lnTo>
                  <a:pt x="2653133" y="781381"/>
                </a:lnTo>
                <a:lnTo>
                  <a:pt x="2812028" y="759460"/>
                </a:lnTo>
                <a:lnTo>
                  <a:pt x="2812028" y="759460"/>
                </a:lnTo>
                <a:arcTo wR="1354567" hR="935466" stAng="-1186443" swAng="-3259166"/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463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468" name="梯形 8"/>
            <p:cNvSpPr/>
            <p:nvPr/>
          </p:nvSpPr>
          <p:spPr>
            <a:xfrm rot="10800000">
              <a:off x="1204560" y="2687040"/>
              <a:ext cx="846360" cy="693720"/>
            </a:xfrm>
            <a:custGeom>
              <a:avLst/>
              <a:gdLst>
                <a:gd name="textAreaLeft" fmla="*/ 115560 w 846360"/>
                <a:gd name="textAreaRight" fmla="*/ 730800 w 846360"/>
                <a:gd name="textAreaTop" fmla="*/ 9468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846137" h="693207">
                  <a:moveTo>
                    <a:pt x="0" y="693207"/>
                  </a:moveTo>
                  <a:lnTo>
                    <a:pt x="173302" y="0"/>
                  </a:lnTo>
                  <a:lnTo>
                    <a:pt x="672835" y="0"/>
                  </a:lnTo>
                  <a:lnTo>
                    <a:pt x="846137" y="693207"/>
                  </a:lnTo>
                  <a:close/>
                </a:path>
              </a:pathLst>
            </a:custGeom>
            <a:solidFill>
              <a:srgbClr val="4f9fd4"/>
            </a:solidFill>
            <a:ln w="76320">
              <a:solidFill>
                <a:srgbClr val="4f9fd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梯形 10"/>
            <p:cNvSpPr/>
            <p:nvPr/>
          </p:nvSpPr>
          <p:spPr>
            <a:xfrm rot="10800000">
              <a:off x="1163520" y="2450880"/>
              <a:ext cx="943200" cy="188640"/>
            </a:xfrm>
            <a:custGeom>
              <a:avLst/>
              <a:gdLst>
                <a:gd name="textAreaLeft" fmla="*/ 25200 w 943200"/>
                <a:gd name="textAreaRight" fmla="*/ 918000 w 943200"/>
                <a:gd name="textAreaTop" fmla="*/ 504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42975" h="188769">
                  <a:moveTo>
                    <a:pt x="0" y="188769"/>
                  </a:moveTo>
                  <a:lnTo>
                    <a:pt x="38063" y="0"/>
                  </a:lnTo>
                  <a:lnTo>
                    <a:pt x="904912" y="0"/>
                  </a:lnTo>
                  <a:lnTo>
                    <a:pt x="942975" y="188769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梯形 4"/>
            <p:cNvSpPr/>
            <p:nvPr/>
          </p:nvSpPr>
          <p:spPr>
            <a:xfrm rot="10800000">
              <a:off x="1010880" y="1911240"/>
              <a:ext cx="1219320" cy="151128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474" name="梯形 13"/>
            <p:cNvSpPr/>
            <p:nvPr/>
          </p:nvSpPr>
          <p:spPr>
            <a:xfrm rot="10800000">
              <a:off x="1093680" y="4254120"/>
              <a:ext cx="1067040" cy="1314360"/>
            </a:xfrm>
            <a:custGeom>
              <a:avLst/>
              <a:gdLst>
                <a:gd name="textAreaLeft" fmla="*/ 177840 w 1067040"/>
                <a:gd name="textAreaRight" fmla="*/ 889200 w 1067040"/>
                <a:gd name="textAreaTop" fmla="*/ 21888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1066800" h="1314827">
                  <a:moveTo>
                    <a:pt x="0" y="1314827"/>
                  </a:moveTo>
                  <a:lnTo>
                    <a:pt x="266700" y="0"/>
                  </a:lnTo>
                  <a:lnTo>
                    <a:pt x="800100" y="0"/>
                  </a:lnTo>
                  <a:lnTo>
                    <a:pt x="1066800" y="1314827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梯形 9"/>
            <p:cNvSpPr/>
            <p:nvPr/>
          </p:nvSpPr>
          <p:spPr>
            <a:xfrm rot="10800000">
              <a:off x="1233360" y="5057640"/>
              <a:ext cx="774720" cy="511200"/>
            </a:xfrm>
            <a:custGeom>
              <a:avLst/>
              <a:gdLst>
                <a:gd name="textAreaLeft" fmla="*/ 84960 w 774720"/>
                <a:gd name="textAreaRight" fmla="*/ 689760 w 774720"/>
                <a:gd name="textAreaTop" fmla="*/ 5616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774700" h="511322">
                  <a:moveTo>
                    <a:pt x="0" y="511322"/>
                  </a:moveTo>
                  <a:lnTo>
                    <a:pt x="127831" y="0"/>
                  </a:lnTo>
                  <a:lnTo>
                    <a:pt x="646870" y="0"/>
                  </a:lnTo>
                  <a:lnTo>
                    <a:pt x="774700" y="511322"/>
                  </a:lnTo>
                  <a:close/>
                </a:path>
              </a:pathLst>
            </a:custGeom>
            <a:solidFill>
              <a:srgbClr val="ffa902"/>
            </a:solidFill>
            <a:ln w="76320">
              <a:solidFill>
                <a:srgbClr val="ffa90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梯形 5"/>
            <p:cNvSpPr/>
            <p:nvPr/>
          </p:nvSpPr>
          <p:spPr>
            <a:xfrm rot="10800000">
              <a:off x="1010880" y="4128840"/>
              <a:ext cx="1219320" cy="150948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480" name="梯形 11"/>
            <p:cNvSpPr/>
            <p:nvPr/>
          </p:nvSpPr>
          <p:spPr>
            <a:xfrm rot="10800000">
              <a:off x="5224320" y="2201760"/>
              <a:ext cx="1052640" cy="1136880"/>
            </a:xfrm>
            <a:custGeom>
              <a:avLst/>
              <a:gdLst>
                <a:gd name="textAreaLeft" fmla="*/ 175320 w 1052640"/>
                <a:gd name="textAreaRight" fmla="*/ 877320 w 1052640"/>
                <a:gd name="textAreaTop" fmla="*/ 18936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1052512" h="1136976">
                  <a:moveTo>
                    <a:pt x="0" y="1136976"/>
                  </a:moveTo>
                  <a:lnTo>
                    <a:pt x="263128" y="0"/>
                  </a:lnTo>
                  <a:lnTo>
                    <a:pt x="789384" y="0"/>
                  </a:lnTo>
                  <a:lnTo>
                    <a:pt x="1052512" y="1136976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梯形 12"/>
            <p:cNvSpPr/>
            <p:nvPr/>
          </p:nvSpPr>
          <p:spPr>
            <a:xfrm rot="10800000">
              <a:off x="5432040" y="3048120"/>
              <a:ext cx="709560" cy="387360"/>
            </a:xfrm>
            <a:custGeom>
              <a:avLst/>
              <a:gdLst>
                <a:gd name="textAreaLeft" fmla="*/ 45000 w 709560"/>
                <a:gd name="textAreaRight" fmla="*/ 664560 w 709560"/>
                <a:gd name="textAreaTop" fmla="*/ 2448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09613" h="387461">
                  <a:moveTo>
                    <a:pt x="0" y="387461"/>
                  </a:moveTo>
                  <a:lnTo>
                    <a:pt x="67639" y="0"/>
                  </a:lnTo>
                  <a:lnTo>
                    <a:pt x="641974" y="0"/>
                  </a:lnTo>
                  <a:lnTo>
                    <a:pt x="709613" y="387461"/>
                  </a:lnTo>
                  <a:close/>
                </a:path>
              </a:pathLst>
            </a:custGeom>
            <a:solidFill>
              <a:srgbClr val="44b093"/>
            </a:solidFill>
            <a:ln w="76320">
              <a:solidFill>
                <a:srgbClr val="44b09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梯形 7"/>
            <p:cNvSpPr/>
            <p:nvPr/>
          </p:nvSpPr>
          <p:spPr>
            <a:xfrm rot="10800000">
              <a:off x="5154120" y="1925640"/>
              <a:ext cx="1219320" cy="150984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486" name="梯形 14"/>
            <p:cNvSpPr/>
            <p:nvPr/>
          </p:nvSpPr>
          <p:spPr>
            <a:xfrm rot="10800000">
              <a:off x="5319360" y="5047920"/>
              <a:ext cx="825480" cy="522360"/>
            </a:xfrm>
            <a:custGeom>
              <a:avLst/>
              <a:gdLst>
                <a:gd name="textAreaLeft" fmla="*/ 141840 w 825480"/>
                <a:gd name="textAreaRight" fmla="*/ 683640 w 825480"/>
                <a:gd name="textAreaTop" fmla="*/ 8964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825500" h="522310">
                  <a:moveTo>
                    <a:pt x="0" y="522310"/>
                  </a:moveTo>
                  <a:lnTo>
                    <a:pt x="213050" y="0"/>
                  </a:lnTo>
                  <a:lnTo>
                    <a:pt x="612450" y="0"/>
                  </a:lnTo>
                  <a:lnTo>
                    <a:pt x="825500" y="522310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梯形 15"/>
            <p:cNvSpPr/>
            <p:nvPr/>
          </p:nvSpPr>
          <p:spPr>
            <a:xfrm rot="10800000">
              <a:off x="5445000" y="5251680"/>
              <a:ext cx="636480" cy="388800"/>
            </a:xfrm>
            <a:custGeom>
              <a:avLst/>
              <a:gdLst>
                <a:gd name="textAreaLeft" fmla="*/ 41760 w 636480"/>
                <a:gd name="textAreaRight" fmla="*/ 594720 w 636480"/>
                <a:gd name="textAreaTop" fmla="*/ 2556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636588" h="388955">
                  <a:moveTo>
                    <a:pt x="0" y="388955"/>
                  </a:moveTo>
                  <a:lnTo>
                    <a:pt x="63011" y="0"/>
                  </a:lnTo>
                  <a:lnTo>
                    <a:pt x="573577" y="0"/>
                  </a:lnTo>
                  <a:lnTo>
                    <a:pt x="636588" y="388955"/>
                  </a:lnTo>
                  <a:close/>
                </a:path>
              </a:pathLst>
            </a:custGeom>
            <a:solidFill>
              <a:srgbClr val="9eca06"/>
            </a:solidFill>
            <a:ln w="76320">
              <a:solidFill>
                <a:srgbClr val="9eca0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梯形 6"/>
            <p:cNvSpPr/>
            <p:nvPr/>
          </p:nvSpPr>
          <p:spPr>
            <a:xfrm rot="10800000">
              <a:off x="5125680" y="4129200"/>
              <a:ext cx="1219320" cy="1509840"/>
            </a:xfrm>
            <a:custGeom>
              <a:avLst/>
              <a:gdLst>
                <a:gd name="textAreaLeft" fmla="*/ 203040 w 1219320"/>
                <a:gd name="textAreaRight" fmla="*/ 1016280 w 1219320"/>
                <a:gd name="textAreaTop" fmla="*/ 25164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09777">
                  <a:moveTo>
                    <a:pt x="0" y="1509777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09777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0" name="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501" name="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502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4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506" name="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507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直角三角形 10"/>
              <p:cNvSpPr/>
              <p:nvPr/>
            </p:nvSpPr>
            <p:spPr>
              <a:xfrm flipV="1" rot="5400000">
                <a:off x="6318000" y="204660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组合 21" descr=""/>
          <p:cNvPicPr/>
          <p:nvPr/>
        </p:nvPicPr>
        <p:blipFill>
          <a:blip r:embed="rId1"/>
          <a:stretch/>
        </p:blipFill>
        <p:spPr>
          <a:xfrm>
            <a:off x="2571840" y="3676680"/>
            <a:ext cx="2182680" cy="168732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512" name="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513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D:\PPT模版\素材\png素材\easy weather\veeqi_Sticker_Weather_Icons_015.png"/>
          <p:cNvPicPr/>
          <p:nvPr/>
        </p:nvPicPr>
        <p:blipFill>
          <a:blip r:embed="rId2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D:\PPT模版\素材\png素材\easy weather\veeqi_Sticker_Weather_Icons_027.png"/>
          <p:cNvPicPr/>
          <p:nvPr/>
        </p:nvPicPr>
        <p:blipFill>
          <a:blip r:embed="rId3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D:\PPT模版\素材\png素材\easy weather\veeqi_Sticker_Weather_Icons_033.png"/>
          <p:cNvPicPr/>
          <p:nvPr/>
        </p:nvPicPr>
        <p:blipFill>
          <a:blip r:embed="rId4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D:\PPT模版\素材\png素材\easy weather\veeqi_Sticker_Weather_Icons_041.png"/>
          <p:cNvPicPr/>
          <p:nvPr/>
        </p:nvPicPr>
        <p:blipFill>
          <a:blip r:embed="rId5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7" name=""/>
          <p:cNvSpPr/>
          <p:nvPr/>
        </p:nvSpPr>
        <p:spPr>
          <a:xfrm>
            <a:off x="395280" y="6211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88880" y="1739880"/>
            <a:ext cx="8185320" cy="8344080"/>
            <a:chOff x="488880" y="1739880"/>
            <a:chExt cx="8185320" cy="8344080"/>
          </a:xfrm>
        </p:grpSpPr>
        <p:grpSp>
          <p:nvGrpSpPr>
            <p:cNvPr id="530" name=""/>
            <p:cNvGrpSpPr/>
            <p:nvPr/>
          </p:nvGrpSpPr>
          <p:grpSpPr>
            <a:xfrm>
              <a:off x="488880" y="1739880"/>
              <a:ext cx="8185320" cy="8344080"/>
              <a:chOff x="488880" y="1739880"/>
              <a:chExt cx="8185320" cy="8344080"/>
            </a:xfrm>
          </p:grpSpPr>
          <p:sp>
            <p:nvSpPr>
              <p:cNvPr id="531" name="饼形 4"/>
              <p:cNvSpPr/>
              <p:nvPr/>
            </p:nvSpPr>
            <p:spPr>
              <a:xfrm rot="5400000">
                <a:off x="854640" y="2514960"/>
                <a:ext cx="7567920" cy="7569360"/>
              </a:xfrm>
              <a:custGeom>
                <a:avLst/>
                <a:gdLst>
                  <a:gd name="textAreaLeft" fmla="*/ 1108080 w 7567920"/>
                  <a:gd name="textAreaRight" fmla="*/ 6459840 w 7567920"/>
                  <a:gd name="textAreaTop" fmla="*/ 1108440 h 7569360"/>
                  <a:gd name="textAreaBottom" fmla="*/ 6460920 h 7569360"/>
                </a:gdLst>
                <a:ahLst/>
                <a:rect l="textAreaLeft" t="textAreaTop" r="textAreaRight" b="textAreaBottom"/>
                <a:pathLst>
                  <a:path w="7568144" h="7569110">
                    <a:moveTo>
                      <a:pt x="3792023" y="7569102"/>
                    </a:moveTo>
                    <a:lnTo>
                      <a:pt x="3792023" y="7569102"/>
                    </a:lnTo>
                    <a:arcTo wR="3784072" hR="3784555" stAng="5392778" swAng="10807227"/>
                    <a:lnTo>
                      <a:pt x="3784072" y="3784555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饼形 5"/>
              <p:cNvSpPr/>
              <p:nvPr/>
            </p:nvSpPr>
            <p:spPr>
              <a:xfrm rot="5400000">
                <a:off x="1185480" y="2803320"/>
                <a:ext cx="6945480" cy="7018560"/>
              </a:xfrm>
              <a:custGeom>
                <a:avLst/>
                <a:gdLst>
                  <a:gd name="textAreaLeft" fmla="*/ 1017000 w 6945480"/>
                  <a:gd name="textAreaRight" fmla="*/ 5928480 w 6945480"/>
                  <a:gd name="textAreaTop" fmla="*/ 1027800 h 7018560"/>
                  <a:gd name="textAreaBottom" fmla="*/ 5990760 h 7018560"/>
                </a:gdLst>
                <a:ahLst/>
                <a:rect l="textAreaLeft" t="textAreaTop" r="textAreaRight" b="textAreaBottom"/>
                <a:pathLst>
                  <a:path w="6945801" h="7018255">
                    <a:moveTo>
                      <a:pt x="3480272" y="7018247"/>
                    </a:moveTo>
                    <a:lnTo>
                      <a:pt x="3480272" y="7018247"/>
                    </a:lnTo>
                    <a:arcTo wR="3472901" hR="3509128" stAng="5392778" swAng="10807226"/>
                    <a:lnTo>
                      <a:pt x="3472901" y="3509128"/>
                    </a:ln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饼形 6"/>
              <p:cNvSpPr/>
              <p:nvPr/>
            </p:nvSpPr>
            <p:spPr>
              <a:xfrm rot="5400000">
                <a:off x="2263680" y="3950280"/>
                <a:ext cx="4751640" cy="4753080"/>
              </a:xfrm>
              <a:custGeom>
                <a:avLst/>
                <a:gdLst>
                  <a:gd name="textAreaLeft" fmla="*/ 695880 w 4751640"/>
                  <a:gd name="textAreaRight" fmla="*/ 4055760 w 4751640"/>
                  <a:gd name="textAreaTop" fmla="*/ 695880 h 4753080"/>
                  <a:gd name="textAreaBottom" fmla="*/ 4057200 h 4753080"/>
                </a:gdLst>
                <a:ahLst/>
                <a:rect l="textAreaLeft" t="textAreaTop" r="textAreaRight" b="textAreaBottom"/>
                <a:pathLst>
                  <a:path w="4751721" h="4752919">
                    <a:moveTo>
                      <a:pt x="2380853" y="4752914"/>
                    </a:moveTo>
                    <a:lnTo>
                      <a:pt x="2380853" y="4752914"/>
                    </a:lnTo>
                    <a:arcTo wR="2375861" hR="2376460" stAng="5392779" swAng="10807224"/>
                    <a:lnTo>
                      <a:pt x="2375861" y="2376460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饼形 7"/>
              <p:cNvSpPr/>
              <p:nvPr/>
            </p:nvSpPr>
            <p:spPr>
              <a:xfrm rot="5400000">
                <a:off x="2430360" y="4102560"/>
                <a:ext cx="4442040" cy="4443480"/>
              </a:xfrm>
              <a:custGeom>
                <a:avLst/>
                <a:gdLst>
                  <a:gd name="textAreaLeft" fmla="*/ 650520 w 4442040"/>
                  <a:gd name="textAreaRight" fmla="*/ 3791520 w 4442040"/>
                  <a:gd name="textAreaTop" fmla="*/ 650520 h 4443480"/>
                  <a:gd name="textAreaBottom" fmla="*/ 3792960 h 4443480"/>
                </a:gdLst>
                <a:ahLst/>
                <a:rect l="textAreaLeft" t="textAreaTop" r="textAreaRight" b="textAreaBottom"/>
                <a:pathLst>
                  <a:path w="4442137" h="4443359">
                    <a:moveTo>
                      <a:pt x="2225736" y="4443354"/>
                    </a:moveTo>
                    <a:lnTo>
                      <a:pt x="2225736" y="4443354"/>
                    </a:lnTo>
                    <a:arcTo wR="2221069" hR="2221680" stAng="5392778" swAng="10807225"/>
                    <a:lnTo>
                      <a:pt x="2221069" y="2221680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上箭头 8"/>
              <p:cNvSpPr/>
              <p:nvPr/>
            </p:nvSpPr>
            <p:spPr>
              <a:xfrm rot="17587200">
                <a:off x="1895400" y="503244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上箭头 9"/>
              <p:cNvSpPr/>
              <p:nvPr/>
            </p:nvSpPr>
            <p:spPr>
              <a:xfrm rot="19066800">
                <a:off x="2722320" y="38210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上箭头 10"/>
              <p:cNvSpPr/>
              <p:nvPr/>
            </p:nvSpPr>
            <p:spPr>
              <a:xfrm>
                <a:off x="4478400" y="3354120"/>
                <a:ext cx="376200" cy="1092240"/>
              </a:xfrm>
              <a:prstGeom prst="upArrow">
                <a:avLst>
                  <a:gd name="adj1" fmla="val 25259"/>
                  <a:gd name="adj2" fmla="val 99359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上箭头 11"/>
              <p:cNvSpPr/>
              <p:nvPr/>
            </p:nvSpPr>
            <p:spPr>
              <a:xfrm rot="2426400">
                <a:off x="6122880" y="37461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上箭头 12"/>
              <p:cNvSpPr/>
              <p:nvPr/>
            </p:nvSpPr>
            <p:spPr>
              <a:xfrm rot="4413000">
                <a:off x="6894720" y="4995720"/>
                <a:ext cx="374400" cy="1092240"/>
              </a:xfrm>
              <a:prstGeom prst="upArrow">
                <a:avLst>
                  <a:gd name="adj1" fmla="val 25259"/>
                  <a:gd name="adj2" fmla="val 9943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椭圆 13"/>
              <p:cNvSpPr/>
              <p:nvPr/>
            </p:nvSpPr>
            <p:spPr>
              <a:xfrm>
                <a:off x="488880" y="4583160"/>
                <a:ext cx="1027080" cy="10270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椭圆 14"/>
              <p:cNvSpPr/>
              <p:nvPr/>
            </p:nvSpPr>
            <p:spPr>
              <a:xfrm>
                <a:off x="1738080" y="2894040"/>
                <a:ext cx="1027080" cy="102528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椭圆 15"/>
              <p:cNvSpPr/>
              <p:nvPr/>
            </p:nvSpPr>
            <p:spPr>
              <a:xfrm>
                <a:off x="6566040" y="292104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椭圆 16"/>
              <p:cNvSpPr/>
              <p:nvPr/>
            </p:nvSpPr>
            <p:spPr>
              <a:xfrm>
                <a:off x="7647120" y="4621320"/>
                <a:ext cx="1027080" cy="102708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3865320" y="1739880"/>
                <a:ext cx="1559160" cy="1558800"/>
                <a:chOff x="3865320" y="1739880"/>
                <a:chExt cx="1559160" cy="1558800"/>
              </a:xfrm>
            </p:grpSpPr>
            <p:sp>
              <p:nvSpPr>
                <p:cNvPr id="545" name="椭圆 18"/>
                <p:cNvSpPr/>
                <p:nvPr/>
              </p:nvSpPr>
              <p:spPr>
                <a:xfrm>
                  <a:off x="3865320" y="173988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椭圆 17"/>
                <p:cNvSpPr/>
                <p:nvPr/>
              </p:nvSpPr>
              <p:spPr>
                <a:xfrm>
                  <a:off x="4003200" y="1849320"/>
                  <a:ext cx="1311480" cy="131112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7" name="TextBox 21"/>
            <p:cNvSpPr/>
            <p:nvPr/>
          </p:nvSpPr>
          <p:spPr>
            <a:xfrm>
              <a:off x="3169440" y="5080320"/>
              <a:ext cx="323172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2"/>
            <p:cNvSpPr/>
            <p:nvPr/>
          </p:nvSpPr>
          <p:spPr>
            <a:xfrm>
              <a:off x="1418760" y="44334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3"/>
            <p:cNvSpPr/>
            <p:nvPr/>
          </p:nvSpPr>
          <p:spPr>
            <a:xfrm>
              <a:off x="2891160" y="328284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4"/>
            <p:cNvSpPr/>
            <p:nvPr/>
          </p:nvSpPr>
          <p:spPr>
            <a:xfrm>
              <a:off x="4862880" y="3296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5"/>
            <p:cNvSpPr/>
            <p:nvPr/>
          </p:nvSpPr>
          <p:spPr>
            <a:xfrm>
              <a:off x="6353280" y="44308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0C2F-2DE1-4E7F-93DC-7006F1E6C9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1015920" y="2701800"/>
            <a:ext cx="2772000" cy="3616560"/>
            <a:chOff x="1015920" y="2701800"/>
            <a:chExt cx="2772000" cy="3616560"/>
          </a:xfrm>
        </p:grpSpPr>
        <p:sp>
          <p:nvSpPr>
            <p:cNvPr id="558" name="矩形 3"/>
            <p:cNvSpPr/>
            <p:nvPr/>
          </p:nvSpPr>
          <p:spPr>
            <a:xfrm>
              <a:off x="1015920" y="2974680"/>
              <a:ext cx="2772000" cy="334368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矩形 4"/>
            <p:cNvSpPr/>
            <p:nvPr/>
          </p:nvSpPr>
          <p:spPr>
            <a:xfrm>
              <a:off x="1055520" y="2701800"/>
              <a:ext cx="2692800" cy="25848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5"/>
            <p:cNvSpPr/>
            <p:nvPr/>
          </p:nvSpPr>
          <p:spPr>
            <a:xfrm>
              <a:off x="1098360" y="308412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8"/>
            <p:cNvSpPr/>
            <p:nvPr/>
          </p:nvSpPr>
          <p:spPr>
            <a:xfrm>
              <a:off x="1099800" y="419112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矩形 9"/>
            <p:cNvSpPr/>
            <p:nvPr/>
          </p:nvSpPr>
          <p:spPr>
            <a:xfrm>
              <a:off x="1126800" y="5283360"/>
              <a:ext cx="25754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587920" y="2690640"/>
            <a:ext cx="2772000" cy="3616560"/>
            <a:chOff x="5587920" y="2690640"/>
            <a:chExt cx="2772000" cy="3616560"/>
          </a:xfrm>
        </p:grpSpPr>
        <p:sp>
          <p:nvSpPr>
            <p:cNvPr id="564" name="矩形 12"/>
            <p:cNvSpPr/>
            <p:nvPr/>
          </p:nvSpPr>
          <p:spPr>
            <a:xfrm>
              <a:off x="5587920" y="2963520"/>
              <a:ext cx="2772000" cy="33436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13"/>
            <p:cNvSpPr/>
            <p:nvPr/>
          </p:nvSpPr>
          <p:spPr>
            <a:xfrm>
              <a:off x="5627520" y="2690640"/>
              <a:ext cx="2692800" cy="25848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矩形 14"/>
            <p:cNvSpPr/>
            <p:nvPr/>
          </p:nvSpPr>
          <p:spPr>
            <a:xfrm>
              <a:off x="5682960" y="307296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矩形 15"/>
            <p:cNvSpPr/>
            <p:nvPr/>
          </p:nvSpPr>
          <p:spPr>
            <a:xfrm>
              <a:off x="5671800" y="417996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16"/>
            <p:cNvSpPr/>
            <p:nvPr/>
          </p:nvSpPr>
          <p:spPr>
            <a:xfrm>
              <a:off x="5698800" y="5272200"/>
              <a:ext cx="25754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左右箭头 18"/>
          <p:cNvSpPr/>
          <p:nvPr/>
        </p:nvSpPr>
        <p:spPr>
          <a:xfrm>
            <a:off x="3876840" y="3821040"/>
            <a:ext cx="158256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30440" y="2238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508040" y="2232000"/>
            <a:ext cx="5753160" cy="815400"/>
            <a:chOff x="1508040" y="2232000"/>
            <a:chExt cx="5753160" cy="815400"/>
          </a:xfrm>
        </p:grpSpPr>
        <p:grpSp>
          <p:nvGrpSpPr>
            <p:cNvPr id="131" name=""/>
            <p:cNvGrpSpPr/>
            <p:nvPr/>
          </p:nvGrpSpPr>
          <p:grpSpPr>
            <a:xfrm>
              <a:off x="1508040" y="2232000"/>
              <a:ext cx="5753160" cy="815400"/>
              <a:chOff x="1508040" y="2232000"/>
              <a:chExt cx="5753160" cy="815400"/>
            </a:xfrm>
          </p:grpSpPr>
          <p:sp>
            <p:nvSpPr>
              <p:cNvPr id="132" name="圆角矩形 31"/>
              <p:cNvSpPr/>
              <p:nvPr/>
            </p:nvSpPr>
            <p:spPr>
              <a:xfrm>
                <a:off x="2511360" y="22320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fd4"/>
                  </a:gs>
                </a:gsLst>
                <a:lin ang="1080000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Box 8"/>
              <p:cNvSpPr/>
              <p:nvPr/>
            </p:nvSpPr>
            <p:spPr>
              <a:xfrm>
                <a:off x="1508040" y="22953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Box 9"/>
              <p:cNvSpPr/>
              <p:nvPr/>
            </p:nvSpPr>
            <p:spPr>
              <a:xfrm>
                <a:off x="3133440" y="274032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2694240" y="2304000"/>
              <a:ext cx="249840" cy="243720"/>
              <a:chOff x="2694240" y="2304000"/>
              <a:chExt cx="249840" cy="243720"/>
            </a:xfrm>
          </p:grpSpPr>
          <p:pic>
            <p:nvPicPr>
              <p:cNvPr id="136" name="椭圆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94240" y="230400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2746080" y="23522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1521000" y="3159000"/>
            <a:ext cx="5752800" cy="815400"/>
            <a:chOff x="1521000" y="3159000"/>
            <a:chExt cx="5752800" cy="815400"/>
          </a:xfrm>
        </p:grpSpPr>
        <p:grpSp>
          <p:nvGrpSpPr>
            <p:cNvPr id="139" name=""/>
            <p:cNvGrpSpPr/>
            <p:nvPr/>
          </p:nvGrpSpPr>
          <p:grpSpPr>
            <a:xfrm>
              <a:off x="1521000" y="3159000"/>
              <a:ext cx="5752800" cy="815400"/>
              <a:chOff x="1521000" y="3159000"/>
              <a:chExt cx="5752800" cy="815400"/>
            </a:xfrm>
          </p:grpSpPr>
          <p:sp>
            <p:nvSpPr>
              <p:cNvPr id="140" name="圆角矩形 37"/>
              <p:cNvSpPr/>
              <p:nvPr/>
            </p:nvSpPr>
            <p:spPr>
              <a:xfrm>
                <a:off x="2523960" y="31590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34b"/>
                  </a:gs>
                </a:gsLst>
                <a:lin ang="1080000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TextBox 14"/>
              <p:cNvSpPr/>
              <p:nvPr/>
            </p:nvSpPr>
            <p:spPr>
              <a:xfrm>
                <a:off x="1521000" y="32223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15"/>
              <p:cNvSpPr/>
              <p:nvPr/>
            </p:nvSpPr>
            <p:spPr>
              <a:xfrm>
                <a:off x="3146400" y="36673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706480" y="3230640"/>
              <a:ext cx="249840" cy="243720"/>
              <a:chOff x="2706480" y="3230640"/>
              <a:chExt cx="249840" cy="243720"/>
            </a:xfrm>
          </p:grpSpPr>
          <p:pic>
            <p:nvPicPr>
              <p:cNvPr id="144" name="椭圆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6480" y="323064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758680" y="32792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1521000" y="4098960"/>
            <a:ext cx="5752800" cy="822960"/>
            <a:chOff x="1521000" y="4098960"/>
            <a:chExt cx="5752800" cy="822960"/>
          </a:xfrm>
        </p:grpSpPr>
        <p:grpSp>
          <p:nvGrpSpPr>
            <p:cNvPr id="147" name=""/>
            <p:cNvGrpSpPr/>
            <p:nvPr/>
          </p:nvGrpSpPr>
          <p:grpSpPr>
            <a:xfrm>
              <a:off x="1521000" y="4098960"/>
              <a:ext cx="5752800" cy="822960"/>
              <a:chOff x="1521000" y="4098960"/>
              <a:chExt cx="5752800" cy="8229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2502720" y="4098960"/>
                <a:ext cx="4771080" cy="434160"/>
                <a:chOff x="2502720" y="4098960"/>
                <a:chExt cx="4771080" cy="434160"/>
              </a:xfrm>
            </p:grpSpPr>
            <p:pic>
              <p:nvPicPr>
                <p:cNvPr id="149" name="圆角矩形 4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502720" y="4098960"/>
                  <a:ext cx="4771080" cy="43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" name=""/>
                <p:cNvSpPr/>
                <p:nvPr/>
              </p:nvSpPr>
              <p:spPr>
                <a:xfrm>
                  <a:off x="2580480" y="4177080"/>
                  <a:ext cx="461700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Box 20"/>
              <p:cNvSpPr/>
              <p:nvPr/>
            </p:nvSpPr>
            <p:spPr>
              <a:xfrm>
                <a:off x="1521000" y="4181040"/>
                <a:ext cx="873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1"/>
              <p:cNvSpPr/>
              <p:nvPr/>
            </p:nvSpPr>
            <p:spPr>
              <a:xfrm>
                <a:off x="3141720" y="4614840"/>
                <a:ext cx="345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706480" y="4169520"/>
              <a:ext cx="249840" cy="243720"/>
              <a:chOff x="2706480" y="4169520"/>
              <a:chExt cx="249840" cy="243720"/>
            </a:xfrm>
          </p:grpSpPr>
          <p:pic>
            <p:nvPicPr>
              <p:cNvPr id="154" name="椭圆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2706480" y="4169520"/>
                <a:ext cx="24984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2758680" y="421920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1521000" y="5038560"/>
            <a:ext cx="5752800" cy="815400"/>
            <a:chOff x="1521000" y="5038560"/>
            <a:chExt cx="5752800" cy="815400"/>
          </a:xfrm>
        </p:grpSpPr>
        <p:grpSp>
          <p:nvGrpSpPr>
            <p:cNvPr id="157" name=""/>
            <p:cNvGrpSpPr/>
            <p:nvPr/>
          </p:nvGrpSpPr>
          <p:grpSpPr>
            <a:xfrm>
              <a:off x="1521000" y="5038560"/>
              <a:ext cx="5752800" cy="815400"/>
              <a:chOff x="1521000" y="5038560"/>
              <a:chExt cx="5752800" cy="815400"/>
            </a:xfrm>
          </p:grpSpPr>
          <p:sp>
            <p:nvSpPr>
              <p:cNvPr id="158" name="圆角矩形 49"/>
              <p:cNvSpPr/>
              <p:nvPr/>
            </p:nvSpPr>
            <p:spPr>
              <a:xfrm>
                <a:off x="2523960" y="503856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b093"/>
                  </a:gs>
                </a:gsLst>
                <a:lin ang="1080000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Box 26"/>
              <p:cNvSpPr/>
              <p:nvPr/>
            </p:nvSpPr>
            <p:spPr>
              <a:xfrm>
                <a:off x="1521000" y="510192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Box 27"/>
              <p:cNvSpPr/>
              <p:nvPr/>
            </p:nvSpPr>
            <p:spPr>
              <a:xfrm>
                <a:off x="3146400" y="554688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2706480" y="5108040"/>
              <a:ext cx="249840" cy="249840"/>
              <a:chOff x="2706480" y="5108040"/>
              <a:chExt cx="249840" cy="249840"/>
            </a:xfrm>
          </p:grpSpPr>
          <p:pic>
            <p:nvPicPr>
              <p:cNvPr id="162" name="椭圆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2706480" y="5108040"/>
                <a:ext cx="24984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2758680" y="515880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组合 5" descr=""/>
          <p:cNvPicPr/>
          <p:nvPr/>
        </p:nvPicPr>
        <p:blipFill>
          <a:blip r:embed="rId1"/>
          <a:stretch/>
        </p:blipFill>
        <p:spPr>
          <a:xfrm>
            <a:off x="530280" y="2955960"/>
            <a:ext cx="4937040" cy="2695680"/>
          </a:xfrm>
          <a:prstGeom prst="rect">
            <a:avLst/>
          </a:prstGeom>
          <a:ln w="0">
            <a:noFill/>
          </a:ln>
        </p:spPr>
      </p:pic>
      <p:pic>
        <p:nvPicPr>
          <p:cNvPr id="166" name="组合 6" descr=""/>
          <p:cNvPicPr/>
          <p:nvPr/>
        </p:nvPicPr>
        <p:blipFill>
          <a:blip r:embed="rId2"/>
          <a:stretch/>
        </p:blipFill>
        <p:spPr>
          <a:xfrm>
            <a:off x="3578400" y="2676600"/>
            <a:ext cx="4937040" cy="2693880"/>
          </a:xfrm>
          <a:prstGeom prst="rect">
            <a:avLst/>
          </a:prstGeom>
          <a:ln w="0">
            <a:noFill/>
          </a:ln>
        </p:spPr>
      </p:pic>
      <p:sp>
        <p:nvSpPr>
          <p:cNvPr id="167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715080" y="4429080"/>
            <a:ext cx="1785960" cy="1807560"/>
            <a:chOff x="6715080" y="4429080"/>
            <a:chExt cx="1785960" cy="1807560"/>
          </a:xfrm>
        </p:grpSpPr>
        <p:sp>
          <p:nvSpPr>
            <p:cNvPr id="177" name="上箭头 6"/>
            <p:cNvSpPr/>
            <p:nvPr/>
          </p:nvSpPr>
          <p:spPr>
            <a:xfrm>
              <a:off x="6715080" y="4429080"/>
              <a:ext cx="1785960" cy="128592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851880" y="5779080"/>
              <a:ext cx="1512000" cy="298440"/>
              <a:chOff x="6851880" y="5779080"/>
              <a:chExt cx="1512000" cy="298440"/>
            </a:xfrm>
          </p:grpSpPr>
          <p:pic>
            <p:nvPicPr>
              <p:cNvPr id="179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188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"/>
              <p:cNvSpPr/>
              <p:nvPr/>
            </p:nvSpPr>
            <p:spPr>
              <a:xfrm>
                <a:off x="685764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TextBox 14"/>
            <p:cNvSpPr/>
            <p:nvPr/>
          </p:nvSpPr>
          <p:spPr>
            <a:xfrm>
              <a:off x="7000560" y="507204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8"/>
            <p:cNvSpPr/>
            <p:nvPr/>
          </p:nvSpPr>
          <p:spPr>
            <a:xfrm>
              <a:off x="7429320" y="471492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9"/>
            <p:cNvSpPr/>
            <p:nvPr/>
          </p:nvSpPr>
          <p:spPr>
            <a:xfrm>
              <a:off x="700056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643280" y="3857760"/>
            <a:ext cx="1928880" cy="2378880"/>
            <a:chOff x="4643280" y="3857760"/>
            <a:chExt cx="1928880" cy="2378880"/>
          </a:xfrm>
        </p:grpSpPr>
        <p:sp>
          <p:nvSpPr>
            <p:cNvPr id="185" name="上箭头 5"/>
            <p:cNvSpPr/>
            <p:nvPr/>
          </p:nvSpPr>
          <p:spPr>
            <a:xfrm>
              <a:off x="4643280" y="385776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852080" y="5779080"/>
              <a:ext cx="1512000" cy="298440"/>
              <a:chOff x="4852080" y="5779080"/>
              <a:chExt cx="1512000" cy="298440"/>
            </a:xfrm>
          </p:grpSpPr>
          <p:pic>
            <p:nvPicPr>
              <p:cNvPr id="187" name="矩形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208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485712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TextBox 13"/>
            <p:cNvSpPr/>
            <p:nvPr/>
          </p:nvSpPr>
          <p:spPr>
            <a:xfrm>
              <a:off x="5071680" y="485784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5429160" y="421488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20"/>
            <p:cNvSpPr/>
            <p:nvPr/>
          </p:nvSpPr>
          <p:spPr>
            <a:xfrm>
              <a:off x="500040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643120" y="3214800"/>
            <a:ext cx="1928880" cy="3021840"/>
            <a:chOff x="2643120" y="3214800"/>
            <a:chExt cx="1928880" cy="3021840"/>
          </a:xfrm>
        </p:grpSpPr>
        <p:sp>
          <p:nvSpPr>
            <p:cNvPr id="193" name="上箭头 4"/>
            <p:cNvSpPr/>
            <p:nvPr/>
          </p:nvSpPr>
          <p:spPr>
            <a:xfrm>
              <a:off x="2643120" y="3214800"/>
              <a:ext cx="1928880" cy="2500560"/>
            </a:xfrm>
            <a:prstGeom prst="upArrow">
              <a:avLst>
                <a:gd name="adj1" fmla="val 76815"/>
                <a:gd name="adj2" fmla="val 50006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852640" y="5779080"/>
              <a:ext cx="1512000" cy="298440"/>
              <a:chOff x="2852640" y="5779080"/>
              <a:chExt cx="1512000" cy="298440"/>
            </a:xfrm>
          </p:grpSpPr>
          <p:pic>
            <p:nvPicPr>
              <p:cNvPr id="195" name="矩形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85264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285696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TextBox 12"/>
            <p:cNvSpPr/>
            <p:nvPr/>
          </p:nvSpPr>
          <p:spPr>
            <a:xfrm>
              <a:off x="3000240" y="435780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6"/>
            <p:cNvSpPr/>
            <p:nvPr/>
          </p:nvSpPr>
          <p:spPr>
            <a:xfrm>
              <a:off x="3429000" y="371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21"/>
            <p:cNvSpPr/>
            <p:nvPr/>
          </p:nvSpPr>
          <p:spPr>
            <a:xfrm>
              <a:off x="300024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14240" y="2000160"/>
            <a:ext cx="1928880" cy="4236480"/>
            <a:chOff x="714240" y="2000160"/>
            <a:chExt cx="1928880" cy="4236480"/>
          </a:xfrm>
        </p:grpSpPr>
        <p:sp>
          <p:nvSpPr>
            <p:cNvPr id="201" name="上箭头 3"/>
            <p:cNvSpPr/>
            <p:nvPr/>
          </p:nvSpPr>
          <p:spPr>
            <a:xfrm>
              <a:off x="714240" y="2000160"/>
              <a:ext cx="1928880" cy="3715200"/>
            </a:xfrm>
            <a:prstGeom prst="upArrow">
              <a:avLst>
                <a:gd name="adj1" fmla="val 76815"/>
                <a:gd name="adj2" fmla="val 50007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7"/>
            <p:cNvSpPr/>
            <p:nvPr/>
          </p:nvSpPr>
          <p:spPr>
            <a:xfrm>
              <a:off x="1071360" y="335736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920160" y="5779080"/>
              <a:ext cx="1512000" cy="298440"/>
              <a:chOff x="920160" y="5779080"/>
              <a:chExt cx="1512000" cy="298440"/>
            </a:xfrm>
          </p:grpSpPr>
          <p:pic>
            <p:nvPicPr>
              <p:cNvPr id="204" name="矩形 8" descr=""/>
              <p:cNvPicPr/>
              <p:nvPr/>
            </p:nvPicPr>
            <p:blipFill>
              <a:blip r:embed="rId4"/>
              <a:stretch/>
            </p:blipFill>
            <p:spPr>
              <a:xfrm>
                <a:off x="920160" y="5779080"/>
                <a:ext cx="1512000" cy="29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"/>
              <p:cNvSpPr/>
              <p:nvPr/>
            </p:nvSpPr>
            <p:spPr>
              <a:xfrm>
                <a:off x="928080" y="5786640"/>
                <a:ext cx="15004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TextBox 15"/>
            <p:cNvSpPr/>
            <p:nvPr/>
          </p:nvSpPr>
          <p:spPr>
            <a:xfrm>
              <a:off x="1500120" y="24285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22"/>
            <p:cNvSpPr/>
            <p:nvPr/>
          </p:nvSpPr>
          <p:spPr>
            <a:xfrm>
              <a:off x="1142640" y="592956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Box 24"/>
          <p:cNvSpPr/>
          <p:nvPr/>
        </p:nvSpPr>
        <p:spPr>
          <a:xfrm>
            <a:off x="5857920" y="2357280"/>
            <a:ext cx="242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作品系作者习作，仅供学习交流之用，请勿用于任何商业用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5"/>
          <p:cNvSpPr/>
          <p:nvPr/>
        </p:nvSpPr>
        <p:spPr>
          <a:xfrm>
            <a:off x="5786280" y="185724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传播声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212" name="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213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圆角矩形 4"/>
              <p:cNvSpPr/>
              <p:nvPr/>
            </p:nvSpPr>
            <p:spPr>
              <a:xfrm>
                <a:off x="911160" y="31399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矩形 5"/>
              <p:cNvSpPr/>
              <p:nvPr/>
            </p:nvSpPr>
            <p:spPr>
              <a:xfrm>
                <a:off x="903240" y="36543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9"/>
            <p:cNvSpPr/>
            <p:nvPr/>
          </p:nvSpPr>
          <p:spPr>
            <a:xfrm>
              <a:off x="963360" y="52275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220" name="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221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圆角矩形 17"/>
              <p:cNvSpPr/>
              <p:nvPr/>
            </p:nvSpPr>
            <p:spPr>
              <a:xfrm>
                <a:off x="2936880" y="31525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矩形 18"/>
              <p:cNvSpPr/>
              <p:nvPr/>
            </p:nvSpPr>
            <p:spPr>
              <a:xfrm>
                <a:off x="2928960" y="36669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Box 15"/>
            <p:cNvSpPr/>
            <p:nvPr/>
          </p:nvSpPr>
          <p:spPr>
            <a:xfrm>
              <a:off x="2989080" y="52401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228" name="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229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圆角矩形 25"/>
              <p:cNvSpPr/>
              <p:nvPr/>
            </p:nvSpPr>
            <p:spPr>
              <a:xfrm>
                <a:off x="4867200" y="31525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26"/>
              <p:cNvSpPr/>
              <p:nvPr/>
            </p:nvSpPr>
            <p:spPr>
              <a:xfrm>
                <a:off x="4859280" y="36669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23"/>
            <p:cNvSpPr/>
            <p:nvPr/>
          </p:nvSpPr>
          <p:spPr>
            <a:xfrm>
              <a:off x="4919400" y="52401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236" name="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237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圆角矩形 33"/>
              <p:cNvSpPr/>
              <p:nvPr/>
            </p:nvSpPr>
            <p:spPr>
              <a:xfrm>
                <a:off x="6851520" y="3139920"/>
                <a:ext cx="1622520" cy="92376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矩形 34"/>
              <p:cNvSpPr/>
              <p:nvPr/>
            </p:nvSpPr>
            <p:spPr>
              <a:xfrm>
                <a:off x="6843600" y="3654360"/>
                <a:ext cx="1638360" cy="191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31"/>
            <p:cNvSpPr/>
            <p:nvPr/>
          </p:nvSpPr>
          <p:spPr>
            <a:xfrm>
              <a:off x="6903720" y="5227560"/>
              <a:ext cx="150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53"/>
          <p:cNvSpPr/>
          <p:nvPr/>
        </p:nvSpPr>
        <p:spPr>
          <a:xfrm>
            <a:off x="2511360" y="1609560"/>
            <a:ext cx="4299120" cy="614520"/>
          </a:xfrm>
          <a:prstGeom prst="roundRect">
            <a:avLst>
              <a:gd name="adj" fmla="val 50000"/>
            </a:avLst>
          </a:prstGeom>
          <a:solidFill>
            <a:srgbClr val="ffffff">
              <a:alpha val="79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90680" y="2048040"/>
            <a:ext cx="8189640" cy="3717720"/>
            <a:chOff x="490680" y="2048040"/>
            <a:chExt cx="8189640" cy="3717720"/>
          </a:xfrm>
        </p:grpSpPr>
        <p:sp>
          <p:nvSpPr>
            <p:cNvPr id="252" name="椭圆 4"/>
            <p:cNvSpPr/>
            <p:nvPr/>
          </p:nvSpPr>
          <p:spPr>
            <a:xfrm>
              <a:off x="2712960" y="2048040"/>
              <a:ext cx="3717720" cy="371772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5"/>
            <p:cNvSpPr/>
            <p:nvPr/>
          </p:nvSpPr>
          <p:spPr>
            <a:xfrm>
              <a:off x="3906720" y="3243240"/>
              <a:ext cx="1330200" cy="133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490680" y="3313080"/>
              <a:ext cx="3429360" cy="1149840"/>
              <a:chOff x="490680" y="3313080"/>
              <a:chExt cx="3429360" cy="1149840"/>
            </a:xfrm>
          </p:grpSpPr>
          <p:sp>
            <p:nvSpPr>
              <p:cNvPr id="255" name="椭圆 6"/>
              <p:cNvSpPr/>
              <p:nvPr/>
            </p:nvSpPr>
            <p:spPr>
              <a:xfrm>
                <a:off x="2770560" y="3313080"/>
                <a:ext cx="114948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线形标注 2(带强调线) 9"/>
              <p:cNvSpPr/>
              <p:nvPr/>
            </p:nvSpPr>
            <p:spPr>
              <a:xfrm flipH="1">
                <a:off x="490680" y="3702240"/>
                <a:ext cx="1338480" cy="35568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 10"/>
              <p:cNvSpPr/>
              <p:nvPr/>
            </p:nvSpPr>
            <p:spPr>
              <a:xfrm flipV="1">
                <a:off x="2716560" y="3845880"/>
                <a:ext cx="45720" cy="4572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256760" y="4569120"/>
              <a:ext cx="3620880" cy="1166040"/>
              <a:chOff x="1256760" y="4569120"/>
              <a:chExt cx="3620880" cy="1166040"/>
            </a:xfrm>
          </p:grpSpPr>
          <p:sp>
            <p:nvSpPr>
              <p:cNvPr id="259" name="椭圆 13"/>
              <p:cNvSpPr/>
              <p:nvPr/>
            </p:nvSpPr>
            <p:spPr>
              <a:xfrm>
                <a:off x="3711240" y="4569120"/>
                <a:ext cx="1166400" cy="11660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线形标注 2(带强调线) 14"/>
              <p:cNvSpPr/>
              <p:nvPr/>
            </p:nvSpPr>
            <p:spPr>
              <a:xfrm flipH="1">
                <a:off x="1256400" y="5316480"/>
                <a:ext cx="1338120" cy="35532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椭圆 15"/>
              <p:cNvSpPr/>
              <p:nvPr/>
            </p:nvSpPr>
            <p:spPr>
              <a:xfrm>
                <a:off x="3681000" y="5311800"/>
                <a:ext cx="120600" cy="1220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978480" y="2119680"/>
              <a:ext cx="3593160" cy="1224360"/>
              <a:chOff x="978480" y="2119680"/>
              <a:chExt cx="3593160" cy="1224360"/>
            </a:xfrm>
          </p:grpSpPr>
          <p:sp>
            <p:nvSpPr>
              <p:cNvPr id="263" name="椭圆 17"/>
              <p:cNvSpPr/>
              <p:nvPr/>
            </p:nvSpPr>
            <p:spPr>
              <a:xfrm>
                <a:off x="3405240" y="2178360"/>
                <a:ext cx="116640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线形标注 2(带强调线) 18"/>
              <p:cNvSpPr/>
              <p:nvPr/>
            </p:nvSpPr>
            <p:spPr>
              <a:xfrm flipH="1">
                <a:off x="978480" y="2119680"/>
                <a:ext cx="1337760" cy="35532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椭圆 19"/>
              <p:cNvSpPr/>
              <p:nvPr/>
            </p:nvSpPr>
            <p:spPr>
              <a:xfrm flipV="1">
                <a:off x="3397320" y="2359800"/>
                <a:ext cx="150480" cy="16164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5194800" y="3710520"/>
              <a:ext cx="3485520" cy="1149840"/>
              <a:chOff x="5194800" y="3710520"/>
              <a:chExt cx="3485520" cy="1149840"/>
            </a:xfrm>
          </p:grpSpPr>
          <p:sp>
            <p:nvSpPr>
              <p:cNvPr id="267" name="椭圆 21"/>
              <p:cNvSpPr/>
              <p:nvPr/>
            </p:nvSpPr>
            <p:spPr>
              <a:xfrm flipH="1">
                <a:off x="5194440" y="3710520"/>
                <a:ext cx="116820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b3a2c7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线形标注 2(带强调线) 22"/>
              <p:cNvSpPr/>
              <p:nvPr/>
            </p:nvSpPr>
            <p:spPr>
              <a:xfrm>
                <a:off x="7320240" y="4100760"/>
                <a:ext cx="1360080" cy="353520"/>
              </a:xfrm>
              <a:noFill/>
              <a:ln w="2556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23"/>
              <p:cNvSpPr/>
              <p:nvPr/>
            </p:nvSpPr>
            <p:spPr>
              <a:xfrm flipH="1" flipV="1">
                <a:off x="6305400" y="4179960"/>
                <a:ext cx="112680" cy="109440"/>
              </a:xfrm>
              <a:prstGeom prst="ellipse">
                <a:avLst/>
              </a:prstGeom>
              <a:solidFill>
                <a:srgbClr val="b3a2c7"/>
              </a:solidFill>
              <a:ln w="57240">
                <a:solidFill>
                  <a:srgbClr val="b3a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814640" y="2334240"/>
              <a:ext cx="3485520" cy="1149840"/>
              <a:chOff x="4814640" y="2334240"/>
              <a:chExt cx="3485520" cy="1149840"/>
            </a:xfrm>
          </p:grpSpPr>
          <p:sp>
            <p:nvSpPr>
              <p:cNvPr id="271" name="椭圆 25"/>
              <p:cNvSpPr/>
              <p:nvPr/>
            </p:nvSpPr>
            <p:spPr>
              <a:xfrm flipH="1">
                <a:off x="4814280" y="2334240"/>
                <a:ext cx="1168200" cy="114984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线形标注 2(带强调线) 26"/>
              <p:cNvSpPr/>
              <p:nvPr/>
            </p:nvSpPr>
            <p:spPr>
              <a:xfrm>
                <a:off x="6940080" y="2724480"/>
                <a:ext cx="1360080" cy="35352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椭圆 27"/>
              <p:cNvSpPr/>
              <p:nvPr/>
            </p:nvSpPr>
            <p:spPr>
              <a:xfrm flipH="1" flipV="1">
                <a:off x="5925240" y="2803680"/>
                <a:ext cx="112680" cy="10944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276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280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28640" y="6121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290" name="组合 5" descr=""/>
            <p:cNvPicPr/>
            <p:nvPr/>
          </p:nvPicPr>
          <p:blipFill>
            <a:blip r:embed="rId1"/>
            <a:stretch/>
          </p:blipFill>
          <p:spPr>
            <a:xfrm>
              <a:off x="384120" y="3307680"/>
              <a:ext cx="1303560" cy="13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椭圆 4"/>
            <p:cNvSpPr/>
            <p:nvPr/>
          </p:nvSpPr>
          <p:spPr>
            <a:xfrm>
              <a:off x="1608480" y="3790080"/>
              <a:ext cx="255240" cy="25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5"/>
            <p:cNvSpPr/>
            <p:nvPr/>
          </p:nvSpPr>
          <p:spPr>
            <a:xfrm>
              <a:off x="1970280" y="3953160"/>
              <a:ext cx="1895400" cy="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直接连接符 6"/>
            <p:cNvSpPr/>
            <p:nvPr/>
          </p:nvSpPr>
          <p:spPr>
            <a:xfrm flipV="1">
              <a:off x="4113360" y="3354480"/>
              <a:ext cx="2097000" cy="1548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直接连接符 7"/>
            <p:cNvSpPr/>
            <p:nvPr/>
          </p:nvSpPr>
          <p:spPr>
            <a:xfrm flipV="1">
              <a:off x="6294600" y="2809800"/>
              <a:ext cx="1621080" cy="1548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直接连接符 8"/>
            <p:cNvSpPr/>
            <p:nvPr/>
          </p:nvSpPr>
          <p:spPr>
            <a:xfrm flipV="1">
              <a:off x="3894480" y="3422880"/>
              <a:ext cx="188640" cy="51912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 flipV="1">
              <a:off x="6172560" y="2822760"/>
              <a:ext cx="133200" cy="5745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等腰三角形 10"/>
            <p:cNvSpPr/>
            <p:nvPr/>
          </p:nvSpPr>
          <p:spPr>
            <a:xfrm rot="1814400">
              <a:off x="7985520" y="2449440"/>
              <a:ext cx="667800" cy="571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302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305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308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311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314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317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28440" y="285480"/>
            <a:ext cx="742932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336680" y="4367160"/>
            <a:ext cx="6638760" cy="1933560"/>
            <a:chOff x="1336680" y="4367160"/>
            <a:chExt cx="6638760" cy="1933560"/>
          </a:xfrm>
        </p:grpSpPr>
        <p:sp>
          <p:nvSpPr>
            <p:cNvPr id="321" name="圆角矩形 3"/>
            <p:cNvSpPr/>
            <p:nvPr/>
          </p:nvSpPr>
          <p:spPr>
            <a:xfrm>
              <a:off x="1336680" y="4964040"/>
              <a:ext cx="6638760" cy="133668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椭圆 4"/>
            <p:cNvSpPr/>
            <p:nvPr/>
          </p:nvSpPr>
          <p:spPr>
            <a:xfrm>
              <a:off x="1773000" y="5105160"/>
              <a:ext cx="1039680" cy="10396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椭圆 5"/>
            <p:cNvSpPr/>
            <p:nvPr/>
          </p:nvSpPr>
          <p:spPr>
            <a:xfrm>
              <a:off x="3317760" y="5087880"/>
              <a:ext cx="103968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6"/>
            <p:cNvSpPr/>
            <p:nvPr/>
          </p:nvSpPr>
          <p:spPr>
            <a:xfrm>
              <a:off x="4892760" y="5116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椭圆 7"/>
            <p:cNvSpPr/>
            <p:nvPr/>
          </p:nvSpPr>
          <p:spPr>
            <a:xfrm>
              <a:off x="6383160" y="5102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上箭头 8"/>
            <p:cNvSpPr/>
            <p:nvPr/>
          </p:nvSpPr>
          <p:spPr>
            <a:xfrm>
              <a:off x="3016080" y="4367160"/>
              <a:ext cx="3220920" cy="58716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333440" y="2298600"/>
            <a:ext cx="6640560" cy="2032200"/>
            <a:chOff x="1333440" y="2298600"/>
            <a:chExt cx="6640560" cy="2032200"/>
          </a:xfrm>
        </p:grpSpPr>
        <p:sp>
          <p:nvSpPr>
            <p:cNvPr id="328" name="圆角矩形 10"/>
            <p:cNvSpPr/>
            <p:nvPr/>
          </p:nvSpPr>
          <p:spPr>
            <a:xfrm>
              <a:off x="1333440" y="2566800"/>
              <a:ext cx="6640560" cy="1764000"/>
            </a:xfrm>
            <a:prstGeom prst="roundRect">
              <a:avLst>
                <a:gd name="adj" fmla="val 16667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圆角矩形 11"/>
            <p:cNvSpPr/>
            <p:nvPr/>
          </p:nvSpPr>
          <p:spPr>
            <a:xfrm>
              <a:off x="1771560" y="2814480"/>
              <a:ext cx="5740560" cy="366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圆角矩形 13"/>
            <p:cNvSpPr/>
            <p:nvPr/>
          </p:nvSpPr>
          <p:spPr>
            <a:xfrm>
              <a:off x="1741320" y="3290760"/>
              <a:ext cx="5740560" cy="3664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圆角矩形 14"/>
            <p:cNvSpPr/>
            <p:nvPr/>
          </p:nvSpPr>
          <p:spPr>
            <a:xfrm>
              <a:off x="1769760" y="3756240"/>
              <a:ext cx="5740560" cy="365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圆角矩形 15"/>
            <p:cNvSpPr/>
            <p:nvPr/>
          </p:nvSpPr>
          <p:spPr>
            <a:xfrm>
              <a:off x="2811240" y="2298600"/>
              <a:ext cx="3767040" cy="366480"/>
            </a:xfrm>
            <a:prstGeom prst="roundRect">
              <a:avLst>
                <a:gd name="adj" fmla="val 50000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般若黑洞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&amp;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6:07:16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8:2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