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97C-CA32-4087-8ADB-C76A23EC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105-1596-4333-9A8B-37D024A4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0D706-1038-47EA-8ED4-39DE456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1D535-0B13-458F-8072-CA404634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9656D-6F0B-45B5-BC40-0576E034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2E5AD-A2BA-44C8-8844-00508F7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D9DA-CA2D-42FB-ABD5-D866A1C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9A9B0-6C20-40EB-9A81-8CD50B9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957B0-C8EB-4193-918F-B93BC6CD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2A54-8FEB-4E38-B55A-FB736EED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7A9E3-22AE-4488-9068-C26AA88C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FE372-275A-4A1B-939A-E434A804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8E7-A6D9-4BB8-ADA6-42E711DA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31AEF-71A1-4EA3-918D-444C919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11833-B39F-4DCE-9F46-985E95F4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A25C3-BAD2-42C2-A4D1-ED7086D6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2109E-F622-4CDC-A5FB-F0B02243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BFE8F-4188-4588-BAB8-D5CE765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69A00-2E76-41BE-8F6A-39F81E9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339E-896E-465B-807D-6FB4409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537CD-ACEB-4D0A-8A40-BCB965E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4CFA-742F-4784-BE25-8925B77F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7965A-2CA1-4062-936A-361F288E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D6C-7FC2-423D-875D-864D5DD7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9036-6E7C-4133-8FC5-F0DCAC8E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8B79-3BE7-4658-9227-C28A493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C31B0-F44F-4C38-89D3-9F6DFB7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ED950-45EA-4A31-A065-E216AFCC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4F44A-C31F-49AD-9648-2517789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7935B-2AED-43D1-BC8B-3040733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161CA-DE97-4C59-B299-660C911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94BF0-B560-441C-9C58-748E1E86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C5077-4FBE-439A-A6D1-D90BFFBF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E260A-5E70-4947-9E69-4C019C9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A70-FB2C-43F8-8A06-B65820A1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F059D-9381-4982-8BE7-80B4CDA3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BF6C3-3934-436B-A433-1E02EEA6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9640D-6359-4FA4-92C5-F4953E93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3847-5929-4263-8166-8496A15B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DF4A-B03B-46DE-BCAC-6C82EC82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D413-8F4A-4994-88B7-9611AC1A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B540-87F4-46FB-814D-3029DD25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7964-E37D-4DB5-9E15-00C16FB8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A855-E7BD-47B8-BD71-0209A67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2A0-48AD-4720-8201-FD68949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7C3-D4C5-4645-A7E6-9387D0A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3D76-B798-415A-97A9-28C3D2A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5EE5-C6C2-4154-A176-21CC86B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951-A4D1-43A3-9EAB-1AA2A8DF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4EDC-308F-4F11-B6E6-8C901047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91BC1-63E2-47E5-ABF8-EFB9131E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105A-5C3E-432D-8227-CDE3F33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6903-7641-4446-BE23-1F91F4B1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008C-9F01-467F-8ED1-7CF2433A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A37D-A589-44A7-ADFF-6686235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D17-CD78-4EBD-9B92-20C4E74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EA34-6BF6-4CF0-B0D0-42386F98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B2B1-BCD2-4EE2-9A77-0E651EDA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5A48-DC91-4DA1-AF65-B711CD9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E178-E068-4641-AF97-3236AFAC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5686-EE94-492C-8A4C-D23BB5D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F99B-259C-4427-8170-8723E281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FBB2-EBF7-441C-881F-13AE0F49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A261-5671-4A80-8526-EF97DB25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EE7B1-88D7-43F2-A8DC-FA37EEE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9F622-AC4B-447B-85D1-CAA75CF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FF8-7A9F-46E7-90E6-4893F52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DB58-BB43-4001-9512-52AAE46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5CDE-0B1F-4A33-B548-E535EFA5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4059-A89B-4AC7-B0C1-8CDAF1A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8EBB-8AFD-406B-9132-EE3BA79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84F7-F34E-4DAB-AF68-EE9710F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F219-3337-4072-8605-E60270F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C608-7E81-42B5-A9D8-E76B5C5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E91E-C28E-48C0-A8C0-5AA187FD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7532-157F-4178-81D3-FEDE7653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078B-F96B-4561-9DC8-A8BBEB02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39F-C4C2-4F8A-8B3F-C507F5C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9409-493C-48EB-82A8-689B45C8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E6F08-6E4E-4B97-A7E0-C88000E2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C698-A6CF-410E-AE2B-9991A457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347A-FD41-44A4-8E4E-05ADA75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35E2-4D0E-45E2-8502-A54A344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5FFDB-9CC8-4F74-923A-D66E1BE4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2C8B-DFEF-4B88-8213-B5D696A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61DBF-6BF3-4FA0-8F04-F21E666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3600-085F-4AE0-AE9E-4E765E9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9CB63-1BE5-431F-B58A-E8D615EF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4DC-4A1D-4D23-931E-920FD4E3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C1EB-4AA6-4D88-BF6D-A443F104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6090-4AA7-4068-BDAC-9B036C7D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E7BA-37FB-4DB4-A605-BB96922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22280-3C9C-4D6A-89C5-B3817CE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F868-F7DB-4A2C-9D9B-C5DA6EC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159E-4C02-4E8E-924F-8537A3B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5FACC-5039-48F1-9E5B-1D7D8125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A2C5-A9D2-4C73-9FD6-659034D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8CE9-FBEE-471B-A913-9347A32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1234F-D610-415C-BD3D-F47FE95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9A2-8F9A-48AB-9C95-8FF1EE8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98290-C3C3-4153-BAF6-26692FB4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5680-5293-413E-B3EC-B9C5F7AC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49D73-4AC3-4FE7-8118-789971E0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D7CD5-7F4E-4250-8C40-21DA3886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30AA-B318-4808-9AB0-9028C96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5566-F22F-403A-9DB9-25D1CD7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74FC8-C76E-4AA1-8B24-1667FD0F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A5993-0F08-46A3-A667-AC27500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64B43-CC8A-4EA4-BDE2-5DD19A4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9421-D14A-4F03-BFCC-AF60BE7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72E-E0EA-446E-B6AA-0D65F47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8958-B08B-4AB8-8B23-EFEA19E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02D60-50A0-4E2D-A3E7-D0A9CF3F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1DFE9-9D15-4006-A5EA-131939C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63AB-2B3B-4847-AC95-6DEF6966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A23E-E591-40C9-9DF7-818CDF0D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EE35-A47E-4D0E-89E4-B83E72A2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E08BB-9C54-4F58-BC4E-6BF1CFCB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961B5-967A-4D8F-9ADD-447521DA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315A-72F7-4ED3-B0D1-06BFFE34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47F15-8A53-453B-8AEE-812E450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FE2-07B4-41C8-B80D-B9AB6BB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80C6-4870-4DCA-A543-054055A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2C6E5-8EDB-4778-8660-90662BEA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F2C71-20FD-4A48-BB82-934F768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1CCE0-92EE-485F-A875-EA8D78B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4A2B7-7BAC-45F7-887D-3FCB9358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B7D86-B4F6-4485-8B8A-15B277C0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3F11-A7A8-40D2-9B87-148D264E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D2044-5BA9-4753-8023-2846F4C4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5F9F5-360E-4D33-A6CD-96AD07EB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E87BF-7EA1-46A8-AC33-F2D361F4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DE8F-15D7-4318-ACC8-1CDAAD5E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484-0641-4E12-A066-05C329C9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24BF-5238-4660-9472-786B2A34E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79F4-7969-4330-AC60-642340C6C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F9E2-4B84-4BDC-A107-B9410412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2E0-174F-4824-988E-D03CFC7F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2B20-413A-4E58-97AD-388D9B9A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BE4A-49FB-4F8B-BE0D-A330AE18E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672-47DA-4A18-A290-B63C7CB3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1A12-9100-4694-A995-F68787E9D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3510-3911-4E92-915C-D1DD84FB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268,-1,NEX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6"/>
          <p:cNvSpPr/>
          <p:nvPr/>
        </p:nvSpPr>
        <p:spPr>
          <a:xfrm>
            <a:off x="-163440" y="563400"/>
            <a:ext cx="552240" cy="551160"/>
          </a:xfrm>
          <a:custGeom>
            <a:avLst/>
            <a:gdLst>
              <a:gd name="textAreaLeft" fmla="*/ 190080 w 552240"/>
              <a:gd name="textAreaRight" fmla="*/ 362160 w 552240"/>
              <a:gd name="textAreaTop" fmla="*/ 189720 h 551160"/>
              <a:gd name="textAreaBottom" fmla="*/ 361440 h 551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-287280" y="458640"/>
            <a:ext cx="792000" cy="763560"/>
          </a:xfrm>
          <a:custGeom>
            <a:avLst/>
            <a:gdLst>
              <a:gd name="textAreaLeft" fmla="*/ 365760 w 792000"/>
              <a:gd name="textAreaRight" fmla="*/ 426240 w 792000"/>
              <a:gd name="textAreaTop" fmla="*/ 352800 h 763560"/>
              <a:gd name="textAreaBottom" fmla="*/ 410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8"/>
          <p:cNvSpPr/>
          <p:nvPr/>
        </p:nvSpPr>
        <p:spPr>
          <a:xfrm rot="18909000">
            <a:off x="-380880" y="380520"/>
            <a:ext cx="981000" cy="944640"/>
          </a:xfrm>
          <a:custGeom>
            <a:avLst/>
            <a:gdLst>
              <a:gd name="textAreaLeft" fmla="*/ 453240 w 981000"/>
              <a:gd name="textAreaRight" fmla="*/ 527760 w 981000"/>
              <a:gd name="textAreaTop" fmla="*/ 436320 h 944640"/>
              <a:gd name="textAreaBottom" fmla="*/ 508320 h 94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9"/>
          <p:cNvSpPr/>
          <p:nvPr/>
        </p:nvSpPr>
        <p:spPr>
          <a:xfrm flipH="1">
            <a:off x="7481880" y="380880"/>
            <a:ext cx="758880" cy="731880"/>
          </a:xfrm>
          <a:custGeom>
            <a:avLst/>
            <a:gdLst>
              <a:gd name="textAreaLeft" fmla="*/ 349920 w 758880"/>
              <a:gd name="textAreaRight" fmla="*/ 408960 w 758880"/>
              <a:gd name="textAreaTop" fmla="*/ 337680 h 731880"/>
              <a:gd name="textAreaBottom" fmla="*/ 3942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"/>
          <p:cNvSpPr/>
          <p:nvPr/>
        </p:nvSpPr>
        <p:spPr>
          <a:xfrm flipV="1" rot="18909600">
            <a:off x="7543440" y="446760"/>
            <a:ext cx="625320" cy="603000"/>
          </a:xfrm>
          <a:custGeom>
            <a:avLst/>
            <a:gdLst>
              <a:gd name="textAreaLeft" fmla="*/ 288360 w 625320"/>
              <a:gd name="textAreaRight" fmla="*/ 336960 w 625320"/>
              <a:gd name="textAreaTop" fmla="*/ 278280 h 603000"/>
              <a:gd name="textAreaBottom" fmla="*/ 324720 h 60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205740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1d1b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7"/>
          <p:cNvSpPr/>
          <p:nvPr/>
        </p:nvSpPr>
        <p:spPr>
          <a:xfrm>
            <a:off x="1371600" y="1905120"/>
            <a:ext cx="6095880" cy="0"/>
          </a:xfrm>
          <a:prstGeom prst="line">
            <a:avLst/>
          </a:prstGeom>
          <a:ln w="28080">
            <a:solidFill>
              <a:srgbClr val="7c1d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8"/>
          <p:cNvSpPr/>
          <p:nvPr/>
        </p:nvSpPr>
        <p:spPr>
          <a:xfrm>
            <a:off x="1752480" y="1447920"/>
            <a:ext cx="0" cy="3886200"/>
          </a:xfrm>
          <a:prstGeom prst="line">
            <a:avLst/>
          </a:prstGeom>
          <a:ln w="28080">
            <a:solidFill>
              <a:srgbClr val="7c1d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81"/>
          <p:cNvGrpSpPr/>
          <p:nvPr/>
        </p:nvGrpSpPr>
        <p:grpSpPr>
          <a:xfrm>
            <a:off x="2133720" y="2558880"/>
            <a:ext cx="2666160" cy="3232080"/>
            <a:chOff x="2133720" y="2558880"/>
            <a:chExt cx="2666160" cy="3232080"/>
          </a:xfrm>
        </p:grpSpPr>
        <p:sp>
          <p:nvSpPr>
            <p:cNvPr id="460" name="Text Box 12"/>
            <p:cNvSpPr/>
            <p:nvPr/>
          </p:nvSpPr>
          <p:spPr>
            <a:xfrm>
              <a:off x="2133720" y="4921200"/>
              <a:ext cx="258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3"/>
            <p:cNvSpPr/>
            <p:nvPr/>
          </p:nvSpPr>
          <p:spPr>
            <a:xfrm>
              <a:off x="2133720" y="5394240"/>
              <a:ext cx="258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80"/>
            <p:cNvGrpSpPr/>
            <p:nvPr/>
          </p:nvGrpSpPr>
          <p:grpSpPr>
            <a:xfrm>
              <a:off x="2133720" y="2558880"/>
              <a:ext cx="2666160" cy="2379600"/>
              <a:chOff x="2133720" y="2558880"/>
              <a:chExt cx="2666160" cy="2379600"/>
            </a:xfrm>
          </p:grpSpPr>
          <p:sp>
            <p:nvSpPr>
              <p:cNvPr id="463" name="Text Box 11"/>
              <p:cNvSpPr/>
              <p:nvPr/>
            </p:nvSpPr>
            <p:spPr>
              <a:xfrm>
                <a:off x="2133720" y="2558880"/>
                <a:ext cx="2666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c1d1b"/>
                    </a:solidFill>
                    <a:latin typeface="Arial"/>
                  </a:rPr>
                  <a:t>二、验收节点分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74"/>
              <p:cNvSpPr/>
              <p:nvPr/>
            </p:nvSpPr>
            <p:spPr>
              <a:xfrm>
                <a:off x="2133720" y="3184200"/>
                <a:ext cx="199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消防验收流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75"/>
              <p:cNvSpPr/>
              <p:nvPr/>
            </p:nvSpPr>
            <p:spPr>
              <a:xfrm>
                <a:off x="2133720" y="3641400"/>
                <a:ext cx="183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竣工备案流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76"/>
              <p:cNvSpPr/>
              <p:nvPr/>
            </p:nvSpPr>
            <p:spPr>
              <a:xfrm>
                <a:off x="2133720" y="4113000"/>
                <a:ext cx="208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规划验收流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77"/>
              <p:cNvSpPr/>
              <p:nvPr/>
            </p:nvSpPr>
            <p:spPr>
              <a:xfrm>
                <a:off x="2441880" y="4570200"/>
                <a:ext cx="13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入住前准备工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79"/>
          <p:cNvGrpSpPr/>
          <p:nvPr/>
        </p:nvGrpSpPr>
        <p:grpSpPr>
          <a:xfrm>
            <a:off x="2089080" y="2209680"/>
            <a:ext cx="2330280" cy="614520"/>
            <a:chOff x="2089080" y="2209680"/>
            <a:chExt cx="2330280" cy="614520"/>
          </a:xfrm>
        </p:grpSpPr>
        <p:sp>
          <p:nvSpPr>
            <p:cNvPr id="469" name="Rectangle 68"/>
            <p:cNvSpPr/>
            <p:nvPr/>
          </p:nvSpPr>
          <p:spPr>
            <a:xfrm>
              <a:off x="2089080" y="2250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9"/>
            <p:cNvSpPr/>
            <p:nvPr/>
          </p:nvSpPr>
          <p:spPr>
            <a:xfrm>
              <a:off x="2089080" y="22953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0"/>
            <p:cNvSpPr/>
            <p:nvPr/>
          </p:nvSpPr>
          <p:spPr>
            <a:xfrm>
              <a:off x="2089080" y="2338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1"/>
            <p:cNvSpPr/>
            <p:nvPr/>
          </p:nvSpPr>
          <p:spPr>
            <a:xfrm>
              <a:off x="2089080" y="2373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72"/>
            <p:cNvSpPr/>
            <p:nvPr/>
          </p:nvSpPr>
          <p:spPr>
            <a:xfrm>
              <a:off x="2089080" y="2414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3"/>
            <p:cNvSpPr/>
            <p:nvPr/>
          </p:nvSpPr>
          <p:spPr>
            <a:xfrm>
              <a:off x="2089080" y="24573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8"/>
            <p:cNvSpPr/>
            <p:nvPr/>
          </p:nvSpPr>
          <p:spPr>
            <a:xfrm>
              <a:off x="2089080" y="2209680"/>
              <a:ext cx="23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c1d1b"/>
                  </a:solidFill>
                  <a:latin typeface="Arial"/>
                </a:rPr>
                <a:t>一、逻辑关系总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84"/>
          <p:cNvGrpSpPr/>
          <p:nvPr/>
        </p:nvGrpSpPr>
        <p:grpSpPr>
          <a:xfrm>
            <a:off x="6553080" y="38160"/>
            <a:ext cx="2590920" cy="1357200"/>
            <a:chOff x="6553080" y="38160"/>
            <a:chExt cx="2590920" cy="1357200"/>
          </a:xfrm>
        </p:grpSpPr>
        <p:pic>
          <p:nvPicPr>
            <p:cNvPr id="477" name="Picture 82" descr="底色"/>
            <p:cNvPicPr/>
            <p:nvPr/>
          </p:nvPicPr>
          <p:blipFill>
            <a:blip r:embed="rId2"/>
            <a:stretch/>
          </p:blipFill>
          <p:spPr>
            <a:xfrm>
              <a:off x="6553080" y="38160"/>
              <a:ext cx="25909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83"/>
            <p:cNvSpPr/>
            <p:nvPr/>
          </p:nvSpPr>
          <p:spPr>
            <a:xfrm>
              <a:off x="7448400" y="1028880"/>
              <a:ext cx="16765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85"/>
          <p:cNvGrpSpPr/>
          <p:nvPr/>
        </p:nvGrpSpPr>
        <p:grpSpPr>
          <a:xfrm>
            <a:off x="1600200" y="6229440"/>
            <a:ext cx="1371600" cy="301320"/>
            <a:chOff x="1600200" y="6229440"/>
            <a:chExt cx="1371600" cy="301320"/>
          </a:xfrm>
        </p:grpSpPr>
        <p:sp>
          <p:nvSpPr>
            <p:cNvPr id="480" name="AutoShape 86"/>
            <p:cNvSpPr/>
            <p:nvPr/>
          </p:nvSpPr>
          <p:spPr>
            <a:xfrm>
              <a:off x="160020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87"/>
            <p:cNvSpPr/>
            <p:nvPr/>
          </p:nvSpPr>
          <p:spPr>
            <a:xfrm>
              <a:off x="1600200" y="6229440"/>
              <a:ext cx="1371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 u="sng">
                  <a:solidFill>
                    <a:srgbClr val="990000"/>
                  </a:solidFill>
                  <a:uFillTx/>
                  <a:latin typeface="Arial"/>
                  <a:ea typeface="黑体"/>
                  <a:hlinkClick r:id="rId3"/>
                </a:rPr>
                <a:t>逻辑</a:t>
              </a: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关系总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88"/>
          <p:cNvGrpSpPr/>
          <p:nvPr/>
        </p:nvGrpSpPr>
        <p:grpSpPr>
          <a:xfrm>
            <a:off x="3124080" y="6229440"/>
            <a:ext cx="1371600" cy="276480"/>
            <a:chOff x="3124080" y="6229440"/>
            <a:chExt cx="1371600" cy="276480"/>
          </a:xfrm>
        </p:grpSpPr>
        <p:sp>
          <p:nvSpPr>
            <p:cNvPr id="483" name="AutoShape 89"/>
            <p:cNvSpPr/>
            <p:nvPr/>
          </p:nvSpPr>
          <p:spPr>
            <a:xfrm>
              <a:off x="312408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90"/>
            <p:cNvSpPr/>
            <p:nvPr/>
          </p:nvSpPr>
          <p:spPr>
            <a:xfrm>
              <a:off x="312408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消防验收流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91"/>
          <p:cNvGrpSpPr/>
          <p:nvPr/>
        </p:nvGrpSpPr>
        <p:grpSpPr>
          <a:xfrm>
            <a:off x="76320" y="6229440"/>
            <a:ext cx="1371600" cy="276480"/>
            <a:chOff x="76320" y="6229440"/>
            <a:chExt cx="1371600" cy="276480"/>
          </a:xfrm>
        </p:grpSpPr>
        <p:sp>
          <p:nvSpPr>
            <p:cNvPr id="486" name="AutoShape 92"/>
            <p:cNvSpPr/>
            <p:nvPr/>
          </p:nvSpPr>
          <p:spPr>
            <a:xfrm>
              <a:off x="7632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93"/>
            <p:cNvSpPr/>
            <p:nvPr/>
          </p:nvSpPr>
          <p:spPr>
            <a:xfrm>
              <a:off x="7632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返回目录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94"/>
          <p:cNvGrpSpPr/>
          <p:nvPr/>
        </p:nvGrpSpPr>
        <p:grpSpPr>
          <a:xfrm>
            <a:off x="4648320" y="6229440"/>
            <a:ext cx="1371600" cy="276480"/>
            <a:chOff x="4648320" y="6229440"/>
            <a:chExt cx="1371600" cy="276480"/>
          </a:xfrm>
        </p:grpSpPr>
        <p:sp>
          <p:nvSpPr>
            <p:cNvPr id="489" name="AutoShape 95"/>
            <p:cNvSpPr/>
            <p:nvPr/>
          </p:nvSpPr>
          <p:spPr>
            <a:xfrm>
              <a:off x="464832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96"/>
            <p:cNvSpPr/>
            <p:nvPr/>
          </p:nvSpPr>
          <p:spPr>
            <a:xfrm>
              <a:off x="464832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竣工备案流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97"/>
          <p:cNvGrpSpPr/>
          <p:nvPr/>
        </p:nvGrpSpPr>
        <p:grpSpPr>
          <a:xfrm>
            <a:off x="6172200" y="6229440"/>
            <a:ext cx="1371600" cy="276480"/>
            <a:chOff x="6172200" y="6229440"/>
            <a:chExt cx="1371600" cy="276480"/>
          </a:xfrm>
        </p:grpSpPr>
        <p:sp>
          <p:nvSpPr>
            <p:cNvPr id="492" name="AutoShape 98"/>
            <p:cNvSpPr/>
            <p:nvPr/>
          </p:nvSpPr>
          <p:spPr>
            <a:xfrm>
              <a:off x="617220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99"/>
            <p:cNvSpPr/>
            <p:nvPr/>
          </p:nvSpPr>
          <p:spPr>
            <a:xfrm>
              <a:off x="617220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规划验收流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00"/>
          <p:cNvGrpSpPr/>
          <p:nvPr/>
        </p:nvGrpSpPr>
        <p:grpSpPr>
          <a:xfrm>
            <a:off x="7696080" y="6229440"/>
            <a:ext cx="1371600" cy="276480"/>
            <a:chOff x="7696080" y="6229440"/>
            <a:chExt cx="1371600" cy="276480"/>
          </a:xfrm>
        </p:grpSpPr>
        <p:sp>
          <p:nvSpPr>
            <p:cNvPr id="495" name="AutoShape 101"/>
            <p:cNvSpPr/>
            <p:nvPr/>
          </p:nvSpPr>
          <p:spPr>
            <a:xfrm>
              <a:off x="769608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02"/>
            <p:cNvSpPr/>
            <p:nvPr/>
          </p:nvSpPr>
          <p:spPr>
            <a:xfrm>
              <a:off x="769608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入住前准备工作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104" descr="20081410265340_2"/>
          <p:cNvPicPr/>
          <p:nvPr/>
        </p:nvPicPr>
        <p:blipFill>
          <a:blip r:embed="rId4"/>
          <a:srcRect l="50003" t="0" r="0" b="543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5" descr="20081410265340_2"/>
          <p:cNvPicPr/>
          <p:nvPr/>
        </p:nvPicPr>
        <p:blipFill>
          <a:blip r:embed="rId5"/>
          <a:srcRect l="0" t="0" r="50003" b="543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WordArt 103" descr=""/>
          <p:cNvPicPr/>
          <p:nvPr/>
        </p:nvPicPr>
        <p:blipFill>
          <a:blip r:embed="rId6"/>
          <a:stretch/>
        </p:blipFill>
        <p:spPr>
          <a:xfrm>
            <a:off x="1584360" y="3035160"/>
            <a:ext cx="6273720" cy="10130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98360" y="333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传统风格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0.00209 L 0.84566 -0.00902 E">
                                      <p:cBhvr>
                                        <p:cTn id="57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17 0.00185 L 0.8467 -0.00949 E">
                                      <p:cBhvr>
                                        <p:cTn id="59" dur="3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539 -0.00903 L -3.88889E-006 2.22222E-006 E">
                                      <p:cBhvr>
                                        <p:cTn id="61" dur="3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879">
                                      <p:cBhvr>
                                        <p:cTn id="63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5" dur="5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879">
                                      <p:cBhvr>
                                        <p:cTn id="67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9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799880">
                                      <p:cBhvr>
                                        <p:cTn id="9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3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-19080" y="2819520"/>
            <a:ext cx="9199440" cy="1190520"/>
            <a:chOff x="-19080" y="2819520"/>
            <a:chExt cx="9199440" cy="1190520"/>
          </a:xfrm>
        </p:grpSpPr>
        <p:sp>
          <p:nvSpPr>
            <p:cNvPr id="503" name="Rectangle 3"/>
            <p:cNvSpPr/>
            <p:nvPr/>
          </p:nvSpPr>
          <p:spPr>
            <a:xfrm>
              <a:off x="0" y="2905200"/>
              <a:ext cx="9144000" cy="102888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4"/>
            <p:cNvSpPr/>
            <p:nvPr/>
          </p:nvSpPr>
          <p:spPr>
            <a:xfrm>
              <a:off x="0" y="2819520"/>
              <a:ext cx="91803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"/>
            <p:cNvSpPr/>
            <p:nvPr/>
          </p:nvSpPr>
          <p:spPr>
            <a:xfrm>
              <a:off x="-19080" y="4010040"/>
              <a:ext cx="91803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0" y="76320"/>
            <a:ext cx="6372360" cy="380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>
            <a:off x="-7920" y="533520"/>
            <a:ext cx="918036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0" y="6824520"/>
            <a:ext cx="91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65160" y="604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一、逻辑关系总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2692440" y="3171960"/>
            <a:ext cx="424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一、逻辑关系总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087 -0.46875 E">
                                      <p:cBhvr>
                                        <p:cTn id="112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68208E-006 L -0.00139 -0.46868 E">
                                      <p:cBhvr>
                                        <p:cTn id="114" dur="1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5202360" y="2541600"/>
            <a:ext cx="4332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0" y="76320"/>
            <a:ext cx="6372360" cy="380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8"/>
          <p:cNvSpPr/>
          <p:nvPr/>
        </p:nvSpPr>
        <p:spPr>
          <a:xfrm>
            <a:off x="-7920" y="533520"/>
            <a:ext cx="918036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9"/>
          <p:cNvSpPr/>
          <p:nvPr/>
        </p:nvSpPr>
        <p:spPr>
          <a:xfrm>
            <a:off x="0" y="6824520"/>
            <a:ext cx="91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5160" y="604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一、逻辑关系总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95574-9399-4F0B-A781-AADFD323D92A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cq结构竖线"/>
          <p:cNvPicPr/>
          <p:nvPr/>
        </p:nvPicPr>
        <p:blipFill>
          <a:blip r:embed="rId2"/>
          <a:srcRect l="0" t="40001" r="79169" b="21110"/>
          <a:stretch/>
        </p:blipFill>
        <p:spPr>
          <a:xfrm>
            <a:off x="0" y="274320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cq楼层横线"/>
          <p:cNvPicPr/>
          <p:nvPr/>
        </p:nvPicPr>
        <p:blipFill>
          <a:blip r:embed="rId3"/>
          <a:srcRect l="0" t="36669" r="78338" b="21110"/>
          <a:stretch/>
        </p:blipFill>
        <p:spPr>
          <a:xfrm>
            <a:off x="0" y="2514600"/>
            <a:ext cx="1981080" cy="2895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cq结构横线"/>
          <p:cNvPicPr/>
          <p:nvPr/>
        </p:nvPicPr>
        <p:blipFill>
          <a:blip r:embed="rId4"/>
          <a:srcRect l="0" t="41113" r="75005" b="22223"/>
          <a:stretch/>
        </p:blipFill>
        <p:spPr>
          <a:xfrm>
            <a:off x="0" y="281952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SH结构竖线"/>
          <p:cNvPicPr/>
          <p:nvPr/>
        </p:nvPicPr>
        <p:blipFill>
          <a:blip r:embed="rId5"/>
          <a:srcRect l="30835" t="45558" r="30001" b="21110"/>
          <a:stretch/>
        </p:blipFill>
        <p:spPr>
          <a:xfrm>
            <a:off x="2819520" y="31240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SH结构横线"/>
          <p:cNvPicPr/>
          <p:nvPr/>
        </p:nvPicPr>
        <p:blipFill>
          <a:blip r:embed="rId6"/>
          <a:srcRect l="30835" t="47783" r="30835" b="20003"/>
          <a:stretch/>
        </p:blipFill>
        <p:spPr>
          <a:xfrm>
            <a:off x="2819520" y="3276720"/>
            <a:ext cx="3504960" cy="2209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SH楼层横线"/>
          <p:cNvPicPr/>
          <p:nvPr/>
        </p:nvPicPr>
        <p:blipFill>
          <a:blip r:embed="rId7"/>
          <a:srcRect l="30835" t="47783" r="31666" b="21110"/>
          <a:stretch/>
        </p:blipFill>
        <p:spPr>
          <a:xfrm>
            <a:off x="2819520" y="32767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SH楼层竖线"/>
          <p:cNvPicPr/>
          <p:nvPr/>
        </p:nvPicPr>
        <p:blipFill>
          <a:blip r:embed="rId8"/>
          <a:srcRect l="30839" t="46680" r="32489" b="21096"/>
          <a:stretch/>
        </p:blipFill>
        <p:spPr>
          <a:xfrm>
            <a:off x="2819520" y="32004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bj结构竖线"/>
          <p:cNvPicPr/>
          <p:nvPr/>
        </p:nvPicPr>
        <p:blipFill>
          <a:blip r:embed="rId9"/>
          <a:srcRect l="70003" t="53335" r="0" b="21110"/>
          <a:stretch/>
        </p:blipFill>
        <p:spPr>
          <a:xfrm>
            <a:off x="6400800" y="36576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bj结构横线"/>
          <p:cNvPicPr/>
          <p:nvPr/>
        </p:nvPicPr>
        <p:blipFill>
          <a:blip r:embed="rId10"/>
          <a:srcRect l="70003" t="53335" r="0" b="21110"/>
          <a:stretch/>
        </p:blipFill>
        <p:spPr>
          <a:xfrm>
            <a:off x="6400800" y="36576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BJ楼层横线"/>
          <p:cNvPicPr/>
          <p:nvPr/>
        </p:nvPicPr>
        <p:blipFill>
          <a:blip r:embed="rId11"/>
          <a:srcRect l="69168" t="52222" r="0" b="21115"/>
          <a:stretch/>
        </p:blipFill>
        <p:spPr>
          <a:xfrm>
            <a:off x="6324480" y="358128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5" descr="底色"/>
          <p:cNvPicPr/>
          <p:nvPr/>
        </p:nvPicPr>
        <p:blipFill>
          <a:blip r:embed="rId1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31" name="WordArt 29"/>
          <p:cNvSpPr txBox="1"/>
          <p:nvPr/>
        </p:nvSpPr>
        <p:spPr>
          <a:xfrm>
            <a:off x="2209680" y="2362320"/>
            <a:ext cx="5026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Eras Demi ITC"/>
              </a:rPr>
              <a:t>The end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Eras Demi ITC"/>
              <a:ea typeface="Eras Demi ITC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5:37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