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B33F-0DC0-4918-8B3D-2CC4AC880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7F0B-7181-4A31-933E-2C225F3B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2BFE-5BDA-4585-B882-BED440E3A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272F-5A36-4E69-883F-CE23A4F44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2BDC-867E-4F0B-A935-64B8A8952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F58A-9DBB-4992-ABDF-65980E7DF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C6B1-CB5B-4C51-8AD8-5C6CF305C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8FD2-09BD-4CCA-8D95-EBC87A223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D166-3BA5-4EA1-8864-7782F3D58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D1FA-C8B3-4C19-A1B3-683FF1715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9DF5-E41A-4C95-BF61-2C058879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8995-7CE5-4D47-B871-AAECD6AE5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318960"/>
            <a:ext cx="7072200" cy="6539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3817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654A965-F565-452C-B703-3C0532FC91A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2" descr=""/>
          <p:cNvPicPr/>
          <p:nvPr/>
        </p:nvPicPr>
        <p:blipFill>
          <a:blip r:embed="rId2"/>
          <a:srcRect l="9568" t="0" r="0" b="0"/>
          <a:stretch/>
        </p:blipFill>
        <p:spPr>
          <a:xfrm>
            <a:off x="0" y="0"/>
            <a:ext cx="8267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6969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200" y="1312920"/>
            <a:ext cx="6864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衬衣打领带个人简历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598788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520" y="6440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6633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EA17810-9EF9-4230-8C4E-4FF77E663CE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9640" y="2387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21Z</dcterms:modified>
  <cp:revision>1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