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2777-1BFC-4BB6-9B76-5F1BFE872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89B5-84B8-485E-BC72-42D4F362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CE1B-B7A0-46BB-8F18-918C9DEC9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C97A-1D2A-4D9E-B1E7-44545AED4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B132-3A8E-40DD-9234-96B78323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D412-990A-4619-A141-2E94DBA2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16E3-9FBC-40EA-B0CF-005123B6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0491-2577-4933-9792-B726693A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98D4-318F-40A2-A326-4BED0914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9BEA-9DC6-4214-8D58-AF4BE925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0C8E-BA55-45FD-8F45-379BEF61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2DB3-59E1-46EE-9696-8F96747B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4A8B-BE2F-44FA-B8A9-CE8226F7F337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B881-070B-41FF-BA75-2657EFC221B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286080" y="4214880"/>
            <a:ext cx="52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500280" y="472752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圣诞节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5"/>
          <p:cNvSpPr/>
          <p:nvPr/>
        </p:nvSpPr>
        <p:spPr>
          <a:xfrm flipV="1">
            <a:off x="3429000" y="4718160"/>
            <a:ext cx="2500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82200" y="765000"/>
            <a:ext cx="658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超赞配色圣诞节节日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642960" y="4287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5583960" y="2786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3583800" y="2857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440720" y="2786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-37080" y="42876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1797840" y="3571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3369600" y="2286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4726800" y="3500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3297960" y="4929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-3708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5083920" y="4643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1512000" y="4786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8"/>
          <p:cNvSpPr/>
          <p:nvPr/>
        </p:nvSpPr>
        <p:spPr>
          <a:xfrm>
            <a:off x="3297960" y="2500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3512160" y="4000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24840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797760" y="3143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3155040" y="3143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5726880" y="3214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-10872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4369680" y="2428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2297880" y="2357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2226600" y="4143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4298040" y="4357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3945-219E-485D-A1BB-F1E309EAAD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8"/>
          <p:cNvSpPr/>
          <p:nvPr/>
        </p:nvSpPr>
        <p:spPr>
          <a:xfrm>
            <a:off x="-18000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1869120" y="3286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5"/>
          <p:cNvSpPr/>
          <p:nvPr/>
        </p:nvSpPr>
        <p:spPr>
          <a:xfrm>
            <a:off x="3512160" y="2214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2440800" y="4786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4512600" y="4786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4869720" y="3286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：www.eeppt.com</dc:creator>
  <dc:description>幻灯片之家：www.eeppt.com</dc:description>
  <cp:keywords>幻灯片之家：www.eeppt.com</cp:keywords>
  <dc:language>en-US</dc:language>
  <cp:lastModifiedBy>a</cp:lastModifiedBy>
  <dcterms:modified xsi:type="dcterms:W3CDTF">2015-08-12T14:36:23Z</dcterms:modified>
  <cp:revision>18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