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4DC1-1FE7-4815-BCE6-2665E018B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09320" y="198108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0932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F5C4-1358-4B96-B66A-B91C81F3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0932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0628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0932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60628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ADDA-8E06-44FC-8C0A-58CE4C135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5104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9240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0932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5104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9240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3CB1-D9CA-4CC2-8723-E16865E74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D9D5-E80E-43C3-ABE3-99E690A83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0932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A14E-25F8-4937-BA01-EB1DE03E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0932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D780-1C50-4E8F-B406-F54DE9B7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0932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60628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161B-4C9B-4CFA-8A92-D8835C1A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A30D-A9A2-4CA2-B6A9-76384F7E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905120" y="-3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E7D6-33D9-4412-AF58-5736BAA0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0932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0628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0932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9F10-9649-47B0-96B5-F61E1167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0932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7B3F-1018-4A38-853B-ECE4333A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628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0628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A83B-BA1E-41B9-82F7-954C4438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0932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0628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0932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EDFA-9AFA-4119-A584-98A13DD4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09320" y="198108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0932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C45A-6E01-47E8-83D8-770ECD47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0628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0932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0628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AF24-00FE-4648-A9AB-CA37B6320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0932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5104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9240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0932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45104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9240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4897-3D16-43B1-B6ED-AC0AA27AB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0932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F977-94B4-4CE0-BF6A-ACD651C4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0932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60628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0937-0C10-4F1F-B570-A07C57EA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6242-1E1C-473E-A7F4-3AA96896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05120" y="-3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0637-6B51-485D-93BF-58F83873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0628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0932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5888-C3D6-47C7-91A5-2A4FF4FA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0932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0628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0628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3682-E0A3-4BCD-8D86-FC2F428E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0932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0628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0932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0BE3-F5BA-46EA-8743-68D5094D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0932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30F6-4EBD-4AA8-9A51-AFD91AE68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4AFC-1B74-4561-BC46-AB892F1A9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灯泡背景求职简历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95280" y="4076640"/>
            <a:ext cx="279396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所学专业：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毕业学校：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求职目标：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905200" y="692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基本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21240" y="1844640"/>
            <a:ext cx="3545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姓名：                      身高：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籍贯：                       现居住地：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历：                        毕业时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毕业学校：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学专业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联系方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905200" y="692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自我评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905200" y="692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教育背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905200" y="692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工作经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905200" y="692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专业技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905200" y="692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补充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C481-3C3D-43DD-A32C-F585AC00CED0}" type="slidenum">
              <a:t>8</a:t>
            </a:fld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025520" y="2997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致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幻灯片之家：www.eeppt.com</dc:creator>
  <dc:description>幻灯片之家：www.eeppt.com</dc:description>
  <cp:keywords>幻灯片之家：www.eeppt.com</cp:keywords>
  <dc:language>en-US</dc:language>
  <cp:lastModifiedBy>USER</cp:lastModifiedBy>
  <dcterms:modified xsi:type="dcterms:W3CDTF">2015-08-12T14:35:50Z</dcterms:modified>
  <cp:revision>4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