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30.jpeg" ContentType="image/jpeg"/>
  <Override PartName="/ppt/media/image15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FB8-7CF0-491C-AF59-A68A5696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6D37-115A-454A-A0D3-F2662D51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24A-4952-4C19-B02A-D2BDB725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C2E-D3B9-403A-B57C-01C4A166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E56-26E0-4A82-A16A-461FA369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E8B-0791-45DB-8DAE-ACB8FE22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414-7E02-4EDD-9163-9EAF000D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5ED-0FAD-4045-A735-0D9E518B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1726-5CEA-4309-8FFD-5C51A1E6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8AA-0C12-455B-B0A1-0F31A9C6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E346-F91F-4AC6-AF04-43FD0F3D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E976-B5AA-44FB-869C-0BD86CF7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22477" r="0" b="1229"/>
          <a:stretch/>
        </p:blipFill>
        <p:spPr>
          <a:xfrm>
            <a:off x="-20520" y="-11160"/>
            <a:ext cx="12233160" cy="688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6" descr=""/>
          <p:cNvPicPr/>
          <p:nvPr/>
        </p:nvPicPr>
        <p:blipFill>
          <a:blip r:embed="rId2"/>
          <a:srcRect l="0" t="22477" r="0" b="1229"/>
          <a:stretch/>
        </p:blipFill>
        <p:spPr>
          <a:xfrm>
            <a:off x="-20520" y="-11160"/>
            <a:ext cx="12233160" cy="68817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8AA6-0E5D-48A6-991F-6E382C874624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6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03"/>
          <p:cNvSpPr/>
          <p:nvPr/>
        </p:nvSpPr>
        <p:spPr>
          <a:xfrm>
            <a:off x="511200" y="2203560"/>
            <a:ext cx="6724800" cy="1003320"/>
          </a:xfrm>
          <a:custGeom>
            <a:avLst/>
            <a:gdLst/>
            <a:ahLst/>
            <a:rect l="l" t="t" r="r" b="b"/>
            <a:pathLst>
              <a:path w="6489596" h="1002277">
                <a:moveTo>
                  <a:pt x="0" y="0"/>
                </a:moveTo>
                <a:lnTo>
                  <a:pt x="6489596" y="9728"/>
                </a:lnTo>
                <a:lnTo>
                  <a:pt x="5288451" y="1000977"/>
                </a:lnTo>
                <a:lnTo>
                  <a:pt x="0" y="100227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48235"/>
              </a:gs>
              <a:gs pos="100000">
                <a:srgbClr val="1f4e7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任意多边形 55"/>
          <p:cNvSpPr/>
          <p:nvPr/>
        </p:nvSpPr>
        <p:spPr>
          <a:xfrm>
            <a:off x="4859280" y="6558120"/>
            <a:ext cx="193680" cy="152280"/>
          </a:xfrm>
          <a:custGeom>
            <a:avLst/>
            <a:gdLst/>
            <a:ahLst/>
            <a:rect l="l" t="t" r="r" b="b"/>
            <a:pathLst>
              <a:path w="236668" h="279699">
                <a:moveTo>
                  <a:pt x="0" y="0"/>
                </a:moveTo>
                <a:lnTo>
                  <a:pt x="0" y="247426"/>
                </a:lnTo>
                <a:lnTo>
                  <a:pt x="236668" y="279699"/>
                </a:lnTo>
                <a:lnTo>
                  <a:pt x="0" y="0"/>
                </a:lnTo>
                <a:close/>
              </a:path>
            </a:pathLst>
          </a:custGeom>
          <a:solidFill>
            <a:srgbClr val="acc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任意多边形 56"/>
          <p:cNvSpPr/>
          <p:nvPr/>
        </p:nvSpPr>
        <p:spPr>
          <a:xfrm>
            <a:off x="5529240" y="6727680"/>
            <a:ext cx="326880" cy="142920"/>
          </a:xfrm>
          <a:custGeom>
            <a:avLst/>
            <a:gdLst/>
            <a:ahLst/>
            <a:rect l="l" t="t" r="r" b="b"/>
            <a:pathLst>
              <a:path w="236668" h="279699">
                <a:moveTo>
                  <a:pt x="0" y="0"/>
                </a:moveTo>
                <a:lnTo>
                  <a:pt x="0" y="247426"/>
                </a:lnTo>
                <a:lnTo>
                  <a:pt x="236668" y="279699"/>
                </a:lnTo>
                <a:lnTo>
                  <a:pt x="0" y="0"/>
                </a:lnTo>
                <a:close/>
              </a:path>
            </a:pathLst>
          </a:custGeom>
          <a:solidFill>
            <a:srgbClr val="acc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任意多边形 57"/>
          <p:cNvSpPr/>
          <p:nvPr/>
        </p:nvSpPr>
        <p:spPr>
          <a:xfrm>
            <a:off x="5227560" y="6513480"/>
            <a:ext cx="301680" cy="106560"/>
          </a:xfrm>
          <a:custGeom>
            <a:avLst/>
            <a:gdLst/>
            <a:ahLst/>
            <a:rect l="l" t="t" r="r" b="b"/>
            <a:pathLst>
              <a:path w="301214" h="236668">
                <a:moveTo>
                  <a:pt x="64546" y="0"/>
                </a:moveTo>
                <a:lnTo>
                  <a:pt x="301214" y="204395"/>
                </a:lnTo>
                <a:lnTo>
                  <a:pt x="10758" y="236668"/>
                </a:lnTo>
                <a:lnTo>
                  <a:pt x="0" y="172123"/>
                </a:lnTo>
                <a:lnTo>
                  <a:pt x="64546" y="0"/>
                </a:lnTo>
                <a:close/>
              </a:path>
            </a:pathLst>
          </a:custGeom>
          <a:solidFill>
            <a:srgbClr val="acc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58"/>
          <p:cNvSpPr/>
          <p:nvPr/>
        </p:nvSpPr>
        <p:spPr>
          <a:xfrm>
            <a:off x="4637160" y="6207120"/>
            <a:ext cx="222120" cy="150840"/>
          </a:xfrm>
          <a:custGeom>
            <a:avLst/>
            <a:gdLst/>
            <a:ahLst/>
            <a:rect l="l" t="t" r="r" b="b"/>
            <a:pathLst>
              <a:path w="182880" h="236668">
                <a:moveTo>
                  <a:pt x="129091" y="0"/>
                </a:moveTo>
                <a:lnTo>
                  <a:pt x="0" y="139849"/>
                </a:lnTo>
                <a:lnTo>
                  <a:pt x="107576" y="236668"/>
                </a:lnTo>
                <a:lnTo>
                  <a:pt x="182880" y="172122"/>
                </a:lnTo>
                <a:lnTo>
                  <a:pt x="129091" y="0"/>
                </a:lnTo>
                <a:close/>
              </a:path>
            </a:pathLst>
          </a:custGeom>
          <a:solidFill>
            <a:srgbClr val="acc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59"/>
          <p:cNvSpPr/>
          <p:nvPr/>
        </p:nvSpPr>
        <p:spPr>
          <a:xfrm>
            <a:off x="4597560" y="6788160"/>
            <a:ext cx="263520" cy="76320"/>
          </a:xfrm>
          <a:custGeom>
            <a:avLst/>
            <a:gdLst/>
            <a:ahLst/>
            <a:rect l="l" t="t" r="r" b="b"/>
            <a:pathLst>
              <a:path w="301214" h="236668">
                <a:moveTo>
                  <a:pt x="64546" y="0"/>
                </a:moveTo>
                <a:lnTo>
                  <a:pt x="301214" y="204395"/>
                </a:lnTo>
                <a:lnTo>
                  <a:pt x="10758" y="236668"/>
                </a:lnTo>
                <a:lnTo>
                  <a:pt x="0" y="172123"/>
                </a:lnTo>
                <a:lnTo>
                  <a:pt x="64546" y="0"/>
                </a:lnTo>
                <a:close/>
              </a:path>
            </a:pathLst>
          </a:custGeom>
          <a:solidFill>
            <a:srgbClr val="acc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920" y="4835520"/>
            <a:ext cx="12184200" cy="2073240"/>
            <a:chOff x="7920" y="4835520"/>
            <a:chExt cx="12184200" cy="2073240"/>
          </a:xfrm>
        </p:grpSpPr>
        <p:sp>
          <p:nvSpPr>
            <p:cNvPr id="86" name="直接连接符 65"/>
            <p:cNvSpPr/>
            <p:nvPr/>
          </p:nvSpPr>
          <p:spPr>
            <a:xfrm>
              <a:off x="10508040" y="4835520"/>
              <a:ext cx="1684080" cy="197640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直接连接符 67"/>
            <p:cNvSpPr/>
            <p:nvPr/>
          </p:nvSpPr>
          <p:spPr>
            <a:xfrm>
              <a:off x="10063440" y="4867200"/>
              <a:ext cx="1171440" cy="1973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直接连接符 69"/>
            <p:cNvSpPr/>
            <p:nvPr/>
          </p:nvSpPr>
          <p:spPr>
            <a:xfrm>
              <a:off x="9517320" y="4959360"/>
              <a:ext cx="753840" cy="18939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直接连接符 71"/>
            <p:cNvSpPr/>
            <p:nvPr/>
          </p:nvSpPr>
          <p:spPr>
            <a:xfrm>
              <a:off x="6821640" y="4905360"/>
              <a:ext cx="68040" cy="1914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接连接符 73"/>
            <p:cNvSpPr/>
            <p:nvPr/>
          </p:nvSpPr>
          <p:spPr>
            <a:xfrm>
              <a:off x="8866440" y="5000400"/>
              <a:ext cx="53964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接连接符 75"/>
            <p:cNvSpPr/>
            <p:nvPr/>
          </p:nvSpPr>
          <p:spPr>
            <a:xfrm>
              <a:off x="8288640" y="4949640"/>
              <a:ext cx="311040" cy="1862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接连接符 77"/>
            <p:cNvSpPr/>
            <p:nvPr/>
          </p:nvSpPr>
          <p:spPr>
            <a:xfrm>
              <a:off x="7574040" y="4984560"/>
              <a:ext cx="180720" cy="1835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接连接符 80"/>
            <p:cNvSpPr/>
            <p:nvPr/>
          </p:nvSpPr>
          <p:spPr>
            <a:xfrm flipH="1">
              <a:off x="7920" y="4879800"/>
              <a:ext cx="1684080" cy="197820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直接连接符 81"/>
            <p:cNvSpPr/>
            <p:nvPr/>
          </p:nvSpPr>
          <p:spPr>
            <a:xfrm flipH="1">
              <a:off x="1005840" y="4873320"/>
              <a:ext cx="1368360" cy="1946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接连接符 82"/>
            <p:cNvSpPr/>
            <p:nvPr/>
          </p:nvSpPr>
          <p:spPr>
            <a:xfrm flipH="1">
              <a:off x="1908000" y="4949640"/>
              <a:ext cx="96336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直接连接符 83"/>
            <p:cNvSpPr/>
            <p:nvPr/>
          </p:nvSpPr>
          <p:spPr>
            <a:xfrm flipH="1">
              <a:off x="5310360" y="5121000"/>
              <a:ext cx="64800" cy="17431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直接连接符 84"/>
            <p:cNvSpPr/>
            <p:nvPr/>
          </p:nvSpPr>
          <p:spPr>
            <a:xfrm flipH="1">
              <a:off x="2793960" y="5029200"/>
              <a:ext cx="622080" cy="182880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直接连接符 85"/>
            <p:cNvSpPr/>
            <p:nvPr/>
          </p:nvSpPr>
          <p:spPr>
            <a:xfrm flipH="1">
              <a:off x="3657240" y="4975200"/>
              <a:ext cx="301320" cy="18734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直接连接符 86"/>
            <p:cNvSpPr/>
            <p:nvPr/>
          </p:nvSpPr>
          <p:spPr>
            <a:xfrm flipH="1">
              <a:off x="4444560" y="5121000"/>
              <a:ext cx="166680" cy="17431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直接连接符 88"/>
            <p:cNvSpPr/>
            <p:nvPr/>
          </p:nvSpPr>
          <p:spPr>
            <a:xfrm>
              <a:off x="601560" y="6192720"/>
              <a:ext cx="1107612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接连接符 91"/>
            <p:cNvSpPr/>
            <p:nvPr/>
          </p:nvSpPr>
          <p:spPr>
            <a:xfrm flipH="1">
              <a:off x="1123920" y="5532480"/>
              <a:ext cx="1003176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8332920" y="4950000"/>
            <a:ext cx="1646280" cy="517320"/>
            <a:chOff x="8332920" y="4950000"/>
            <a:chExt cx="1646280" cy="517320"/>
          </a:xfrm>
        </p:grpSpPr>
        <p:pic>
          <p:nvPicPr>
            <p:cNvPr id="103" name="椭圆 28" descr=""/>
            <p:cNvPicPr/>
            <p:nvPr/>
          </p:nvPicPr>
          <p:blipFill>
            <a:blip r:embed="rId1"/>
            <a:stretch/>
          </p:blipFill>
          <p:spPr>
            <a:xfrm>
              <a:off x="8332920" y="4950000"/>
              <a:ext cx="164628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575920" y="5024160"/>
              <a:ext cx="11620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任意多边形 11"/>
          <p:cNvSpPr/>
          <p:nvPr/>
        </p:nvSpPr>
        <p:spPr>
          <a:xfrm>
            <a:off x="4632480" y="885960"/>
            <a:ext cx="7527600" cy="5668920"/>
          </a:xfrm>
          <a:custGeom>
            <a:avLst/>
            <a:gdLst/>
            <a:ahLst/>
            <a:rect l="l" t="t" r="r" b="b"/>
            <a:pathLst>
              <a:path w="6731907" h="5669281">
                <a:moveTo>
                  <a:pt x="5747169" y="0"/>
                </a:moveTo>
                <a:lnTo>
                  <a:pt x="0" y="5114020"/>
                </a:lnTo>
                <a:lnTo>
                  <a:pt x="317040" y="5036233"/>
                </a:lnTo>
                <a:lnTo>
                  <a:pt x="77889" y="5205046"/>
                </a:lnTo>
                <a:lnTo>
                  <a:pt x="556191" y="5162843"/>
                </a:lnTo>
                <a:lnTo>
                  <a:pt x="457717" y="5359790"/>
                </a:lnTo>
                <a:lnTo>
                  <a:pt x="791252" y="5350150"/>
                </a:lnTo>
                <a:lnTo>
                  <a:pt x="837190" y="5607004"/>
                </a:lnTo>
                <a:lnTo>
                  <a:pt x="1030127" y="5493988"/>
                </a:lnTo>
                <a:lnTo>
                  <a:pt x="1175170" y="5669281"/>
                </a:lnTo>
                <a:lnTo>
                  <a:pt x="6731907" y="829993"/>
                </a:lnTo>
                <a:lnTo>
                  <a:pt x="5747169" y="0"/>
                </a:lnTo>
                <a:close/>
              </a:path>
            </a:pathLst>
          </a:custGeom>
          <a:gradFill rotWithShape="0">
            <a:gsLst>
              <a:gs pos="0">
                <a:srgbClr val="82ae2d"/>
              </a:gs>
              <a:gs pos="100000">
                <a:srgbClr val="bed31c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729720" y="1468440"/>
            <a:ext cx="2443320" cy="493560"/>
            <a:chOff x="9729720" y="1468440"/>
            <a:chExt cx="2443320" cy="493560"/>
          </a:xfrm>
        </p:grpSpPr>
        <p:pic>
          <p:nvPicPr>
            <p:cNvPr id="107" name="矩形 13" descr=""/>
            <p:cNvPicPr/>
            <p:nvPr/>
          </p:nvPicPr>
          <p:blipFill>
            <a:blip r:embed="rId2"/>
            <a:stretch/>
          </p:blipFill>
          <p:spPr>
            <a:xfrm>
              <a:off x="9729720" y="1469520"/>
              <a:ext cx="244044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9729720" y="1468440"/>
              <a:ext cx="244332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7250040" y="2262240"/>
            <a:ext cx="3691080" cy="2954160"/>
            <a:chOff x="7250040" y="2262240"/>
            <a:chExt cx="3691080" cy="2954160"/>
          </a:xfrm>
        </p:grpSpPr>
        <p:sp>
          <p:nvSpPr>
            <p:cNvPr id="110" name="圆角矩形 27"/>
            <p:cNvSpPr/>
            <p:nvPr/>
          </p:nvSpPr>
          <p:spPr>
            <a:xfrm>
              <a:off x="7250040" y="2284200"/>
              <a:ext cx="3686400" cy="2581200"/>
            </a:xfrm>
            <a:prstGeom prst="roundRect">
              <a:avLst>
                <a:gd name="adj" fmla="val 4824"/>
              </a:avLst>
            </a:prstGeom>
            <a:solidFill>
              <a:srgbClr val="c5c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7254720" y="2262240"/>
              <a:ext cx="3686400" cy="2954160"/>
              <a:chOff x="7254720" y="2262240"/>
              <a:chExt cx="3686400" cy="295416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8771040" y="4752000"/>
                <a:ext cx="770760" cy="464400"/>
                <a:chOff x="8771040" y="4752000"/>
                <a:chExt cx="770760" cy="464400"/>
              </a:xfrm>
            </p:grpSpPr>
            <p:sp>
              <p:nvSpPr>
                <p:cNvPr id="113" name="椭圆 24"/>
                <p:cNvSpPr/>
                <p:nvPr/>
              </p:nvSpPr>
              <p:spPr>
                <a:xfrm>
                  <a:off x="8771040" y="5124600"/>
                  <a:ext cx="770760" cy="9180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" name="任意多边形 23"/>
                <p:cNvSpPr/>
                <p:nvPr/>
              </p:nvSpPr>
              <p:spPr>
                <a:xfrm>
                  <a:off x="8771040" y="4752000"/>
                  <a:ext cx="770760" cy="447120"/>
                </a:xfrm>
                <a:custGeom>
                  <a:avLst/>
                  <a:gdLst/>
                  <a:ahLst/>
                  <a:rect l="l" t="t" r="r" b="b"/>
                  <a:pathLst>
                    <a:path w="922004" h="445477">
                      <a:moveTo>
                        <a:pt x="446825" y="0"/>
                      </a:moveTo>
                      <a:lnTo>
                        <a:pt x="449206" y="9525"/>
                      </a:lnTo>
                      <a:lnTo>
                        <a:pt x="450397" y="9533"/>
                      </a:lnTo>
                      <a:lnTo>
                        <a:pt x="451587" y="9525"/>
                      </a:lnTo>
                      <a:lnTo>
                        <a:pt x="453968" y="0"/>
                      </a:lnTo>
                      <a:cubicBezTo>
                        <a:pt x="453968" y="0"/>
                        <a:pt x="453960" y="1450"/>
                        <a:pt x="453947" y="4187"/>
                      </a:cubicBezTo>
                      <a:cubicBezTo>
                        <a:pt x="453938" y="5977"/>
                        <a:pt x="453929" y="7766"/>
                        <a:pt x="453920" y="9556"/>
                      </a:cubicBezTo>
                      <a:lnTo>
                        <a:pt x="786794" y="11723"/>
                      </a:lnTo>
                      <a:cubicBezTo>
                        <a:pt x="777025" y="93785"/>
                        <a:pt x="764383" y="178305"/>
                        <a:pt x="786794" y="246185"/>
                      </a:cubicBezTo>
                      <a:cubicBezTo>
                        <a:pt x="809205" y="314065"/>
                        <a:pt x="932678" y="416744"/>
                        <a:pt x="921261" y="419002"/>
                      </a:cubicBezTo>
                      <a:cubicBezTo>
                        <a:pt x="911271" y="420978"/>
                        <a:pt x="902495" y="441199"/>
                        <a:pt x="597096" y="443772"/>
                      </a:cubicBezTo>
                      <a:lnTo>
                        <a:pt x="453967" y="445396"/>
                      </a:lnTo>
                      <a:cubicBezTo>
                        <a:pt x="453967" y="445423"/>
                        <a:pt x="453968" y="445450"/>
                        <a:pt x="453968" y="445477"/>
                      </a:cubicBezTo>
                      <a:lnTo>
                        <a:pt x="450397" y="445437"/>
                      </a:lnTo>
                      <a:lnTo>
                        <a:pt x="446825" y="445477"/>
                      </a:lnTo>
                      <a:cubicBezTo>
                        <a:pt x="446825" y="445450"/>
                        <a:pt x="446826" y="445423"/>
                        <a:pt x="446826" y="445396"/>
                      </a:cubicBezTo>
                      <a:lnTo>
                        <a:pt x="303697" y="443772"/>
                      </a:lnTo>
                      <a:cubicBezTo>
                        <a:pt x="-1702" y="441199"/>
                        <a:pt x="10849" y="420978"/>
                        <a:pt x="859" y="419002"/>
                      </a:cubicBezTo>
                      <a:cubicBezTo>
                        <a:pt x="-10558" y="416744"/>
                        <a:pt x="95142" y="314065"/>
                        <a:pt x="113999" y="246185"/>
                      </a:cubicBezTo>
                      <a:cubicBezTo>
                        <a:pt x="132856" y="178305"/>
                        <a:pt x="123768" y="93785"/>
                        <a:pt x="113999" y="11723"/>
                      </a:cubicBezTo>
                      <a:lnTo>
                        <a:pt x="446873" y="9556"/>
                      </a:lnTo>
                      <a:cubicBezTo>
                        <a:pt x="446864" y="7766"/>
                        <a:pt x="446855" y="5977"/>
                        <a:pt x="446846" y="4187"/>
                      </a:cubicBezTo>
                      <a:cubicBezTo>
                        <a:pt x="446833" y="1450"/>
                        <a:pt x="446825" y="0"/>
                        <a:pt x="446825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a2a3a7"/>
                    </a:gs>
                    <a:gs pos="100000">
                      <a:srgbClr val="d0d1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5" name="圆角矩形 15"/>
              <p:cNvSpPr/>
              <p:nvPr/>
            </p:nvSpPr>
            <p:spPr>
              <a:xfrm>
                <a:off x="7254720" y="2262240"/>
                <a:ext cx="3686400" cy="2581200"/>
              </a:xfrm>
              <a:prstGeom prst="roundRect">
                <a:avLst>
                  <a:gd name="adj" fmla="val 4824"/>
                </a:avLst>
              </a:prstGeom>
              <a:solidFill>
                <a:srgbClr val="d2d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任意多边形 18"/>
              <p:cNvSpPr/>
              <p:nvPr/>
            </p:nvSpPr>
            <p:spPr>
              <a:xfrm>
                <a:off x="7254720" y="2268360"/>
                <a:ext cx="3686400" cy="2293920"/>
              </a:xfrm>
              <a:custGeom>
                <a:avLst/>
                <a:gdLst/>
                <a:ahLst/>
                <a:rect l="l" t="t" r="r" b="b"/>
                <a:pathLst>
                  <a:path w="3686437" h="2294566">
                    <a:moveTo>
                      <a:pt x="117784" y="0"/>
                    </a:moveTo>
                    <a:lnTo>
                      <a:pt x="3568653" y="0"/>
                    </a:lnTo>
                    <a:cubicBezTo>
                      <a:pt x="3633703" y="0"/>
                      <a:pt x="3686437" y="52734"/>
                      <a:pt x="3686437" y="117784"/>
                    </a:cubicBezTo>
                    <a:lnTo>
                      <a:pt x="3686437" y="2294566"/>
                    </a:lnTo>
                    <a:lnTo>
                      <a:pt x="0" y="2294566"/>
                    </a:lnTo>
                    <a:lnTo>
                      <a:pt x="0" y="117784"/>
                    </a:lnTo>
                    <a:cubicBezTo>
                      <a:pt x="0" y="52734"/>
                      <a:pt x="52734" y="0"/>
                      <a:pt x="11778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7394040" y="2426040"/>
                <a:ext cx="3402000" cy="2036160"/>
                <a:chOff x="7394040" y="2426040"/>
                <a:chExt cx="3402000" cy="2036160"/>
              </a:xfrm>
            </p:grpSpPr>
            <p:pic>
              <p:nvPicPr>
                <p:cNvPr id="118" name="矩形 3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394040" y="2426040"/>
                  <a:ext cx="3402000" cy="20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7397280" y="2432520"/>
                  <a:ext cx="3390120" cy="20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pic>
        <p:nvPicPr>
          <p:cNvPr id="120" name="图片 34" descr=""/>
          <p:cNvPicPr/>
          <p:nvPr/>
        </p:nvPicPr>
        <p:blipFill>
          <a:blip r:embed="rId4"/>
          <a:srcRect l="0" t="0" r="0" b="19208"/>
          <a:stretch/>
        </p:blipFill>
        <p:spPr>
          <a:xfrm>
            <a:off x="8263080" y="2335320"/>
            <a:ext cx="1819080" cy="18446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10250640" y="874440"/>
            <a:ext cx="1074600" cy="2219760"/>
            <a:chOff x="10250640" y="874440"/>
            <a:chExt cx="1074600" cy="2219760"/>
          </a:xfrm>
        </p:grpSpPr>
        <p:sp>
          <p:nvSpPr>
            <p:cNvPr id="122" name="任意多边形 37"/>
            <p:cNvSpPr/>
            <p:nvPr/>
          </p:nvSpPr>
          <p:spPr>
            <a:xfrm>
              <a:off x="10250640" y="2021040"/>
              <a:ext cx="1074600" cy="1073160"/>
            </a:xfrm>
            <a:custGeom>
              <a:avLst/>
              <a:gdLst/>
              <a:ahLst/>
              <a:rect l="l" t="t" r="r" b="b"/>
              <a:pathLst>
                <a:path w="1073530" h="1073530">
                  <a:moveTo>
                    <a:pt x="536764" y="75104"/>
                  </a:moveTo>
                  <a:cubicBezTo>
                    <a:pt x="488862" y="75104"/>
                    <a:pt x="450029" y="113937"/>
                    <a:pt x="450029" y="161839"/>
                  </a:cubicBezTo>
                  <a:cubicBezTo>
                    <a:pt x="450029" y="209741"/>
                    <a:pt x="488862" y="248574"/>
                    <a:pt x="536764" y="248574"/>
                  </a:cubicBezTo>
                  <a:cubicBezTo>
                    <a:pt x="584666" y="248574"/>
                    <a:pt x="623499" y="209741"/>
                    <a:pt x="623499" y="161839"/>
                  </a:cubicBezTo>
                  <a:cubicBezTo>
                    <a:pt x="623499" y="113937"/>
                    <a:pt x="584666" y="75104"/>
                    <a:pt x="536764" y="75104"/>
                  </a:cubicBezTo>
                  <a:close/>
                  <a:moveTo>
                    <a:pt x="536765" y="0"/>
                  </a:moveTo>
                  <a:cubicBezTo>
                    <a:pt x="833212" y="0"/>
                    <a:pt x="1073530" y="240318"/>
                    <a:pt x="1073530" y="536765"/>
                  </a:cubicBezTo>
                  <a:cubicBezTo>
                    <a:pt x="1073530" y="833212"/>
                    <a:pt x="833212" y="1073530"/>
                    <a:pt x="536765" y="1073530"/>
                  </a:cubicBezTo>
                  <a:cubicBezTo>
                    <a:pt x="240318" y="1073530"/>
                    <a:pt x="0" y="833212"/>
                    <a:pt x="0" y="536765"/>
                  </a:cubicBezTo>
                  <a:cubicBezTo>
                    <a:pt x="0" y="240318"/>
                    <a:pt x="240318" y="0"/>
                    <a:pt x="536765" y="0"/>
                  </a:cubicBezTo>
                  <a:close/>
                </a:path>
              </a:pathLst>
            </a:custGeom>
            <a:solidFill>
              <a:srgbClr val="262626"/>
            </a:solidFill>
            <a:ln w="28440">
              <a:solidFill>
                <a:srgbClr val="bfcd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10747440" y="874440"/>
              <a:ext cx="78480" cy="1216080"/>
              <a:chOff x="10747440" y="874440"/>
              <a:chExt cx="78480" cy="1216080"/>
            </a:xfrm>
          </p:grpSpPr>
          <p:sp>
            <p:nvSpPr>
              <p:cNvPr id="124" name="直接连接符 39"/>
              <p:cNvSpPr/>
              <p:nvPr/>
            </p:nvSpPr>
            <p:spPr>
              <a:xfrm flipV="1">
                <a:off x="10785240" y="874440"/>
                <a:ext cx="0" cy="1082520"/>
              </a:xfrm>
              <a:prstGeom prst="line">
                <a:avLst/>
              </a:prstGeom>
              <a:ln w="6480">
                <a:solidFill>
                  <a:srgbClr val="bfcd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直接连接符 41"/>
              <p:cNvSpPr/>
              <p:nvPr/>
            </p:nvSpPr>
            <p:spPr>
              <a:xfrm flipH="1" flipV="1">
                <a:off x="10747440" y="2009880"/>
                <a:ext cx="42120" cy="79200"/>
              </a:xfrm>
              <a:prstGeom prst="line">
                <a:avLst/>
              </a:prstGeom>
              <a:ln w="6480">
                <a:solidFill>
                  <a:srgbClr val="bfcd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直接连接符 45"/>
              <p:cNvSpPr/>
              <p:nvPr/>
            </p:nvSpPr>
            <p:spPr>
              <a:xfrm flipV="1">
                <a:off x="10783800" y="2011320"/>
                <a:ext cx="42120" cy="79200"/>
              </a:xfrm>
              <a:prstGeom prst="line">
                <a:avLst/>
              </a:prstGeom>
              <a:ln w="6480">
                <a:solidFill>
                  <a:srgbClr val="bfcd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直接连接符 46"/>
              <p:cNvSpPr/>
              <p:nvPr/>
            </p:nvSpPr>
            <p:spPr>
              <a:xfrm flipV="1">
                <a:off x="10750680" y="1956960"/>
                <a:ext cx="32760" cy="53640"/>
              </a:xfrm>
              <a:prstGeom prst="line">
                <a:avLst/>
              </a:prstGeom>
              <a:ln w="6480">
                <a:solidFill>
                  <a:srgbClr val="bfcd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直接连接符 48"/>
              <p:cNvSpPr/>
              <p:nvPr/>
            </p:nvSpPr>
            <p:spPr>
              <a:xfrm flipH="1" flipV="1">
                <a:off x="10791360" y="1956960"/>
                <a:ext cx="32760" cy="53640"/>
              </a:xfrm>
              <a:prstGeom prst="line">
                <a:avLst/>
              </a:prstGeom>
              <a:ln w="6480">
                <a:solidFill>
                  <a:srgbClr val="bfcd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9" name="文本框 30" descr=""/>
          <p:cNvPicPr/>
          <p:nvPr/>
        </p:nvPicPr>
        <p:blipFill>
          <a:blip r:embed="rId5"/>
          <a:stretch/>
        </p:blipFill>
        <p:spPr>
          <a:xfrm>
            <a:off x="10307520" y="2249640"/>
            <a:ext cx="1036800" cy="585720"/>
          </a:xfrm>
          <a:prstGeom prst="rect">
            <a:avLst/>
          </a:prstGeom>
          <a:ln w="0">
            <a:noFill/>
          </a:ln>
        </p:spPr>
      </p:pic>
      <p:pic>
        <p:nvPicPr>
          <p:cNvPr id="130" name="文本框 50" descr=""/>
          <p:cNvPicPr/>
          <p:nvPr/>
        </p:nvPicPr>
        <p:blipFill>
          <a:blip r:embed="rId6"/>
          <a:stretch/>
        </p:blipFill>
        <p:spPr>
          <a:xfrm>
            <a:off x="10429920" y="2657520"/>
            <a:ext cx="860400" cy="31104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62"/>
          <p:cNvSpPr/>
          <p:nvPr/>
        </p:nvSpPr>
        <p:spPr>
          <a:xfrm>
            <a:off x="2651040" y="325908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您的名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直接连接符 106"/>
          <p:cNvSpPr/>
          <p:nvPr/>
        </p:nvSpPr>
        <p:spPr>
          <a:xfrm>
            <a:off x="8678880" y="3949560"/>
            <a:ext cx="0" cy="324000"/>
          </a:xfrm>
          <a:prstGeom prst="line">
            <a:avLst/>
          </a:prstGeom>
          <a:ln w="6480">
            <a:solidFill>
              <a:srgbClr val="d9d9d9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接连接符 109"/>
          <p:cNvSpPr/>
          <p:nvPr/>
        </p:nvSpPr>
        <p:spPr>
          <a:xfrm>
            <a:off x="9495000" y="3973680"/>
            <a:ext cx="0" cy="322200"/>
          </a:xfrm>
          <a:prstGeom prst="line">
            <a:avLst/>
          </a:prstGeom>
          <a:ln w="6480">
            <a:solidFill>
              <a:srgbClr val="d9d9d9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接连接符 110"/>
          <p:cNvSpPr/>
          <p:nvPr/>
        </p:nvSpPr>
        <p:spPr>
          <a:xfrm>
            <a:off x="8753400" y="3949560"/>
            <a:ext cx="0" cy="324000"/>
          </a:xfrm>
          <a:prstGeom prst="line">
            <a:avLst/>
          </a:prstGeom>
          <a:ln w="6480">
            <a:solidFill>
              <a:srgbClr val="d9d9d9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接连接符 111"/>
          <p:cNvSpPr/>
          <p:nvPr/>
        </p:nvSpPr>
        <p:spPr>
          <a:xfrm>
            <a:off x="9542520" y="3973680"/>
            <a:ext cx="0" cy="322200"/>
          </a:xfrm>
          <a:prstGeom prst="line">
            <a:avLst/>
          </a:prstGeom>
          <a:ln w="6480">
            <a:solidFill>
              <a:srgbClr val="d9d9d9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511200" y="3319560"/>
            <a:ext cx="2125800" cy="355680"/>
          </a:xfrm>
          <a:prstGeom prst="rect">
            <a:avLst/>
          </a:prstGeom>
          <a:solidFill>
            <a:srgbClr val="bf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03"/>
          <p:cNvSpPr/>
          <p:nvPr/>
        </p:nvSpPr>
        <p:spPr>
          <a:xfrm>
            <a:off x="476280" y="2170080"/>
            <a:ext cx="6723000" cy="1001880"/>
          </a:xfrm>
          <a:custGeom>
            <a:avLst/>
            <a:gdLst/>
            <a:ahLst/>
            <a:rect l="l" t="t" r="r" b="b"/>
            <a:pathLst>
              <a:path w="6489596" h="1002277">
                <a:moveTo>
                  <a:pt x="0" y="0"/>
                </a:moveTo>
                <a:lnTo>
                  <a:pt x="6489596" y="9728"/>
                </a:lnTo>
                <a:lnTo>
                  <a:pt x="5288451" y="1000977"/>
                </a:lnTo>
                <a:lnTo>
                  <a:pt x="0" y="100227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dca3c"/>
              </a:gs>
              <a:gs pos="100000">
                <a:srgbClr val="0497c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60"/>
          <p:cNvSpPr/>
          <p:nvPr/>
        </p:nvSpPr>
        <p:spPr>
          <a:xfrm>
            <a:off x="550800" y="3314880"/>
            <a:ext cx="20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务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技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媒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54"/>
          <p:cNvSpPr/>
          <p:nvPr/>
        </p:nvSpPr>
        <p:spPr>
          <a:xfrm>
            <a:off x="361800" y="2319480"/>
            <a:ext cx="893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态超实用报告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图片 63" descr=""/>
          <p:cNvPicPr/>
          <p:nvPr/>
        </p:nvPicPr>
        <p:blipFill>
          <a:blip r:embed="rId7"/>
          <a:srcRect l="0" t="80273" r="-447" b="552"/>
          <a:stretch/>
        </p:blipFill>
        <p:spPr>
          <a:xfrm>
            <a:off x="8267760" y="4179960"/>
            <a:ext cx="1828800" cy="43812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2" descr=""/>
          <p:cNvPicPr/>
          <p:nvPr/>
        </p:nvPicPr>
        <p:blipFill>
          <a:blip r:embed="rId8"/>
          <a:stretch/>
        </p:blipFill>
        <p:spPr>
          <a:xfrm>
            <a:off x="0" y="723960"/>
            <a:ext cx="12144240" cy="987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2160" y="6448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1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36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36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6" repeatCount="indefinite">
                                  <p:stCondLst>
                                    <p:cond delay="125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7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7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1"/>
          <p:cNvSpPr/>
          <p:nvPr/>
        </p:nvSpPr>
        <p:spPr>
          <a:xfrm rot="1462200">
            <a:off x="7088040" y="1468080"/>
            <a:ext cx="2617920" cy="814320"/>
          </a:xfrm>
          <a:custGeom>
            <a:avLst/>
            <a:gdLst/>
            <a:ahLst/>
            <a:rect l="l" t="t" r="r" b="b"/>
            <a:pathLst>
              <a:path w="2618256" h="813867">
                <a:moveTo>
                  <a:pt x="0" y="813867"/>
                </a:moveTo>
                <a:lnTo>
                  <a:pt x="2618256" y="0"/>
                </a:lnTo>
                <a:lnTo>
                  <a:pt x="2618256" y="813867"/>
                </a:lnTo>
                <a:lnTo>
                  <a:pt x="0" y="813867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任意多边形 5"/>
          <p:cNvSpPr/>
          <p:nvPr/>
        </p:nvSpPr>
        <p:spPr>
          <a:xfrm>
            <a:off x="1079640" y="2122560"/>
            <a:ext cx="9848880" cy="2739960"/>
          </a:xfrm>
          <a:custGeom>
            <a:avLst/>
            <a:gdLst/>
            <a:ahLst/>
            <a:rect l="l" t="t" r="r" b="b"/>
            <a:pathLst>
              <a:path w="9849117" h="3171653">
                <a:moveTo>
                  <a:pt x="2436090" y="64"/>
                </a:moveTo>
                <a:cubicBezTo>
                  <a:pt x="2428006" y="9564"/>
                  <a:pt x="9780800" y="3156151"/>
                  <a:pt x="9849117" y="3157903"/>
                </a:cubicBezTo>
                <a:cubicBezTo>
                  <a:pt x="9777220" y="3154226"/>
                  <a:pt x="5403012" y="3186227"/>
                  <a:pt x="3672731" y="3163330"/>
                </a:cubicBezTo>
                <a:lnTo>
                  <a:pt x="0" y="1069971"/>
                </a:lnTo>
                <a:cubicBezTo>
                  <a:pt x="8759" y="1057613"/>
                  <a:pt x="2454223" y="-9436"/>
                  <a:pt x="2436090" y="64"/>
                </a:cubicBezTo>
                <a:close/>
              </a:path>
            </a:pathLst>
          </a:custGeom>
          <a:solidFill>
            <a:srgbClr val="bf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4"/>
          <p:cNvSpPr/>
          <p:nvPr/>
        </p:nvSpPr>
        <p:spPr>
          <a:xfrm rot="21057000">
            <a:off x="1069560" y="1816200"/>
            <a:ext cx="8774280" cy="1677960"/>
          </a:xfrm>
          <a:custGeom>
            <a:avLst/>
            <a:gdLst/>
            <a:ahLst/>
            <a:rect l="l" t="t" r="r" b="b"/>
            <a:pathLst>
              <a:path w="8774882" h="1678486">
                <a:moveTo>
                  <a:pt x="2578897" y="0"/>
                </a:moveTo>
                <a:lnTo>
                  <a:pt x="8774882" y="913397"/>
                </a:lnTo>
                <a:cubicBezTo>
                  <a:pt x="8731548" y="1151306"/>
                  <a:pt x="8668061" y="1673765"/>
                  <a:pt x="8637195" y="1678486"/>
                </a:cubicBezTo>
                <a:lnTo>
                  <a:pt x="1373948" y="525794"/>
                </a:lnTo>
                <a:cubicBezTo>
                  <a:pt x="22991" y="527434"/>
                  <a:pt x="-2503" y="536580"/>
                  <a:pt x="127" y="542775"/>
                </a:cubicBezTo>
                <a:lnTo>
                  <a:pt x="2578897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等腰三角形 8"/>
          <p:cNvSpPr/>
          <p:nvPr/>
        </p:nvSpPr>
        <p:spPr>
          <a:xfrm rot="10800000">
            <a:off x="4138200" y="5023800"/>
            <a:ext cx="7226280" cy="1212840"/>
          </a:xfrm>
          <a:prstGeom prst="triangle">
            <a:avLst>
              <a:gd name="adj" fmla="val 45255"/>
            </a:avLst>
          </a:prstGeom>
          <a:solidFill>
            <a:srgbClr val="bf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9"/>
          <p:cNvSpPr/>
          <p:nvPr/>
        </p:nvSpPr>
        <p:spPr>
          <a:xfrm>
            <a:off x="4753080" y="4849920"/>
            <a:ext cx="6175440" cy="287280"/>
          </a:xfrm>
          <a:custGeom>
            <a:avLst/>
            <a:gdLst/>
            <a:ahLst/>
            <a:rect l="l" t="t" r="r" b="b"/>
            <a:pathLst>
              <a:path w="6176386" h="287522">
                <a:moveTo>
                  <a:pt x="4645" y="4830"/>
                </a:moveTo>
                <a:lnTo>
                  <a:pt x="6164151" y="0"/>
                </a:lnTo>
                <a:lnTo>
                  <a:pt x="6176386" y="287522"/>
                </a:lnTo>
                <a:lnTo>
                  <a:pt x="0" y="287522"/>
                </a:lnTo>
                <a:cubicBezTo>
                  <a:pt x="1548" y="193291"/>
                  <a:pt x="3097" y="99061"/>
                  <a:pt x="4645" y="4830"/>
                </a:cubicBezTo>
                <a:close/>
              </a:path>
            </a:pathLst>
          </a:custGeom>
          <a:solidFill>
            <a:srgbClr val="bf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直接连接符 11"/>
          <p:cNvSpPr/>
          <p:nvPr/>
        </p:nvSpPr>
        <p:spPr>
          <a:xfrm>
            <a:off x="1120680" y="3041640"/>
            <a:ext cx="587556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直接连接符 13"/>
          <p:cNvSpPr/>
          <p:nvPr/>
        </p:nvSpPr>
        <p:spPr>
          <a:xfrm flipV="1">
            <a:off x="4753080" y="4849560"/>
            <a:ext cx="6164280" cy="612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直接连接符 14"/>
          <p:cNvSpPr/>
          <p:nvPr/>
        </p:nvSpPr>
        <p:spPr>
          <a:xfrm>
            <a:off x="2260440" y="3960720"/>
            <a:ext cx="621828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5"/>
          <p:cNvSpPr/>
          <p:nvPr/>
        </p:nvSpPr>
        <p:spPr>
          <a:xfrm flipH="1">
            <a:off x="7083360" y="2867040"/>
            <a:ext cx="17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这是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7"/>
          <p:cNvSpPr/>
          <p:nvPr/>
        </p:nvSpPr>
        <p:spPr>
          <a:xfrm>
            <a:off x="2671920" y="3222720"/>
            <a:ext cx="38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582480" y="3736800"/>
            <a:ext cx="16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这是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4848120" y="4151160"/>
            <a:ext cx="380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6091200" y="4991040"/>
            <a:ext cx="38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"/>
          <p:cNvSpPr/>
          <p:nvPr/>
        </p:nvSpPr>
        <p:spPr>
          <a:xfrm>
            <a:off x="4459320" y="2179800"/>
            <a:ext cx="40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主要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文本框 19"/>
          <p:cNvSpPr/>
          <p:nvPr/>
        </p:nvSpPr>
        <p:spPr>
          <a:xfrm>
            <a:off x="7469280" y="6270480"/>
            <a:ext cx="16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这是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9" dur="2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2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2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25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25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25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25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5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5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2">
                                  <p:stCondLst>
                                    <p:cond delay="185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25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25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5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5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25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25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25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25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5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5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25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25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25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25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直接连接符 20"/>
          <p:cNvSpPr/>
          <p:nvPr/>
        </p:nvSpPr>
        <p:spPr>
          <a:xfrm flipH="1">
            <a:off x="1275840" y="5638680"/>
            <a:ext cx="587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276200" y="4202280"/>
            <a:ext cx="5875560" cy="2381040"/>
            <a:chOff x="1276200" y="4202280"/>
            <a:chExt cx="5875560" cy="2381040"/>
          </a:xfrm>
        </p:grpSpPr>
        <p:sp>
          <p:nvSpPr>
            <p:cNvPr id="387" name="矩形 1"/>
            <p:cNvSpPr/>
            <p:nvPr/>
          </p:nvSpPr>
          <p:spPr>
            <a:xfrm>
              <a:off x="1276200" y="4202280"/>
              <a:ext cx="2936520" cy="2381040"/>
            </a:xfrm>
            <a:custGeom>
              <a:avLst/>
              <a:gdLst/>
              <a:ahLst/>
              <a:rect l="l" t="t" r="r" b="b"/>
              <a:pathLst>
                <a:path w="2936020" h="2381348">
                  <a:moveTo>
                    <a:pt x="0" y="1436125"/>
                  </a:moveTo>
                  <a:lnTo>
                    <a:pt x="845602" y="0"/>
                  </a:lnTo>
                  <a:lnTo>
                    <a:pt x="2935659" y="745351"/>
                  </a:lnTo>
                  <a:cubicBezTo>
                    <a:pt x="2937614" y="1111796"/>
                    <a:pt x="2930904" y="767832"/>
                    <a:pt x="2933143" y="2381348"/>
                  </a:cubicBezTo>
                  <a:lnTo>
                    <a:pt x="0" y="1436125"/>
                  </a:lnTo>
                  <a:close/>
                </a:path>
              </a:pathLst>
            </a:custGeom>
            <a:solidFill>
              <a:srgbClr val="bf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矩形 1"/>
            <p:cNvSpPr/>
            <p:nvPr/>
          </p:nvSpPr>
          <p:spPr>
            <a:xfrm flipH="1">
              <a:off x="4211280" y="4202280"/>
              <a:ext cx="2940480" cy="2381040"/>
            </a:xfrm>
            <a:custGeom>
              <a:avLst/>
              <a:gdLst/>
              <a:ahLst/>
              <a:rect l="l" t="t" r="r" b="b"/>
              <a:pathLst>
                <a:path w="2939967" h="2381348">
                  <a:moveTo>
                    <a:pt x="0" y="1436125"/>
                  </a:moveTo>
                  <a:lnTo>
                    <a:pt x="845602" y="0"/>
                  </a:lnTo>
                  <a:lnTo>
                    <a:pt x="2935659" y="745351"/>
                  </a:lnTo>
                  <a:cubicBezTo>
                    <a:pt x="2937614" y="1111796"/>
                    <a:pt x="2937728" y="767832"/>
                    <a:pt x="2939967" y="2381348"/>
                  </a:cubicBezTo>
                  <a:lnTo>
                    <a:pt x="0" y="1436125"/>
                  </a:lnTo>
                  <a:close/>
                </a:path>
              </a:pathLst>
            </a:custGeom>
            <a:solidFill>
              <a:srgbClr val="bfcd0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973240" y="611280"/>
            <a:ext cx="2490480" cy="2660400"/>
            <a:chOff x="2973240" y="611280"/>
            <a:chExt cx="2490480" cy="2660400"/>
          </a:xfrm>
        </p:grpSpPr>
        <p:sp>
          <p:nvSpPr>
            <p:cNvPr id="390" name="矩形 1"/>
            <p:cNvSpPr/>
            <p:nvPr/>
          </p:nvSpPr>
          <p:spPr>
            <a:xfrm>
              <a:off x="2973240" y="614520"/>
              <a:ext cx="1240920" cy="2657160"/>
            </a:xfrm>
            <a:custGeom>
              <a:avLst/>
              <a:gdLst/>
              <a:ahLst/>
              <a:rect l="l" t="t" r="r" b="b"/>
              <a:pathLst>
                <a:path w="1240926" h="2657664">
                  <a:moveTo>
                    <a:pt x="1237893" y="2657664"/>
                  </a:moveTo>
                  <a:cubicBezTo>
                    <a:pt x="814" y="2141560"/>
                    <a:pt x="1258311" y="2684836"/>
                    <a:pt x="0" y="2143783"/>
                  </a:cubicBezTo>
                  <a:lnTo>
                    <a:pt x="1240926" y="0"/>
                  </a:lnTo>
                  <a:cubicBezTo>
                    <a:pt x="1238531" y="2747573"/>
                    <a:pt x="1243916" y="2635307"/>
                    <a:pt x="1237893" y="2657664"/>
                  </a:cubicBezTo>
                  <a:close/>
                </a:path>
              </a:pathLst>
            </a:custGeom>
            <a:solidFill>
              <a:srgbClr val="e8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矩形 1"/>
            <p:cNvSpPr/>
            <p:nvPr/>
          </p:nvSpPr>
          <p:spPr>
            <a:xfrm flipH="1">
              <a:off x="4206600" y="611280"/>
              <a:ext cx="1256760" cy="2657160"/>
            </a:xfrm>
            <a:custGeom>
              <a:avLst/>
              <a:gdLst/>
              <a:ahLst/>
              <a:rect l="l" t="t" r="r" b="b"/>
              <a:pathLst>
                <a:path w="1256595" h="2657664">
                  <a:moveTo>
                    <a:pt x="1254445" y="2657664"/>
                  </a:moveTo>
                  <a:cubicBezTo>
                    <a:pt x="17366" y="2141560"/>
                    <a:pt x="1258311" y="2691818"/>
                    <a:pt x="0" y="2150765"/>
                  </a:cubicBezTo>
                  <a:lnTo>
                    <a:pt x="1254066" y="0"/>
                  </a:lnTo>
                  <a:cubicBezTo>
                    <a:pt x="1251671" y="2747573"/>
                    <a:pt x="1260468" y="2635307"/>
                    <a:pt x="1254445" y="2657664"/>
                  </a:cubicBezTo>
                  <a:close/>
                </a:path>
              </a:pathLst>
            </a:custGeom>
            <a:solidFill>
              <a:srgbClr val="e8bc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22560" y="2755800"/>
            <a:ext cx="4178160" cy="2195640"/>
            <a:chOff x="2122560" y="2755800"/>
            <a:chExt cx="4178160" cy="2195640"/>
          </a:xfrm>
        </p:grpSpPr>
        <p:sp>
          <p:nvSpPr>
            <p:cNvPr id="393" name="矩形 2"/>
            <p:cNvSpPr/>
            <p:nvPr/>
          </p:nvSpPr>
          <p:spPr>
            <a:xfrm>
              <a:off x="2122560" y="2755800"/>
              <a:ext cx="2094480" cy="2195640"/>
            </a:xfrm>
            <a:custGeom>
              <a:avLst/>
              <a:gdLst/>
              <a:ahLst/>
              <a:rect l="l" t="t" r="r" b="b"/>
              <a:pathLst>
                <a:path w="2094471" h="2194992">
                  <a:moveTo>
                    <a:pt x="0" y="1454703"/>
                  </a:moveTo>
                  <a:lnTo>
                    <a:pt x="848001" y="0"/>
                  </a:lnTo>
                  <a:lnTo>
                    <a:pt x="2092888" y="506276"/>
                  </a:lnTo>
                  <a:cubicBezTo>
                    <a:pt x="2092888" y="776371"/>
                    <a:pt x="2097983" y="491177"/>
                    <a:pt x="2089895" y="2194992"/>
                  </a:cubicBezTo>
                  <a:lnTo>
                    <a:pt x="0" y="1454703"/>
                  </a:lnTo>
                  <a:close/>
                </a:path>
              </a:pathLst>
            </a:custGeom>
            <a:solidFill>
              <a:srgbClr val="d46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矩形 2"/>
            <p:cNvSpPr/>
            <p:nvPr/>
          </p:nvSpPr>
          <p:spPr>
            <a:xfrm flipH="1">
              <a:off x="4206960" y="2761920"/>
              <a:ext cx="2093760" cy="2189520"/>
            </a:xfrm>
            <a:custGeom>
              <a:avLst/>
              <a:gdLst/>
              <a:ahLst/>
              <a:rect l="l" t="t" r="r" b="b"/>
              <a:pathLst>
                <a:path w="2093655" h="2188835">
                  <a:moveTo>
                    <a:pt x="0" y="1442389"/>
                  </a:moveTo>
                  <a:lnTo>
                    <a:pt x="835685" y="0"/>
                  </a:lnTo>
                  <a:lnTo>
                    <a:pt x="2086730" y="500119"/>
                  </a:lnTo>
                  <a:cubicBezTo>
                    <a:pt x="2086730" y="770214"/>
                    <a:pt x="2098982" y="485020"/>
                    <a:pt x="2090894" y="2188835"/>
                  </a:cubicBezTo>
                  <a:lnTo>
                    <a:pt x="0" y="1442389"/>
                  </a:lnTo>
                  <a:close/>
                </a:path>
              </a:pathLst>
            </a:custGeom>
            <a:solidFill>
              <a:srgbClr val="c2581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5" name="文本框 49"/>
          <p:cNvSpPr/>
          <p:nvPr/>
        </p:nvSpPr>
        <p:spPr>
          <a:xfrm>
            <a:off x="3754440" y="2013120"/>
            <a:ext cx="133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文本框 51"/>
          <p:cNvSpPr/>
          <p:nvPr/>
        </p:nvSpPr>
        <p:spPr>
          <a:xfrm>
            <a:off x="3670200" y="3597120"/>
            <a:ext cx="175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文本框 22"/>
          <p:cNvSpPr/>
          <p:nvPr/>
        </p:nvSpPr>
        <p:spPr>
          <a:xfrm>
            <a:off x="3586320" y="5232240"/>
            <a:ext cx="17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5%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文本框 23"/>
          <p:cNvSpPr/>
          <p:nvPr/>
        </p:nvSpPr>
        <p:spPr>
          <a:xfrm flipH="1">
            <a:off x="5428440" y="166680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这里输入你对数据的描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23"/>
          <p:cNvSpPr/>
          <p:nvPr/>
        </p:nvSpPr>
        <p:spPr>
          <a:xfrm flipH="1">
            <a:off x="6138000" y="31370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这里输入你对数据的描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23"/>
          <p:cNvSpPr/>
          <p:nvPr/>
        </p:nvSpPr>
        <p:spPr>
          <a:xfrm flipH="1">
            <a:off x="6926400" y="43768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这里输入你对数据的描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7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7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7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7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75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75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75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3" presetSubtype="3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25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5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5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5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25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5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5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5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3" presetSubtype="36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25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5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5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5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25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25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25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25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25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25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543-0867-4329-B58D-1266CE261BBC}" type="slidenum">
              <a:t>12</a:t>
            </a:fld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文本框 3"/>
          <p:cNvSpPr/>
          <p:nvPr/>
        </p:nvSpPr>
        <p:spPr>
          <a:xfrm>
            <a:off x="2892600" y="1782720"/>
            <a:ext cx="65260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bfcd03"/>
                </a:solidFill>
                <a:latin typeface="Impact"/>
              </a:rPr>
              <a:t>Th</a:t>
            </a:r>
            <a:r>
              <a:rPr b="0" lang="en-US" sz="16600" spc="-1" strike="noStrike">
                <a:solidFill>
                  <a:srgbClr val="c55a11"/>
                </a:solidFill>
                <a:latin typeface="Impact"/>
              </a:rPr>
              <a:t>an</a:t>
            </a:r>
            <a:r>
              <a:rPr b="0" lang="en-US" sz="16600" spc="-1" strike="noStrike">
                <a:solidFill>
                  <a:srgbClr val="ffc000"/>
                </a:solidFill>
                <a:latin typeface="Impact"/>
              </a:rPr>
              <a:t>ks</a:t>
            </a:r>
            <a:r>
              <a:rPr b="0" lang="en-US" sz="16600" spc="-1" strike="noStrike">
                <a:solidFill>
                  <a:srgbClr val="262626"/>
                </a:solidFill>
                <a:latin typeface="Impact"/>
              </a:rPr>
              <a:t> 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接连接符 6"/>
          <p:cNvSpPr/>
          <p:nvPr/>
        </p:nvSpPr>
        <p:spPr>
          <a:xfrm>
            <a:off x="3063960" y="4068720"/>
            <a:ext cx="6183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文本框 7"/>
          <p:cNvSpPr/>
          <p:nvPr/>
        </p:nvSpPr>
        <p:spPr>
          <a:xfrm>
            <a:off x="5057640" y="4168800"/>
            <a:ext cx="21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称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5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5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25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25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3" descr=""/>
          <p:cNvPicPr/>
          <p:nvPr/>
        </p:nvPicPr>
        <p:blipFill>
          <a:blip r:embed="rId1"/>
          <a:stretch/>
        </p:blipFill>
        <p:spPr>
          <a:xfrm>
            <a:off x="1120680" y="1547640"/>
            <a:ext cx="10058400" cy="483876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133640" y="727200"/>
            <a:ext cx="10045440" cy="8222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5"/>
          <p:cNvSpPr/>
          <p:nvPr/>
        </p:nvSpPr>
        <p:spPr>
          <a:xfrm>
            <a:off x="2046240" y="844560"/>
            <a:ext cx="820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部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，素材均可编辑，含动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任意多边形 55"/>
          <p:cNvSpPr/>
          <p:nvPr/>
        </p:nvSpPr>
        <p:spPr>
          <a:xfrm>
            <a:off x="5869080" y="6110280"/>
            <a:ext cx="193680" cy="152280"/>
          </a:xfrm>
          <a:custGeom>
            <a:avLst/>
            <a:gdLst/>
            <a:ahLst/>
            <a:rect l="l" t="t" r="r" b="b"/>
            <a:pathLst>
              <a:path w="236668" h="279699">
                <a:moveTo>
                  <a:pt x="0" y="0"/>
                </a:moveTo>
                <a:lnTo>
                  <a:pt x="0" y="247426"/>
                </a:lnTo>
                <a:lnTo>
                  <a:pt x="236668" y="279699"/>
                </a:lnTo>
                <a:lnTo>
                  <a:pt x="0" y="0"/>
                </a:lnTo>
                <a:close/>
              </a:path>
            </a:pathLst>
          </a:custGeom>
          <a:solidFill>
            <a:srgbClr val="acc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任意多边形 56"/>
          <p:cNvSpPr/>
          <p:nvPr/>
        </p:nvSpPr>
        <p:spPr>
          <a:xfrm>
            <a:off x="6540480" y="6278400"/>
            <a:ext cx="326880" cy="144720"/>
          </a:xfrm>
          <a:custGeom>
            <a:avLst/>
            <a:gdLst/>
            <a:ahLst/>
            <a:rect l="l" t="t" r="r" b="b"/>
            <a:pathLst>
              <a:path w="236668" h="279699">
                <a:moveTo>
                  <a:pt x="0" y="0"/>
                </a:moveTo>
                <a:lnTo>
                  <a:pt x="0" y="247426"/>
                </a:lnTo>
                <a:lnTo>
                  <a:pt x="236668" y="279699"/>
                </a:lnTo>
                <a:lnTo>
                  <a:pt x="0" y="0"/>
                </a:lnTo>
                <a:close/>
              </a:path>
            </a:pathLst>
          </a:custGeom>
          <a:solidFill>
            <a:srgbClr val="acc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任意多边形 57"/>
          <p:cNvSpPr/>
          <p:nvPr/>
        </p:nvSpPr>
        <p:spPr>
          <a:xfrm>
            <a:off x="6238800" y="6064200"/>
            <a:ext cx="301680" cy="108000"/>
          </a:xfrm>
          <a:custGeom>
            <a:avLst/>
            <a:gdLst/>
            <a:ahLst/>
            <a:rect l="l" t="t" r="r" b="b"/>
            <a:pathLst>
              <a:path w="301214" h="236668">
                <a:moveTo>
                  <a:pt x="64546" y="0"/>
                </a:moveTo>
                <a:lnTo>
                  <a:pt x="301214" y="204395"/>
                </a:lnTo>
                <a:lnTo>
                  <a:pt x="10758" y="236668"/>
                </a:lnTo>
                <a:lnTo>
                  <a:pt x="0" y="172123"/>
                </a:lnTo>
                <a:lnTo>
                  <a:pt x="64546" y="0"/>
                </a:lnTo>
                <a:close/>
              </a:path>
            </a:pathLst>
          </a:custGeom>
          <a:solidFill>
            <a:srgbClr val="acc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任意多边形 58"/>
          <p:cNvSpPr/>
          <p:nvPr/>
        </p:nvSpPr>
        <p:spPr>
          <a:xfrm>
            <a:off x="5648400" y="5757840"/>
            <a:ext cx="220680" cy="152280"/>
          </a:xfrm>
          <a:custGeom>
            <a:avLst/>
            <a:gdLst/>
            <a:ahLst/>
            <a:rect l="l" t="t" r="r" b="b"/>
            <a:pathLst>
              <a:path w="182880" h="236668">
                <a:moveTo>
                  <a:pt x="129091" y="0"/>
                </a:moveTo>
                <a:lnTo>
                  <a:pt x="0" y="139849"/>
                </a:lnTo>
                <a:lnTo>
                  <a:pt x="107576" y="236668"/>
                </a:lnTo>
                <a:lnTo>
                  <a:pt x="182880" y="172122"/>
                </a:lnTo>
                <a:lnTo>
                  <a:pt x="129091" y="0"/>
                </a:lnTo>
                <a:close/>
              </a:path>
            </a:pathLst>
          </a:custGeom>
          <a:solidFill>
            <a:srgbClr val="acc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任意多边形 59"/>
          <p:cNvSpPr/>
          <p:nvPr/>
        </p:nvSpPr>
        <p:spPr>
          <a:xfrm>
            <a:off x="5608800" y="6340320"/>
            <a:ext cx="263520" cy="76320"/>
          </a:xfrm>
          <a:custGeom>
            <a:avLst/>
            <a:gdLst/>
            <a:ahLst/>
            <a:rect l="l" t="t" r="r" b="b"/>
            <a:pathLst>
              <a:path w="301214" h="236668">
                <a:moveTo>
                  <a:pt x="64546" y="0"/>
                </a:moveTo>
                <a:lnTo>
                  <a:pt x="301214" y="204395"/>
                </a:lnTo>
                <a:lnTo>
                  <a:pt x="10758" y="236668"/>
                </a:lnTo>
                <a:lnTo>
                  <a:pt x="0" y="172123"/>
                </a:lnTo>
                <a:lnTo>
                  <a:pt x="64546" y="0"/>
                </a:lnTo>
                <a:close/>
              </a:path>
            </a:pathLst>
          </a:custGeom>
          <a:solidFill>
            <a:srgbClr val="acc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920" y="4835520"/>
            <a:ext cx="12184200" cy="2028960"/>
            <a:chOff x="7920" y="4835520"/>
            <a:chExt cx="12184200" cy="2028960"/>
          </a:xfrm>
        </p:grpSpPr>
        <p:sp>
          <p:nvSpPr>
            <p:cNvPr id="152" name="直接连接符 65"/>
            <p:cNvSpPr/>
            <p:nvPr/>
          </p:nvSpPr>
          <p:spPr>
            <a:xfrm>
              <a:off x="10508040" y="4835520"/>
              <a:ext cx="1684080" cy="19767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直接连接符 67"/>
            <p:cNvSpPr/>
            <p:nvPr/>
          </p:nvSpPr>
          <p:spPr>
            <a:xfrm>
              <a:off x="10063440" y="4867200"/>
              <a:ext cx="1171440" cy="1973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直接连接符 69"/>
            <p:cNvSpPr/>
            <p:nvPr/>
          </p:nvSpPr>
          <p:spPr>
            <a:xfrm>
              <a:off x="9517320" y="4959360"/>
              <a:ext cx="753840" cy="18943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直接连接符 71"/>
            <p:cNvSpPr/>
            <p:nvPr/>
          </p:nvSpPr>
          <p:spPr>
            <a:xfrm>
              <a:off x="6821640" y="4905360"/>
              <a:ext cx="68040" cy="19148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直接连接符 73"/>
            <p:cNvSpPr/>
            <p:nvPr/>
          </p:nvSpPr>
          <p:spPr>
            <a:xfrm>
              <a:off x="8883720" y="4949640"/>
              <a:ext cx="53964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直接连接符 75"/>
            <p:cNvSpPr/>
            <p:nvPr/>
          </p:nvSpPr>
          <p:spPr>
            <a:xfrm>
              <a:off x="8288640" y="4949640"/>
              <a:ext cx="311040" cy="1862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直接连接符 77"/>
            <p:cNvSpPr/>
            <p:nvPr/>
          </p:nvSpPr>
          <p:spPr>
            <a:xfrm>
              <a:off x="7574040" y="4984560"/>
              <a:ext cx="180720" cy="1835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直接连接符 80"/>
            <p:cNvSpPr/>
            <p:nvPr/>
          </p:nvSpPr>
          <p:spPr>
            <a:xfrm flipH="1">
              <a:off x="7920" y="4879800"/>
              <a:ext cx="1684080" cy="197820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直接连接符 81"/>
            <p:cNvSpPr/>
            <p:nvPr/>
          </p:nvSpPr>
          <p:spPr>
            <a:xfrm flipH="1">
              <a:off x="1005840" y="4873320"/>
              <a:ext cx="1368360" cy="1946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直接连接符 82"/>
            <p:cNvSpPr/>
            <p:nvPr/>
          </p:nvSpPr>
          <p:spPr>
            <a:xfrm flipH="1">
              <a:off x="1908000" y="4949640"/>
              <a:ext cx="96336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直接连接符 83"/>
            <p:cNvSpPr/>
            <p:nvPr/>
          </p:nvSpPr>
          <p:spPr>
            <a:xfrm flipH="1">
              <a:off x="5310360" y="5121000"/>
              <a:ext cx="6480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直接连接符 84"/>
            <p:cNvSpPr/>
            <p:nvPr/>
          </p:nvSpPr>
          <p:spPr>
            <a:xfrm flipH="1">
              <a:off x="2793960" y="5029200"/>
              <a:ext cx="622080" cy="18291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直接连接符 85"/>
            <p:cNvSpPr/>
            <p:nvPr/>
          </p:nvSpPr>
          <p:spPr>
            <a:xfrm flipH="1">
              <a:off x="3657240" y="4975200"/>
              <a:ext cx="301320" cy="18734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直接连接符 86"/>
            <p:cNvSpPr/>
            <p:nvPr/>
          </p:nvSpPr>
          <p:spPr>
            <a:xfrm flipH="1">
              <a:off x="4444560" y="5121000"/>
              <a:ext cx="16668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直接连接符 88"/>
            <p:cNvSpPr/>
            <p:nvPr/>
          </p:nvSpPr>
          <p:spPr>
            <a:xfrm>
              <a:off x="601560" y="6193080"/>
              <a:ext cx="1107612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直接连接符 91"/>
            <p:cNvSpPr/>
            <p:nvPr/>
          </p:nvSpPr>
          <p:spPr>
            <a:xfrm flipH="1">
              <a:off x="1123920" y="5532480"/>
              <a:ext cx="1003176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364000" y="5132520"/>
            <a:ext cx="1646280" cy="519120"/>
            <a:chOff x="5364000" y="5132520"/>
            <a:chExt cx="1646280" cy="519120"/>
          </a:xfrm>
        </p:grpSpPr>
        <p:pic>
          <p:nvPicPr>
            <p:cNvPr id="169" name="椭圆 28" descr=""/>
            <p:cNvPicPr/>
            <p:nvPr/>
          </p:nvPicPr>
          <p:blipFill>
            <a:blip r:embed="rId1"/>
            <a:stretch/>
          </p:blipFill>
          <p:spPr>
            <a:xfrm>
              <a:off x="5364000" y="5132520"/>
              <a:ext cx="164628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607000" y="5207040"/>
              <a:ext cx="116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任意多边形 11" hidden="1"/>
          <p:cNvSpPr/>
          <p:nvPr/>
        </p:nvSpPr>
        <p:spPr>
          <a:xfrm>
            <a:off x="4578480" y="115920"/>
            <a:ext cx="7527960" cy="5668920"/>
          </a:xfrm>
          <a:custGeom>
            <a:avLst/>
            <a:gdLst/>
            <a:ahLst/>
            <a:rect l="l" t="t" r="r" b="b"/>
            <a:pathLst>
              <a:path w="6731907" h="5669281">
                <a:moveTo>
                  <a:pt x="5747169" y="0"/>
                </a:moveTo>
                <a:lnTo>
                  <a:pt x="0" y="5114020"/>
                </a:lnTo>
                <a:lnTo>
                  <a:pt x="317040" y="5036233"/>
                </a:lnTo>
                <a:lnTo>
                  <a:pt x="77889" y="5205046"/>
                </a:lnTo>
                <a:lnTo>
                  <a:pt x="556191" y="5162843"/>
                </a:lnTo>
                <a:lnTo>
                  <a:pt x="457717" y="5359790"/>
                </a:lnTo>
                <a:lnTo>
                  <a:pt x="791252" y="5350150"/>
                </a:lnTo>
                <a:lnTo>
                  <a:pt x="837190" y="5607004"/>
                </a:lnTo>
                <a:lnTo>
                  <a:pt x="1030127" y="5493988"/>
                </a:lnTo>
                <a:lnTo>
                  <a:pt x="1175170" y="5669281"/>
                </a:lnTo>
                <a:lnTo>
                  <a:pt x="6731907" y="829993"/>
                </a:lnTo>
                <a:lnTo>
                  <a:pt x="5747169" y="0"/>
                </a:lnTo>
                <a:close/>
              </a:path>
            </a:pathLst>
          </a:custGeom>
          <a:gradFill rotWithShape="0">
            <a:gsLst>
              <a:gs pos="0">
                <a:srgbClr val="82ae2d"/>
              </a:gs>
              <a:gs pos="100000">
                <a:srgbClr val="bed31c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729720" y="1468440"/>
            <a:ext cx="2443320" cy="493560"/>
            <a:chOff x="9729720" y="1468440"/>
            <a:chExt cx="2443320" cy="493560"/>
          </a:xfrm>
        </p:grpSpPr>
        <p:pic>
          <p:nvPicPr>
            <p:cNvPr id="173" name="矩形 13" descr=""/>
            <p:cNvPicPr/>
            <p:nvPr/>
          </p:nvPicPr>
          <p:blipFill>
            <a:blip r:embed="rId2"/>
            <a:stretch/>
          </p:blipFill>
          <p:spPr>
            <a:xfrm>
              <a:off x="9729720" y="1469520"/>
              <a:ext cx="244044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9729720" y="1468440"/>
              <a:ext cx="244332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443400" y="1143000"/>
            <a:ext cx="5356080" cy="4289400"/>
            <a:chOff x="3443400" y="1143000"/>
            <a:chExt cx="5356080" cy="4289400"/>
          </a:xfrm>
        </p:grpSpPr>
        <p:sp>
          <p:nvSpPr>
            <p:cNvPr id="176" name="圆角矩形 27"/>
            <p:cNvSpPr/>
            <p:nvPr/>
          </p:nvSpPr>
          <p:spPr>
            <a:xfrm>
              <a:off x="3443400" y="1176120"/>
              <a:ext cx="5348160" cy="3748320"/>
            </a:xfrm>
            <a:prstGeom prst="roundRect">
              <a:avLst>
                <a:gd name="adj" fmla="val 4824"/>
              </a:avLst>
            </a:prstGeom>
            <a:solidFill>
              <a:srgbClr val="c5c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3450240" y="1143000"/>
              <a:ext cx="5349240" cy="4289400"/>
              <a:chOff x="3450240" y="1143000"/>
              <a:chExt cx="5349240" cy="428940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5649840" y="4758120"/>
                <a:ext cx="1118520" cy="674280"/>
                <a:chOff x="5649840" y="4758120"/>
                <a:chExt cx="1118520" cy="674280"/>
              </a:xfrm>
            </p:grpSpPr>
            <p:sp>
              <p:nvSpPr>
                <p:cNvPr id="179" name="椭圆 24"/>
                <p:cNvSpPr/>
                <p:nvPr/>
              </p:nvSpPr>
              <p:spPr>
                <a:xfrm>
                  <a:off x="5649840" y="5299200"/>
                  <a:ext cx="1118520" cy="13320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任意多边形 23"/>
                <p:cNvSpPr/>
                <p:nvPr/>
              </p:nvSpPr>
              <p:spPr>
                <a:xfrm>
                  <a:off x="5649840" y="4758120"/>
                  <a:ext cx="1118520" cy="649080"/>
                </a:xfrm>
                <a:custGeom>
                  <a:avLst/>
                  <a:gdLst/>
                  <a:ahLst/>
                  <a:rect l="l" t="t" r="r" b="b"/>
                  <a:pathLst>
                    <a:path w="922004" h="445477">
                      <a:moveTo>
                        <a:pt x="446825" y="0"/>
                      </a:moveTo>
                      <a:lnTo>
                        <a:pt x="449206" y="9525"/>
                      </a:lnTo>
                      <a:lnTo>
                        <a:pt x="450397" y="9533"/>
                      </a:lnTo>
                      <a:lnTo>
                        <a:pt x="451587" y="9525"/>
                      </a:lnTo>
                      <a:lnTo>
                        <a:pt x="453968" y="0"/>
                      </a:lnTo>
                      <a:cubicBezTo>
                        <a:pt x="453968" y="0"/>
                        <a:pt x="453960" y="1450"/>
                        <a:pt x="453947" y="4187"/>
                      </a:cubicBezTo>
                      <a:cubicBezTo>
                        <a:pt x="453938" y="5977"/>
                        <a:pt x="453929" y="7766"/>
                        <a:pt x="453920" y="9556"/>
                      </a:cubicBezTo>
                      <a:lnTo>
                        <a:pt x="786794" y="11723"/>
                      </a:lnTo>
                      <a:cubicBezTo>
                        <a:pt x="777025" y="93785"/>
                        <a:pt x="764383" y="178305"/>
                        <a:pt x="786794" y="246185"/>
                      </a:cubicBezTo>
                      <a:cubicBezTo>
                        <a:pt x="809205" y="314065"/>
                        <a:pt x="932678" y="416744"/>
                        <a:pt x="921261" y="419002"/>
                      </a:cubicBezTo>
                      <a:cubicBezTo>
                        <a:pt x="911271" y="420978"/>
                        <a:pt x="902495" y="441199"/>
                        <a:pt x="597096" y="443772"/>
                      </a:cubicBezTo>
                      <a:lnTo>
                        <a:pt x="453967" y="445396"/>
                      </a:lnTo>
                      <a:cubicBezTo>
                        <a:pt x="453967" y="445423"/>
                        <a:pt x="453968" y="445450"/>
                        <a:pt x="453968" y="445477"/>
                      </a:cubicBezTo>
                      <a:lnTo>
                        <a:pt x="450397" y="445437"/>
                      </a:lnTo>
                      <a:lnTo>
                        <a:pt x="446825" y="445477"/>
                      </a:lnTo>
                      <a:cubicBezTo>
                        <a:pt x="446825" y="445450"/>
                        <a:pt x="446826" y="445423"/>
                        <a:pt x="446826" y="445396"/>
                      </a:cubicBezTo>
                      <a:lnTo>
                        <a:pt x="303697" y="443772"/>
                      </a:lnTo>
                      <a:cubicBezTo>
                        <a:pt x="-1702" y="441199"/>
                        <a:pt x="10849" y="420978"/>
                        <a:pt x="859" y="419002"/>
                      </a:cubicBezTo>
                      <a:cubicBezTo>
                        <a:pt x="-10558" y="416744"/>
                        <a:pt x="95142" y="314065"/>
                        <a:pt x="113999" y="246185"/>
                      </a:cubicBezTo>
                      <a:cubicBezTo>
                        <a:pt x="132856" y="178305"/>
                        <a:pt x="123768" y="93785"/>
                        <a:pt x="113999" y="11723"/>
                      </a:cubicBezTo>
                      <a:lnTo>
                        <a:pt x="446873" y="9556"/>
                      </a:lnTo>
                      <a:cubicBezTo>
                        <a:pt x="446864" y="7766"/>
                        <a:pt x="446855" y="5977"/>
                        <a:pt x="446846" y="4187"/>
                      </a:cubicBezTo>
                      <a:cubicBezTo>
                        <a:pt x="446833" y="1450"/>
                        <a:pt x="446825" y="0"/>
                        <a:pt x="446825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a2a3a7"/>
                    </a:gs>
                    <a:gs pos="100000">
                      <a:srgbClr val="d0d1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1" name="圆角矩形 15"/>
              <p:cNvSpPr/>
              <p:nvPr/>
            </p:nvSpPr>
            <p:spPr>
              <a:xfrm>
                <a:off x="3450240" y="1143000"/>
                <a:ext cx="5349240" cy="3748320"/>
              </a:xfrm>
              <a:prstGeom prst="roundRect">
                <a:avLst>
                  <a:gd name="adj" fmla="val 4824"/>
                </a:avLst>
              </a:prstGeom>
              <a:solidFill>
                <a:srgbClr val="d2d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任意多边形 18"/>
              <p:cNvSpPr/>
              <p:nvPr/>
            </p:nvSpPr>
            <p:spPr>
              <a:xfrm>
                <a:off x="3450240" y="1152360"/>
                <a:ext cx="5349240" cy="3330720"/>
              </a:xfrm>
              <a:custGeom>
                <a:avLst/>
                <a:gdLst/>
                <a:ahLst/>
                <a:rect l="l" t="t" r="r" b="b"/>
                <a:pathLst>
                  <a:path w="3686437" h="2294566">
                    <a:moveTo>
                      <a:pt x="117784" y="0"/>
                    </a:moveTo>
                    <a:lnTo>
                      <a:pt x="3568653" y="0"/>
                    </a:lnTo>
                    <a:cubicBezTo>
                      <a:pt x="3633703" y="0"/>
                      <a:pt x="3686437" y="52734"/>
                      <a:pt x="3686437" y="117784"/>
                    </a:cubicBezTo>
                    <a:lnTo>
                      <a:pt x="3686437" y="2294566"/>
                    </a:lnTo>
                    <a:lnTo>
                      <a:pt x="0" y="2294566"/>
                    </a:lnTo>
                    <a:lnTo>
                      <a:pt x="0" y="117784"/>
                    </a:lnTo>
                    <a:cubicBezTo>
                      <a:pt x="0" y="52734"/>
                      <a:pt x="52734" y="0"/>
                      <a:pt x="11778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3650400" y="1383480"/>
                <a:ext cx="4932720" cy="2950560"/>
                <a:chOff x="3650400" y="1383480"/>
                <a:chExt cx="4932720" cy="2950560"/>
              </a:xfrm>
            </p:grpSpPr>
            <p:pic>
              <p:nvPicPr>
                <p:cNvPr id="184" name="矩形 3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50400" y="1383480"/>
                  <a:ext cx="4932720" cy="295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"/>
                <p:cNvSpPr/>
                <p:nvPr/>
              </p:nvSpPr>
              <p:spPr>
                <a:xfrm>
                  <a:off x="3656520" y="1390320"/>
                  <a:ext cx="4920120" cy="29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86" name="矩形 10" hidden="1"/>
          <p:cNvSpPr/>
          <p:nvPr/>
        </p:nvSpPr>
        <p:spPr>
          <a:xfrm>
            <a:off x="0" y="-19080"/>
            <a:ext cx="12144240" cy="982800"/>
          </a:xfrm>
          <a:custGeom>
            <a:avLst/>
            <a:gdLst/>
            <a:ahLst/>
            <a:rect l="l" t="t" r="r" b="b"/>
            <a:pathLst>
              <a:path w="10412094" h="1200943">
                <a:moveTo>
                  <a:pt x="0" y="14068"/>
                </a:moveTo>
                <a:lnTo>
                  <a:pt x="9581936" y="0"/>
                </a:lnTo>
                <a:lnTo>
                  <a:pt x="10412094" y="1186637"/>
                </a:lnTo>
                <a:lnTo>
                  <a:pt x="0" y="1200943"/>
                </a:lnTo>
                <a:lnTo>
                  <a:pt x="0" y="14068"/>
                </a:lnTo>
                <a:close/>
              </a:path>
            </a:pathLst>
          </a:custGeom>
          <a:gradFill rotWithShape="0">
            <a:gsLst>
              <a:gs pos="0">
                <a:srgbClr val="9dca3c"/>
              </a:gs>
              <a:gs pos="100000">
                <a:srgbClr val="0497c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直接连接符 106"/>
          <p:cNvSpPr/>
          <p:nvPr/>
        </p:nvSpPr>
        <p:spPr>
          <a:xfrm>
            <a:off x="8726400" y="3854520"/>
            <a:ext cx="0" cy="322200"/>
          </a:xfrm>
          <a:prstGeom prst="line">
            <a:avLst/>
          </a:prstGeom>
          <a:ln w="6480">
            <a:solidFill>
              <a:srgbClr val="d9d9d9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接连接符 109"/>
          <p:cNvSpPr/>
          <p:nvPr/>
        </p:nvSpPr>
        <p:spPr>
          <a:xfrm>
            <a:off x="9543960" y="3876840"/>
            <a:ext cx="0" cy="322200"/>
          </a:xfrm>
          <a:prstGeom prst="line">
            <a:avLst/>
          </a:prstGeom>
          <a:ln w="6480">
            <a:solidFill>
              <a:srgbClr val="d9d9d9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接连接符 110"/>
          <p:cNvSpPr/>
          <p:nvPr/>
        </p:nvSpPr>
        <p:spPr>
          <a:xfrm>
            <a:off x="8801280" y="3854520"/>
            <a:ext cx="0" cy="322200"/>
          </a:xfrm>
          <a:prstGeom prst="line">
            <a:avLst/>
          </a:prstGeom>
          <a:ln w="6480">
            <a:solidFill>
              <a:srgbClr val="d9d9d9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直接连接符 111"/>
          <p:cNvSpPr/>
          <p:nvPr/>
        </p:nvSpPr>
        <p:spPr>
          <a:xfrm>
            <a:off x="9590040" y="3876840"/>
            <a:ext cx="0" cy="322200"/>
          </a:xfrm>
          <a:prstGeom prst="line">
            <a:avLst/>
          </a:prstGeom>
          <a:ln w="6480">
            <a:solidFill>
              <a:srgbClr val="d9d9d9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文本框 8"/>
          <p:cNvSpPr/>
          <p:nvPr/>
        </p:nvSpPr>
        <p:spPr>
          <a:xfrm>
            <a:off x="5541840" y="1582560"/>
            <a:ext cx="132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2d3d5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90"/>
          <p:cNvSpPr/>
          <p:nvPr/>
        </p:nvSpPr>
        <p:spPr>
          <a:xfrm>
            <a:off x="4094280" y="232884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2d3d5"/>
                </a:solidFill>
                <a:latin typeface="微软雅黑"/>
                <a:ea typeface="微软雅黑"/>
              </a:rPr>
              <a:t>这里填入可长可短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文本框 113"/>
          <p:cNvSpPr/>
          <p:nvPr/>
        </p:nvSpPr>
        <p:spPr>
          <a:xfrm>
            <a:off x="4094280" y="285120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2d3d5"/>
                </a:solidFill>
                <a:latin typeface="微软雅黑"/>
                <a:ea typeface="微软雅黑"/>
              </a:rPr>
              <a:t>这里填入可长可短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114"/>
          <p:cNvSpPr/>
          <p:nvPr/>
        </p:nvSpPr>
        <p:spPr>
          <a:xfrm>
            <a:off x="4094280" y="338760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2d3d5"/>
                </a:solidFill>
                <a:latin typeface="微软雅黑"/>
                <a:ea typeface="微软雅黑"/>
              </a:rPr>
              <a:t>这里填入可长可短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直接连接符 12"/>
          <p:cNvSpPr/>
          <p:nvPr/>
        </p:nvSpPr>
        <p:spPr>
          <a:xfrm>
            <a:off x="4267080" y="2301840"/>
            <a:ext cx="382608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5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1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4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4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4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4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7920" y="4835520"/>
            <a:ext cx="12184200" cy="2028960"/>
            <a:chOff x="7920" y="4835520"/>
            <a:chExt cx="12184200" cy="2028960"/>
          </a:xfrm>
        </p:grpSpPr>
        <p:sp>
          <p:nvSpPr>
            <p:cNvPr id="197" name="直接连接符 65"/>
            <p:cNvSpPr/>
            <p:nvPr/>
          </p:nvSpPr>
          <p:spPr>
            <a:xfrm>
              <a:off x="10508040" y="4835520"/>
              <a:ext cx="1684080" cy="19767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直接连接符 67"/>
            <p:cNvSpPr/>
            <p:nvPr/>
          </p:nvSpPr>
          <p:spPr>
            <a:xfrm>
              <a:off x="10063440" y="4867200"/>
              <a:ext cx="1171440" cy="1973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直接连接符 69"/>
            <p:cNvSpPr/>
            <p:nvPr/>
          </p:nvSpPr>
          <p:spPr>
            <a:xfrm>
              <a:off x="9517320" y="4959360"/>
              <a:ext cx="753840" cy="18943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直接连接符 71"/>
            <p:cNvSpPr/>
            <p:nvPr/>
          </p:nvSpPr>
          <p:spPr>
            <a:xfrm>
              <a:off x="6821640" y="4905360"/>
              <a:ext cx="68040" cy="19148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直接连接符 73"/>
            <p:cNvSpPr/>
            <p:nvPr/>
          </p:nvSpPr>
          <p:spPr>
            <a:xfrm>
              <a:off x="8883720" y="4949640"/>
              <a:ext cx="53964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直接连接符 75"/>
            <p:cNvSpPr/>
            <p:nvPr/>
          </p:nvSpPr>
          <p:spPr>
            <a:xfrm>
              <a:off x="8288640" y="4949640"/>
              <a:ext cx="311040" cy="1862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直接连接符 77"/>
            <p:cNvSpPr/>
            <p:nvPr/>
          </p:nvSpPr>
          <p:spPr>
            <a:xfrm>
              <a:off x="7574040" y="4984560"/>
              <a:ext cx="180720" cy="1835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直接连接符 80"/>
            <p:cNvSpPr/>
            <p:nvPr/>
          </p:nvSpPr>
          <p:spPr>
            <a:xfrm flipH="1">
              <a:off x="7920" y="4879800"/>
              <a:ext cx="1684080" cy="197820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直接连接符 81"/>
            <p:cNvSpPr/>
            <p:nvPr/>
          </p:nvSpPr>
          <p:spPr>
            <a:xfrm flipH="1">
              <a:off x="1005840" y="4873320"/>
              <a:ext cx="1368360" cy="1946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直接连接符 82"/>
            <p:cNvSpPr/>
            <p:nvPr/>
          </p:nvSpPr>
          <p:spPr>
            <a:xfrm flipH="1">
              <a:off x="1908000" y="4949640"/>
              <a:ext cx="96336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直接连接符 83"/>
            <p:cNvSpPr/>
            <p:nvPr/>
          </p:nvSpPr>
          <p:spPr>
            <a:xfrm flipH="1">
              <a:off x="5310360" y="5121000"/>
              <a:ext cx="6480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直接连接符 84"/>
            <p:cNvSpPr/>
            <p:nvPr/>
          </p:nvSpPr>
          <p:spPr>
            <a:xfrm flipH="1">
              <a:off x="2793960" y="5029200"/>
              <a:ext cx="622080" cy="18291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直接连接符 85"/>
            <p:cNvSpPr/>
            <p:nvPr/>
          </p:nvSpPr>
          <p:spPr>
            <a:xfrm flipH="1">
              <a:off x="3657240" y="4975200"/>
              <a:ext cx="301320" cy="18734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直接连接符 86"/>
            <p:cNvSpPr/>
            <p:nvPr/>
          </p:nvSpPr>
          <p:spPr>
            <a:xfrm flipH="1">
              <a:off x="4444560" y="5121000"/>
              <a:ext cx="16668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直接连接符 88"/>
            <p:cNvSpPr/>
            <p:nvPr/>
          </p:nvSpPr>
          <p:spPr>
            <a:xfrm>
              <a:off x="601560" y="6193080"/>
              <a:ext cx="1107612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直接连接符 91"/>
            <p:cNvSpPr/>
            <p:nvPr/>
          </p:nvSpPr>
          <p:spPr>
            <a:xfrm flipH="1">
              <a:off x="1123920" y="5532480"/>
              <a:ext cx="1003176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" name="矩形 9"/>
          <p:cNvSpPr/>
          <p:nvPr/>
        </p:nvSpPr>
        <p:spPr>
          <a:xfrm>
            <a:off x="3014640" y="5364000"/>
            <a:ext cx="6410520" cy="997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图片 3" descr=""/>
          <p:cNvPicPr/>
          <p:nvPr/>
        </p:nvPicPr>
        <p:blipFill>
          <a:blip r:embed="rId1"/>
          <a:stretch/>
        </p:blipFill>
        <p:spPr>
          <a:xfrm>
            <a:off x="3652920" y="1190520"/>
            <a:ext cx="5108400" cy="3629160"/>
          </a:xfrm>
          <a:prstGeom prst="rect">
            <a:avLst/>
          </a:prstGeom>
          <a:ln w="76320">
            <a:solidFill>
              <a:srgbClr val="404040"/>
            </a:solidFill>
            <a:miter/>
          </a:ln>
        </p:spPr>
      </p:pic>
      <p:sp>
        <p:nvSpPr>
          <p:cNvPr id="215" name="文本框 5"/>
          <p:cNvSpPr/>
          <p:nvPr/>
        </p:nvSpPr>
        <p:spPr>
          <a:xfrm>
            <a:off x="3165480" y="5502240"/>
            <a:ext cx="6294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图片右键可替换成你想要的图片，原动画效果会保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5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5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5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5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7920" y="4835520"/>
            <a:ext cx="12184200" cy="2028960"/>
            <a:chOff x="7920" y="4835520"/>
            <a:chExt cx="12184200" cy="2028960"/>
          </a:xfrm>
        </p:grpSpPr>
        <p:sp>
          <p:nvSpPr>
            <p:cNvPr id="217" name="直接连接符 65"/>
            <p:cNvSpPr/>
            <p:nvPr/>
          </p:nvSpPr>
          <p:spPr>
            <a:xfrm>
              <a:off x="10508040" y="4835520"/>
              <a:ext cx="1684080" cy="19767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直接连接符 67"/>
            <p:cNvSpPr/>
            <p:nvPr/>
          </p:nvSpPr>
          <p:spPr>
            <a:xfrm>
              <a:off x="10063440" y="4867200"/>
              <a:ext cx="1171440" cy="1973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直接连接符 69"/>
            <p:cNvSpPr/>
            <p:nvPr/>
          </p:nvSpPr>
          <p:spPr>
            <a:xfrm>
              <a:off x="9517320" y="4959360"/>
              <a:ext cx="753840" cy="18943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直接连接符 71"/>
            <p:cNvSpPr/>
            <p:nvPr/>
          </p:nvSpPr>
          <p:spPr>
            <a:xfrm>
              <a:off x="6821640" y="4905360"/>
              <a:ext cx="68040" cy="19148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直接连接符 73"/>
            <p:cNvSpPr/>
            <p:nvPr/>
          </p:nvSpPr>
          <p:spPr>
            <a:xfrm>
              <a:off x="8883720" y="4949640"/>
              <a:ext cx="53964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接连接符 75"/>
            <p:cNvSpPr/>
            <p:nvPr/>
          </p:nvSpPr>
          <p:spPr>
            <a:xfrm>
              <a:off x="8288640" y="4949640"/>
              <a:ext cx="311040" cy="1862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直接连接符 77"/>
            <p:cNvSpPr/>
            <p:nvPr/>
          </p:nvSpPr>
          <p:spPr>
            <a:xfrm>
              <a:off x="7574040" y="4984560"/>
              <a:ext cx="180720" cy="1835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直接连接符 80"/>
            <p:cNvSpPr/>
            <p:nvPr/>
          </p:nvSpPr>
          <p:spPr>
            <a:xfrm flipH="1">
              <a:off x="7920" y="4879800"/>
              <a:ext cx="1684080" cy="197820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直接连接符 81"/>
            <p:cNvSpPr/>
            <p:nvPr/>
          </p:nvSpPr>
          <p:spPr>
            <a:xfrm flipH="1">
              <a:off x="1005840" y="4873320"/>
              <a:ext cx="1368360" cy="1946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直接连接符 82"/>
            <p:cNvSpPr/>
            <p:nvPr/>
          </p:nvSpPr>
          <p:spPr>
            <a:xfrm flipH="1">
              <a:off x="1908000" y="4949640"/>
              <a:ext cx="96336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直接连接符 83"/>
            <p:cNvSpPr/>
            <p:nvPr/>
          </p:nvSpPr>
          <p:spPr>
            <a:xfrm flipH="1">
              <a:off x="5310360" y="5121000"/>
              <a:ext cx="6480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直接连接符 84"/>
            <p:cNvSpPr/>
            <p:nvPr/>
          </p:nvSpPr>
          <p:spPr>
            <a:xfrm flipH="1">
              <a:off x="2793960" y="5029200"/>
              <a:ext cx="622080" cy="18291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直接连接符 85"/>
            <p:cNvSpPr/>
            <p:nvPr/>
          </p:nvSpPr>
          <p:spPr>
            <a:xfrm flipH="1">
              <a:off x="3657240" y="4975200"/>
              <a:ext cx="301320" cy="18734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直接连接符 86"/>
            <p:cNvSpPr/>
            <p:nvPr/>
          </p:nvSpPr>
          <p:spPr>
            <a:xfrm flipH="1">
              <a:off x="4444560" y="5121000"/>
              <a:ext cx="16668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直接连接符 88"/>
            <p:cNvSpPr/>
            <p:nvPr/>
          </p:nvSpPr>
          <p:spPr>
            <a:xfrm>
              <a:off x="601560" y="6193080"/>
              <a:ext cx="1107612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直接连接符 91"/>
            <p:cNvSpPr/>
            <p:nvPr/>
          </p:nvSpPr>
          <p:spPr>
            <a:xfrm flipH="1">
              <a:off x="1123920" y="5532480"/>
              <a:ext cx="1003176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3" name="矩形 9"/>
          <p:cNvSpPr/>
          <p:nvPr/>
        </p:nvSpPr>
        <p:spPr>
          <a:xfrm>
            <a:off x="3014640" y="5364000"/>
            <a:ext cx="6410520" cy="997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文本框 5"/>
          <p:cNvSpPr/>
          <p:nvPr/>
        </p:nvSpPr>
        <p:spPr>
          <a:xfrm>
            <a:off x="3165480" y="5502240"/>
            <a:ext cx="6294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图片右键可替换成你想要的图片，原动画效果会保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图片 1" descr=""/>
          <p:cNvPicPr/>
          <p:nvPr/>
        </p:nvPicPr>
        <p:blipFill>
          <a:blip r:embed="rId1"/>
          <a:srcRect l="0" t="0" r="7332" b="0"/>
          <a:stretch/>
        </p:blipFill>
        <p:spPr>
          <a:xfrm>
            <a:off x="3584520" y="1073160"/>
            <a:ext cx="5108760" cy="3633840"/>
          </a:xfrm>
          <a:prstGeom prst="rect">
            <a:avLst/>
          </a:prstGeom>
          <a:ln w="57240">
            <a:solidFill>
              <a:srgbClr val="404040"/>
            </a:solidFill>
            <a:miter/>
          </a:ln>
        </p:spPr>
      </p:pic>
    </p:spTree>
  </p:cSld>
  <p:transition spd="slow">
    <p:cover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5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5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5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5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5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5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7920" y="4835520"/>
            <a:ext cx="12184200" cy="2028960"/>
            <a:chOff x="7920" y="4835520"/>
            <a:chExt cx="12184200" cy="2028960"/>
          </a:xfrm>
        </p:grpSpPr>
        <p:sp>
          <p:nvSpPr>
            <p:cNvPr id="237" name="直接连接符 65"/>
            <p:cNvSpPr/>
            <p:nvPr/>
          </p:nvSpPr>
          <p:spPr>
            <a:xfrm>
              <a:off x="10508040" y="4835520"/>
              <a:ext cx="1684080" cy="19767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直接连接符 67"/>
            <p:cNvSpPr/>
            <p:nvPr/>
          </p:nvSpPr>
          <p:spPr>
            <a:xfrm>
              <a:off x="10063440" y="4867200"/>
              <a:ext cx="1171440" cy="1973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直接连接符 69"/>
            <p:cNvSpPr/>
            <p:nvPr/>
          </p:nvSpPr>
          <p:spPr>
            <a:xfrm>
              <a:off x="9517320" y="4959360"/>
              <a:ext cx="753840" cy="18943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直接连接符 71"/>
            <p:cNvSpPr/>
            <p:nvPr/>
          </p:nvSpPr>
          <p:spPr>
            <a:xfrm>
              <a:off x="6821640" y="4905360"/>
              <a:ext cx="68040" cy="19148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直接连接符 73"/>
            <p:cNvSpPr/>
            <p:nvPr/>
          </p:nvSpPr>
          <p:spPr>
            <a:xfrm>
              <a:off x="8883720" y="4949640"/>
              <a:ext cx="53964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直接连接符 75"/>
            <p:cNvSpPr/>
            <p:nvPr/>
          </p:nvSpPr>
          <p:spPr>
            <a:xfrm>
              <a:off x="8288640" y="4949640"/>
              <a:ext cx="311040" cy="1862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直接连接符 77"/>
            <p:cNvSpPr/>
            <p:nvPr/>
          </p:nvSpPr>
          <p:spPr>
            <a:xfrm>
              <a:off x="7574040" y="4984560"/>
              <a:ext cx="180720" cy="1835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直接连接符 80"/>
            <p:cNvSpPr/>
            <p:nvPr/>
          </p:nvSpPr>
          <p:spPr>
            <a:xfrm flipH="1">
              <a:off x="7920" y="4879800"/>
              <a:ext cx="1684080" cy="197820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直接连接符 81"/>
            <p:cNvSpPr/>
            <p:nvPr/>
          </p:nvSpPr>
          <p:spPr>
            <a:xfrm flipH="1">
              <a:off x="1005840" y="4873320"/>
              <a:ext cx="1368360" cy="1946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直接连接符 82"/>
            <p:cNvSpPr/>
            <p:nvPr/>
          </p:nvSpPr>
          <p:spPr>
            <a:xfrm flipH="1">
              <a:off x="1908000" y="4949640"/>
              <a:ext cx="96336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直接连接符 83"/>
            <p:cNvSpPr/>
            <p:nvPr/>
          </p:nvSpPr>
          <p:spPr>
            <a:xfrm flipH="1">
              <a:off x="5310360" y="5121000"/>
              <a:ext cx="6480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直接连接符 84"/>
            <p:cNvSpPr/>
            <p:nvPr/>
          </p:nvSpPr>
          <p:spPr>
            <a:xfrm flipH="1">
              <a:off x="2793960" y="5029200"/>
              <a:ext cx="622080" cy="18291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直接连接符 85"/>
            <p:cNvSpPr/>
            <p:nvPr/>
          </p:nvSpPr>
          <p:spPr>
            <a:xfrm flipH="1">
              <a:off x="3657240" y="4975200"/>
              <a:ext cx="301320" cy="18734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直接连接符 86"/>
            <p:cNvSpPr/>
            <p:nvPr/>
          </p:nvSpPr>
          <p:spPr>
            <a:xfrm flipH="1">
              <a:off x="4444560" y="5121000"/>
              <a:ext cx="16668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直接连接符 88"/>
            <p:cNvSpPr/>
            <p:nvPr/>
          </p:nvSpPr>
          <p:spPr>
            <a:xfrm>
              <a:off x="601560" y="6193080"/>
              <a:ext cx="1107612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直接连接符 91"/>
            <p:cNvSpPr/>
            <p:nvPr/>
          </p:nvSpPr>
          <p:spPr>
            <a:xfrm flipH="1">
              <a:off x="1123920" y="5532480"/>
              <a:ext cx="1003176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3" name="矩形 9"/>
          <p:cNvSpPr/>
          <p:nvPr/>
        </p:nvSpPr>
        <p:spPr>
          <a:xfrm>
            <a:off x="1006560" y="5089680"/>
            <a:ext cx="10094760" cy="99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3"/>
          <p:cNvSpPr/>
          <p:nvPr/>
        </p:nvSpPr>
        <p:spPr>
          <a:xfrm>
            <a:off x="969840" y="1962000"/>
            <a:ext cx="2343240" cy="2248200"/>
          </a:xfrm>
          <a:prstGeom prst="rect">
            <a:avLst/>
          </a:prstGeom>
          <a:solidFill>
            <a:srgbClr val="bf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3571920" y="1962000"/>
            <a:ext cx="2343240" cy="2248200"/>
          </a:xfrm>
          <a:prstGeom prst="rect">
            <a:avLst/>
          </a:prstGeom>
          <a:solidFill>
            <a:srgbClr val="bf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24"/>
          <p:cNvSpPr/>
          <p:nvPr/>
        </p:nvSpPr>
        <p:spPr>
          <a:xfrm>
            <a:off x="6119640" y="1962000"/>
            <a:ext cx="2343240" cy="2248200"/>
          </a:xfrm>
          <a:prstGeom prst="rect">
            <a:avLst/>
          </a:prstGeom>
          <a:solidFill>
            <a:srgbClr val="bf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25"/>
          <p:cNvSpPr/>
          <p:nvPr/>
        </p:nvSpPr>
        <p:spPr>
          <a:xfrm>
            <a:off x="8758080" y="1962000"/>
            <a:ext cx="2343240" cy="2248200"/>
          </a:xfrm>
          <a:prstGeom prst="rect">
            <a:avLst/>
          </a:prstGeom>
          <a:solidFill>
            <a:srgbClr val="bf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图片 4" descr=""/>
          <p:cNvPicPr/>
          <p:nvPr/>
        </p:nvPicPr>
        <p:blipFill>
          <a:blip r:embed="rId1"/>
          <a:stretch/>
        </p:blipFill>
        <p:spPr>
          <a:xfrm>
            <a:off x="6697800" y="2550960"/>
            <a:ext cx="1164960" cy="115092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6" descr=""/>
          <p:cNvPicPr/>
          <p:nvPr/>
        </p:nvPicPr>
        <p:blipFill>
          <a:blip r:embed="rId2"/>
          <a:stretch/>
        </p:blipFill>
        <p:spPr>
          <a:xfrm>
            <a:off x="9223200" y="2550960"/>
            <a:ext cx="1492560" cy="114804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3914640" y="2541600"/>
            <a:ext cx="1676520" cy="117144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8" descr=""/>
          <p:cNvPicPr/>
          <p:nvPr/>
        </p:nvPicPr>
        <p:blipFill>
          <a:blip r:embed="rId4"/>
          <a:stretch/>
        </p:blipFill>
        <p:spPr>
          <a:xfrm>
            <a:off x="1338120" y="2484360"/>
            <a:ext cx="1521000" cy="1254240"/>
          </a:xfrm>
          <a:prstGeom prst="rect">
            <a:avLst/>
          </a:prstGeom>
          <a:ln w="0">
            <a:noFill/>
          </a:ln>
        </p:spPr>
      </p:pic>
      <p:sp>
        <p:nvSpPr>
          <p:cNvPr id="262" name="矩形 10"/>
          <p:cNvSpPr/>
          <p:nvPr/>
        </p:nvSpPr>
        <p:spPr>
          <a:xfrm>
            <a:off x="969840" y="4257720"/>
            <a:ext cx="2343240" cy="482400"/>
          </a:xfrm>
          <a:prstGeom prst="rect">
            <a:avLst/>
          </a:prstGeom>
          <a:solidFill>
            <a:srgbClr val="939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31"/>
          <p:cNvSpPr/>
          <p:nvPr/>
        </p:nvSpPr>
        <p:spPr>
          <a:xfrm>
            <a:off x="3571920" y="4257720"/>
            <a:ext cx="2343240" cy="482400"/>
          </a:xfrm>
          <a:prstGeom prst="rect">
            <a:avLst/>
          </a:prstGeom>
          <a:solidFill>
            <a:srgbClr val="939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32"/>
          <p:cNvSpPr/>
          <p:nvPr/>
        </p:nvSpPr>
        <p:spPr>
          <a:xfrm>
            <a:off x="6127920" y="4257720"/>
            <a:ext cx="2342880" cy="482400"/>
          </a:xfrm>
          <a:prstGeom prst="rect">
            <a:avLst/>
          </a:prstGeom>
          <a:solidFill>
            <a:srgbClr val="939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33"/>
          <p:cNvSpPr/>
          <p:nvPr/>
        </p:nvSpPr>
        <p:spPr>
          <a:xfrm>
            <a:off x="8758080" y="4257720"/>
            <a:ext cx="2343240" cy="482400"/>
          </a:xfrm>
          <a:prstGeom prst="rect">
            <a:avLst/>
          </a:prstGeom>
          <a:solidFill>
            <a:srgbClr val="939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1"/>
          <p:cNvSpPr/>
          <p:nvPr/>
        </p:nvSpPr>
        <p:spPr>
          <a:xfrm>
            <a:off x="1017720" y="4327560"/>
            <a:ext cx="23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文本框 35"/>
          <p:cNvSpPr/>
          <p:nvPr/>
        </p:nvSpPr>
        <p:spPr>
          <a:xfrm>
            <a:off x="3589200" y="4327560"/>
            <a:ext cx="23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36"/>
          <p:cNvSpPr/>
          <p:nvPr/>
        </p:nvSpPr>
        <p:spPr>
          <a:xfrm>
            <a:off x="6138720" y="432756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文本框 37"/>
          <p:cNvSpPr/>
          <p:nvPr/>
        </p:nvSpPr>
        <p:spPr>
          <a:xfrm>
            <a:off x="8793000" y="432756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38"/>
          <p:cNvSpPr/>
          <p:nvPr/>
        </p:nvSpPr>
        <p:spPr>
          <a:xfrm>
            <a:off x="1006560" y="5210280"/>
            <a:ext cx="100947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里输入整个数据表的描述性的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图片是可以更换的，在模板的最后一页附有大量的小图标，可供大家选择更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5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5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5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5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7920" y="4835520"/>
            <a:ext cx="12184200" cy="2028960"/>
            <a:chOff x="7920" y="4835520"/>
            <a:chExt cx="12184200" cy="2028960"/>
          </a:xfrm>
        </p:grpSpPr>
        <p:sp>
          <p:nvSpPr>
            <p:cNvPr id="272" name="直接连接符 65"/>
            <p:cNvSpPr/>
            <p:nvPr/>
          </p:nvSpPr>
          <p:spPr>
            <a:xfrm>
              <a:off x="10508040" y="4835520"/>
              <a:ext cx="1684080" cy="19767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直接连接符 67"/>
            <p:cNvSpPr/>
            <p:nvPr/>
          </p:nvSpPr>
          <p:spPr>
            <a:xfrm>
              <a:off x="10063440" y="4867200"/>
              <a:ext cx="1171440" cy="1973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直接连接符 69"/>
            <p:cNvSpPr/>
            <p:nvPr/>
          </p:nvSpPr>
          <p:spPr>
            <a:xfrm>
              <a:off x="9517320" y="4959360"/>
              <a:ext cx="753840" cy="18943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直接连接符 71"/>
            <p:cNvSpPr/>
            <p:nvPr/>
          </p:nvSpPr>
          <p:spPr>
            <a:xfrm>
              <a:off x="6821640" y="4905360"/>
              <a:ext cx="68040" cy="19148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直接连接符 73"/>
            <p:cNvSpPr/>
            <p:nvPr/>
          </p:nvSpPr>
          <p:spPr>
            <a:xfrm>
              <a:off x="8883720" y="4949640"/>
              <a:ext cx="53964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直接连接符 75"/>
            <p:cNvSpPr/>
            <p:nvPr/>
          </p:nvSpPr>
          <p:spPr>
            <a:xfrm>
              <a:off x="8288640" y="4949640"/>
              <a:ext cx="311040" cy="1862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直接连接符 77"/>
            <p:cNvSpPr/>
            <p:nvPr/>
          </p:nvSpPr>
          <p:spPr>
            <a:xfrm>
              <a:off x="7574040" y="4984560"/>
              <a:ext cx="180720" cy="1835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直接连接符 80"/>
            <p:cNvSpPr/>
            <p:nvPr/>
          </p:nvSpPr>
          <p:spPr>
            <a:xfrm flipH="1">
              <a:off x="7920" y="4879800"/>
              <a:ext cx="1684080" cy="197820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直接连接符 81"/>
            <p:cNvSpPr/>
            <p:nvPr/>
          </p:nvSpPr>
          <p:spPr>
            <a:xfrm flipH="1">
              <a:off x="1005840" y="4873320"/>
              <a:ext cx="1368360" cy="1946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直接连接符 82"/>
            <p:cNvSpPr/>
            <p:nvPr/>
          </p:nvSpPr>
          <p:spPr>
            <a:xfrm flipH="1">
              <a:off x="1908000" y="4949640"/>
              <a:ext cx="96336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直接连接符 83"/>
            <p:cNvSpPr/>
            <p:nvPr/>
          </p:nvSpPr>
          <p:spPr>
            <a:xfrm flipH="1">
              <a:off x="5310360" y="5121000"/>
              <a:ext cx="6480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直接连接符 84"/>
            <p:cNvSpPr/>
            <p:nvPr/>
          </p:nvSpPr>
          <p:spPr>
            <a:xfrm flipH="1">
              <a:off x="2793960" y="5029200"/>
              <a:ext cx="622080" cy="18291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直接连接符 85"/>
            <p:cNvSpPr/>
            <p:nvPr/>
          </p:nvSpPr>
          <p:spPr>
            <a:xfrm flipH="1">
              <a:off x="3657240" y="4975200"/>
              <a:ext cx="301320" cy="18734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直接连接符 86"/>
            <p:cNvSpPr/>
            <p:nvPr/>
          </p:nvSpPr>
          <p:spPr>
            <a:xfrm flipH="1">
              <a:off x="4444560" y="5121000"/>
              <a:ext cx="16668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直接连接符 88"/>
            <p:cNvSpPr/>
            <p:nvPr/>
          </p:nvSpPr>
          <p:spPr>
            <a:xfrm>
              <a:off x="601560" y="6193080"/>
              <a:ext cx="1107612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直接连接符 91"/>
            <p:cNvSpPr/>
            <p:nvPr/>
          </p:nvSpPr>
          <p:spPr>
            <a:xfrm flipH="1">
              <a:off x="1123920" y="5532480"/>
              <a:ext cx="1003176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矩形 9"/>
          <p:cNvSpPr/>
          <p:nvPr/>
        </p:nvSpPr>
        <p:spPr>
          <a:xfrm>
            <a:off x="1006560" y="5089680"/>
            <a:ext cx="10094760" cy="99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3"/>
          <p:cNvSpPr/>
          <p:nvPr/>
        </p:nvSpPr>
        <p:spPr>
          <a:xfrm>
            <a:off x="969840" y="1962000"/>
            <a:ext cx="2343240" cy="2248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23"/>
          <p:cNvSpPr/>
          <p:nvPr/>
        </p:nvSpPr>
        <p:spPr>
          <a:xfrm>
            <a:off x="3571920" y="1962000"/>
            <a:ext cx="2343240" cy="2248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24"/>
          <p:cNvSpPr/>
          <p:nvPr/>
        </p:nvSpPr>
        <p:spPr>
          <a:xfrm>
            <a:off x="6119640" y="1962000"/>
            <a:ext cx="2343240" cy="2248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25"/>
          <p:cNvSpPr/>
          <p:nvPr/>
        </p:nvSpPr>
        <p:spPr>
          <a:xfrm>
            <a:off x="8758080" y="1962000"/>
            <a:ext cx="2343240" cy="2248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图片 4" descr=""/>
          <p:cNvPicPr/>
          <p:nvPr/>
        </p:nvPicPr>
        <p:blipFill>
          <a:blip r:embed="rId1"/>
          <a:stretch/>
        </p:blipFill>
        <p:spPr>
          <a:xfrm>
            <a:off x="6705720" y="2550960"/>
            <a:ext cx="1149120" cy="115092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6" descr=""/>
          <p:cNvPicPr/>
          <p:nvPr/>
        </p:nvPicPr>
        <p:blipFill>
          <a:blip r:embed="rId2"/>
          <a:stretch/>
        </p:blipFill>
        <p:spPr>
          <a:xfrm>
            <a:off x="9401040" y="2550960"/>
            <a:ext cx="1040040" cy="114804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7" descr=""/>
          <p:cNvPicPr/>
          <p:nvPr/>
        </p:nvPicPr>
        <p:blipFill>
          <a:blip r:embed="rId3"/>
          <a:stretch/>
        </p:blipFill>
        <p:spPr>
          <a:xfrm>
            <a:off x="4167360" y="2541600"/>
            <a:ext cx="1171440" cy="117144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8" descr=""/>
          <p:cNvPicPr/>
          <p:nvPr/>
        </p:nvPicPr>
        <p:blipFill>
          <a:blip r:embed="rId4"/>
          <a:stretch/>
        </p:blipFill>
        <p:spPr>
          <a:xfrm>
            <a:off x="1471680" y="2484360"/>
            <a:ext cx="1255680" cy="1254240"/>
          </a:xfrm>
          <a:prstGeom prst="rect">
            <a:avLst/>
          </a:prstGeom>
          <a:ln w="0">
            <a:noFill/>
          </a:ln>
        </p:spPr>
      </p:pic>
      <p:sp>
        <p:nvSpPr>
          <p:cNvPr id="297" name="矩形 10"/>
          <p:cNvSpPr/>
          <p:nvPr/>
        </p:nvSpPr>
        <p:spPr>
          <a:xfrm>
            <a:off x="969840" y="4257720"/>
            <a:ext cx="2343240" cy="48240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31"/>
          <p:cNvSpPr/>
          <p:nvPr/>
        </p:nvSpPr>
        <p:spPr>
          <a:xfrm>
            <a:off x="3571920" y="4257720"/>
            <a:ext cx="2343240" cy="48240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32"/>
          <p:cNvSpPr/>
          <p:nvPr/>
        </p:nvSpPr>
        <p:spPr>
          <a:xfrm>
            <a:off x="6127920" y="4257720"/>
            <a:ext cx="2342880" cy="48240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33"/>
          <p:cNvSpPr/>
          <p:nvPr/>
        </p:nvSpPr>
        <p:spPr>
          <a:xfrm>
            <a:off x="8758080" y="4257720"/>
            <a:ext cx="2343240" cy="48240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文本框 11"/>
          <p:cNvSpPr/>
          <p:nvPr/>
        </p:nvSpPr>
        <p:spPr>
          <a:xfrm>
            <a:off x="1017720" y="4327560"/>
            <a:ext cx="23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文本框 35"/>
          <p:cNvSpPr/>
          <p:nvPr/>
        </p:nvSpPr>
        <p:spPr>
          <a:xfrm>
            <a:off x="3589200" y="4327560"/>
            <a:ext cx="23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文本框 36"/>
          <p:cNvSpPr/>
          <p:nvPr/>
        </p:nvSpPr>
        <p:spPr>
          <a:xfrm>
            <a:off x="6138720" y="432756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文本框 37"/>
          <p:cNvSpPr/>
          <p:nvPr/>
        </p:nvSpPr>
        <p:spPr>
          <a:xfrm>
            <a:off x="8793000" y="432756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文本框 38"/>
          <p:cNvSpPr/>
          <p:nvPr/>
        </p:nvSpPr>
        <p:spPr>
          <a:xfrm>
            <a:off x="1006560" y="5210280"/>
            <a:ext cx="100947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里输入整个数据表的描述性的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图片是可以更换的，在模板的最后一页附有大量的小图标，可供大家选择更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5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5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7920" y="4835520"/>
            <a:ext cx="12184200" cy="2028960"/>
            <a:chOff x="7920" y="4835520"/>
            <a:chExt cx="12184200" cy="2028960"/>
          </a:xfrm>
        </p:grpSpPr>
        <p:sp>
          <p:nvSpPr>
            <p:cNvPr id="307" name="直接连接符 65"/>
            <p:cNvSpPr/>
            <p:nvPr/>
          </p:nvSpPr>
          <p:spPr>
            <a:xfrm>
              <a:off x="10508040" y="4835520"/>
              <a:ext cx="1684080" cy="19767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直接连接符 67"/>
            <p:cNvSpPr/>
            <p:nvPr/>
          </p:nvSpPr>
          <p:spPr>
            <a:xfrm>
              <a:off x="10063440" y="4867200"/>
              <a:ext cx="1171440" cy="1973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直接连接符 69"/>
            <p:cNvSpPr/>
            <p:nvPr/>
          </p:nvSpPr>
          <p:spPr>
            <a:xfrm>
              <a:off x="9517320" y="4959360"/>
              <a:ext cx="753840" cy="18943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直接连接符 71"/>
            <p:cNvSpPr/>
            <p:nvPr/>
          </p:nvSpPr>
          <p:spPr>
            <a:xfrm>
              <a:off x="6821640" y="4905360"/>
              <a:ext cx="68040" cy="19148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直接连接符 73"/>
            <p:cNvSpPr/>
            <p:nvPr/>
          </p:nvSpPr>
          <p:spPr>
            <a:xfrm>
              <a:off x="8883720" y="4949640"/>
              <a:ext cx="53964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直接连接符 75"/>
            <p:cNvSpPr/>
            <p:nvPr/>
          </p:nvSpPr>
          <p:spPr>
            <a:xfrm>
              <a:off x="8288640" y="4949640"/>
              <a:ext cx="311040" cy="1862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直接连接符 77"/>
            <p:cNvSpPr/>
            <p:nvPr/>
          </p:nvSpPr>
          <p:spPr>
            <a:xfrm>
              <a:off x="7574040" y="4984560"/>
              <a:ext cx="180720" cy="18352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直接连接符 80"/>
            <p:cNvSpPr/>
            <p:nvPr/>
          </p:nvSpPr>
          <p:spPr>
            <a:xfrm flipH="1">
              <a:off x="7920" y="4879800"/>
              <a:ext cx="1684080" cy="197820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直接连接符 81"/>
            <p:cNvSpPr/>
            <p:nvPr/>
          </p:nvSpPr>
          <p:spPr>
            <a:xfrm flipH="1">
              <a:off x="1005840" y="4873320"/>
              <a:ext cx="1368360" cy="194652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直接连接符 82"/>
            <p:cNvSpPr/>
            <p:nvPr/>
          </p:nvSpPr>
          <p:spPr>
            <a:xfrm flipH="1">
              <a:off x="1908000" y="4949640"/>
              <a:ext cx="963360" cy="19083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接连接符 83"/>
            <p:cNvSpPr/>
            <p:nvPr/>
          </p:nvSpPr>
          <p:spPr>
            <a:xfrm flipH="1">
              <a:off x="5310360" y="5121000"/>
              <a:ext cx="6480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直接连接符 84"/>
            <p:cNvSpPr/>
            <p:nvPr/>
          </p:nvSpPr>
          <p:spPr>
            <a:xfrm flipH="1">
              <a:off x="2793960" y="5029200"/>
              <a:ext cx="622080" cy="182916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直接连接符 85"/>
            <p:cNvSpPr/>
            <p:nvPr/>
          </p:nvSpPr>
          <p:spPr>
            <a:xfrm flipH="1">
              <a:off x="3657240" y="4975200"/>
              <a:ext cx="301320" cy="187344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直接连接符 86"/>
            <p:cNvSpPr/>
            <p:nvPr/>
          </p:nvSpPr>
          <p:spPr>
            <a:xfrm flipH="1">
              <a:off x="4444560" y="5121000"/>
              <a:ext cx="166680" cy="174348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直接连接符 88"/>
            <p:cNvSpPr/>
            <p:nvPr/>
          </p:nvSpPr>
          <p:spPr>
            <a:xfrm>
              <a:off x="601560" y="6193080"/>
              <a:ext cx="1107612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直接连接符 91"/>
            <p:cNvSpPr/>
            <p:nvPr/>
          </p:nvSpPr>
          <p:spPr>
            <a:xfrm flipH="1">
              <a:off x="1123920" y="5532480"/>
              <a:ext cx="10031760" cy="0"/>
            </a:xfrm>
            <a:prstGeom prst="line">
              <a:avLst/>
            </a:prstGeom>
            <a:ln w="6480">
              <a:solidFill>
                <a:srgbClr val="bfbfb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矩形 9"/>
          <p:cNvSpPr/>
          <p:nvPr/>
        </p:nvSpPr>
        <p:spPr>
          <a:xfrm>
            <a:off x="1006560" y="5089680"/>
            <a:ext cx="10094760" cy="99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3"/>
          <p:cNvSpPr/>
          <p:nvPr/>
        </p:nvSpPr>
        <p:spPr>
          <a:xfrm>
            <a:off x="969840" y="1962000"/>
            <a:ext cx="2343240" cy="2248200"/>
          </a:xfrm>
          <a:prstGeom prst="rect">
            <a:avLst/>
          </a:prstGeom>
          <a:solidFill>
            <a:srgbClr val="d461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3"/>
          <p:cNvSpPr/>
          <p:nvPr/>
        </p:nvSpPr>
        <p:spPr>
          <a:xfrm>
            <a:off x="3571920" y="1962000"/>
            <a:ext cx="2343240" cy="2248200"/>
          </a:xfrm>
          <a:prstGeom prst="rect">
            <a:avLst/>
          </a:prstGeom>
          <a:solidFill>
            <a:srgbClr val="d461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24"/>
          <p:cNvSpPr/>
          <p:nvPr/>
        </p:nvSpPr>
        <p:spPr>
          <a:xfrm>
            <a:off x="6119640" y="1962000"/>
            <a:ext cx="2343240" cy="2248200"/>
          </a:xfrm>
          <a:prstGeom prst="rect">
            <a:avLst/>
          </a:prstGeom>
          <a:solidFill>
            <a:srgbClr val="d461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矩形 25"/>
          <p:cNvSpPr/>
          <p:nvPr/>
        </p:nvSpPr>
        <p:spPr>
          <a:xfrm>
            <a:off x="8758080" y="1962000"/>
            <a:ext cx="2343240" cy="2248200"/>
          </a:xfrm>
          <a:prstGeom prst="rect">
            <a:avLst/>
          </a:prstGeom>
          <a:solidFill>
            <a:srgbClr val="d461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图片 4" descr=""/>
          <p:cNvPicPr/>
          <p:nvPr/>
        </p:nvPicPr>
        <p:blipFill>
          <a:blip r:embed="rId1"/>
          <a:stretch/>
        </p:blipFill>
        <p:spPr>
          <a:xfrm>
            <a:off x="6705720" y="2633760"/>
            <a:ext cx="1149120" cy="91908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" descr=""/>
          <p:cNvPicPr/>
          <p:nvPr/>
        </p:nvPicPr>
        <p:blipFill>
          <a:blip r:embed="rId2"/>
          <a:stretch/>
        </p:blipFill>
        <p:spPr>
          <a:xfrm>
            <a:off x="9426600" y="25034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7" descr=""/>
          <p:cNvPicPr/>
          <p:nvPr/>
        </p:nvPicPr>
        <p:blipFill>
          <a:blip r:embed="rId3"/>
          <a:stretch/>
        </p:blipFill>
        <p:spPr>
          <a:xfrm>
            <a:off x="4167360" y="2633760"/>
            <a:ext cx="1171440" cy="98748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8" descr=""/>
          <p:cNvPicPr/>
          <p:nvPr/>
        </p:nvPicPr>
        <p:blipFill>
          <a:blip r:embed="rId4"/>
          <a:stretch/>
        </p:blipFill>
        <p:spPr>
          <a:xfrm>
            <a:off x="1547640" y="2644920"/>
            <a:ext cx="1148040" cy="965160"/>
          </a:xfrm>
          <a:prstGeom prst="rect">
            <a:avLst/>
          </a:prstGeom>
          <a:ln w="0">
            <a:noFill/>
          </a:ln>
        </p:spPr>
      </p:pic>
      <p:sp>
        <p:nvSpPr>
          <p:cNvPr id="332" name="矩形 10"/>
          <p:cNvSpPr/>
          <p:nvPr/>
        </p:nvSpPr>
        <p:spPr>
          <a:xfrm>
            <a:off x="969840" y="4257720"/>
            <a:ext cx="2343240" cy="482400"/>
          </a:xfrm>
          <a:prstGeom prst="rect">
            <a:avLst/>
          </a:prstGeom>
          <a:solidFill>
            <a:srgbClr val="c258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 31"/>
          <p:cNvSpPr/>
          <p:nvPr/>
        </p:nvSpPr>
        <p:spPr>
          <a:xfrm>
            <a:off x="3571920" y="4257720"/>
            <a:ext cx="2343240" cy="482400"/>
          </a:xfrm>
          <a:prstGeom prst="rect">
            <a:avLst/>
          </a:prstGeom>
          <a:solidFill>
            <a:srgbClr val="c258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2"/>
          <p:cNvSpPr/>
          <p:nvPr/>
        </p:nvSpPr>
        <p:spPr>
          <a:xfrm>
            <a:off x="6127920" y="4257720"/>
            <a:ext cx="2342880" cy="482400"/>
          </a:xfrm>
          <a:prstGeom prst="rect">
            <a:avLst/>
          </a:prstGeom>
          <a:solidFill>
            <a:srgbClr val="c258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33"/>
          <p:cNvSpPr/>
          <p:nvPr/>
        </p:nvSpPr>
        <p:spPr>
          <a:xfrm>
            <a:off x="8758080" y="4257720"/>
            <a:ext cx="2343240" cy="482400"/>
          </a:xfrm>
          <a:prstGeom prst="rect">
            <a:avLst/>
          </a:prstGeom>
          <a:solidFill>
            <a:srgbClr val="c258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11"/>
          <p:cNvSpPr/>
          <p:nvPr/>
        </p:nvSpPr>
        <p:spPr>
          <a:xfrm>
            <a:off x="1017720" y="4327560"/>
            <a:ext cx="23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35"/>
          <p:cNvSpPr/>
          <p:nvPr/>
        </p:nvSpPr>
        <p:spPr>
          <a:xfrm>
            <a:off x="3589200" y="4327560"/>
            <a:ext cx="23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36"/>
          <p:cNvSpPr/>
          <p:nvPr/>
        </p:nvSpPr>
        <p:spPr>
          <a:xfrm>
            <a:off x="6138720" y="432756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文本框 37"/>
          <p:cNvSpPr/>
          <p:nvPr/>
        </p:nvSpPr>
        <p:spPr>
          <a:xfrm>
            <a:off x="8793000" y="432756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描述性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文本框 38"/>
          <p:cNvSpPr/>
          <p:nvPr/>
        </p:nvSpPr>
        <p:spPr>
          <a:xfrm>
            <a:off x="1006560" y="5210280"/>
            <a:ext cx="100947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里输入整个数据表的描述性的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图片是可以更换的，在模板的最后一页附有大量的小图标，可供大家选择更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5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5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5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5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5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5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5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5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5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5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5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5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5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5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5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5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5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5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5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5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任意多边形 13"/>
          <p:cNvSpPr/>
          <p:nvPr/>
        </p:nvSpPr>
        <p:spPr>
          <a:xfrm>
            <a:off x="6118200" y="1457280"/>
            <a:ext cx="1449360" cy="2773440"/>
          </a:xfrm>
          <a:custGeom>
            <a:avLst/>
            <a:gdLst/>
            <a:ahLst/>
            <a:rect l="l" t="t" r="r" b="b"/>
            <a:pathLst>
              <a:path w="1448715" h="2772808">
                <a:moveTo>
                  <a:pt x="724358" y="0"/>
                </a:moveTo>
                <a:lnTo>
                  <a:pt x="833316" y="81478"/>
                </a:lnTo>
                <a:cubicBezTo>
                  <a:pt x="1209156" y="391648"/>
                  <a:pt x="1448715" y="861050"/>
                  <a:pt x="1448715" y="1386404"/>
                </a:cubicBezTo>
                <a:cubicBezTo>
                  <a:pt x="1448715" y="1911758"/>
                  <a:pt x="1209156" y="2381160"/>
                  <a:pt x="833316" y="2691331"/>
                </a:cubicBezTo>
                <a:lnTo>
                  <a:pt x="724358" y="2772808"/>
                </a:lnTo>
                <a:lnTo>
                  <a:pt x="615399" y="2691331"/>
                </a:lnTo>
                <a:cubicBezTo>
                  <a:pt x="239560" y="2381160"/>
                  <a:pt x="0" y="1911758"/>
                  <a:pt x="0" y="1386404"/>
                </a:cubicBezTo>
                <a:cubicBezTo>
                  <a:pt x="0" y="861050"/>
                  <a:pt x="239560" y="391648"/>
                  <a:pt x="615399" y="81478"/>
                </a:cubicBezTo>
                <a:lnTo>
                  <a:pt x="724358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任意多边形 15"/>
          <p:cNvSpPr/>
          <p:nvPr/>
        </p:nvSpPr>
        <p:spPr>
          <a:xfrm>
            <a:off x="4173480" y="1152360"/>
            <a:ext cx="2603520" cy="3383280"/>
          </a:xfrm>
          <a:custGeom>
            <a:avLst/>
            <a:gdLst/>
            <a:ahLst/>
            <a:rect l="l" t="t" r="r" b="b"/>
            <a:pathLst>
              <a:path w="2602735" h="3382178">
                <a:moveTo>
                  <a:pt x="1691089" y="0"/>
                </a:moveTo>
                <a:cubicBezTo>
                  <a:pt x="1982953" y="0"/>
                  <a:pt x="2257547" y="73938"/>
                  <a:pt x="2497163" y="204105"/>
                </a:cubicBezTo>
                <a:lnTo>
                  <a:pt x="2602735" y="268242"/>
                </a:lnTo>
                <a:lnTo>
                  <a:pt x="2568876" y="288811"/>
                </a:lnTo>
                <a:cubicBezTo>
                  <a:pt x="2119044" y="592712"/>
                  <a:pt x="1823291" y="1107362"/>
                  <a:pt x="1823291" y="1691089"/>
                </a:cubicBezTo>
                <a:cubicBezTo>
                  <a:pt x="1823291" y="2274816"/>
                  <a:pt x="2119044" y="2789466"/>
                  <a:pt x="2568876" y="3093367"/>
                </a:cubicBezTo>
                <a:lnTo>
                  <a:pt x="2602735" y="3113937"/>
                </a:lnTo>
                <a:lnTo>
                  <a:pt x="2497163" y="3178073"/>
                </a:lnTo>
                <a:cubicBezTo>
                  <a:pt x="2257547" y="3308240"/>
                  <a:pt x="1982953" y="3382178"/>
                  <a:pt x="1691089" y="3382178"/>
                </a:cubicBezTo>
                <a:cubicBezTo>
                  <a:pt x="757126" y="3382178"/>
                  <a:pt x="0" y="2625052"/>
                  <a:pt x="0" y="1691089"/>
                </a:cubicBezTo>
                <a:cubicBezTo>
                  <a:pt x="0" y="757126"/>
                  <a:pt x="757126" y="0"/>
                  <a:pt x="1691089" y="0"/>
                </a:cubicBezTo>
                <a:close/>
              </a:path>
            </a:pathLst>
          </a:custGeom>
          <a:solidFill>
            <a:srgbClr val="bf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文本框 16"/>
          <p:cNvSpPr/>
          <p:nvPr/>
        </p:nvSpPr>
        <p:spPr>
          <a:xfrm>
            <a:off x="4398840" y="238284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文本框 17"/>
          <p:cNvSpPr/>
          <p:nvPr/>
        </p:nvSpPr>
        <p:spPr>
          <a:xfrm>
            <a:off x="6330960" y="2521080"/>
            <a:ext cx="10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直接连接符 19"/>
          <p:cNvSpPr/>
          <p:nvPr/>
        </p:nvSpPr>
        <p:spPr>
          <a:xfrm flipH="1">
            <a:off x="3074760" y="2843280"/>
            <a:ext cx="1098360" cy="0"/>
          </a:xfrm>
          <a:prstGeom prst="line">
            <a:avLst/>
          </a:prstGeom>
          <a:ln w="28440">
            <a:solidFill>
              <a:srgbClr val="bfcd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椭圆 20"/>
          <p:cNvSpPr/>
          <p:nvPr/>
        </p:nvSpPr>
        <p:spPr>
          <a:xfrm>
            <a:off x="2820960" y="2717640"/>
            <a:ext cx="254160" cy="252720"/>
          </a:xfrm>
          <a:prstGeom prst="ellipse">
            <a:avLst/>
          </a:prstGeom>
          <a:solidFill>
            <a:srgbClr val="bf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直接连接符 23"/>
          <p:cNvSpPr/>
          <p:nvPr/>
        </p:nvSpPr>
        <p:spPr>
          <a:xfrm flipH="1">
            <a:off x="7494480" y="2843280"/>
            <a:ext cx="1100160" cy="0"/>
          </a:xfrm>
          <a:prstGeom prst="line">
            <a:avLst/>
          </a:prstGeom>
          <a:ln w="2844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椭圆 24"/>
          <p:cNvSpPr/>
          <p:nvPr/>
        </p:nvSpPr>
        <p:spPr>
          <a:xfrm>
            <a:off x="8467560" y="2717640"/>
            <a:ext cx="254160" cy="252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文本框 25"/>
          <p:cNvSpPr/>
          <p:nvPr/>
        </p:nvSpPr>
        <p:spPr>
          <a:xfrm>
            <a:off x="998640" y="2473200"/>
            <a:ext cx="193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对这个数据的描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圆角矩形 28"/>
          <p:cNvSpPr/>
          <p:nvPr/>
        </p:nvSpPr>
        <p:spPr>
          <a:xfrm>
            <a:off x="4761000" y="5257800"/>
            <a:ext cx="429876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圆角矩形 27"/>
          <p:cNvSpPr/>
          <p:nvPr/>
        </p:nvSpPr>
        <p:spPr>
          <a:xfrm>
            <a:off x="4761000" y="5257800"/>
            <a:ext cx="3082680" cy="438120"/>
          </a:xfrm>
          <a:prstGeom prst="roundRect">
            <a:avLst>
              <a:gd name="adj" fmla="val 50000"/>
            </a:avLst>
          </a:prstGeom>
          <a:solidFill>
            <a:srgbClr val="bf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圆角矩形 30"/>
          <p:cNvSpPr/>
          <p:nvPr/>
        </p:nvSpPr>
        <p:spPr>
          <a:xfrm>
            <a:off x="4770360" y="5805360"/>
            <a:ext cx="429912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圆角矩形 31"/>
          <p:cNvSpPr/>
          <p:nvPr/>
        </p:nvSpPr>
        <p:spPr>
          <a:xfrm>
            <a:off x="4770360" y="5805360"/>
            <a:ext cx="1387440" cy="43812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组合 37" descr=""/>
          <p:cNvPicPr/>
          <p:nvPr/>
        </p:nvPicPr>
        <p:blipFill>
          <a:blip r:embed="rId1"/>
          <a:stretch/>
        </p:blipFill>
        <p:spPr>
          <a:xfrm>
            <a:off x="4435560" y="5256360"/>
            <a:ext cx="220680" cy="366480"/>
          </a:xfrm>
          <a:prstGeom prst="rect">
            <a:avLst/>
          </a:prstGeom>
          <a:ln w="0">
            <a:noFill/>
          </a:ln>
        </p:spPr>
      </p:pic>
      <p:pic>
        <p:nvPicPr>
          <p:cNvPr id="356" name="组合 38" descr=""/>
          <p:cNvPicPr/>
          <p:nvPr/>
        </p:nvPicPr>
        <p:blipFill>
          <a:blip r:embed="rId2"/>
          <a:stretch/>
        </p:blipFill>
        <p:spPr>
          <a:xfrm>
            <a:off x="4203720" y="5256360"/>
            <a:ext cx="214200" cy="366480"/>
          </a:xfrm>
          <a:prstGeom prst="rect">
            <a:avLst/>
          </a:prstGeom>
          <a:ln w="0">
            <a:noFill/>
          </a:ln>
        </p:spPr>
      </p:pic>
      <p:pic>
        <p:nvPicPr>
          <p:cNvPr id="357" name="组合 41" descr=""/>
          <p:cNvPicPr/>
          <p:nvPr/>
        </p:nvPicPr>
        <p:blipFill>
          <a:blip r:embed="rId3"/>
          <a:stretch/>
        </p:blipFill>
        <p:spPr>
          <a:xfrm>
            <a:off x="3960720" y="5256360"/>
            <a:ext cx="212760" cy="366480"/>
          </a:xfrm>
          <a:prstGeom prst="rect">
            <a:avLst/>
          </a:prstGeom>
          <a:ln w="0">
            <a:noFill/>
          </a:ln>
        </p:spPr>
      </p:pic>
      <p:pic>
        <p:nvPicPr>
          <p:cNvPr id="358" name="组合 44" descr=""/>
          <p:cNvPicPr/>
          <p:nvPr/>
        </p:nvPicPr>
        <p:blipFill>
          <a:blip r:embed="rId4"/>
          <a:stretch/>
        </p:blipFill>
        <p:spPr>
          <a:xfrm>
            <a:off x="3722760" y="5256360"/>
            <a:ext cx="218880" cy="366480"/>
          </a:xfrm>
          <a:prstGeom prst="rect">
            <a:avLst/>
          </a:prstGeom>
          <a:ln w="0">
            <a:noFill/>
          </a:ln>
        </p:spPr>
      </p:pic>
      <p:pic>
        <p:nvPicPr>
          <p:cNvPr id="359" name="组合 47" descr=""/>
          <p:cNvPicPr/>
          <p:nvPr/>
        </p:nvPicPr>
        <p:blipFill>
          <a:blip r:embed="rId5"/>
          <a:stretch/>
        </p:blipFill>
        <p:spPr>
          <a:xfrm>
            <a:off x="3490920" y="5256360"/>
            <a:ext cx="214200" cy="366480"/>
          </a:xfrm>
          <a:prstGeom prst="rect">
            <a:avLst/>
          </a:prstGeom>
          <a:ln w="0">
            <a:noFill/>
          </a:ln>
        </p:spPr>
      </p:pic>
      <p:pic>
        <p:nvPicPr>
          <p:cNvPr id="360" name="组合 50" descr=""/>
          <p:cNvPicPr/>
          <p:nvPr/>
        </p:nvPicPr>
        <p:blipFill>
          <a:blip r:embed="rId6"/>
          <a:stretch/>
        </p:blipFill>
        <p:spPr>
          <a:xfrm>
            <a:off x="3247920" y="5256360"/>
            <a:ext cx="212760" cy="366480"/>
          </a:xfrm>
          <a:prstGeom prst="rect">
            <a:avLst/>
          </a:prstGeom>
          <a:ln w="0">
            <a:noFill/>
          </a:ln>
        </p:spPr>
      </p:pic>
      <p:pic>
        <p:nvPicPr>
          <p:cNvPr id="361" name="组合 53" descr=""/>
          <p:cNvPicPr/>
          <p:nvPr/>
        </p:nvPicPr>
        <p:blipFill>
          <a:blip r:embed="rId7"/>
          <a:stretch/>
        </p:blipFill>
        <p:spPr>
          <a:xfrm>
            <a:off x="3009960" y="5256360"/>
            <a:ext cx="218880" cy="366480"/>
          </a:xfrm>
          <a:prstGeom prst="rect">
            <a:avLst/>
          </a:prstGeom>
          <a:ln w="0">
            <a:noFill/>
          </a:ln>
        </p:spPr>
      </p:pic>
      <p:pic>
        <p:nvPicPr>
          <p:cNvPr id="362" name="组合 56" descr=""/>
          <p:cNvPicPr/>
          <p:nvPr/>
        </p:nvPicPr>
        <p:blipFill>
          <a:blip r:embed="rId8"/>
          <a:stretch/>
        </p:blipFill>
        <p:spPr>
          <a:xfrm>
            <a:off x="4417920" y="5862600"/>
            <a:ext cx="21456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椭圆 60"/>
          <p:cNvSpPr/>
          <p:nvPr/>
        </p:nvSpPr>
        <p:spPr>
          <a:xfrm>
            <a:off x="2868480" y="2762280"/>
            <a:ext cx="154080" cy="154080"/>
          </a:xfrm>
          <a:prstGeom prst="ellipse">
            <a:avLst/>
          </a:prstGeom>
          <a:solidFill>
            <a:srgbClr val="939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椭圆 61"/>
          <p:cNvSpPr/>
          <p:nvPr/>
        </p:nvSpPr>
        <p:spPr>
          <a:xfrm>
            <a:off x="8516880" y="2762280"/>
            <a:ext cx="154080" cy="154080"/>
          </a:xfrm>
          <a:prstGeom prst="ellipse">
            <a:avLst/>
          </a:prstGeom>
          <a:solidFill>
            <a:srgbClr val="b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任意多边形 66"/>
          <p:cNvSpPr/>
          <p:nvPr/>
        </p:nvSpPr>
        <p:spPr>
          <a:xfrm>
            <a:off x="4761000" y="5257800"/>
            <a:ext cx="3082680" cy="219240"/>
          </a:xfrm>
          <a:custGeom>
            <a:avLst/>
            <a:gdLst/>
            <a:ahLst/>
            <a:rect l="l" t="t" r="r" b="b"/>
            <a:pathLst>
              <a:path w="3083561" h="219304">
                <a:moveTo>
                  <a:pt x="219304" y="0"/>
                </a:moveTo>
                <a:lnTo>
                  <a:pt x="2864257" y="0"/>
                </a:lnTo>
                <a:cubicBezTo>
                  <a:pt x="2985375" y="0"/>
                  <a:pt x="3083561" y="98186"/>
                  <a:pt x="3083561" y="219304"/>
                </a:cubicBezTo>
                <a:lnTo>
                  <a:pt x="0" y="219304"/>
                </a:lnTo>
                <a:cubicBezTo>
                  <a:pt x="0" y="98186"/>
                  <a:pt x="98186" y="0"/>
                  <a:pt x="219304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任意多边形 67"/>
          <p:cNvSpPr/>
          <p:nvPr/>
        </p:nvSpPr>
        <p:spPr>
          <a:xfrm>
            <a:off x="4770360" y="5808600"/>
            <a:ext cx="1390680" cy="236520"/>
          </a:xfrm>
          <a:custGeom>
            <a:avLst/>
            <a:gdLst/>
            <a:ahLst/>
            <a:rect l="l" t="t" r="r" b="b"/>
            <a:pathLst>
              <a:path w="3167128" h="235990">
                <a:moveTo>
                  <a:pt x="394035" y="0"/>
                </a:moveTo>
                <a:lnTo>
                  <a:pt x="2788288" y="3337"/>
                </a:lnTo>
                <a:cubicBezTo>
                  <a:pt x="2909406" y="3337"/>
                  <a:pt x="3167128" y="111534"/>
                  <a:pt x="3167128" y="232652"/>
                </a:cubicBezTo>
                <a:lnTo>
                  <a:pt x="0" y="235990"/>
                </a:lnTo>
                <a:cubicBezTo>
                  <a:pt x="0" y="114872"/>
                  <a:pt x="196946" y="10012"/>
                  <a:pt x="394035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25"/>
          <p:cNvSpPr/>
          <p:nvPr/>
        </p:nvSpPr>
        <p:spPr>
          <a:xfrm>
            <a:off x="8771040" y="247320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对这个数据的描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组合 56" descr=""/>
          <p:cNvPicPr/>
          <p:nvPr/>
        </p:nvPicPr>
        <p:blipFill>
          <a:blip r:embed="rId9"/>
          <a:stretch/>
        </p:blipFill>
        <p:spPr>
          <a:xfrm>
            <a:off x="4173480" y="5862600"/>
            <a:ext cx="214200" cy="366840"/>
          </a:xfrm>
          <a:prstGeom prst="rect">
            <a:avLst/>
          </a:prstGeom>
          <a:ln w="0">
            <a:noFill/>
          </a:ln>
        </p:spPr>
      </p:pic>
      <p:pic>
        <p:nvPicPr>
          <p:cNvPr id="369" name="组合 56" descr=""/>
          <p:cNvPicPr/>
          <p:nvPr/>
        </p:nvPicPr>
        <p:blipFill>
          <a:blip r:embed="rId10"/>
          <a:stretch/>
        </p:blipFill>
        <p:spPr>
          <a:xfrm>
            <a:off x="3933720" y="5862600"/>
            <a:ext cx="214560" cy="366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25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25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5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5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8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25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25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8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2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2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25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25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9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9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9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9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7:00:13Z</dcterms:created>
  <dc:creator>幻灯片之家：www.eeppt.com</dc:creator>
  <dc:description>幻灯片之家：www.eeppt.com</dc:description>
  <cp:keywords>幻灯片之家：www.eeppt.com</cp:keywords>
  <dc:language>en-US</dc:language>
  <cp:lastModifiedBy>ABC</cp:lastModifiedBy>
  <dcterms:modified xsi:type="dcterms:W3CDTF">2015-08-12T14:34:10Z</dcterms:modified>
  <cp:revision>3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