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9966-742A-4194-807C-611C9CE88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6182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D25DF-97D6-45DA-9745-B83A4FC7E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6182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6182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46083-66B9-4945-A861-6FE6C558F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594360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594360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6182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6182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6182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2CDF4-7DDE-4BDA-B724-D42AF7284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3AE12-3C8B-4CBF-B934-34437DBA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5943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48FDF-EF26-4943-8F76-DF1F160E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E2119-AC6E-49E0-A0B8-1D08FDB1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C1241-5F61-42D5-8B81-988E185A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F9B97-D84E-4C32-BDF0-26C374B8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057400" y="761760"/>
            <a:ext cx="68580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FE9A1-9812-4B4E-B7CA-F0EE9965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6182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932E1-97B4-4B9D-A9A9-C71A1686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5943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8CD2C-C58B-4D04-B180-F97DEFA1F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6182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CC056-CE87-45A7-85C1-16DFD730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6182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B1850-648E-4A9E-804A-47C19D05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6182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741AB-045C-486C-9FB0-45327E77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6182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6182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B4F9F-287B-4874-A1E6-9FBD1D36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594360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594360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6182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6182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6182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2BE7D-3F58-40C3-B13C-091B5EAB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2378-3697-41EE-BEFB-744A1DBF4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45C41-7A64-4798-BEBF-50CBE82CF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63BB0-8C1F-41A1-BB96-9051CD044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57400" y="761760"/>
            <a:ext cx="68580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0348F-FBC9-4A18-B1DD-C9DF9BFA8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6182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124DF-EEAF-4641-A334-EB5457517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6182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DC4FD-5847-4F95-87F2-067F79520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594360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6182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6A4B-0771-4BEB-9287-047F2B3AF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2600" y="12600"/>
            <a:ext cx="1059120" cy="793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865080"/>
            <a:ext cx="914400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a02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26aa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a02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0d885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790960" y="653688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4343400" y="653688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521D-9E9C-454A-9405-D1DB4D3B02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920" y="47628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205000"/>
            <a:ext cx="8675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90792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36800" y="83664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216360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7617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d4d4d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d4d4d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d4d4d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d4d4d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429000" y="1130400"/>
            <a:ext cx="5727600" cy="5727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d4d4d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00E0-8E38-41C2-B9A8-D8C8A7E80F2E}" type="slidenum">
              <a:rPr b="0" lang="zh-CN" sz="1400" spc="-1" strike="noStrike">
                <a:solidFill>
                  <a:srgbClr val="4d4d4d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ca024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SzPct val="75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0d885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1348920"/>
            <a:ext cx="69343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动态圣诞节幻灯片免费下载</a:t>
            </a:r>
            <a:endParaRPr b="1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6109920"/>
            <a:ext cx="6400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15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91560" y="3300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0d88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B882D-1989-4ACC-A61F-41584DC161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2286000" y="2743200"/>
            <a:ext cx="5181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effff"/>
                  </a:solidFill>
                  <a:miter/>
                </a:ln>
                <a:gradFill rotWithShape="0">
                  <a:gsLst>
                    <a:gs pos="0">
                      <a:srgbClr val="eca024"/>
                    </a:gs>
                    <a:gs pos="100000">
                      <a:srgbClr val="60d885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5560">
                <a:solidFill>
                  <a:srgbClr val="feffff"/>
                </a:solidFill>
                <a:miter/>
              </a:ln>
              <a:gradFill rotWithShape="0">
                <a:gsLst>
                  <a:gs pos="0">
                    <a:srgbClr val="eca024"/>
                  </a:gs>
                  <a:gs pos="100000">
                    <a:srgbClr val="60d885"/>
                  </a:gs>
                </a:gsLst>
                <a:lin ang="108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371600" y="6127920"/>
            <a:ext cx="64008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36760" y="3597120"/>
            <a:ext cx="5094360" cy="1800"/>
          </a:xfrm>
          <a:prstGeom prst="line">
            <a:avLst/>
          </a:prstGeom>
          <a:ln w="25560">
            <a:solidFill>
              <a:srgbClr val="4d4d4d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60520" y="5432400"/>
            <a:ext cx="5094360" cy="1440"/>
          </a:xfrm>
          <a:prstGeom prst="line">
            <a:avLst/>
          </a:prstGeom>
          <a:ln w="25560">
            <a:solidFill>
              <a:srgbClr val="4d4d4d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0520" y="2711520"/>
            <a:ext cx="5094360" cy="1440"/>
          </a:xfrm>
          <a:prstGeom prst="line">
            <a:avLst/>
          </a:prstGeom>
          <a:ln w="25560">
            <a:solidFill>
              <a:srgbClr val="4d4d4d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60520" y="4518000"/>
            <a:ext cx="5094360" cy="1440"/>
          </a:xfrm>
          <a:prstGeom prst="line">
            <a:avLst/>
          </a:prstGeom>
          <a:ln w="25560">
            <a:solidFill>
              <a:srgbClr val="4d4d4d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981080" y="2057400"/>
            <a:ext cx="679680" cy="685800"/>
            <a:chOff x="1981080" y="2057400"/>
            <a:chExt cx="679680" cy="685800"/>
          </a:xfrm>
        </p:grpSpPr>
        <p:sp>
          <p:nvSpPr>
            <p:cNvPr id="101" name=""/>
            <p:cNvSpPr/>
            <p:nvPr/>
          </p:nvSpPr>
          <p:spPr>
            <a:xfrm>
              <a:off x="1981080" y="2057400"/>
              <a:ext cx="679680" cy="685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13289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81080" y="2057400"/>
              <a:ext cx="679680" cy="685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13289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25360" y="2102040"/>
              <a:ext cx="590400" cy="596160"/>
            </a:xfrm>
            <a:prstGeom prst="ellipse">
              <a:avLst/>
            </a:prstGeom>
            <a:gradFill rotWithShape="0">
              <a:gsLst>
                <a:gs pos="0">
                  <a:srgbClr val="0a154e"/>
                </a:gs>
                <a:gs pos="50000">
                  <a:srgbClr val="132891"/>
                </a:gs>
                <a:gs pos="100000">
                  <a:srgbClr val="0a154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26080" y="2103120"/>
              <a:ext cx="590400" cy="596160"/>
            </a:xfrm>
            <a:prstGeom prst="ellipse">
              <a:avLst/>
            </a:prstGeom>
            <a:gradFill rotWithShape="0">
              <a:gsLst>
                <a:gs pos="0">
                  <a:srgbClr val="132891">
                    <a:alpha val="0"/>
                  </a:srgbClr>
                </a:gs>
                <a:gs pos="100000">
                  <a:srgbClr val="0c19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4880" y="2131920"/>
              <a:ext cx="531720" cy="536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2063520" y="2139840"/>
              <a:ext cx="514440" cy="519840"/>
              <a:chOff x="2063520" y="2139840"/>
              <a:chExt cx="514440" cy="519840"/>
            </a:xfrm>
          </p:grpSpPr>
          <p:sp>
            <p:nvSpPr>
              <p:cNvPr id="107" name=""/>
              <p:cNvSpPr/>
              <p:nvPr/>
            </p:nvSpPr>
            <p:spPr>
              <a:xfrm>
                <a:off x="2063520" y="2139840"/>
                <a:ext cx="514440" cy="519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70000" y="2142720"/>
                <a:ext cx="502200" cy="506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75400" y="2147400"/>
                <a:ext cx="477360" cy="473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103120" y="2160720"/>
                <a:ext cx="424440" cy="384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1974960" y="2919240"/>
            <a:ext cx="682560" cy="690840"/>
            <a:chOff x="1974960" y="2919240"/>
            <a:chExt cx="682560" cy="690840"/>
          </a:xfrm>
        </p:grpSpPr>
        <p:sp>
          <p:nvSpPr>
            <p:cNvPr id="112" name=""/>
            <p:cNvSpPr/>
            <p:nvPr/>
          </p:nvSpPr>
          <p:spPr>
            <a:xfrm>
              <a:off x="1974960" y="2919240"/>
              <a:ext cx="682560" cy="690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26aa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74960" y="2919240"/>
              <a:ext cx="682560" cy="690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26aa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19600" y="2963880"/>
              <a:ext cx="592920" cy="600840"/>
            </a:xfrm>
            <a:prstGeom prst="ellipse">
              <a:avLst/>
            </a:prstGeom>
            <a:gradFill rotWithShape="0">
              <a:gsLst>
                <a:gs pos="0">
                  <a:srgbClr val="233959"/>
                </a:gs>
                <a:gs pos="50000">
                  <a:srgbClr val="426aa6"/>
                </a:gs>
                <a:gs pos="100000">
                  <a:srgbClr val="23395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21400" y="2963880"/>
              <a:ext cx="593640" cy="600840"/>
            </a:xfrm>
            <a:prstGeom prst="ellipse">
              <a:avLst/>
            </a:prstGeom>
            <a:gradFill rotWithShape="0">
              <a:gsLst>
                <a:gs pos="0">
                  <a:srgbClr val="426aa6">
                    <a:alpha val="0"/>
                  </a:srgbClr>
                </a:gs>
                <a:gs pos="100000">
                  <a:srgbClr val="2943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48760" y="2994120"/>
              <a:ext cx="534600" cy="540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058120" y="3002400"/>
              <a:ext cx="516240" cy="523080"/>
              <a:chOff x="2058120" y="3002400"/>
              <a:chExt cx="516240" cy="523080"/>
            </a:xfrm>
          </p:grpSpPr>
          <p:sp>
            <p:nvSpPr>
              <p:cNvPr id="118" name=""/>
              <p:cNvSpPr/>
              <p:nvPr/>
            </p:nvSpPr>
            <p:spPr>
              <a:xfrm>
                <a:off x="2058120" y="3002400"/>
                <a:ext cx="516240" cy="523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64600" y="3005280"/>
                <a:ext cx="504000" cy="510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70000" y="3010320"/>
                <a:ext cx="479160" cy="47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98080" y="3023640"/>
                <a:ext cx="425880" cy="387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981080" y="3906720"/>
            <a:ext cx="679680" cy="685800"/>
            <a:chOff x="1981080" y="3906720"/>
            <a:chExt cx="679680" cy="685800"/>
          </a:xfrm>
        </p:grpSpPr>
        <p:sp>
          <p:nvSpPr>
            <p:cNvPr id="123" name=""/>
            <p:cNvSpPr/>
            <p:nvPr/>
          </p:nvSpPr>
          <p:spPr>
            <a:xfrm>
              <a:off x="1981080" y="3906720"/>
              <a:ext cx="679680" cy="685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13289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81080" y="3906720"/>
              <a:ext cx="679680" cy="685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13289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25360" y="3951360"/>
              <a:ext cx="590400" cy="596160"/>
            </a:xfrm>
            <a:prstGeom prst="ellipse">
              <a:avLst/>
            </a:prstGeom>
            <a:gradFill rotWithShape="0">
              <a:gsLst>
                <a:gs pos="0">
                  <a:srgbClr val="0a154e"/>
                </a:gs>
                <a:gs pos="50000">
                  <a:srgbClr val="132891"/>
                </a:gs>
                <a:gs pos="100000">
                  <a:srgbClr val="0a154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26080" y="3952440"/>
              <a:ext cx="590400" cy="596160"/>
            </a:xfrm>
            <a:prstGeom prst="ellipse">
              <a:avLst/>
            </a:prstGeom>
            <a:gradFill rotWithShape="0">
              <a:gsLst>
                <a:gs pos="0">
                  <a:srgbClr val="132891">
                    <a:alpha val="0"/>
                  </a:srgbClr>
                </a:gs>
                <a:gs pos="100000">
                  <a:srgbClr val="0c19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54880" y="3981240"/>
              <a:ext cx="531720" cy="536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063520" y="3989160"/>
              <a:ext cx="514440" cy="519840"/>
              <a:chOff x="2063520" y="3989160"/>
              <a:chExt cx="514440" cy="519840"/>
            </a:xfrm>
          </p:grpSpPr>
          <p:sp>
            <p:nvSpPr>
              <p:cNvPr id="129" name=""/>
              <p:cNvSpPr/>
              <p:nvPr/>
            </p:nvSpPr>
            <p:spPr>
              <a:xfrm>
                <a:off x="2063520" y="3989160"/>
                <a:ext cx="514440" cy="519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70000" y="3992040"/>
                <a:ext cx="502200" cy="506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75400" y="3996720"/>
                <a:ext cx="477360" cy="473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03120" y="4010040"/>
                <a:ext cx="424440" cy="384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1974960" y="4789440"/>
            <a:ext cx="682560" cy="690480"/>
            <a:chOff x="1974960" y="4789440"/>
            <a:chExt cx="682560" cy="690480"/>
          </a:xfrm>
        </p:grpSpPr>
        <p:sp>
          <p:nvSpPr>
            <p:cNvPr id="134" name=""/>
            <p:cNvSpPr/>
            <p:nvPr/>
          </p:nvSpPr>
          <p:spPr>
            <a:xfrm>
              <a:off x="1974960" y="4789440"/>
              <a:ext cx="682560" cy="690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26aa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74960" y="4789440"/>
              <a:ext cx="682560" cy="690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26aa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19600" y="4834080"/>
              <a:ext cx="592920" cy="600480"/>
            </a:xfrm>
            <a:prstGeom prst="ellipse">
              <a:avLst/>
            </a:prstGeom>
            <a:gradFill rotWithShape="0">
              <a:gsLst>
                <a:gs pos="0">
                  <a:srgbClr val="233959"/>
                </a:gs>
                <a:gs pos="50000">
                  <a:srgbClr val="426aa6"/>
                </a:gs>
                <a:gs pos="100000">
                  <a:srgbClr val="23395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21400" y="4834080"/>
              <a:ext cx="593640" cy="600480"/>
            </a:xfrm>
            <a:prstGeom prst="ellipse">
              <a:avLst/>
            </a:prstGeom>
            <a:gradFill rotWithShape="0">
              <a:gsLst>
                <a:gs pos="0">
                  <a:srgbClr val="426aa6">
                    <a:alpha val="0"/>
                  </a:srgbClr>
                </a:gs>
                <a:gs pos="100000">
                  <a:srgbClr val="2943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48760" y="4864320"/>
              <a:ext cx="534600" cy="540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2058120" y="4872600"/>
              <a:ext cx="516240" cy="523080"/>
              <a:chOff x="2058120" y="4872600"/>
              <a:chExt cx="516240" cy="523080"/>
            </a:xfrm>
          </p:grpSpPr>
          <p:sp>
            <p:nvSpPr>
              <p:cNvPr id="140" name=""/>
              <p:cNvSpPr/>
              <p:nvPr/>
            </p:nvSpPr>
            <p:spPr>
              <a:xfrm>
                <a:off x="2058120" y="4872600"/>
                <a:ext cx="516240" cy="523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064600" y="4875480"/>
                <a:ext cx="504000" cy="510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70000" y="4880520"/>
                <a:ext cx="479160" cy="47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98080" y="4893840"/>
                <a:ext cx="425880" cy="387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"/>
          <p:cNvSpPr/>
          <p:nvPr/>
        </p:nvSpPr>
        <p:spPr>
          <a:xfrm>
            <a:off x="2133720" y="216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022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4022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4906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133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016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3960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4886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0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26aa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eca024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eca024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eca024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eca024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510552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宋体"/>
              </a:rPr>
              <a:t>Image :CD_ </a:t>
            </a:r>
            <a:r>
              <a:rPr b="0" lang="en-US" sz="1000" spc="-1" strike="noStrike">
                <a:solidFill>
                  <a:srgbClr val="4d4d4d"/>
                </a:solidFill>
                <a:latin typeface="Verdana"/>
                <a:ea typeface="宋体"/>
              </a:rPr>
              <a:t>Holiday celebrations and seasons 1(PhotoDisc)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Verdana"/>
                <a:ea typeface="宋体"/>
              </a:rPr>
              <a:t> 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14400" y="1523880"/>
            <a:ext cx="7315200" cy="4598640"/>
            <a:chOff x="914400" y="1523880"/>
            <a:chExt cx="7315200" cy="4598640"/>
          </a:xfrm>
        </p:grpSpPr>
        <p:sp>
          <p:nvSpPr>
            <p:cNvPr id="157" name=""/>
            <p:cNvSpPr/>
            <p:nvPr/>
          </p:nvSpPr>
          <p:spPr>
            <a:xfrm>
              <a:off x="5073480" y="1523880"/>
              <a:ext cx="1467000" cy="11556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0d885"/>
                </a:gs>
                <a:gs pos="100000">
                  <a:srgbClr val="6dda8f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4320" y="2957400"/>
              <a:ext cx="2295360" cy="27576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2757600"/>
                <a:gd name="textAreaBottom" fmla="*/ 2726280 h 2757600"/>
              </a:gdLst>
              <a:ahLst/>
              <a:rect l="textAreaLeft" t="textAreaTop" r="textAreaRight" b="textAreaBottom"/>
              <a:pathLst>
                <a:path w="21600" h="25949">
                  <a:moveTo>
                    <a:pt x="1013" y="0"/>
                  </a:moveTo>
                  <a:arcTo wR="1013" hR="1013" stAng="16200000" swAng="-5400000"/>
                  <a:lnTo>
                    <a:pt x="0" y="24936"/>
                  </a:lnTo>
                  <a:arcTo wR="1013" hR="1013" stAng="10800000" swAng="-5400000"/>
                  <a:lnTo>
                    <a:pt x="20587" y="2594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eca0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57600" y="281916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c4910"/>
                </a:gs>
                <a:gs pos="50000">
                  <a:srgbClr val="eca024"/>
                </a:gs>
                <a:gs pos="100000">
                  <a:srgbClr val="6c49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5333400" y="289548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742560" y="288612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4240" y="2455920"/>
              <a:ext cx="2295360" cy="275724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2757240"/>
                <a:gd name="textAreaBottom" fmla="*/ 2725920 h 2757240"/>
              </a:gdLst>
              <a:ahLst/>
              <a:rect l="textAreaLeft" t="textAreaTop" r="textAreaRight" b="textAreaBottom"/>
              <a:pathLst>
                <a:path w="21600" h="25946">
                  <a:moveTo>
                    <a:pt x="1013" y="0"/>
                  </a:moveTo>
                  <a:arcTo wR="1013" hR="1013" stAng="16200000" swAng="-5400000"/>
                  <a:lnTo>
                    <a:pt x="0" y="24933"/>
                  </a:lnTo>
                  <a:arcTo wR="1013" hR="1013" stAng="10800000" swAng="-5400000"/>
                  <a:lnTo>
                    <a:pt x="20587" y="25946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0d8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49880" y="231300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c633d"/>
                </a:gs>
                <a:gs pos="50000">
                  <a:srgbClr val="60d885"/>
                </a:gs>
                <a:gs pos="100000">
                  <a:srgbClr val="2c63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835040" y="238428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253200" y="238428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92280" y="2025360"/>
              <a:ext cx="1467000" cy="11574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132891"/>
                </a:gs>
                <a:gs pos="100000">
                  <a:srgbClr val="7682be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13200" y="279072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efefe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27800" y="22953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efefe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914400" y="3219480"/>
              <a:ext cx="2295360" cy="2903040"/>
              <a:chOff x="914400" y="3219480"/>
              <a:chExt cx="2295360" cy="2903040"/>
            </a:xfrm>
          </p:grpSpPr>
          <p:sp>
            <p:nvSpPr>
              <p:cNvPr id="170" name=""/>
              <p:cNvSpPr/>
              <p:nvPr/>
            </p:nvSpPr>
            <p:spPr>
              <a:xfrm>
                <a:off x="914400" y="3366000"/>
                <a:ext cx="2295360" cy="275652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2756520"/>
                  <a:gd name="textAreaBottom" fmla="*/ 2725200 h 2756520"/>
                </a:gdLst>
                <a:ahLst/>
                <a:rect l="textAreaLeft" t="textAreaTop" r="textAreaRight" b="textAreaBottom"/>
                <a:pathLst>
                  <a:path w="21600" h="25939">
                    <a:moveTo>
                      <a:pt x="1013" y="0"/>
                    </a:moveTo>
                    <a:arcTo wR="1013" hR="1013" stAng="16200000" swAng="-5400000"/>
                    <a:lnTo>
                      <a:pt x="0" y="24926"/>
                    </a:lnTo>
                    <a:arcTo wR="1013" hR="1013" stAng="10800000" swAng="-5400000"/>
                    <a:lnTo>
                      <a:pt x="20587" y="25939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1328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130400" y="3241800"/>
                <a:ext cx="1863720" cy="25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70f38"/>
                  </a:gs>
                  <a:gs pos="50000">
                    <a:srgbClr val="132891"/>
                  </a:gs>
                  <a:gs pos="100000">
                    <a:srgbClr val="070f3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813760" y="3303720"/>
                <a:ext cx="71640" cy="126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1231200" y="3303720"/>
                <a:ext cx="73080" cy="126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98600" y="321948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efefe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90720" y="359388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3505320" y="319068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9920" y="26575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0d885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523520" y="1905120"/>
            <a:ext cx="6297480" cy="3878280"/>
            <a:chOff x="1523520" y="1905120"/>
            <a:chExt cx="6297480" cy="3878280"/>
          </a:xfrm>
        </p:grpSpPr>
        <p:grpSp>
          <p:nvGrpSpPr>
            <p:cNvPr id="181" name=""/>
            <p:cNvGrpSpPr/>
            <p:nvPr/>
          </p:nvGrpSpPr>
          <p:grpSpPr>
            <a:xfrm>
              <a:off x="1523520" y="1905120"/>
              <a:ext cx="3747960" cy="3874680"/>
              <a:chOff x="1523520" y="1905120"/>
              <a:chExt cx="3747960" cy="3874680"/>
            </a:xfrm>
          </p:grpSpPr>
          <p:sp>
            <p:nvSpPr>
              <p:cNvPr id="182" name=""/>
              <p:cNvSpPr/>
              <p:nvPr/>
            </p:nvSpPr>
            <p:spPr>
              <a:xfrm flipH="1">
                <a:off x="1523520" y="5778720"/>
                <a:ext cx="1660680" cy="1080"/>
              </a:xfrm>
              <a:prstGeom prst="line">
                <a:avLst/>
              </a:prstGeom>
              <a:ln cap="rnd" w="19080">
                <a:solidFill>
                  <a:srgbClr val="4d4d4d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1523520" y="4998240"/>
                <a:ext cx="2142360" cy="1080"/>
              </a:xfrm>
              <a:prstGeom prst="line">
                <a:avLst/>
              </a:prstGeom>
              <a:ln cap="rnd" w="19080">
                <a:solidFill>
                  <a:srgbClr val="4d4d4d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1523880" y="4188600"/>
                <a:ext cx="2516400" cy="1080"/>
              </a:xfrm>
              <a:prstGeom prst="line">
                <a:avLst/>
              </a:prstGeom>
              <a:ln cap="rnd" w="19080">
                <a:solidFill>
                  <a:srgbClr val="4d4d4d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1523880" y="3391200"/>
                <a:ext cx="2944800" cy="1080"/>
              </a:xfrm>
              <a:prstGeom prst="line">
                <a:avLst/>
              </a:prstGeom>
              <a:ln cap="rnd" w="19080">
                <a:solidFill>
                  <a:srgbClr val="4d4d4d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1523880" y="2589480"/>
                <a:ext cx="3372480" cy="1080"/>
              </a:xfrm>
              <a:prstGeom prst="line">
                <a:avLst/>
              </a:prstGeom>
              <a:ln cap="rnd" w="19080">
                <a:solidFill>
                  <a:srgbClr val="4d4d4d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1523520" y="1905120"/>
                <a:ext cx="3747960" cy="1080"/>
              </a:xfrm>
              <a:prstGeom prst="line">
                <a:avLst/>
              </a:prstGeom>
              <a:ln cap="rnd" w="19080">
                <a:solidFill>
                  <a:srgbClr val="4d4d4d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737000" y="1905120"/>
                <a:ext cx="1440" cy="68436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737000" y="2589480"/>
                <a:ext cx="1440" cy="80928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37000" y="3398760"/>
                <a:ext cx="1440" cy="80928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737000" y="4208400"/>
                <a:ext cx="1440" cy="80928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737000" y="5018040"/>
                <a:ext cx="1440" cy="74664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89200" y="209592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789200" y="288684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89200" y="367668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89200" y="446976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89200" y="525924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271680" y="1905120"/>
              <a:ext cx="4549320" cy="3878280"/>
              <a:chOff x="3271680" y="1905120"/>
              <a:chExt cx="4549320" cy="3878280"/>
            </a:xfrm>
          </p:grpSpPr>
          <p:sp>
            <p:nvSpPr>
              <p:cNvPr id="199" name=""/>
              <p:cNvSpPr/>
              <p:nvPr/>
            </p:nvSpPr>
            <p:spPr>
              <a:xfrm>
                <a:off x="7018920" y="4592880"/>
                <a:ext cx="802080" cy="118872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4646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34920" y="4592880"/>
                <a:ext cx="3738960" cy="50652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gradFill rotWithShape="0">
                <a:gsLst>
                  <a:gs pos="0">
                    <a:srgbClr val="4040a1"/>
                  </a:gs>
                  <a:gs pos="100000">
                    <a:srgbClr val="66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271680" y="5097240"/>
                <a:ext cx="4127400" cy="68616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9898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99880" y="3920400"/>
                <a:ext cx="709200" cy="107640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94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060080" y="3920400"/>
                <a:ext cx="2808720" cy="37908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gradFill rotWithShape="0">
                <a:gsLst>
                  <a:gs pos="0">
                    <a:srgbClr val="005a43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04400" y="4298040"/>
                <a:ext cx="3260880" cy="69876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85e5c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180840" y="3254760"/>
                <a:ext cx="620640" cy="93492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b1790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482360" y="3254760"/>
                <a:ext cx="1875240" cy="25236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gradFill rotWithShape="0">
                <a:gsLst>
                  <a:gs pos="0">
                    <a:srgbClr val="734e05"/>
                  </a:gs>
                  <a:gs pos="100000">
                    <a:srgbClr val="f4a70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121280" y="3505680"/>
                <a:ext cx="2426400" cy="68364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f8d4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57120" y="2579040"/>
                <a:ext cx="534240" cy="81396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9938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12200" y="2579040"/>
                <a:ext cx="935640" cy="12204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gradFill rotWithShape="0">
                <a:gsLst>
                  <a:gs pos="0">
                    <a:srgbClr val="622481"/>
                  </a:gs>
                  <a:gs pos="100000">
                    <a:srgbClr val="c247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43920" y="2699640"/>
                <a:ext cx="1580040" cy="69300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dfa2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330160" y="1905120"/>
                <a:ext cx="451440" cy="68904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0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964040" y="1905120"/>
                <a:ext cx="732600" cy="68904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9dc4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070600" y="22712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80808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70600" y="29977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80808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37872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80808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70600" y="45781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80808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70600" y="5369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80808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05320" y="1600200"/>
            <a:ext cx="2319120" cy="2320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589120" y="2792520"/>
            <a:ext cx="2320920" cy="232092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4329000" y="2820960"/>
            <a:ext cx="2320920" cy="2324160"/>
            <a:chOff x="4329000" y="2820960"/>
            <a:chExt cx="2320920" cy="232416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4329000" y="2820960"/>
              <a:ext cx="2320920" cy="23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330080" y="2822040"/>
              <a:ext cx="2319840" cy="2323080"/>
            </a:xfrm>
            <a:prstGeom prst="ellipse">
              <a:avLst/>
            </a:prstGeom>
            <a:solidFill>
              <a:srgbClr val="132891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05320" y="1600200"/>
            <a:ext cx="2317680" cy="2322360"/>
          </a:xfrm>
          <a:prstGeom prst="ellipse">
            <a:avLst/>
          </a:prstGeom>
          <a:solidFill>
            <a:srgbClr val="426aa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89120" y="2792520"/>
            <a:ext cx="2320920" cy="2320920"/>
          </a:xfrm>
          <a:prstGeom prst="ellipse">
            <a:avLst/>
          </a:prstGeom>
          <a:solidFill>
            <a:srgbClr val="60d885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3106800" y="2517480"/>
            <a:ext cx="1008000" cy="7318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305320" y="2546280"/>
            <a:ext cx="1068480" cy="6732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603680" y="4259160"/>
            <a:ext cx="22320" cy="9162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70000" y="33354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3320" y="5289480"/>
            <a:ext cx="1969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 is a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49720" y="3917880"/>
            <a:ext cx="1371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63720" y="3841920"/>
            <a:ext cx="1371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83040" y="2165400"/>
            <a:ext cx="1371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21320" y="1936800"/>
            <a:ext cx="1970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 is a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87560" y="1936800"/>
            <a:ext cx="1969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 is a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914400" y="1523880"/>
            <a:ext cx="6899040" cy="4676400"/>
            <a:chOff x="914400" y="1523880"/>
            <a:chExt cx="6899040" cy="4676400"/>
          </a:xfrm>
        </p:grpSpPr>
        <p:sp>
          <p:nvSpPr>
            <p:cNvPr id="237" name=""/>
            <p:cNvSpPr/>
            <p:nvPr/>
          </p:nvSpPr>
          <p:spPr>
            <a:xfrm rot="18381600">
              <a:off x="5326200" y="2271600"/>
              <a:ext cx="302400" cy="2687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57575"/>
                </a:gs>
              </a:gsLst>
              <a:lin ang="86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683800">
              <a:off x="2721960" y="2566800"/>
              <a:ext cx="302760" cy="26852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57575"/>
                </a:gs>
              </a:gsLst>
              <a:lin ang="27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39960" y="2615040"/>
              <a:ext cx="2367000" cy="1944720"/>
            </a:xfrm>
            <a:custGeom>
              <a:avLst/>
              <a:gdLst/>
              <a:ahLst/>
              <a:rect l="l" t="t" r="r" b="b"/>
              <a:pathLst>
                <a:path w="1524" h="1253">
                  <a:moveTo>
                    <a:pt x="755" y="71"/>
                  </a:moveTo>
                  <a:cubicBezTo>
                    <a:pt x="1005" y="0"/>
                    <a:pt x="1077" y="159"/>
                    <a:pt x="1209" y="186"/>
                  </a:cubicBezTo>
                  <a:cubicBezTo>
                    <a:pt x="1341" y="213"/>
                    <a:pt x="1524" y="123"/>
                    <a:pt x="1488" y="144"/>
                  </a:cubicBezTo>
                  <a:cubicBezTo>
                    <a:pt x="1452" y="165"/>
                    <a:pt x="1323" y="213"/>
                    <a:pt x="1206" y="204"/>
                  </a:cubicBezTo>
                  <a:cubicBezTo>
                    <a:pt x="1089" y="195"/>
                    <a:pt x="1032" y="75"/>
                    <a:pt x="834" y="212"/>
                  </a:cubicBezTo>
                  <a:cubicBezTo>
                    <a:pt x="636" y="349"/>
                    <a:pt x="385" y="1131"/>
                    <a:pt x="302" y="1253"/>
                  </a:cubicBezTo>
                  <a:lnTo>
                    <a:pt x="0" y="1102"/>
                  </a:lnTo>
                  <a:cubicBezTo>
                    <a:pt x="75" y="905"/>
                    <a:pt x="394" y="215"/>
                    <a:pt x="755" y="7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4f4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53920" y="2633400"/>
              <a:ext cx="2464560" cy="1971000"/>
            </a:xfrm>
            <a:custGeom>
              <a:avLst/>
              <a:gdLst/>
              <a:ahLst/>
              <a:rect l="l" t="t" r="r" b="b"/>
              <a:pathLst>
                <a:path w="1587" h="1270">
                  <a:moveTo>
                    <a:pt x="832" y="88"/>
                  </a:moveTo>
                  <a:cubicBezTo>
                    <a:pt x="677" y="0"/>
                    <a:pt x="489" y="153"/>
                    <a:pt x="360" y="171"/>
                  </a:cubicBezTo>
                  <a:cubicBezTo>
                    <a:pt x="231" y="189"/>
                    <a:pt x="0" y="108"/>
                    <a:pt x="0" y="105"/>
                  </a:cubicBezTo>
                  <a:cubicBezTo>
                    <a:pt x="0" y="102"/>
                    <a:pt x="191" y="192"/>
                    <a:pt x="360" y="192"/>
                  </a:cubicBezTo>
                  <a:cubicBezTo>
                    <a:pt x="529" y="192"/>
                    <a:pt x="533" y="66"/>
                    <a:pt x="753" y="229"/>
                  </a:cubicBezTo>
                  <a:cubicBezTo>
                    <a:pt x="973" y="392"/>
                    <a:pt x="1202" y="1148"/>
                    <a:pt x="1285" y="1270"/>
                  </a:cubicBezTo>
                  <a:lnTo>
                    <a:pt x="1587" y="1119"/>
                  </a:lnTo>
                  <a:cubicBezTo>
                    <a:pt x="1512" y="922"/>
                    <a:pt x="1193" y="232"/>
                    <a:pt x="832" y="8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bebe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104720" y="2584080"/>
              <a:ext cx="611640" cy="2056680"/>
              <a:chOff x="4104720" y="2584080"/>
              <a:chExt cx="611640" cy="2056680"/>
            </a:xfrm>
          </p:grpSpPr>
          <p:sp>
            <p:nvSpPr>
              <p:cNvPr id="242" name=""/>
              <p:cNvSpPr/>
              <p:nvPr/>
            </p:nvSpPr>
            <p:spPr>
              <a:xfrm>
                <a:off x="4104720" y="2584080"/>
                <a:ext cx="611640" cy="2056680"/>
              </a:xfrm>
              <a:custGeom>
                <a:avLst/>
                <a:gdLst/>
                <a:ahLst/>
                <a:rect l="l" t="t" r="r" b="b"/>
                <a:pathLst>
                  <a:path w="398" h="1542">
                    <a:moveTo>
                      <a:pt x="229" y="318"/>
                    </a:moveTo>
                    <a:cubicBezTo>
                      <a:pt x="169" y="114"/>
                      <a:pt x="110" y="0"/>
                      <a:pt x="80" y="240"/>
                    </a:cubicBezTo>
                    <a:cubicBezTo>
                      <a:pt x="50" y="480"/>
                      <a:pt x="0" y="1379"/>
                      <a:pt x="10" y="1542"/>
                    </a:cubicBezTo>
                    <a:lnTo>
                      <a:pt x="362" y="1525"/>
                    </a:lnTo>
                    <a:cubicBezTo>
                      <a:pt x="398" y="1321"/>
                      <a:pt x="289" y="522"/>
                      <a:pt x="229" y="3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e2e2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295160" y="3046680"/>
                <a:ext cx="52200" cy="749160"/>
              </a:xfrm>
              <a:custGeom>
                <a:avLst/>
                <a:gdLst/>
                <a:ahLst/>
                <a:rect l="l" t="t" r="r" b="b"/>
                <a:pathLst>
                  <a:path w="34" h="562">
                    <a:moveTo>
                      <a:pt x="9" y="1"/>
                    </a:moveTo>
                    <a:cubicBezTo>
                      <a:pt x="14" y="2"/>
                      <a:pt x="32" y="148"/>
                      <a:pt x="34" y="241"/>
                    </a:cubicBezTo>
                    <a:cubicBezTo>
                      <a:pt x="29" y="338"/>
                      <a:pt x="14" y="562"/>
                      <a:pt x="19" y="562"/>
                    </a:cubicBezTo>
                    <a:cubicBezTo>
                      <a:pt x="13" y="561"/>
                      <a:pt x="4" y="326"/>
                      <a:pt x="2" y="233"/>
                    </a:cubicBezTo>
                    <a:cubicBezTo>
                      <a:pt x="0" y="140"/>
                      <a:pt x="4" y="0"/>
                      <a:pt x="9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dddddd">
                      <a:alpha val="7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2327760" y="2813400"/>
              <a:ext cx="574200" cy="725040"/>
            </a:xfrm>
            <a:custGeom>
              <a:avLst/>
              <a:gdLst/>
              <a:ahLst/>
              <a:rect l="l" t="t" r="r" b="b"/>
              <a:pathLst>
                <a:path w="368" h="543">
                  <a:moveTo>
                    <a:pt x="154" y="241"/>
                  </a:moveTo>
                  <a:cubicBezTo>
                    <a:pt x="224" y="129"/>
                    <a:pt x="364" y="0"/>
                    <a:pt x="366" y="9"/>
                  </a:cubicBezTo>
                  <a:cubicBezTo>
                    <a:pt x="368" y="18"/>
                    <a:pt x="216" y="210"/>
                    <a:pt x="165" y="293"/>
                  </a:cubicBezTo>
                  <a:cubicBezTo>
                    <a:pt x="103" y="394"/>
                    <a:pt x="97" y="449"/>
                    <a:pt x="60" y="507"/>
                  </a:cubicBezTo>
                  <a:lnTo>
                    <a:pt x="0" y="543"/>
                  </a:lnTo>
                  <a:cubicBezTo>
                    <a:pt x="16" y="499"/>
                    <a:pt x="122" y="304"/>
                    <a:pt x="154" y="2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859720" y="2926800"/>
              <a:ext cx="518400" cy="547920"/>
            </a:xfrm>
            <a:custGeom>
              <a:avLst/>
              <a:gdLst/>
              <a:ahLst/>
              <a:rect l="l" t="t" r="r" b="b"/>
              <a:pathLst>
                <a:path w="368" h="543">
                  <a:moveTo>
                    <a:pt x="154" y="241"/>
                  </a:moveTo>
                  <a:cubicBezTo>
                    <a:pt x="224" y="129"/>
                    <a:pt x="364" y="0"/>
                    <a:pt x="366" y="9"/>
                  </a:cubicBezTo>
                  <a:cubicBezTo>
                    <a:pt x="368" y="18"/>
                    <a:pt x="216" y="210"/>
                    <a:pt x="165" y="293"/>
                  </a:cubicBezTo>
                  <a:cubicBezTo>
                    <a:pt x="103" y="394"/>
                    <a:pt x="97" y="449"/>
                    <a:pt x="60" y="507"/>
                  </a:cubicBezTo>
                  <a:lnTo>
                    <a:pt x="0" y="543"/>
                  </a:lnTo>
                  <a:cubicBezTo>
                    <a:pt x="16" y="499"/>
                    <a:pt x="122" y="304"/>
                    <a:pt x="154" y="241"/>
                  </a:cubicBez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70196"/>
                  </a:srgbClr>
                </a:gs>
                <a:gs pos="100000">
                  <a:srgbClr val="f7f7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5796000" y="3715560"/>
              <a:ext cx="1980000" cy="183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3219120" y="3856680"/>
              <a:ext cx="240912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394440" y="4146840"/>
              <a:ext cx="2082960" cy="2053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81560" y="4240080"/>
              <a:ext cx="1902600" cy="1874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3551760" y="4308480"/>
              <a:ext cx="1775160" cy="17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3551760" y="4308480"/>
              <a:ext cx="1764000" cy="1730520"/>
            </a:xfrm>
            <a:prstGeom prst="ellipse">
              <a:avLst/>
            </a:prstGeom>
            <a:gradFill rotWithShape="0">
              <a:gsLst>
                <a:gs pos="0">
                  <a:srgbClr val="284235">
                    <a:alpha val="90196"/>
                  </a:srgbClr>
                </a:gs>
                <a:gs pos="50000">
                  <a:srgbClr val="99ffcc">
                    <a:alpha val="45098"/>
                  </a:srgbClr>
                </a:gs>
                <a:gs pos="100000">
                  <a:srgbClr val="284235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3560" y="4342680"/>
              <a:ext cx="1386720" cy="6008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ffcc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3678840" y="5505120"/>
              <a:ext cx="1559160" cy="621000"/>
              <a:chOff x="3678840" y="5505120"/>
              <a:chExt cx="1559160" cy="62100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3951000" y="5505120"/>
                <a:ext cx="1287000" cy="583560"/>
                <a:chOff x="3951000" y="5505120"/>
                <a:chExt cx="1287000" cy="583560"/>
              </a:xfrm>
            </p:grpSpPr>
            <p:sp>
              <p:nvSpPr>
                <p:cNvPr id="255" name=""/>
                <p:cNvSpPr/>
                <p:nvPr/>
              </p:nvSpPr>
              <p:spPr>
                <a:xfrm flipH="1" flipV="1" rot="3964800">
                  <a:off x="4652640" y="5328720"/>
                  <a:ext cx="223920" cy="93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flipV="1" rot="4780200">
                  <a:off x="4507560" y="5385240"/>
                  <a:ext cx="223920" cy="93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5076000">
                  <a:off x="4418640" y="5397480"/>
                  <a:ext cx="223920" cy="93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flipV="1" rot="5608200">
                  <a:off x="4312080" y="5408280"/>
                  <a:ext cx="223920" cy="93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3678840" y="5513760"/>
                <a:ext cx="1285560" cy="612360"/>
                <a:chOff x="3678840" y="5513760"/>
                <a:chExt cx="1285560" cy="612360"/>
              </a:xfrm>
            </p:grpSpPr>
            <p:sp>
              <p:nvSpPr>
                <p:cNvPr id="260" name=""/>
                <p:cNvSpPr/>
                <p:nvPr/>
              </p:nvSpPr>
              <p:spPr>
                <a:xfrm flipH="1" flipV="1" rot="5317800">
                  <a:off x="4381200" y="5408640"/>
                  <a:ext cx="224640" cy="93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 rot="6133800">
                  <a:off x="4225320" y="5406120"/>
                  <a:ext cx="224640" cy="93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 rot="6429000">
                  <a:off x="4138560" y="5383440"/>
                  <a:ext cx="224640" cy="93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 rot="6961200">
                  <a:off x="4035600" y="5351760"/>
                  <a:ext cx="224640" cy="93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64" name="" descr=""/>
            <p:cNvPicPr/>
            <p:nvPr/>
          </p:nvPicPr>
          <p:blipFill>
            <a:blip r:embed="rId5"/>
            <a:stretch/>
          </p:blipFill>
          <p:spPr>
            <a:xfrm>
              <a:off x="914400" y="3454920"/>
              <a:ext cx="2107440" cy="20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061640" y="3717000"/>
              <a:ext cx="1821960" cy="1862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39400" y="3802320"/>
              <a:ext cx="1660320" cy="17013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6"/>
            <a:stretch/>
          </p:blipFill>
          <p:spPr>
            <a:xfrm>
              <a:off x="1198440" y="3864600"/>
              <a:ext cx="1554480" cy="156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198440" y="3864600"/>
              <a:ext cx="1543680" cy="1569240"/>
            </a:xfrm>
            <a:prstGeom prst="ellipse">
              <a:avLst/>
            </a:prstGeom>
            <a:gradFill rotWithShape="0">
              <a:gsLst>
                <a:gs pos="0">
                  <a:srgbClr val="424228">
                    <a:alpha val="90196"/>
                  </a:srgbClr>
                </a:gs>
                <a:gs pos="50000">
                  <a:srgbClr val="ffff99">
                    <a:alpha val="45098"/>
                  </a:srgbClr>
                </a:gs>
                <a:gs pos="100000">
                  <a:srgbClr val="424228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56840" y="3894120"/>
              <a:ext cx="1212840" cy="546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9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545120" y="4954680"/>
              <a:ext cx="1127880" cy="518040"/>
              <a:chOff x="1545120" y="4954680"/>
              <a:chExt cx="1127880" cy="518040"/>
            </a:xfrm>
          </p:grpSpPr>
          <p:sp>
            <p:nvSpPr>
              <p:cNvPr id="271" name=""/>
              <p:cNvSpPr/>
              <p:nvPr/>
            </p:nvSpPr>
            <p:spPr>
              <a:xfrm flipH="1" flipV="1" rot="3964800">
                <a:off x="2155680" y="4803840"/>
                <a:ext cx="203400" cy="818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32323">
                      <a:alpha val="0"/>
                    </a:srgbClr>
                  </a:gs>
                  <a:gs pos="100000">
                    <a:srgbClr val="4d4d4d">
                      <a:alpha val="4313"/>
                    </a:srgbClr>
                  </a:gs>
                </a:gsLst>
                <a:lin ang="55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flipV="1" rot="4780200">
                <a:off x="2028960" y="4854960"/>
                <a:ext cx="203400" cy="818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32323">
                      <a:alpha val="0"/>
                    </a:srgbClr>
                  </a:gs>
                  <a:gs pos="100000">
                    <a:srgbClr val="4d4d4d">
                      <a:alpha val="4313"/>
                    </a:srgbClr>
                  </a:gs>
                </a:gsLst>
                <a:lin ang="47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 rot="5076000">
                <a:off x="1951920" y="4864680"/>
                <a:ext cx="203040" cy="818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32323">
                      <a:alpha val="0"/>
                    </a:srgbClr>
                  </a:gs>
                  <a:gs pos="100000">
                    <a:srgbClr val="4d4d4d">
                      <a:alpha val="4313"/>
                    </a:srgbClr>
                  </a:gs>
                </a:gsLst>
                <a:lin ang="44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 rot="5608200">
                <a:off x="1857600" y="4872240"/>
                <a:ext cx="203400" cy="818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32323">
                      <a:alpha val="0"/>
                    </a:srgbClr>
                  </a:gs>
                  <a:gs pos="100000">
                    <a:srgbClr val="4d4d4d">
                      <a:alpha val="4313"/>
                    </a:srgbClr>
                  </a:gs>
                </a:gsLst>
                <a:lin ang="389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304280" y="4961160"/>
              <a:ext cx="1127520" cy="542880"/>
              <a:chOff x="1304280" y="4961160"/>
              <a:chExt cx="1127520" cy="542880"/>
            </a:xfrm>
          </p:grpSpPr>
          <p:sp>
            <p:nvSpPr>
              <p:cNvPr id="276" name=""/>
              <p:cNvSpPr/>
              <p:nvPr/>
            </p:nvSpPr>
            <p:spPr>
              <a:xfrm flipH="1" flipV="1" rot="5318400">
                <a:off x="1917000" y="4874760"/>
                <a:ext cx="204480" cy="819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flipV="1" rot="6133800">
                <a:off x="1780920" y="4872240"/>
                <a:ext cx="204480" cy="819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 rot="6429600">
                <a:off x="1704240" y="4851720"/>
                <a:ext cx="204480" cy="81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 rot="6961800">
                <a:off x="1614600" y="4822560"/>
                <a:ext cx="204480" cy="81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5945040" y="3737160"/>
              <a:ext cx="1868400" cy="19123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22800" y="3823920"/>
              <a:ext cx="1706760" cy="17460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7"/>
            <a:stretch/>
          </p:blipFill>
          <p:spPr>
            <a:xfrm>
              <a:off x="6086160" y="3887640"/>
              <a:ext cx="1593720" cy="16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086160" y="3887640"/>
              <a:ext cx="1582560" cy="1611000"/>
            </a:xfrm>
            <a:prstGeom prst="ellipse">
              <a:avLst/>
            </a:prstGeom>
            <a:gradFill rotWithShape="0">
              <a:gsLst>
                <a:gs pos="0">
                  <a:srgbClr val="353542">
                    <a:alpha val="90196"/>
                  </a:srgbClr>
                </a:gs>
                <a:gs pos="50000">
                  <a:srgbClr val="ccccff">
                    <a:alpha val="45098"/>
                  </a:srgbClr>
                </a:gs>
                <a:gs pos="100000">
                  <a:srgbClr val="353542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49240" y="3918600"/>
              <a:ext cx="1242360" cy="5601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cc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6196680" y="5011200"/>
              <a:ext cx="1405080" cy="561240"/>
              <a:chOff x="6196680" y="5011200"/>
              <a:chExt cx="1405080" cy="5612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6443640" y="5011200"/>
                <a:ext cx="1158120" cy="531360"/>
                <a:chOff x="6443640" y="5011200"/>
                <a:chExt cx="1158120" cy="531360"/>
              </a:xfrm>
            </p:grpSpPr>
            <p:sp>
              <p:nvSpPr>
                <p:cNvPr id="287" name=""/>
                <p:cNvSpPr/>
                <p:nvPr/>
              </p:nvSpPr>
              <p:spPr>
                <a:xfrm flipH="1" flipV="1" rot="3964800">
                  <a:off x="7070400" y="4856760"/>
                  <a:ext cx="208800" cy="840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flipV="1" rot="4780200">
                  <a:off x="6940440" y="4907880"/>
                  <a:ext cx="208800" cy="83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 flipV="1" rot="5076000">
                  <a:off x="6860160" y="4917960"/>
                  <a:ext cx="208800" cy="83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flipV="1" rot="5608200">
                  <a:off x="6764760" y="4927320"/>
                  <a:ext cx="208800" cy="83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6196680" y="5014800"/>
                <a:ext cx="1155960" cy="557640"/>
                <a:chOff x="6196680" y="5014800"/>
                <a:chExt cx="1155960" cy="557640"/>
              </a:xfrm>
            </p:grpSpPr>
            <p:sp>
              <p:nvSpPr>
                <p:cNvPr id="292" name=""/>
                <p:cNvSpPr/>
                <p:nvPr/>
              </p:nvSpPr>
              <p:spPr>
                <a:xfrm flipH="1" flipV="1" rot="5317800">
                  <a:off x="6824520" y="4925520"/>
                  <a:ext cx="209880" cy="840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 rot="6133800">
                  <a:off x="6684840" y="4924080"/>
                  <a:ext cx="209880" cy="840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 flipV="1" rot="6429000">
                  <a:off x="6607080" y="4902840"/>
                  <a:ext cx="209880" cy="840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 rot="6961200">
                  <a:off x="6514560" y="4872960"/>
                  <a:ext cx="209880" cy="840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" name=""/>
            <p:cNvGrpSpPr/>
            <p:nvPr/>
          </p:nvGrpSpPr>
          <p:grpSpPr>
            <a:xfrm>
              <a:off x="1394280" y="1523880"/>
              <a:ext cx="5799600" cy="676800"/>
              <a:chOff x="1394280" y="1523880"/>
              <a:chExt cx="5799600" cy="676800"/>
            </a:xfrm>
          </p:grpSpPr>
          <p:sp>
            <p:nvSpPr>
              <p:cNvPr id="297" name=""/>
              <p:cNvSpPr/>
              <p:nvPr/>
            </p:nvSpPr>
            <p:spPr>
              <a:xfrm>
                <a:off x="1394280" y="1523880"/>
                <a:ext cx="5799600" cy="676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e7575"/>
                  </a:gs>
                  <a:gs pos="50000">
                    <a:srgbClr val="ccffff"/>
                  </a:gs>
                  <a:gs pos="100000">
                    <a:srgbClr val="5e7575"/>
                  </a:gs>
                </a:gsLst>
                <a:lin ang="5400000"/>
              </a:gradFill>
              <a:ln w="0">
                <a:noFill/>
              </a:ln>
              <a:effectLst>
                <a:outerShdw dist="63504" dir="3183908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65200" y="1560240"/>
                <a:ext cx="5655960" cy="60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57546"/>
                  </a:gs>
                  <a:gs pos="50000">
                    <a:srgbClr val="ffff99">
                      <a:alpha val="60000"/>
                    </a:srgbClr>
                  </a:gs>
                  <a:gs pos="100000">
                    <a:srgbClr val="7575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3221640" y="1609200"/>
              <a:ext cx="217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ext in here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0320" y="498672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69360" y="446508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90560" y="453960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53080" y="2147760"/>
            <a:ext cx="1997280" cy="3791160"/>
          </a:xfrm>
          <a:prstGeom prst="rect">
            <a:avLst/>
          </a:prstGeom>
          <a:solidFill>
            <a:srgbClr val="eca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15200" y="2133720"/>
            <a:ext cx="153720" cy="3906720"/>
          </a:xfrm>
          <a:custGeom>
            <a:avLst/>
            <a:gdLst/>
            <a:ahLst/>
            <a:rect l="l" t="t" r="r" b="b"/>
            <a:pathLst>
              <a:path w="97" h="2461">
                <a:moveTo>
                  <a:pt x="0" y="66"/>
                </a:moveTo>
                <a:lnTo>
                  <a:pt x="0" y="2461"/>
                </a:lnTo>
                <a:lnTo>
                  <a:pt x="97" y="2389"/>
                </a:lnTo>
                <a:lnTo>
                  <a:pt x="93" y="0"/>
                </a:lnTo>
                <a:lnTo>
                  <a:pt x="0" y="66"/>
                </a:lnTo>
                <a:close/>
              </a:path>
            </a:pathLst>
          </a:custGeom>
          <a:solidFill>
            <a:srgbClr val="08080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89200" y="2238480"/>
            <a:ext cx="3726000" cy="3790800"/>
          </a:xfrm>
          <a:prstGeom prst="rect">
            <a:avLst/>
          </a:prstGeom>
          <a:solidFill>
            <a:srgbClr val="60d885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6960" y="2306520"/>
            <a:ext cx="1920960" cy="3800520"/>
          </a:xfrm>
          <a:prstGeom prst="rect">
            <a:avLst/>
          </a:prstGeom>
          <a:gradFill rotWithShape="0">
            <a:gsLst>
              <a:gs pos="0">
                <a:srgbClr val="132891">
                  <a:alpha val="79215"/>
                </a:srgbClr>
              </a:gs>
              <a:gs pos="100000">
                <a:srgbClr val="0c1a5f"/>
              </a:gs>
            </a:gsLst>
            <a:lin ang="54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1640" y="1854360"/>
            <a:ext cx="1920960" cy="460080"/>
          </a:xfrm>
          <a:prstGeom prst="rect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dbaf00"/>
              </a:gs>
            </a:gsLst>
            <a:lin ang="54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35000" y="189216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92000" y="2809800"/>
            <a:ext cx="1830600" cy="0"/>
          </a:xfrm>
          <a:prstGeom prst="line">
            <a:avLst/>
          </a:prstGeom>
          <a:ln w="9360">
            <a:solidFill>
              <a:srgbClr val="ffffff">
                <a:alpha val="7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92000" y="3270240"/>
            <a:ext cx="1830600" cy="0"/>
          </a:xfrm>
          <a:prstGeom prst="line">
            <a:avLst/>
          </a:prstGeom>
          <a:ln w="9360">
            <a:solidFill>
              <a:srgbClr val="f8f8f8">
                <a:alpha val="7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92000" y="3719520"/>
            <a:ext cx="1830600" cy="0"/>
          </a:xfrm>
          <a:prstGeom prst="line">
            <a:avLst/>
          </a:prstGeom>
          <a:ln w="9360">
            <a:solidFill>
              <a:srgbClr val="f8f8f8">
                <a:alpha val="7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92000" y="4170240"/>
            <a:ext cx="1830600" cy="0"/>
          </a:xfrm>
          <a:prstGeom prst="line">
            <a:avLst/>
          </a:prstGeom>
          <a:ln w="9360">
            <a:solidFill>
              <a:srgbClr val="f8f8f8">
                <a:alpha val="7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2000" y="4614840"/>
            <a:ext cx="1830600" cy="0"/>
          </a:xfrm>
          <a:prstGeom prst="line">
            <a:avLst/>
          </a:prstGeom>
          <a:ln w="9360">
            <a:solidFill>
              <a:srgbClr val="eaeaea">
                <a:alpha val="7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92000" y="5075280"/>
            <a:ext cx="1830600" cy="0"/>
          </a:xfrm>
          <a:prstGeom prst="line">
            <a:avLst/>
          </a:prstGeom>
          <a:ln w="9360">
            <a:solidFill>
              <a:srgbClr val="eaeaea">
                <a:alpha val="7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92000" y="5537160"/>
            <a:ext cx="1830600" cy="0"/>
          </a:xfrm>
          <a:prstGeom prst="line">
            <a:avLst/>
          </a:prstGeom>
          <a:ln w="9360">
            <a:solidFill>
              <a:srgbClr val="eaeaea">
                <a:alpha val="7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727360" y="2698920"/>
            <a:ext cx="3687840" cy="2727000"/>
            <a:chOff x="2727360" y="2698920"/>
            <a:chExt cx="3687840" cy="2727000"/>
          </a:xfrm>
        </p:grpSpPr>
        <p:sp>
          <p:nvSpPr>
            <p:cNvPr id="319" name=""/>
            <p:cNvSpPr/>
            <p:nvPr/>
          </p:nvSpPr>
          <p:spPr>
            <a:xfrm>
              <a:off x="2727360" y="2698920"/>
              <a:ext cx="3687840" cy="0"/>
            </a:xfrm>
            <a:prstGeom prst="line">
              <a:avLst/>
            </a:prstGeom>
            <a:ln w="9360">
              <a:solidFill>
                <a:srgbClr val="eaeaea">
                  <a:alpha val="7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27360" y="3160440"/>
              <a:ext cx="3687840" cy="0"/>
            </a:xfrm>
            <a:prstGeom prst="line">
              <a:avLst/>
            </a:prstGeom>
            <a:ln w="9360">
              <a:solidFill>
                <a:srgbClr val="eaeaea">
                  <a:alpha val="7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27360" y="3620880"/>
              <a:ext cx="3687840" cy="0"/>
            </a:xfrm>
            <a:prstGeom prst="line">
              <a:avLst/>
            </a:prstGeom>
            <a:ln w="9360">
              <a:solidFill>
                <a:srgbClr val="eaeaea">
                  <a:alpha val="7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27360" y="4081320"/>
              <a:ext cx="3687840" cy="0"/>
            </a:xfrm>
            <a:prstGeom prst="line">
              <a:avLst/>
            </a:prstGeom>
            <a:ln w="9360">
              <a:solidFill>
                <a:srgbClr val="eaeaea">
                  <a:alpha val="7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27360" y="4503600"/>
              <a:ext cx="3687840" cy="0"/>
            </a:xfrm>
            <a:prstGeom prst="line">
              <a:avLst/>
            </a:prstGeom>
            <a:ln w="9360">
              <a:solidFill>
                <a:srgbClr val="eaeaea">
                  <a:alpha val="7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27360" y="4965480"/>
              <a:ext cx="3687840" cy="0"/>
            </a:xfrm>
            <a:prstGeom prst="line">
              <a:avLst/>
            </a:prstGeom>
            <a:ln w="9360">
              <a:solidFill>
                <a:srgbClr val="eaeaea">
                  <a:alpha val="7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27360" y="5425920"/>
              <a:ext cx="3687840" cy="0"/>
            </a:xfrm>
            <a:prstGeom prst="line">
              <a:avLst/>
            </a:prstGeom>
            <a:ln w="9360">
              <a:solidFill>
                <a:srgbClr val="eaeaea">
                  <a:alpha val="7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135080" y="25401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1. text in her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35080" y="29941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2. text in her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35080" y="346248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3. text in her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35080" y="39225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4. text in her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35080" y="434484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5. text in her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5080" y="480528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6. text in her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35080" y="52671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7. text in her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35080" y="569448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8. text in here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622600" y="2698920"/>
            <a:ext cx="87120" cy="11088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622600" y="3160800"/>
            <a:ext cx="87120" cy="11088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22600" y="3618000"/>
            <a:ext cx="87120" cy="11088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622600" y="4068360"/>
            <a:ext cx="87120" cy="111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622600" y="4516560"/>
            <a:ext cx="87120" cy="11088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2600" y="4979520"/>
            <a:ext cx="87120" cy="111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622600" y="5427360"/>
            <a:ext cx="87120" cy="111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107120" y="4838760"/>
            <a:ext cx="1049760" cy="933480"/>
            <a:chOff x="7107120" y="4838760"/>
            <a:chExt cx="1049760" cy="933480"/>
          </a:xfrm>
        </p:grpSpPr>
        <p:sp>
          <p:nvSpPr>
            <p:cNvPr id="342" name=""/>
            <p:cNvSpPr/>
            <p:nvPr/>
          </p:nvSpPr>
          <p:spPr>
            <a:xfrm>
              <a:off x="7107120" y="5048280"/>
              <a:ext cx="344520" cy="7239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7107120" y="4838760"/>
              <a:ext cx="1049760" cy="933480"/>
              <a:chOff x="7107120" y="4838760"/>
              <a:chExt cx="1049760" cy="933480"/>
            </a:xfrm>
          </p:grpSpPr>
          <p:sp>
            <p:nvSpPr>
              <p:cNvPr id="344" name=""/>
              <p:cNvSpPr/>
              <p:nvPr/>
            </p:nvSpPr>
            <p:spPr>
              <a:xfrm>
                <a:off x="7191360" y="4838760"/>
                <a:ext cx="176040" cy="17784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8e71"/>
                  </a:gs>
                  <a:gs pos="50000">
                    <a:srgbClr val="ffffcc"/>
                  </a:gs>
                  <a:gs pos="100000">
                    <a:srgbClr val="8e8e7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107120" y="5048280"/>
                <a:ext cx="344520" cy="723960"/>
              </a:xfrm>
              <a:custGeom>
                <a:avLst/>
                <a:gdLst/>
                <a:ahLst/>
                <a:rect l="l" t="t" r="r" b="b"/>
                <a:pathLst>
                  <a:path w="831" h="1742">
                    <a:moveTo>
                      <a:pt x="136" y="0"/>
                    </a:moveTo>
                    <a:lnTo>
                      <a:pt x="104" y="8"/>
                    </a:lnTo>
                    <a:lnTo>
                      <a:pt x="73" y="25"/>
                    </a:lnTo>
                    <a:lnTo>
                      <a:pt x="44" y="49"/>
                    </a:lnTo>
                    <a:lnTo>
                      <a:pt x="22" y="82"/>
                    </a:lnTo>
                    <a:lnTo>
                      <a:pt x="6" y="116"/>
                    </a:lnTo>
                    <a:lnTo>
                      <a:pt x="0" y="153"/>
                    </a:lnTo>
                    <a:lnTo>
                      <a:pt x="0" y="787"/>
                    </a:lnTo>
                    <a:lnTo>
                      <a:pt x="0" y="790"/>
                    </a:lnTo>
                    <a:lnTo>
                      <a:pt x="1" y="797"/>
                    </a:lnTo>
                    <a:lnTo>
                      <a:pt x="6" y="811"/>
                    </a:lnTo>
                    <a:lnTo>
                      <a:pt x="13" y="824"/>
                    </a:lnTo>
                    <a:lnTo>
                      <a:pt x="23" y="839"/>
                    </a:lnTo>
                    <a:lnTo>
                      <a:pt x="38" y="850"/>
                    </a:lnTo>
                    <a:lnTo>
                      <a:pt x="57" y="859"/>
                    </a:lnTo>
                    <a:lnTo>
                      <a:pt x="81" y="861"/>
                    </a:lnTo>
                    <a:lnTo>
                      <a:pt x="104" y="859"/>
                    </a:lnTo>
                    <a:lnTo>
                      <a:pt x="122" y="852"/>
                    </a:lnTo>
                    <a:lnTo>
                      <a:pt x="133" y="839"/>
                    </a:lnTo>
                    <a:lnTo>
                      <a:pt x="145" y="825"/>
                    </a:lnTo>
                    <a:lnTo>
                      <a:pt x="149" y="811"/>
                    </a:lnTo>
                    <a:lnTo>
                      <a:pt x="154" y="797"/>
                    </a:lnTo>
                    <a:lnTo>
                      <a:pt x="155" y="785"/>
                    </a:lnTo>
                    <a:lnTo>
                      <a:pt x="157" y="777"/>
                    </a:lnTo>
                    <a:lnTo>
                      <a:pt x="157" y="773"/>
                    </a:lnTo>
                    <a:lnTo>
                      <a:pt x="157" y="257"/>
                    </a:lnTo>
                    <a:lnTo>
                      <a:pt x="182" y="254"/>
                    </a:lnTo>
                    <a:cubicBezTo>
                      <a:pt x="182" y="254"/>
                      <a:pt x="181" y="954"/>
                      <a:pt x="180" y="1654"/>
                    </a:cubicBezTo>
                    <a:cubicBezTo>
                      <a:pt x="190" y="1694"/>
                      <a:pt x="204" y="1706"/>
                      <a:pt x="222" y="1720"/>
                    </a:cubicBezTo>
                    <a:cubicBezTo>
                      <a:pt x="240" y="1734"/>
                      <a:pt x="270" y="1736"/>
                      <a:pt x="290" y="1738"/>
                    </a:cubicBezTo>
                    <a:cubicBezTo>
                      <a:pt x="310" y="1740"/>
                      <a:pt x="327" y="1736"/>
                      <a:pt x="342" y="1730"/>
                    </a:cubicBezTo>
                    <a:cubicBezTo>
                      <a:pt x="357" y="1724"/>
                      <a:pt x="372" y="1716"/>
                      <a:pt x="382" y="1702"/>
                    </a:cubicBezTo>
                    <a:cubicBezTo>
                      <a:pt x="392" y="1688"/>
                      <a:pt x="404" y="1660"/>
                      <a:pt x="405" y="1647"/>
                    </a:cubicBezTo>
                    <a:cubicBezTo>
                      <a:pt x="404" y="1249"/>
                      <a:pt x="404" y="852"/>
                      <a:pt x="404" y="852"/>
                    </a:cubicBezTo>
                    <a:lnTo>
                      <a:pt x="436" y="852"/>
                    </a:lnTo>
                    <a:lnTo>
                      <a:pt x="441" y="912"/>
                    </a:lnTo>
                    <a:lnTo>
                      <a:pt x="441" y="967"/>
                    </a:lnTo>
                    <a:lnTo>
                      <a:pt x="441" y="1026"/>
                    </a:lnTo>
                    <a:lnTo>
                      <a:pt x="441" y="1091"/>
                    </a:lnTo>
                    <a:lnTo>
                      <a:pt x="441" y="1159"/>
                    </a:lnTo>
                    <a:lnTo>
                      <a:pt x="441" y="1226"/>
                    </a:lnTo>
                    <a:lnTo>
                      <a:pt x="441" y="1295"/>
                    </a:lnTo>
                    <a:lnTo>
                      <a:pt x="442" y="1363"/>
                    </a:lnTo>
                    <a:lnTo>
                      <a:pt x="442" y="1431"/>
                    </a:lnTo>
                    <a:lnTo>
                      <a:pt x="442" y="1493"/>
                    </a:lnTo>
                    <a:lnTo>
                      <a:pt x="442" y="1552"/>
                    </a:lnTo>
                    <a:lnTo>
                      <a:pt x="442" y="1603"/>
                    </a:lnTo>
                    <a:lnTo>
                      <a:pt x="442" y="1647"/>
                    </a:lnTo>
                    <a:lnTo>
                      <a:pt x="442" y="1649"/>
                    </a:lnTo>
                    <a:lnTo>
                      <a:pt x="444" y="1658"/>
                    </a:lnTo>
                    <a:lnTo>
                      <a:pt x="450" y="1668"/>
                    </a:lnTo>
                    <a:lnTo>
                      <a:pt x="452" y="1682"/>
                    </a:lnTo>
                    <a:lnTo>
                      <a:pt x="460" y="1698"/>
                    </a:lnTo>
                    <a:lnTo>
                      <a:pt x="478" y="1720"/>
                    </a:lnTo>
                    <a:lnTo>
                      <a:pt x="510" y="1738"/>
                    </a:lnTo>
                    <a:lnTo>
                      <a:pt x="546" y="1742"/>
                    </a:lnTo>
                    <a:cubicBezTo>
                      <a:pt x="564" y="1738"/>
                      <a:pt x="602" y="1728"/>
                      <a:pt x="620" y="1712"/>
                    </a:cubicBezTo>
                    <a:cubicBezTo>
                      <a:pt x="638" y="1696"/>
                      <a:pt x="648" y="1670"/>
                      <a:pt x="654" y="1644"/>
                    </a:cubicBezTo>
                    <a:cubicBezTo>
                      <a:pt x="654" y="950"/>
                      <a:pt x="654" y="256"/>
                      <a:pt x="654" y="256"/>
                    </a:cubicBezTo>
                    <a:lnTo>
                      <a:pt x="676" y="257"/>
                    </a:lnTo>
                    <a:lnTo>
                      <a:pt x="676" y="773"/>
                    </a:lnTo>
                    <a:lnTo>
                      <a:pt x="679" y="777"/>
                    </a:lnTo>
                    <a:lnTo>
                      <a:pt x="680" y="787"/>
                    </a:lnTo>
                    <a:lnTo>
                      <a:pt x="685" y="799"/>
                    </a:lnTo>
                    <a:lnTo>
                      <a:pt x="692" y="814"/>
                    </a:lnTo>
                    <a:lnTo>
                      <a:pt x="700" y="830"/>
                    </a:lnTo>
                    <a:lnTo>
                      <a:pt x="715" y="842"/>
                    </a:lnTo>
                    <a:lnTo>
                      <a:pt x="732" y="852"/>
                    </a:lnTo>
                    <a:lnTo>
                      <a:pt x="754" y="856"/>
                    </a:lnTo>
                    <a:lnTo>
                      <a:pt x="777" y="852"/>
                    </a:lnTo>
                    <a:lnTo>
                      <a:pt x="795" y="842"/>
                    </a:lnTo>
                    <a:lnTo>
                      <a:pt x="808" y="830"/>
                    </a:lnTo>
                    <a:lnTo>
                      <a:pt x="816" y="814"/>
                    </a:lnTo>
                    <a:lnTo>
                      <a:pt x="827" y="799"/>
                    </a:lnTo>
                    <a:lnTo>
                      <a:pt x="831" y="788"/>
                    </a:lnTo>
                    <a:lnTo>
                      <a:pt x="831" y="785"/>
                    </a:lnTo>
                    <a:lnTo>
                      <a:pt x="831" y="122"/>
                    </a:lnTo>
                    <a:lnTo>
                      <a:pt x="830" y="105"/>
                    </a:lnTo>
                    <a:lnTo>
                      <a:pt x="814" y="73"/>
                    </a:lnTo>
                    <a:lnTo>
                      <a:pt x="792" y="43"/>
                    </a:lnTo>
                    <a:lnTo>
                      <a:pt x="766" y="22"/>
                    </a:lnTo>
                    <a:lnTo>
                      <a:pt x="734" y="6"/>
                    </a:lnTo>
                    <a:lnTo>
                      <a:pt x="703" y="0"/>
                    </a:lnTo>
                    <a:lnTo>
                      <a:pt x="136" y="0"/>
                    </a:lnTo>
                    <a:lnTo>
                      <a:pt x="193" y="57"/>
                    </a:lnTo>
                    <a:lnTo>
                      <a:pt x="1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024400">
                <a:off x="7910280" y="5253120"/>
                <a:ext cx="243000" cy="73080"/>
              </a:xfrm>
              <a:prstGeom prst="ellipse">
                <a:avLst/>
              </a:prstGeom>
              <a:solidFill>
                <a:srgbClr val="08080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347" name=""/>
          <p:cNvGrpSpPr/>
          <p:nvPr/>
        </p:nvGrpSpPr>
        <p:grpSpPr>
          <a:xfrm>
            <a:off x="7367760" y="4915080"/>
            <a:ext cx="1049760" cy="932760"/>
            <a:chOff x="7367760" y="4915080"/>
            <a:chExt cx="1049760" cy="932760"/>
          </a:xfrm>
        </p:grpSpPr>
        <p:sp>
          <p:nvSpPr>
            <p:cNvPr id="348" name=""/>
            <p:cNvSpPr/>
            <p:nvPr/>
          </p:nvSpPr>
          <p:spPr>
            <a:xfrm>
              <a:off x="7367760" y="5124240"/>
              <a:ext cx="344520" cy="72360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7367760" y="4915080"/>
              <a:ext cx="1049760" cy="932760"/>
              <a:chOff x="7367760" y="4915080"/>
              <a:chExt cx="1049760" cy="932760"/>
            </a:xfrm>
          </p:grpSpPr>
          <p:sp>
            <p:nvSpPr>
              <p:cNvPr id="350" name=""/>
              <p:cNvSpPr/>
              <p:nvPr/>
            </p:nvSpPr>
            <p:spPr>
              <a:xfrm>
                <a:off x="7452000" y="4915080"/>
                <a:ext cx="176040" cy="17748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8e71"/>
                  </a:gs>
                  <a:gs pos="50000">
                    <a:srgbClr val="ffffcc"/>
                  </a:gs>
                  <a:gs pos="100000">
                    <a:srgbClr val="8e8e7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67760" y="5124240"/>
                <a:ext cx="344520" cy="723600"/>
              </a:xfrm>
              <a:custGeom>
                <a:avLst/>
                <a:gdLst/>
                <a:ahLst/>
                <a:rect l="l" t="t" r="r" b="b"/>
                <a:pathLst>
                  <a:path w="831" h="1742">
                    <a:moveTo>
                      <a:pt x="136" y="0"/>
                    </a:moveTo>
                    <a:lnTo>
                      <a:pt x="104" y="8"/>
                    </a:lnTo>
                    <a:lnTo>
                      <a:pt x="73" y="25"/>
                    </a:lnTo>
                    <a:lnTo>
                      <a:pt x="44" y="49"/>
                    </a:lnTo>
                    <a:lnTo>
                      <a:pt x="22" y="82"/>
                    </a:lnTo>
                    <a:lnTo>
                      <a:pt x="6" y="116"/>
                    </a:lnTo>
                    <a:lnTo>
                      <a:pt x="0" y="153"/>
                    </a:lnTo>
                    <a:lnTo>
                      <a:pt x="0" y="787"/>
                    </a:lnTo>
                    <a:lnTo>
                      <a:pt x="0" y="790"/>
                    </a:lnTo>
                    <a:lnTo>
                      <a:pt x="1" y="797"/>
                    </a:lnTo>
                    <a:lnTo>
                      <a:pt x="6" y="811"/>
                    </a:lnTo>
                    <a:lnTo>
                      <a:pt x="13" y="824"/>
                    </a:lnTo>
                    <a:lnTo>
                      <a:pt x="23" y="839"/>
                    </a:lnTo>
                    <a:lnTo>
                      <a:pt x="38" y="850"/>
                    </a:lnTo>
                    <a:lnTo>
                      <a:pt x="57" y="859"/>
                    </a:lnTo>
                    <a:lnTo>
                      <a:pt x="81" y="861"/>
                    </a:lnTo>
                    <a:lnTo>
                      <a:pt x="104" y="859"/>
                    </a:lnTo>
                    <a:lnTo>
                      <a:pt x="122" y="852"/>
                    </a:lnTo>
                    <a:lnTo>
                      <a:pt x="133" y="839"/>
                    </a:lnTo>
                    <a:lnTo>
                      <a:pt x="145" y="825"/>
                    </a:lnTo>
                    <a:lnTo>
                      <a:pt x="149" y="811"/>
                    </a:lnTo>
                    <a:lnTo>
                      <a:pt x="154" y="797"/>
                    </a:lnTo>
                    <a:lnTo>
                      <a:pt x="155" y="785"/>
                    </a:lnTo>
                    <a:lnTo>
                      <a:pt x="157" y="777"/>
                    </a:lnTo>
                    <a:lnTo>
                      <a:pt x="157" y="773"/>
                    </a:lnTo>
                    <a:lnTo>
                      <a:pt x="157" y="257"/>
                    </a:lnTo>
                    <a:lnTo>
                      <a:pt x="182" y="254"/>
                    </a:lnTo>
                    <a:cubicBezTo>
                      <a:pt x="182" y="254"/>
                      <a:pt x="181" y="954"/>
                      <a:pt x="180" y="1654"/>
                    </a:cubicBezTo>
                    <a:cubicBezTo>
                      <a:pt x="190" y="1694"/>
                      <a:pt x="204" y="1706"/>
                      <a:pt x="222" y="1720"/>
                    </a:cubicBezTo>
                    <a:cubicBezTo>
                      <a:pt x="240" y="1734"/>
                      <a:pt x="270" y="1736"/>
                      <a:pt x="290" y="1738"/>
                    </a:cubicBezTo>
                    <a:cubicBezTo>
                      <a:pt x="310" y="1740"/>
                      <a:pt x="327" y="1736"/>
                      <a:pt x="342" y="1730"/>
                    </a:cubicBezTo>
                    <a:cubicBezTo>
                      <a:pt x="357" y="1724"/>
                      <a:pt x="372" y="1716"/>
                      <a:pt x="382" y="1702"/>
                    </a:cubicBezTo>
                    <a:cubicBezTo>
                      <a:pt x="392" y="1688"/>
                      <a:pt x="404" y="1660"/>
                      <a:pt x="405" y="1647"/>
                    </a:cubicBezTo>
                    <a:cubicBezTo>
                      <a:pt x="404" y="1249"/>
                      <a:pt x="404" y="852"/>
                      <a:pt x="404" y="852"/>
                    </a:cubicBezTo>
                    <a:lnTo>
                      <a:pt x="436" y="852"/>
                    </a:lnTo>
                    <a:lnTo>
                      <a:pt x="441" y="912"/>
                    </a:lnTo>
                    <a:lnTo>
                      <a:pt x="441" y="967"/>
                    </a:lnTo>
                    <a:lnTo>
                      <a:pt x="441" y="1026"/>
                    </a:lnTo>
                    <a:lnTo>
                      <a:pt x="441" y="1091"/>
                    </a:lnTo>
                    <a:lnTo>
                      <a:pt x="441" y="1159"/>
                    </a:lnTo>
                    <a:lnTo>
                      <a:pt x="441" y="1226"/>
                    </a:lnTo>
                    <a:lnTo>
                      <a:pt x="441" y="1295"/>
                    </a:lnTo>
                    <a:lnTo>
                      <a:pt x="442" y="1363"/>
                    </a:lnTo>
                    <a:lnTo>
                      <a:pt x="442" y="1431"/>
                    </a:lnTo>
                    <a:lnTo>
                      <a:pt x="442" y="1493"/>
                    </a:lnTo>
                    <a:lnTo>
                      <a:pt x="442" y="1552"/>
                    </a:lnTo>
                    <a:lnTo>
                      <a:pt x="442" y="1603"/>
                    </a:lnTo>
                    <a:lnTo>
                      <a:pt x="442" y="1647"/>
                    </a:lnTo>
                    <a:lnTo>
                      <a:pt x="442" y="1649"/>
                    </a:lnTo>
                    <a:lnTo>
                      <a:pt x="444" y="1658"/>
                    </a:lnTo>
                    <a:lnTo>
                      <a:pt x="450" y="1668"/>
                    </a:lnTo>
                    <a:lnTo>
                      <a:pt x="452" y="1682"/>
                    </a:lnTo>
                    <a:lnTo>
                      <a:pt x="460" y="1698"/>
                    </a:lnTo>
                    <a:lnTo>
                      <a:pt x="478" y="1720"/>
                    </a:lnTo>
                    <a:lnTo>
                      <a:pt x="510" y="1738"/>
                    </a:lnTo>
                    <a:lnTo>
                      <a:pt x="546" y="1742"/>
                    </a:lnTo>
                    <a:cubicBezTo>
                      <a:pt x="564" y="1738"/>
                      <a:pt x="602" y="1728"/>
                      <a:pt x="620" y="1712"/>
                    </a:cubicBezTo>
                    <a:cubicBezTo>
                      <a:pt x="638" y="1696"/>
                      <a:pt x="648" y="1670"/>
                      <a:pt x="654" y="1644"/>
                    </a:cubicBezTo>
                    <a:cubicBezTo>
                      <a:pt x="654" y="950"/>
                      <a:pt x="654" y="256"/>
                      <a:pt x="654" y="256"/>
                    </a:cubicBezTo>
                    <a:lnTo>
                      <a:pt x="676" y="257"/>
                    </a:lnTo>
                    <a:lnTo>
                      <a:pt x="676" y="773"/>
                    </a:lnTo>
                    <a:lnTo>
                      <a:pt x="679" y="777"/>
                    </a:lnTo>
                    <a:lnTo>
                      <a:pt x="680" y="787"/>
                    </a:lnTo>
                    <a:lnTo>
                      <a:pt x="685" y="799"/>
                    </a:lnTo>
                    <a:lnTo>
                      <a:pt x="692" y="814"/>
                    </a:lnTo>
                    <a:lnTo>
                      <a:pt x="700" y="830"/>
                    </a:lnTo>
                    <a:lnTo>
                      <a:pt x="715" y="842"/>
                    </a:lnTo>
                    <a:lnTo>
                      <a:pt x="732" y="852"/>
                    </a:lnTo>
                    <a:lnTo>
                      <a:pt x="754" y="856"/>
                    </a:lnTo>
                    <a:lnTo>
                      <a:pt x="777" y="852"/>
                    </a:lnTo>
                    <a:lnTo>
                      <a:pt x="795" y="842"/>
                    </a:lnTo>
                    <a:lnTo>
                      <a:pt x="808" y="830"/>
                    </a:lnTo>
                    <a:lnTo>
                      <a:pt x="816" y="814"/>
                    </a:lnTo>
                    <a:lnTo>
                      <a:pt x="827" y="799"/>
                    </a:lnTo>
                    <a:lnTo>
                      <a:pt x="831" y="788"/>
                    </a:lnTo>
                    <a:lnTo>
                      <a:pt x="831" y="785"/>
                    </a:lnTo>
                    <a:lnTo>
                      <a:pt x="831" y="122"/>
                    </a:lnTo>
                    <a:lnTo>
                      <a:pt x="830" y="105"/>
                    </a:lnTo>
                    <a:lnTo>
                      <a:pt x="814" y="73"/>
                    </a:lnTo>
                    <a:lnTo>
                      <a:pt x="792" y="43"/>
                    </a:lnTo>
                    <a:lnTo>
                      <a:pt x="766" y="22"/>
                    </a:lnTo>
                    <a:lnTo>
                      <a:pt x="734" y="6"/>
                    </a:lnTo>
                    <a:lnTo>
                      <a:pt x="703" y="0"/>
                    </a:lnTo>
                    <a:lnTo>
                      <a:pt x="136" y="0"/>
                    </a:lnTo>
                    <a:lnTo>
                      <a:pt x="193" y="57"/>
                    </a:lnTo>
                    <a:lnTo>
                      <a:pt x="1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024400">
                <a:off x="8170560" y="5329080"/>
                <a:ext cx="243000" cy="72720"/>
              </a:xfrm>
              <a:prstGeom prst="ellipse">
                <a:avLst/>
              </a:prstGeom>
              <a:solidFill>
                <a:srgbClr val="08080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6531120" y="2690640"/>
            <a:ext cx="1958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95480" y="2362320"/>
            <a:ext cx="3384720" cy="28728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2828880"/>
            <a:ext cx="3384720" cy="28728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95480" y="3262320"/>
            <a:ext cx="3384720" cy="28728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3728880"/>
            <a:ext cx="3384720" cy="28764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4175280"/>
            <a:ext cx="3384720" cy="28728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95480" y="4641840"/>
            <a:ext cx="3384720" cy="28728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95480" y="5091120"/>
            <a:ext cx="3384720" cy="28728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95480" y="5557680"/>
            <a:ext cx="3384720" cy="28764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00520" y="23922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00520" y="28526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00520" y="331308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00520" y="37749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00520" y="41972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00520" y="465768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0520" y="51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0520" y="55436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0d885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 flipV="1">
            <a:off x="3549600" y="3200400"/>
            <a:ext cx="0" cy="1447920"/>
          </a:xfrm>
          <a:prstGeom prst="line">
            <a:avLst/>
          </a:prstGeom>
          <a:ln w="76320">
            <a:solidFill>
              <a:srgbClr val="60d88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354640" y="3200400"/>
            <a:ext cx="0" cy="1447920"/>
          </a:xfrm>
          <a:prstGeom prst="line">
            <a:avLst/>
          </a:prstGeom>
          <a:ln w="76320">
            <a:solidFill>
              <a:srgbClr val="60d88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442960" y="4176720"/>
            <a:ext cx="5141880" cy="12600"/>
          </a:xfrm>
          <a:prstGeom prst="line">
            <a:avLst/>
          </a:prstGeom>
          <a:ln w="76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40000" y="3763800"/>
            <a:ext cx="5068800" cy="11160"/>
          </a:xfrm>
          <a:prstGeom prst="line">
            <a:avLst/>
          </a:prstGeom>
          <a:ln w="76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624720" y="3236760"/>
            <a:ext cx="1423800" cy="1424160"/>
          </a:xfrm>
          <a:prstGeom prst="ellipse">
            <a:avLst/>
          </a:prstGeom>
          <a:solidFill>
            <a:srgbClr val="426aa6"/>
          </a:solidFill>
          <a:ln w="57240">
            <a:solidFill>
              <a:srgbClr val="f8f8f8"/>
            </a:solidFill>
            <a:miter/>
          </a:ln>
          <a:effectLst>
            <a:outerShdw dist="81185" dir="307803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98560" y="3236760"/>
            <a:ext cx="1423800" cy="1424160"/>
          </a:xfrm>
          <a:prstGeom prst="ellipse">
            <a:avLst/>
          </a:prstGeom>
          <a:solidFill>
            <a:srgbClr val="426aa6"/>
          </a:solidFill>
          <a:ln w="57240">
            <a:solidFill>
              <a:srgbClr val="f8f8f8"/>
            </a:solidFill>
            <a:miter/>
          </a:ln>
          <a:effectLst>
            <a:outerShdw dist="81185" dir="307803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14600" y="4648320"/>
            <a:ext cx="3917880" cy="1342800"/>
          </a:xfrm>
          <a:prstGeom prst="roundRect">
            <a:avLst>
              <a:gd name="adj" fmla="val 16667"/>
            </a:avLst>
          </a:prstGeom>
          <a:solidFill>
            <a:srgbClr val="60d885">
              <a:alpha val="70000"/>
            </a:srgbClr>
          </a:solidFill>
          <a:ln w="57240">
            <a:solidFill>
              <a:srgbClr val="60d885"/>
            </a:solidFill>
            <a:miter/>
          </a:ln>
          <a:effectLst>
            <a:outerShdw dist="89604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4160" y="363204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06160" y="363204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14600" y="1781280"/>
            <a:ext cx="3917880" cy="1342800"/>
          </a:xfrm>
          <a:prstGeom prst="roundRect">
            <a:avLst>
              <a:gd name="adj" fmla="val 16667"/>
            </a:avLst>
          </a:prstGeom>
          <a:solidFill>
            <a:srgbClr val="eca024">
              <a:alpha val="70000"/>
            </a:srgbClr>
          </a:solidFill>
          <a:ln w="57240">
            <a:solidFill>
              <a:srgbClr val="eca024"/>
            </a:solidFill>
            <a:miter/>
          </a:ln>
          <a:effectLst>
            <a:outerShdw dist="89604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666880" y="201132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66880" y="491652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5:11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08-12T14:34:08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