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295-F315-4E60-9D2C-3158C87F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A6B-C93F-49F3-90DB-372A0B3C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3E7-F589-4C3C-B495-E244A85B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8C2-0A74-4339-91AF-9F412F52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7CB9-3CEA-452B-AA2D-091903F4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8FB0-44E4-416E-857E-E05CE12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3F0-DBFB-4773-AC3A-3B43700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6401-D373-4494-A72F-1993ECCE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A6CF-AA8B-40D1-AA94-C66BB954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8674-BA45-4C44-A727-07622F28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421-F51B-4B44-8D0F-6C9E7B2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4F8-A63C-4B69-812C-DD627409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E0D6-95AF-4242-B5E2-98CC369B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C201-A27B-4A19-B2C5-FA24DA50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29BE-8033-42CA-8A5C-D2AF941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1D26-4008-4091-A1E2-6DB91DB6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C08A-C4BD-4EE4-B918-C5747121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1800-FBDC-41E2-BA4C-0E41BF88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6828-10BE-4760-9F19-859D7DC9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8359-A4DF-4979-913F-23CD660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B289-55A2-4920-BE20-1CFE5B2F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2F69-C0E4-4E89-8279-B11C37E2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434-5709-4DE3-ADB4-F9004FFA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CAB0-9C8F-41B8-845E-DC65313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8517-95FB-41A9-95FE-9ADFCB1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B709-A5D5-43AA-81FB-EA6EFA3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3F98-DBE8-44B5-85EA-57D8072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4DB9-74F9-460D-87A1-4D2527AA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F60F-40FD-4051-A5E7-AD525F05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84EC-5C94-490F-82E2-438E3FD5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DEA-FCAA-4B4A-97CF-A167FBDF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101-2D31-464A-A70F-41C6FDA9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092-CF79-4E6F-993D-727BFF4E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2DA-D87F-4712-ADAF-DE11C9A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413-59EB-4CDB-8941-E9746048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E5A-02D1-46EB-8371-EA6F031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1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9DC-301D-4C14-9317-6310405150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0" y="1764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F:\7788\hand064111 (483).png"/>
          <p:cNvPicPr/>
          <p:nvPr/>
        </p:nvPicPr>
        <p:blipFill>
          <a:blip r:embed="rId3"/>
          <a:srcRect l="27241" t="0" r="0" b="37524"/>
          <a:stretch/>
        </p:blipFill>
        <p:spPr>
          <a:xfrm>
            <a:off x="5148360" y="-479520"/>
            <a:ext cx="4414680" cy="3191040"/>
          </a:xfrm>
          <a:prstGeom prst="rect">
            <a:avLst/>
          </a:prstGeom>
          <a:ln w="0">
            <a:noFill/>
          </a:ln>
        </p:spPr>
      </p:pic>
      <p:sp>
        <p:nvSpPr>
          <p:cNvPr id="43" name="矩形​​ 8"/>
          <p:cNvSpPr/>
          <p:nvPr/>
        </p:nvSpPr>
        <p:spPr>
          <a:xfrm>
            <a:off x="115920" y="182520"/>
            <a:ext cx="8928000" cy="6527880"/>
          </a:xfrm>
          <a:prstGeom prst="rect">
            <a:avLst/>
          </a:prstGeom>
          <a:solidFill>
            <a:srgbClr val="ffffff">
              <a:alpha val="29000"/>
            </a:srgbClr>
          </a:solidFill>
          <a:ln w="12600">
            <a:solidFill>
              <a:srgbClr val="ff9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126200" y="79200"/>
            <a:ext cx="298440" cy="396720"/>
            <a:chOff x="7126200" y="79200"/>
            <a:chExt cx="298440" cy="396720"/>
          </a:xfrm>
        </p:grpSpPr>
        <p:pic>
          <p:nvPicPr>
            <p:cNvPr id="45" name="椭圆​​ 9" descr=""/>
            <p:cNvPicPr/>
            <p:nvPr/>
          </p:nvPicPr>
          <p:blipFill>
            <a:blip r:embed="rId4"/>
            <a:stretch/>
          </p:blipFill>
          <p:spPr>
            <a:xfrm>
              <a:off x="7126200" y="79200"/>
              <a:ext cx="2984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175520" y="137880"/>
              <a:ext cx="203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8236080" y="1596960"/>
            <a:ext cx="414360" cy="493560"/>
            <a:chOff x="8236080" y="1596960"/>
            <a:chExt cx="414360" cy="493560"/>
          </a:xfrm>
        </p:grpSpPr>
        <p:pic>
          <p:nvPicPr>
            <p:cNvPr id="48" name="椭圆​​ 10" descr=""/>
            <p:cNvPicPr/>
            <p:nvPr/>
          </p:nvPicPr>
          <p:blipFill>
            <a:blip r:embed="rId5"/>
            <a:stretch/>
          </p:blipFill>
          <p:spPr>
            <a:xfrm>
              <a:off x="8236080" y="1596960"/>
              <a:ext cx="414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02680" y="167472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8053560" y="1298520"/>
            <a:ext cx="414000" cy="487440"/>
            <a:chOff x="8053560" y="1298520"/>
            <a:chExt cx="414000" cy="487440"/>
          </a:xfrm>
        </p:grpSpPr>
        <p:pic>
          <p:nvPicPr>
            <p:cNvPr id="51" name="椭圆​​ 11" descr=""/>
            <p:cNvPicPr/>
            <p:nvPr/>
          </p:nvPicPr>
          <p:blipFill>
            <a:blip r:embed="rId6"/>
            <a:stretch/>
          </p:blipFill>
          <p:spPr>
            <a:xfrm>
              <a:off x="8053560" y="1298520"/>
              <a:ext cx="414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19800" y="1373040"/>
              <a:ext cx="28224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797520" y="1792440"/>
            <a:ext cx="231840" cy="298440"/>
            <a:chOff x="6797520" y="1792440"/>
            <a:chExt cx="231840" cy="298440"/>
          </a:xfrm>
        </p:grpSpPr>
        <p:pic>
          <p:nvPicPr>
            <p:cNvPr id="54" name="椭圆​​ 12" descr=""/>
            <p:cNvPicPr/>
            <p:nvPr/>
          </p:nvPicPr>
          <p:blipFill>
            <a:blip r:embed="rId7"/>
            <a:stretch/>
          </p:blipFill>
          <p:spPr>
            <a:xfrm>
              <a:off x="6797520" y="1792440"/>
              <a:ext cx="231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35680" y="1838520"/>
              <a:ext cx="1522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553160" y="1023840"/>
            <a:ext cx="407880" cy="493560"/>
            <a:chOff x="7553160" y="1023840"/>
            <a:chExt cx="407880" cy="493560"/>
          </a:xfrm>
        </p:grpSpPr>
        <p:pic>
          <p:nvPicPr>
            <p:cNvPr id="57" name="椭圆​​ 13" descr=""/>
            <p:cNvPicPr/>
            <p:nvPr/>
          </p:nvPicPr>
          <p:blipFill>
            <a:blip r:embed="rId8"/>
            <a:stretch/>
          </p:blipFill>
          <p:spPr>
            <a:xfrm>
              <a:off x="7553160" y="1023840"/>
              <a:ext cx="407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615080" y="109836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50000" y="1809720"/>
            <a:ext cx="334800" cy="439560"/>
            <a:chOff x="7650000" y="1809720"/>
            <a:chExt cx="334800" cy="439560"/>
          </a:xfrm>
        </p:grpSpPr>
        <p:pic>
          <p:nvPicPr>
            <p:cNvPr id="60" name="椭圆​​ 14" descr=""/>
            <p:cNvPicPr/>
            <p:nvPr/>
          </p:nvPicPr>
          <p:blipFill>
            <a:blip r:embed="rId9"/>
            <a:stretch/>
          </p:blipFill>
          <p:spPr>
            <a:xfrm>
              <a:off x="7650000" y="1809720"/>
              <a:ext cx="3348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00760" y="1876320"/>
              <a:ext cx="228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510760" y="1596960"/>
            <a:ext cx="231480" cy="304920"/>
            <a:chOff x="8510760" y="1596960"/>
            <a:chExt cx="231480" cy="304920"/>
          </a:xfrm>
        </p:grpSpPr>
        <p:pic>
          <p:nvPicPr>
            <p:cNvPr id="63" name="椭圆​​ 15" descr=""/>
            <p:cNvPicPr/>
            <p:nvPr/>
          </p:nvPicPr>
          <p:blipFill>
            <a:blip r:embed="rId10"/>
            <a:stretch/>
          </p:blipFill>
          <p:spPr>
            <a:xfrm>
              <a:off x="8510760" y="1596960"/>
              <a:ext cx="2314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550000" y="1646280"/>
              <a:ext cx="1522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" name="图片 3" descr="F:\7788\教师节.png"/>
          <p:cNvPicPr/>
          <p:nvPr/>
        </p:nvPicPr>
        <p:blipFill>
          <a:blip r:embed="rId11"/>
          <a:srcRect l="0" t="34630" r="58984" b="0"/>
          <a:stretch/>
        </p:blipFill>
        <p:spPr>
          <a:xfrm>
            <a:off x="0" y="3594240"/>
            <a:ext cx="2050920" cy="3278160"/>
          </a:xfrm>
          <a:prstGeom prst="rect">
            <a:avLst/>
          </a:prstGeom>
          <a:ln w="0">
            <a:noFill/>
          </a:ln>
        </p:spPr>
      </p:pic>
      <p:sp>
        <p:nvSpPr>
          <p:cNvPr id="66" name="任意多边形 28"/>
          <p:cNvSpPr/>
          <p:nvPr/>
        </p:nvSpPr>
        <p:spPr>
          <a:xfrm>
            <a:off x="4067280" y="6332400"/>
            <a:ext cx="176040" cy="212760"/>
          </a:xfrm>
          <a:prstGeom prst="pi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28"/>
          <p:cNvSpPr/>
          <p:nvPr/>
        </p:nvSpPr>
        <p:spPr>
          <a:xfrm>
            <a:off x="4390920" y="6332400"/>
            <a:ext cx="176400" cy="212760"/>
          </a:xfrm>
          <a:prstGeom prst="pi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4714920" y="6332400"/>
            <a:ext cx="176040" cy="212760"/>
          </a:xfrm>
          <a:prstGeom prst="pi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38640" y="317520"/>
            <a:ext cx="231840" cy="298440"/>
            <a:chOff x="5138640" y="317520"/>
            <a:chExt cx="231840" cy="298440"/>
          </a:xfrm>
        </p:grpSpPr>
        <p:pic>
          <p:nvPicPr>
            <p:cNvPr id="70" name="椭圆​​ 23" descr=""/>
            <p:cNvPicPr/>
            <p:nvPr/>
          </p:nvPicPr>
          <p:blipFill>
            <a:blip r:embed="rId12"/>
            <a:stretch/>
          </p:blipFill>
          <p:spPr>
            <a:xfrm>
              <a:off x="5138640" y="317520"/>
              <a:ext cx="231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180040" y="365040"/>
              <a:ext cx="1522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09920" y="-220680"/>
            <a:ext cx="414360" cy="488880"/>
            <a:chOff x="4309920" y="-220680"/>
            <a:chExt cx="414360" cy="488880"/>
          </a:xfrm>
        </p:grpSpPr>
        <p:pic>
          <p:nvPicPr>
            <p:cNvPr id="73" name="椭圆​​ 24" descr=""/>
            <p:cNvPicPr/>
            <p:nvPr/>
          </p:nvPicPr>
          <p:blipFill>
            <a:blip r:embed="rId13"/>
            <a:stretch/>
          </p:blipFill>
          <p:spPr>
            <a:xfrm>
              <a:off x="4309920" y="-220680"/>
              <a:ext cx="4143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375080" y="-145080"/>
              <a:ext cx="282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DBAF-8BC2-4E1A-9BA3-15F3F44EB3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​​ 14"/>
          <p:cNvSpPr/>
          <p:nvPr/>
        </p:nvSpPr>
        <p:spPr>
          <a:xfrm>
            <a:off x="108000" y="165240"/>
            <a:ext cx="8928000" cy="6527520"/>
          </a:xfrm>
          <a:prstGeom prst="rect">
            <a:avLst/>
          </a:prstGeom>
          <a:solidFill>
            <a:srgbClr val="ffffff">
              <a:alpha val="29000"/>
            </a:srgbClr>
          </a:solidFill>
          <a:ln w="12600">
            <a:solidFill>
              <a:srgbClr val="ff9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图片 7" descr="F:\7788\hand064111 (483).png"/>
          <p:cNvPicPr/>
          <p:nvPr/>
        </p:nvPicPr>
        <p:blipFill>
          <a:blip r:embed="rId3"/>
          <a:srcRect l="0" t="37524" r="27241" b="0"/>
          <a:stretch/>
        </p:blipFill>
        <p:spPr>
          <a:xfrm>
            <a:off x="0" y="2755800"/>
            <a:ext cx="5219640" cy="4113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" descr="F:\7788\hand064111 (483).png"/>
          <p:cNvPicPr/>
          <p:nvPr/>
        </p:nvPicPr>
        <p:blipFill>
          <a:blip r:embed="rId4"/>
          <a:srcRect l="0" t="37524" r="27241" b="17764"/>
          <a:stretch/>
        </p:blipFill>
        <p:spPr>
          <a:xfrm rot="11359800">
            <a:off x="6260760" y="-282600"/>
            <a:ext cx="3421080" cy="20970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7083360" y="60480"/>
            <a:ext cx="304920" cy="396720"/>
            <a:chOff x="7083360" y="60480"/>
            <a:chExt cx="304920" cy="396720"/>
          </a:xfrm>
        </p:grpSpPr>
        <p:pic>
          <p:nvPicPr>
            <p:cNvPr id="121" name="椭圆​​ 16" descr=""/>
            <p:cNvPicPr/>
            <p:nvPr/>
          </p:nvPicPr>
          <p:blipFill>
            <a:blip r:embed="rId5"/>
            <a:stretch/>
          </p:blipFill>
          <p:spPr>
            <a:xfrm>
              <a:off x="7083360" y="60480"/>
              <a:ext cx="3049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134120" y="122400"/>
              <a:ext cx="203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8705880" y="950760"/>
            <a:ext cx="414360" cy="487440"/>
            <a:chOff x="8705880" y="950760"/>
            <a:chExt cx="414360" cy="487440"/>
          </a:xfrm>
        </p:grpSpPr>
        <p:pic>
          <p:nvPicPr>
            <p:cNvPr id="124" name="椭圆​​ 17" descr=""/>
            <p:cNvPicPr/>
            <p:nvPr/>
          </p:nvPicPr>
          <p:blipFill>
            <a:blip r:embed="rId6"/>
            <a:stretch/>
          </p:blipFill>
          <p:spPr>
            <a:xfrm>
              <a:off x="8705880" y="950760"/>
              <a:ext cx="414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771040" y="1025280"/>
              <a:ext cx="2840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308800" y="1182600"/>
            <a:ext cx="407880" cy="493560"/>
            <a:chOff x="8308800" y="1182600"/>
            <a:chExt cx="407880" cy="493560"/>
          </a:xfrm>
        </p:grpSpPr>
        <p:pic>
          <p:nvPicPr>
            <p:cNvPr id="127" name="椭圆​​ 18" descr=""/>
            <p:cNvPicPr/>
            <p:nvPr/>
          </p:nvPicPr>
          <p:blipFill>
            <a:blip r:embed="rId7"/>
            <a:stretch/>
          </p:blipFill>
          <p:spPr>
            <a:xfrm>
              <a:off x="8308800" y="1182600"/>
              <a:ext cx="407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372160" y="126036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80400" y="1736640"/>
            <a:ext cx="225360" cy="299880"/>
            <a:chOff x="6980400" y="1736640"/>
            <a:chExt cx="225360" cy="299880"/>
          </a:xfrm>
        </p:grpSpPr>
        <p:pic>
          <p:nvPicPr>
            <p:cNvPr id="130" name="椭圆​​ 19" descr=""/>
            <p:cNvPicPr/>
            <p:nvPr/>
          </p:nvPicPr>
          <p:blipFill>
            <a:blip r:embed="rId8"/>
            <a:stretch/>
          </p:blipFill>
          <p:spPr>
            <a:xfrm>
              <a:off x="6980400" y="1736640"/>
              <a:ext cx="22536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015320" y="1785960"/>
              <a:ext cx="1540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918560" y="420840"/>
            <a:ext cx="414360" cy="493560"/>
            <a:chOff x="7918560" y="420840"/>
            <a:chExt cx="414360" cy="493560"/>
          </a:xfrm>
        </p:grpSpPr>
        <p:pic>
          <p:nvPicPr>
            <p:cNvPr id="133" name="椭圆​​ 20" descr=""/>
            <p:cNvPicPr/>
            <p:nvPr/>
          </p:nvPicPr>
          <p:blipFill>
            <a:blip r:embed="rId9"/>
            <a:stretch/>
          </p:blipFill>
          <p:spPr>
            <a:xfrm>
              <a:off x="7918560" y="420840"/>
              <a:ext cx="4143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983720" y="498600"/>
              <a:ext cx="2826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900920" y="1695600"/>
            <a:ext cx="334800" cy="444240"/>
            <a:chOff x="7900920" y="1695600"/>
            <a:chExt cx="334800" cy="444240"/>
          </a:xfrm>
        </p:grpSpPr>
        <p:pic>
          <p:nvPicPr>
            <p:cNvPr id="136" name="椭圆​​ 21" descr=""/>
            <p:cNvPicPr/>
            <p:nvPr/>
          </p:nvPicPr>
          <p:blipFill>
            <a:blip r:embed="rId10"/>
            <a:stretch/>
          </p:blipFill>
          <p:spPr>
            <a:xfrm>
              <a:off x="7900920" y="1695600"/>
              <a:ext cx="3348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953480" y="1763640"/>
              <a:ext cx="2286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766000" y="1427040"/>
            <a:ext cx="225360" cy="304920"/>
            <a:chOff x="8766000" y="1427040"/>
            <a:chExt cx="225360" cy="304920"/>
          </a:xfrm>
        </p:grpSpPr>
        <p:pic>
          <p:nvPicPr>
            <p:cNvPr id="139" name="椭圆​​ 22" descr=""/>
            <p:cNvPicPr/>
            <p:nvPr/>
          </p:nvPicPr>
          <p:blipFill>
            <a:blip r:embed="rId11"/>
            <a:stretch/>
          </p:blipFill>
          <p:spPr>
            <a:xfrm>
              <a:off x="8766000" y="1427040"/>
              <a:ext cx="2253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802360" y="1476360"/>
              <a:ext cx="152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1387-2308-46CF-B5B1-594D340391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​​ 2"/>
          <p:cNvSpPr/>
          <p:nvPr/>
        </p:nvSpPr>
        <p:spPr>
          <a:xfrm>
            <a:off x="0" y="-25560"/>
            <a:ext cx="9144000" cy="688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​​ 45"/>
          <p:cNvSpPr/>
          <p:nvPr/>
        </p:nvSpPr>
        <p:spPr>
          <a:xfrm>
            <a:off x="0" y="6405480"/>
            <a:ext cx="9144000" cy="0"/>
          </a:xfrm>
          <a:prstGeom prst="line">
            <a:avLst/>
          </a:prstGeom>
          <a:ln w="9360">
            <a:solidFill>
              <a:srgbClr val="fa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图片 2" descr="F:\7788\hand064111 (483).png"/>
          <p:cNvPicPr/>
          <p:nvPr/>
        </p:nvPicPr>
        <p:blipFill>
          <a:blip r:embed="rId1"/>
          <a:srcRect l="0" t="37524" r="27241" b="0"/>
          <a:stretch/>
        </p:blipFill>
        <p:spPr>
          <a:xfrm>
            <a:off x="755640" y="2241720"/>
            <a:ext cx="5183280" cy="44510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F:\7788\教师节.png"/>
          <p:cNvPicPr/>
          <p:nvPr/>
        </p:nvPicPr>
        <p:blipFill>
          <a:blip r:embed="rId2"/>
          <a:srcRect l="0" t="34630" r="58984" b="0"/>
          <a:stretch/>
        </p:blipFill>
        <p:spPr>
          <a:xfrm>
            <a:off x="0" y="2328840"/>
            <a:ext cx="2843280" cy="4543560"/>
          </a:xfrm>
          <a:prstGeom prst="rect">
            <a:avLst/>
          </a:prstGeom>
          <a:ln w="0">
            <a:noFill/>
          </a:ln>
        </p:spPr>
      </p:pic>
      <p:sp>
        <p:nvSpPr>
          <p:cNvPr id="186" name="矩形​​ 33"/>
          <p:cNvSpPr/>
          <p:nvPr/>
        </p:nvSpPr>
        <p:spPr>
          <a:xfrm>
            <a:off x="0" y="6446880"/>
            <a:ext cx="9144000" cy="411120"/>
          </a:xfrm>
          <a:prstGeom prst="rect">
            <a:avLst/>
          </a:prstGeom>
          <a:solidFill>
            <a:srgbClr val="f28a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7" descr="D:\办公室\学习资料\资料\花木兰\8d275d414b2038f60a43d50f01c72571.jpg"/>
          <p:cNvPicPr/>
          <p:nvPr/>
        </p:nvPicPr>
        <p:blipFill>
          <a:blip r:embed="rId3"/>
          <a:srcRect l="0" t="12453" r="0" b="9755"/>
          <a:stretch/>
        </p:blipFill>
        <p:spPr>
          <a:xfrm>
            <a:off x="4929120" y="1417680"/>
            <a:ext cx="3810240" cy="238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018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6364080" y="3589200"/>
            <a:ext cx="729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汉语言文学本科毕业论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36360" y="760320"/>
            <a:ext cx="90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典雅汉语言文学本科毕业论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785880" y="2190600"/>
            <a:ext cx="7786800" cy="503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94D1-9E91-48FF-957C-94C72A5EE2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extBox 9" descr=""/>
          <p:cNvPicPr/>
          <p:nvPr/>
        </p:nvPicPr>
        <p:blipFill>
          <a:blip r:embed="rId1"/>
          <a:stretch/>
        </p:blipFill>
        <p:spPr>
          <a:xfrm>
            <a:off x="1627200" y="1895400"/>
            <a:ext cx="6346800" cy="151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018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6:08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4:04Z</dcterms:modified>
  <cp:revision>10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