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58C-8846-4C6B-B430-BCFA584D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D96-EE06-44B9-9D28-7F02B86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9F4-BC3E-41A3-A110-E7DFADA7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7C1-8904-4307-90B1-2CD0AD95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B9F-C20B-4F65-8A5F-9855184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3ED-A27B-4819-9853-7D4C2AE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835-FB2A-41B3-A356-E7303FB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18A-FD28-4155-8CC7-EEE39C8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5F1-5868-4858-8A2F-E84D1611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06-7DE8-4A65-808E-7B1DC6A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339-E90D-4F09-83C3-4DAC382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512-99DC-48A2-B2E4-C2DC84A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9AD-9383-46CD-B32A-92646DDD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fn2-c2_Pro副本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内容占位符 5" descr="株洲学校rs1_Pro2012-4-19.jpg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-27000"/>
            <a:ext cx="9144000" cy="2303640"/>
          </a:xfrm>
          <a:prstGeom prst="rect">
            <a:avLst/>
          </a:prstGeom>
          <a:solidFill>
            <a:srgbClr val="ff66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68640"/>
            <a:ext cx="9144000" cy="125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853272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77080" y="6165720"/>
            <a:ext cx="179856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黑体"/>
              </a:rPr>
              <a:t>新校区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4880" y="2349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专工作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2560" y="3860640"/>
            <a:ext cx="7993080" cy="2232000"/>
            <a:chOff x="682560" y="3860640"/>
            <a:chExt cx="7993080" cy="223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82560" y="3860640"/>
              <a:ext cx="36226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356000" y="3860640"/>
              <a:ext cx="431964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124000" cy="1413000"/>
          </a:xfrm>
          <a:prstGeom prst="rect">
            <a:avLst/>
          </a:prstGeom>
          <a:solidFill>
            <a:srgbClr val="99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47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学校基本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8360" y="260280"/>
            <a:ext cx="1008000" cy="1081440"/>
            <a:chOff x="468360" y="260280"/>
            <a:chExt cx="1008000" cy="1081440"/>
          </a:xfrm>
        </p:grpSpPr>
        <p:sp>
          <p:nvSpPr>
            <p:cNvPr id="61" name=""/>
            <p:cNvSpPr/>
            <p:nvPr/>
          </p:nvSpPr>
          <p:spPr>
            <a:xfrm>
              <a:off x="468360" y="260280"/>
              <a:ext cx="1008000" cy="10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8360" y="33336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Arial"/>
                  <a:ea typeface="方正黄草简体"/>
                </a:rPr>
                <a:t>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50920" y="1557360"/>
            <a:ext cx="86040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校现占地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亩，建筑面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固定资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亿元，其中教学、医疗科研仪器设备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80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元，馆藏图书资料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册。学校在校学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41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，在籍学生已突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4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，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教学系部，开设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专业，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校内实训中心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家附属医院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家校外实训基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校已累计为社会培养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多名中医药人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7080" y="6262560"/>
            <a:ext cx="8837640" cy="530280"/>
            <a:chOff x="127080" y="6262560"/>
            <a:chExt cx="8837640" cy="53028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5238720" y="6315120"/>
              <a:ext cx="372600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127080" y="6262560"/>
              <a:ext cx="295272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C22-C00F-43AB-A676-8EF9CCE48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2124000" cy="1413000"/>
          </a:xfrm>
          <a:prstGeom prst="rect">
            <a:avLst/>
          </a:prstGeom>
          <a:solidFill>
            <a:srgbClr val="99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9672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34092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2708280"/>
            <a:ext cx="496872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方正黄草简体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28000" y="6237360"/>
            <a:ext cx="20160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黑体"/>
              </a:rPr>
              <a:t>新校区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124000" y="333360"/>
            <a:ext cx="4241880" cy="82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2:55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