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8BD1-0AAA-4F69-BB6E-4E3BC1BE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B5F-4675-4E7D-8594-79710C08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C0C0-9CB4-4903-A5C9-BEF3BD38C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14DD-A408-420B-9C02-0BA6137DA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D2EB-EA78-4884-ACA8-8FF19C36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E73-F8C3-4EC1-9A27-5B5E3FCD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62AB-E756-493C-8552-5505298D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E19-D151-4C09-BE53-B3422BB6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F899-81AF-45F1-AD46-A331A64E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0AF9-8ACA-42F1-B29E-5FE3F68A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B9C-7493-4564-B87C-D6A16D7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DE26-074E-42A0-9E5D-8155CEE0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7B1E-C598-43DB-9868-A7517A4334AB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14F8-6D98-40D4-B9DB-BB9E1C09D9B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3071880" y="3790800"/>
            <a:ext cx="528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3357720" y="45720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卡通可爱主题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2400" y="620640"/>
            <a:ext cx="720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儿童节节日主题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714840" y="9968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386964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87108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394236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94092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8"/>
          <p:cNvSpPr/>
          <p:nvPr/>
        </p:nvSpPr>
        <p:spPr>
          <a:xfrm>
            <a:off x="2859840" y="78588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512680" y="4286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322668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158364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44088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2891520" y="8539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344088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279792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344088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2891520" y="8571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5643720" y="4000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1654920" y="3071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422676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5120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2859840" y="8571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4429080" y="3357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272664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308376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3440880" y="4714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9AFB-C477-4F65-A270-A43ED912E4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8"/>
          <p:cNvSpPr/>
          <p:nvPr/>
        </p:nvSpPr>
        <p:spPr>
          <a:xfrm>
            <a:off x="2788560" y="7142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/>
          <p:cNvSpPr/>
          <p:nvPr/>
        </p:nvSpPr>
        <p:spPr>
          <a:xfrm>
            <a:off x="372672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1869120" y="4643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151200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"/>
          <p:cNvSpPr/>
          <p:nvPr/>
        </p:nvSpPr>
        <p:spPr>
          <a:xfrm>
            <a:off x="4226760" y="4572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：www.eeppt.com</dc:creator>
  <dc:description>幻灯片之家：www.eeppt.com</dc:description>
  <cp:keywords>幻灯片之家：www.eeppt.com</cp:keywords>
  <dc:language>en-US</dc:language>
  <cp:lastModifiedBy>a</cp:lastModifiedBy>
  <dcterms:modified xsi:type="dcterms:W3CDTF">2015-08-12T14:34:00Z</dcterms:modified>
  <cp:revision>4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