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676-974F-4ADE-9386-3B8B8421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F27-CE62-42EB-99FD-6D6520CF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562-2342-4230-B297-D222CE35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B64-BD2A-48F3-BA3A-F4E557C0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58A-6AB5-4FCA-8C4A-D4A948DD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6DC-4804-47CD-9229-48DEA875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738-5D36-4FF8-AAA1-9222586B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05F-D305-449D-941C-EAC28B75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CE5-3115-44AA-907A-2C7A3E8C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7B8-536A-4CA5-B59C-D7FFEF1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677-7038-44AE-8194-3D50E52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385-C9E4-4107-94CA-F6CCEAF4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B20-7F0D-4E1D-B7A4-CEB71A060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92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方正中倩简体"/>
                <a:ea typeface="方正中倩简体"/>
              </a:rPr>
              <a:t>妇女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2AE-93BB-4A16-B947-999CF837B3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4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7:39:04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1:27Z</dcterms:modified>
  <cp:revision>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