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5A8A-E1CE-453E-B257-28D0F8F6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8A0-90A7-4968-B2C0-9C484E7C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6E54-4D6A-43F0-B35A-CD1FA88C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E4CA-7312-4B73-BB4F-D5C9CBE7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72E7-4A78-46BF-B927-31678A71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C716-D48A-4B5D-B162-EF5D4F01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CE92-E8C3-470B-8802-2B41E5DA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954A-453F-470C-BE9E-055B1335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2AF-91FB-4B0D-A97B-104D8184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1E4E-38E0-40E7-8D3B-0C08FCCD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64C-C5CA-43AF-8D9E-98C49EEA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FB7C-0F9C-4CB4-9AF4-1139ACE7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3987-65C9-4A54-A770-B1108284755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85CA-419D-4487-84D6-158843E5DF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900000" y="303120"/>
            <a:ext cx="6186240" cy="3710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3492360" y="1835280"/>
            <a:ext cx="2367000" cy="2025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2898720" y="3870360"/>
            <a:ext cx="3257640" cy="1636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57080" y="11253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妇女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250920" y="5805360"/>
            <a:ext cx="936360" cy="800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6443640" y="100080"/>
            <a:ext cx="1754280" cy="880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1433520" y="1335240"/>
            <a:ext cx="5989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是国际劳动妇女节，又称三八节、妇女节、三八国际妇女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世界各国妇女争取和平、平等、发展的节日。一个世纪以来，各国妇女为争取自身的权利做出了不懈的努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为第一个国际劳动妇女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2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开始纪念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八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。中国妇女第一次群众性的纪念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八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活动是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2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在广州举行的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，中央人民政府政务院规定每年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为妇女节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大会通过了一项决议，请每个国家按照自己的历史和民族传统习俗，选定一年中的某一天为联合国妇女权利和世界和平日。国际妇女节定为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4"/>
          <a:stretch/>
        </p:blipFill>
        <p:spPr>
          <a:xfrm>
            <a:off x="-1136520" y="0"/>
            <a:ext cx="85597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250920" y="5805360"/>
            <a:ext cx="936360" cy="800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6443640" y="100080"/>
            <a:ext cx="1754280" cy="880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4"/>
          <a:stretch/>
        </p:blipFill>
        <p:spPr>
          <a:xfrm>
            <a:off x="-1136520" y="0"/>
            <a:ext cx="8559720" cy="1866960"/>
          </a:xfrm>
          <a:prstGeom prst="rect">
            <a:avLst/>
          </a:prstGeom>
          <a:ln w="0">
            <a:noFill/>
          </a:ln>
        </p:spPr>
      </p:pic>
      <p:grpSp>
        <p:nvGrpSpPr>
          <p:cNvPr id="55" name="组合 3"/>
          <p:cNvGrpSpPr/>
          <p:nvPr/>
        </p:nvGrpSpPr>
        <p:grpSpPr>
          <a:xfrm>
            <a:off x="3276720" y="1558800"/>
            <a:ext cx="4248000" cy="1082880"/>
            <a:chOff x="3276720" y="1558800"/>
            <a:chExt cx="4248000" cy="1082880"/>
          </a:xfrm>
        </p:grpSpPr>
        <p:pic>
          <p:nvPicPr>
            <p:cNvPr id="56" name="图片 50" descr=""/>
            <p:cNvPicPr/>
            <p:nvPr/>
          </p:nvPicPr>
          <p:blipFill>
            <a:blip r:embed="rId5"/>
            <a:stretch/>
          </p:blipFill>
          <p:spPr>
            <a:xfrm flipH="1" rot="16200000">
              <a:off x="4859280" y="-23400"/>
              <a:ext cx="1082880" cy="42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51"/>
            <p:cNvSpPr/>
            <p:nvPr/>
          </p:nvSpPr>
          <p:spPr>
            <a:xfrm flipH="1">
              <a:off x="3636000" y="1776600"/>
              <a:ext cx="110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  <a:ea typeface="微软雅黑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53"/>
          <p:cNvGrpSpPr/>
          <p:nvPr/>
        </p:nvGrpSpPr>
        <p:grpSpPr>
          <a:xfrm>
            <a:off x="2612880" y="2887560"/>
            <a:ext cx="4249800" cy="1082880"/>
            <a:chOff x="2612880" y="2887560"/>
            <a:chExt cx="4249800" cy="1082880"/>
          </a:xfrm>
        </p:grpSpPr>
        <p:pic>
          <p:nvPicPr>
            <p:cNvPr id="59" name="图片 54" descr=""/>
            <p:cNvPicPr/>
            <p:nvPr/>
          </p:nvPicPr>
          <p:blipFill>
            <a:blip r:embed="rId6"/>
            <a:stretch/>
          </p:blipFill>
          <p:spPr>
            <a:xfrm flipH="1" rot="16200000">
              <a:off x="4196160" y="1303920"/>
              <a:ext cx="108288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Box 55"/>
            <p:cNvSpPr/>
            <p:nvPr/>
          </p:nvSpPr>
          <p:spPr>
            <a:xfrm flipH="1">
              <a:off x="2972880" y="3105360"/>
              <a:ext cx="110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  <a:ea typeface="微软雅黑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56"/>
          <p:cNvGrpSpPr/>
          <p:nvPr/>
        </p:nvGrpSpPr>
        <p:grpSpPr>
          <a:xfrm>
            <a:off x="1512720" y="4149000"/>
            <a:ext cx="4248360" cy="1082520"/>
            <a:chOff x="1512720" y="4149000"/>
            <a:chExt cx="4248360" cy="1082520"/>
          </a:xfrm>
        </p:grpSpPr>
        <p:pic>
          <p:nvPicPr>
            <p:cNvPr id="62" name="图片 57" descr=""/>
            <p:cNvPicPr/>
            <p:nvPr/>
          </p:nvPicPr>
          <p:blipFill>
            <a:blip r:embed="rId7"/>
            <a:stretch/>
          </p:blipFill>
          <p:spPr>
            <a:xfrm flipH="1" rot="16200000">
              <a:off x="3095640" y="2566080"/>
              <a:ext cx="1082520" cy="424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Box 58"/>
            <p:cNvSpPr/>
            <p:nvPr/>
          </p:nvSpPr>
          <p:spPr>
            <a:xfrm flipH="1">
              <a:off x="1872000" y="4367520"/>
              <a:ext cx="110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  <a:ea typeface="微软雅黑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36B-E26B-40BF-AF92-7F3986BF40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250920" y="5805360"/>
            <a:ext cx="936360" cy="800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6443640" y="100080"/>
            <a:ext cx="1754280" cy="880920"/>
          </a:xfrm>
          <a:prstGeom prst="rect">
            <a:avLst/>
          </a:prstGeom>
          <a:ln w="0">
            <a:noFill/>
          </a:ln>
        </p:spPr>
      </p:pic>
      <p:sp>
        <p:nvSpPr>
          <p:cNvPr id="71" name="直接连接符 36"/>
          <p:cNvSpPr/>
          <p:nvPr/>
        </p:nvSpPr>
        <p:spPr>
          <a:xfrm>
            <a:off x="4181400" y="3828960"/>
            <a:ext cx="3851280" cy="0"/>
          </a:xfrm>
          <a:prstGeom prst="line">
            <a:avLst/>
          </a:prstGeom>
          <a:ln w="133200">
            <a:solidFill>
              <a:srgbClr val="dc4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37" descr=""/>
          <p:cNvPicPr/>
          <p:nvPr/>
        </p:nvPicPr>
        <p:blipFill>
          <a:blip r:embed="rId4"/>
          <a:srcRect l="9127" t="26052" r="14654" b="33128"/>
          <a:stretch/>
        </p:blipFill>
        <p:spPr>
          <a:xfrm>
            <a:off x="4803840" y="4890960"/>
            <a:ext cx="1542960" cy="148284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8" descr=""/>
          <p:cNvPicPr/>
          <p:nvPr/>
        </p:nvPicPr>
        <p:blipFill>
          <a:blip r:embed="rId5"/>
          <a:srcRect l="9127" t="26052" r="14654" b="33128"/>
          <a:stretch/>
        </p:blipFill>
        <p:spPr>
          <a:xfrm>
            <a:off x="3106800" y="4041720"/>
            <a:ext cx="2166840" cy="20829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9" descr=""/>
          <p:cNvPicPr/>
          <p:nvPr/>
        </p:nvPicPr>
        <p:blipFill>
          <a:blip r:embed="rId6"/>
          <a:srcRect l="9127" t="26052" r="14654" b="33128"/>
          <a:stretch/>
        </p:blipFill>
        <p:spPr>
          <a:xfrm>
            <a:off x="946080" y="2654280"/>
            <a:ext cx="2889360" cy="27766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40" descr=""/>
          <p:cNvPicPr/>
          <p:nvPr/>
        </p:nvPicPr>
        <p:blipFill>
          <a:blip r:embed="rId7"/>
          <a:srcRect l="9127" t="30572" r="14654" b="33128"/>
          <a:stretch/>
        </p:blipFill>
        <p:spPr>
          <a:xfrm>
            <a:off x="1409760" y="0"/>
            <a:ext cx="4064040" cy="3475080"/>
          </a:xfrm>
          <a:prstGeom prst="rect">
            <a:avLst/>
          </a:prstGeom>
          <a:ln w="0">
            <a:noFill/>
          </a:ln>
        </p:spPr>
      </p:pic>
      <p:sp>
        <p:nvSpPr>
          <p:cNvPr id="76" name="TextBox 41"/>
          <p:cNvSpPr/>
          <p:nvPr/>
        </p:nvSpPr>
        <p:spPr>
          <a:xfrm>
            <a:off x="4540320" y="312120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3c05"/>
                </a:solidFill>
                <a:latin typeface="Times New Roman"/>
                <a:ea typeface="微软雅黑"/>
              </a:rPr>
              <a:t>Add your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2"/>
          <p:cNvSpPr/>
          <p:nvPr/>
        </p:nvSpPr>
        <p:spPr>
          <a:xfrm>
            <a:off x="2279520" y="946080"/>
            <a:ext cx="17272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3c05"/>
                </a:solidFill>
                <a:latin typeface="Agency FB"/>
                <a:ea typeface="微软雅黑"/>
              </a:rPr>
              <a:t>Your</a:t>
            </a:r>
            <a:r>
              <a:rPr b="1" lang="en-US" sz="2000" spc="-1" strike="noStrike">
                <a:solidFill>
                  <a:srgbClr val="b73c05"/>
                </a:solidFill>
                <a:latin typeface="Agency FB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b73c05"/>
                </a:solidFill>
                <a:latin typeface="Agency FB"/>
                <a:ea typeface="微软雅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3"/>
          <p:cNvSpPr/>
          <p:nvPr/>
        </p:nvSpPr>
        <p:spPr>
          <a:xfrm>
            <a:off x="2206800" y="1459080"/>
            <a:ext cx="1973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微软雅黑"/>
              </a:rPr>
              <a:t>Click here to add your text. Click here to add you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44"/>
          <p:cNvSpPr/>
          <p:nvPr/>
        </p:nvSpPr>
        <p:spPr>
          <a:xfrm>
            <a:off x="2322360" y="1406520"/>
            <a:ext cx="1741680" cy="0"/>
          </a:xfrm>
          <a:prstGeom prst="line">
            <a:avLst/>
          </a:prstGeom>
          <a:ln w="28440">
            <a:solidFill>
              <a:srgbClr val="97480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5"/>
          <p:cNvSpPr/>
          <p:nvPr/>
        </p:nvSpPr>
        <p:spPr>
          <a:xfrm>
            <a:off x="1343160" y="3475080"/>
            <a:ext cx="17269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3c05"/>
                </a:solidFill>
                <a:latin typeface="Agency FB"/>
                <a:ea typeface="微软雅黑"/>
              </a:rPr>
              <a:t>Your</a:t>
            </a:r>
            <a:r>
              <a:rPr b="1" lang="en-US" sz="2000" spc="-1" strike="noStrike">
                <a:solidFill>
                  <a:srgbClr val="b73c05"/>
                </a:solidFill>
                <a:latin typeface="Agency FB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b73c05"/>
                </a:solidFill>
                <a:latin typeface="Agency FB"/>
                <a:ea typeface="微软雅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6"/>
          <p:cNvSpPr/>
          <p:nvPr/>
        </p:nvSpPr>
        <p:spPr>
          <a:xfrm>
            <a:off x="1486080" y="3987720"/>
            <a:ext cx="158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微软雅黑"/>
              </a:rPr>
              <a:t>Click here to add your text. here to add you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47"/>
          <p:cNvSpPr/>
          <p:nvPr/>
        </p:nvSpPr>
        <p:spPr>
          <a:xfrm>
            <a:off x="1630440" y="3935520"/>
            <a:ext cx="1295280" cy="0"/>
          </a:xfrm>
          <a:prstGeom prst="line">
            <a:avLst/>
          </a:prstGeom>
          <a:ln w="28440">
            <a:solidFill>
              <a:srgbClr val="97480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8"/>
          <p:cNvSpPr/>
          <p:nvPr/>
        </p:nvSpPr>
        <p:spPr>
          <a:xfrm>
            <a:off x="3181320" y="4595760"/>
            <a:ext cx="17272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3c05"/>
                </a:solidFill>
                <a:latin typeface="Agency FB"/>
                <a:ea typeface="微软雅黑"/>
              </a:rPr>
              <a:t>Your</a:t>
            </a:r>
            <a:r>
              <a:rPr b="1" lang="en-US" sz="1600" spc="-1" strike="noStrike">
                <a:solidFill>
                  <a:srgbClr val="b73c05"/>
                </a:solidFill>
                <a:latin typeface="Agency FB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b73c05"/>
                </a:solidFill>
                <a:latin typeface="Agency FB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9"/>
          <p:cNvSpPr/>
          <p:nvPr/>
        </p:nvSpPr>
        <p:spPr>
          <a:xfrm>
            <a:off x="3432240" y="500688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微软雅黑"/>
              </a:rPr>
              <a:t>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50"/>
          <p:cNvSpPr/>
          <p:nvPr/>
        </p:nvSpPr>
        <p:spPr>
          <a:xfrm>
            <a:off x="3502080" y="4991040"/>
            <a:ext cx="1114200" cy="0"/>
          </a:xfrm>
          <a:prstGeom prst="line">
            <a:avLst/>
          </a:prstGeom>
          <a:ln w="28440">
            <a:solidFill>
              <a:srgbClr val="97480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1"/>
          <p:cNvSpPr/>
          <p:nvPr/>
        </p:nvSpPr>
        <p:spPr>
          <a:xfrm>
            <a:off x="4960800" y="5519880"/>
            <a:ext cx="10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3c05"/>
                </a:solidFill>
                <a:latin typeface="Agency FB"/>
                <a:ea typeface="微软雅黑"/>
              </a:rPr>
              <a:t>Your</a:t>
            </a:r>
            <a:r>
              <a:rPr b="1" lang="en-US" sz="1600" spc="-1" strike="noStrike">
                <a:solidFill>
                  <a:srgbClr val="b73c05"/>
                </a:solidFill>
                <a:latin typeface="Agency FB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b73c05"/>
                </a:solidFill>
                <a:latin typeface="Agency FB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8"/>
          <a:stretch/>
        </p:blipFill>
        <p:spPr>
          <a:xfrm>
            <a:off x="-1136520" y="0"/>
            <a:ext cx="85597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12:37:00Z</dcterms:created>
  <dc:creator>幻灯片之家：www.eeppt.com</dc:creator>
  <dc:description>幻灯片之家：www.eeppt.com</dc:description>
  <cp:keywords>幻灯片之家：www.eeppt.com</cp:keywords>
  <dc:language>en-US</dc:language>
  <cp:lastModifiedBy>SUNNY-PC</cp:lastModifiedBy>
  <dcterms:modified xsi:type="dcterms:W3CDTF">2015-08-12T14:35:24Z</dcterms:modified>
  <cp:revision>2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