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F9A76-07DB-4499-A7C5-6B9EFB136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6836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7F6F-2CA8-414C-9973-6A6AA2D3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E21F0-B6EF-42A0-B333-5B4DABE55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683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D996-F7AF-4160-8D16-99CC444DC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37DA1-43CC-4A32-B512-4BC128DE6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6836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9A3EB-A27F-4733-A4DE-60B1A2656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C0492-3DB0-46D1-9469-26D629C00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90FFA-CF16-4204-967D-C4DD043C5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E90D2-831E-4E2B-A882-10C197633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29C8E-88ED-4F89-9905-5C9E7B715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8540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836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F5B8-78B2-4A47-98C9-AC71A7B62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6836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54124-79BA-4BAA-B15C-02CD7E35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6836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8540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1FAB8-2833-4442-ADBA-9AC0CB80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836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7865-C29E-4F2E-9082-696B53CD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36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36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85866-C8FA-433D-94FF-36BA4EAE0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836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8540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45D07-4427-4F26-AA8C-24630823F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683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5080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3324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83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5080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3324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4A2F7-395A-4F58-A557-A78F73711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E97B-D5F6-458E-835D-06F1E21E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36CBF-37D0-4414-A10B-065E2AF90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23F2-E970-4C2F-937A-B7315DBE9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D503-1648-4B91-974C-00814B06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C4CC-48EC-4534-BE42-51535AEC9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6836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ECB9-EA66-4526-87EF-EF183C11F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6836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B2C00-EA25-440A-82BA-8BACF4A5E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E15B-E582-40F5-893A-29DBC1D0D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flipV="1" rot="10800000">
            <a:off x="5789520" y="5713560"/>
            <a:ext cx="289728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7519-5390-4EA0-A152-690723C36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13"/>
          <p:cNvSpPr/>
          <p:nvPr/>
        </p:nvSpPr>
        <p:spPr>
          <a:xfrm>
            <a:off x="2194920" y="5877000"/>
            <a:ext cx="456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ea typeface="Dotum"/>
              </a:rPr>
              <a:t>Happy Father’s Day !</a:t>
            </a:r>
            <a:endParaRPr b="0" lang="en-US" sz="3600" spc="-1" strike="noStrike">
              <a:solidFill>
                <a:srgbClr val="000000"/>
              </a:solidFill>
              <a:latin typeface="Arial"/>
            </a:endParaRPr>
          </a:p>
        </p:txBody>
      </p:sp>
      <p:sp>
        <p:nvSpPr>
          <p:cNvPr id="8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2413080" y="1701720"/>
            <a:ext cx="3872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父亲节</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0864A6-88DD-412B-A31D-8A86B107CA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143160" y="1873080"/>
            <a:ext cx="4943520" cy="276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WordArt 13"/>
          <p:cNvSpPr txBox="1"/>
          <p:nvPr/>
        </p:nvSpPr>
        <p:spPr>
          <a:xfrm>
            <a:off x="3762360" y="907920"/>
            <a:ext cx="39052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blipFill rotWithShape="0">
                  <a:blip r:embed="rId2"/>
                  <a:srcRect/>
                  <a:tile tx="0" ty="0" sx="100000" sy="100000" algn="ctr"/>
                </a:blipFill>
                <a:effectLst>
                  <a:outerShdw dist="153753" dir="2700000" blurRad="0" rotWithShape="0">
                    <a:srgbClr val="c7dfd3">
                      <a:alpha val="78000"/>
                    </a:srgbClr>
                  </a:outerShdw>
                </a:effectLst>
                <a:latin typeface="Arial"/>
              </a:rPr>
              <a:t>Happy Father’s Day !</a:t>
            </a:r>
            <a:endParaRPr b="0" lang="en-US" sz="1800" spc="-1" strike="noStrike">
              <a:ln w="9360">
                <a:solidFill>
                  <a:srgbClr val="808080"/>
                </a:solidFill>
                <a:miter/>
              </a:ln>
              <a:blipFill rotWithShape="0">
                <a:blip r:embed="rId3"/>
                <a:srcRect/>
                <a:tile tx="0" ty="0" sx="100000" sy="100000" algn="ctr"/>
              </a:blipFill>
              <a:effectLst>
                <a:outerShdw dist="153753" dir="2700000" blurRad="0" rotWithShape="0">
                  <a:srgbClr val="c7dfd3">
                    <a:alpha val="78000"/>
                  </a:srgbClr>
                </a:outerShdw>
              </a:effectLst>
              <a:latin typeface="Arial"/>
              <a:ea typeface="Arial"/>
            </a:endParaRPr>
          </a:p>
        </p:txBody>
      </p:sp>
      <p:sp>
        <p:nvSpPr>
          <p:cNvPr id="91"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7:43Z</dcterms:created>
  <dc:creator>幻灯片之家：www.eeppt.com</dc:creator>
  <dc:description>幻灯片之家：www.eeppt.com</dc:description>
  <cp:keywords>幻灯片之家：www.eeppt.com</cp:keywords>
  <dc:language>en-US</dc:language>
  <cp:lastModifiedBy>ygx</cp:lastModifiedBy>
  <dcterms:modified xsi:type="dcterms:W3CDTF">2015-08-12T14:35:56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