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916-0B9F-4F85-8688-A84828E0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DAE-497D-4079-9645-F386D7DB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1AC-D0A1-4B19-8924-8F85FC22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326-F4AD-4E34-AB18-721CF299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E75-6E14-4C67-84A4-4F4DAB75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45A-7149-4C3E-9510-FDECCD9C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631-13F8-4587-AA70-02C82F51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C2F-21F1-4FEA-BD18-F9C6CA47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E86-55AD-41FC-9689-0E734498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BC2-0C0A-4F66-B945-50749768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F96-9C10-45CB-951D-A02947F2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7F8-DF81-41F9-A5A8-FEEF7730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3610-EAF5-4232-ABF1-374B2CA83D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d6c54f9ef8822a258ee900a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一封家书.mp3" descr="一封家书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3400" y="1890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感恩节的三封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25f6d9dab0ac536711df9b91"/>
          <p:cNvPicPr/>
          <p:nvPr/>
        </p:nvPicPr>
        <p:blipFill>
          <a:blip r:embed="rId1"/>
          <a:stretch/>
        </p:blipFill>
        <p:spPr>
          <a:xfrm>
            <a:off x="684360" y="-23760"/>
            <a:ext cx="8153280" cy="6970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小时候"/>
          <p:cNvPicPr/>
          <p:nvPr/>
        </p:nvPicPr>
        <p:blipFill>
          <a:blip r:embed="rId1"/>
          <a:stretch/>
        </p:blipFill>
        <p:spPr>
          <a:xfrm>
            <a:off x="-33480" y="-457200"/>
            <a:ext cx="9212400" cy="748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童年"/>
          <p:cNvPicPr/>
          <p:nvPr/>
        </p:nvPicPr>
        <p:blipFill>
          <a:blip r:embed="rId1"/>
          <a:stretch/>
        </p:blipFill>
        <p:spPr>
          <a:xfrm>
            <a:off x="3240" y="1440"/>
            <a:ext cx="9489960" cy="702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长大"/>
          <p:cNvPicPr/>
          <p:nvPr/>
        </p:nvPicPr>
        <p:blipFill>
          <a:blip r:embed="rId1"/>
          <a:stretch/>
        </p:blipFill>
        <p:spPr>
          <a:xfrm>
            <a:off x="-31680" y="-93600"/>
            <a:ext cx="9356760" cy="8034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老人"/>
          <p:cNvPicPr/>
          <p:nvPr/>
        </p:nvPicPr>
        <p:blipFill>
          <a:blip r:embed="rId1"/>
          <a:stretch/>
        </p:blipFill>
        <p:spPr>
          <a:xfrm>
            <a:off x="539640" y="-96840"/>
            <a:ext cx="8282160" cy="719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60360" y="26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D19-F1C9-4222-B656-2BC1DD0CEB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xh6711a91eb3"/>
          <p:cNvPicPr/>
          <p:nvPr/>
        </p:nvPicPr>
        <p:blipFill>
          <a:blip r:embed="rId1"/>
          <a:stretch/>
        </p:blipFill>
        <p:spPr>
          <a:xfrm>
            <a:off x="539640" y="1773360"/>
            <a:ext cx="8077320" cy="5095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02920" y="4653000"/>
            <a:ext cx="6658200" cy="2208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恩父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他们赐予我们生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赐予我们欢乐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给予我们幸福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828720" y="-23760"/>
            <a:ext cx="79214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宋体"/>
              </a:rPr>
              <a:t>祝福天下父母亲，感恩节快乐！</a:t>
            </a:r>
            <a:endParaRPr b="0" lang="en-US" sz="1800" spc="-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06:49:12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jccook</cp:lastModifiedBy>
  <dcterms:modified xsi:type="dcterms:W3CDTF">2015-08-14T12:51:57Z</dcterms:modified>
  <cp:revision>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