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35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829B-4893-4911-B233-A5E4B4A2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72B-B1B4-4BF7-A9BD-35E8D11B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BE0-B902-4D1A-A612-5C0E1F85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220-4C7A-4679-BCBF-58D7CE2A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ABF-EC48-45AF-9D2B-8BEB437A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B45-97E6-45FE-BA59-7E8A5A7E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864B-7BA6-4492-99D8-F684B17E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3CF-69F6-45E0-9F52-754B6030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E2F-416B-436A-B8AB-5C667E25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A93B-D245-4D67-BAED-69A181BB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CC67-09A8-4CC3-B99A-7A907F64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141-6707-40D4-BDAC-5FEF8644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B84B-02B1-4091-826A-38DE85FA14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image" Target="../media/image1.png"/><Relationship Id="rId83" Type="http://schemas.openxmlformats.org/officeDocument/2006/relationships/image" Target="../media/image1.png"/><Relationship Id="rId84" Type="http://schemas.openxmlformats.org/officeDocument/2006/relationships/image" Target="../media/image1.png"/><Relationship Id="rId85" Type="http://schemas.openxmlformats.org/officeDocument/2006/relationships/image" Target="../media/image1.png"/><Relationship Id="rId86" Type="http://schemas.openxmlformats.org/officeDocument/2006/relationships/image" Target="../media/image1.png"/><Relationship Id="rId87" Type="http://schemas.openxmlformats.org/officeDocument/2006/relationships/image" Target="../media/image1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image" Target="../media/image1.png"/><Relationship Id="rId97" Type="http://schemas.openxmlformats.org/officeDocument/2006/relationships/image" Target="../media/image1.png"/><Relationship Id="rId98" Type="http://schemas.openxmlformats.org/officeDocument/2006/relationships/image" Target="../media/image1.png"/><Relationship Id="rId99" Type="http://schemas.openxmlformats.org/officeDocument/2006/relationships/image" Target="../media/image1.png"/><Relationship Id="rId100" Type="http://schemas.openxmlformats.org/officeDocument/2006/relationships/image" Target="../media/image1.png"/><Relationship Id="rId101" Type="http://schemas.openxmlformats.org/officeDocument/2006/relationships/image" Target="../media/image1.png"/><Relationship Id="rId102" Type="http://schemas.openxmlformats.org/officeDocument/2006/relationships/image" Target="../media/image1.png"/><Relationship Id="rId103" Type="http://schemas.openxmlformats.org/officeDocument/2006/relationships/image" Target="../media/image1.png"/><Relationship Id="rId104" Type="http://schemas.openxmlformats.org/officeDocument/2006/relationships/image" Target="../media/image3.png"/><Relationship Id="rId105" Type="http://schemas.openxmlformats.org/officeDocument/2006/relationships/image" Target="../media/image4.png"/><Relationship Id="rId106" Type="http://schemas.openxmlformats.org/officeDocument/2006/relationships/image" Target="../media/image5.png"/><Relationship Id="rId107" Type="http://schemas.openxmlformats.org/officeDocument/2006/relationships/image" Target="../media/image1.png"/><Relationship Id="rId108" Type="http://schemas.openxmlformats.org/officeDocument/2006/relationships/image" Target="../media/image1.png"/><Relationship Id="rId109" Type="http://schemas.openxmlformats.org/officeDocument/2006/relationships/image" Target="../media/image1.png"/><Relationship Id="rId110" Type="http://schemas.openxmlformats.org/officeDocument/2006/relationships/image" Target="../media/image1.png"/><Relationship Id="rId111" Type="http://schemas.openxmlformats.org/officeDocument/2006/relationships/image" Target="../media/image1.png"/><Relationship Id="rId112" Type="http://schemas.openxmlformats.org/officeDocument/2006/relationships/image" Target="../media/image1.png"/><Relationship Id="rId113" Type="http://schemas.openxmlformats.org/officeDocument/2006/relationships/image" Target="../media/image1.png"/><Relationship Id="rId114" Type="http://schemas.openxmlformats.org/officeDocument/2006/relationships/image" Target="../media/image1.png"/><Relationship Id="rId115" Type="http://schemas.openxmlformats.org/officeDocument/2006/relationships/image" Target="../media/image1.png"/><Relationship Id="rId116" Type="http://schemas.openxmlformats.org/officeDocument/2006/relationships/image" Target="../media/image1.png"/><Relationship Id="rId117" Type="http://schemas.openxmlformats.org/officeDocument/2006/relationships/image" Target="../media/image1.png"/><Relationship Id="rId118" Type="http://schemas.openxmlformats.org/officeDocument/2006/relationships/image" Target="../media/image1.png"/><Relationship Id="rId119" Type="http://schemas.openxmlformats.org/officeDocument/2006/relationships/image" Target="../media/image1.png"/><Relationship Id="rId120" Type="http://schemas.openxmlformats.org/officeDocument/2006/relationships/image" Target="../media/image1.png"/><Relationship Id="rId121" Type="http://schemas.openxmlformats.org/officeDocument/2006/relationships/image" Target="../media/image1.png"/><Relationship Id="rId122" Type="http://schemas.openxmlformats.org/officeDocument/2006/relationships/image" Target="../media/image1.png"/><Relationship Id="rId123" Type="http://schemas.openxmlformats.org/officeDocument/2006/relationships/image" Target="../media/image1.png"/><Relationship Id="rId124" Type="http://schemas.openxmlformats.org/officeDocument/2006/relationships/image" Target="../media/image1.png"/><Relationship Id="rId125" Type="http://schemas.openxmlformats.org/officeDocument/2006/relationships/image" Target="../media/image1.png"/><Relationship Id="rId126" Type="http://schemas.openxmlformats.org/officeDocument/2006/relationships/image" Target="../media/image1.png"/><Relationship Id="rId127" Type="http://schemas.openxmlformats.org/officeDocument/2006/relationships/image" Target="../media/image1.png"/><Relationship Id="rId128" Type="http://schemas.openxmlformats.org/officeDocument/2006/relationships/image" Target="../media/image1.png"/><Relationship Id="rId129" Type="http://schemas.openxmlformats.org/officeDocument/2006/relationships/image" Target="../media/image1.png"/><Relationship Id="rId130" Type="http://schemas.openxmlformats.org/officeDocument/2006/relationships/image" Target="../media/image1.png"/><Relationship Id="rId131" Type="http://schemas.openxmlformats.org/officeDocument/2006/relationships/image" Target="../media/image1.png"/><Relationship Id="rId132" Type="http://schemas.openxmlformats.org/officeDocument/2006/relationships/image" Target="../media/image1.png"/><Relationship Id="rId133" Type="http://schemas.openxmlformats.org/officeDocument/2006/relationships/image" Target="../media/image1.png"/><Relationship Id="rId134" Type="http://schemas.openxmlformats.org/officeDocument/2006/relationships/image" Target="../media/image1.png"/><Relationship Id="rId135" Type="http://schemas.openxmlformats.org/officeDocument/2006/relationships/image" Target="../media/image1.png"/><Relationship Id="rId136" Type="http://schemas.openxmlformats.org/officeDocument/2006/relationships/image" Target="../media/image1.png"/><Relationship Id="rId137" Type="http://schemas.openxmlformats.org/officeDocument/2006/relationships/image" Target="../media/image1.png"/><Relationship Id="rId138" Type="http://schemas.openxmlformats.org/officeDocument/2006/relationships/image" Target="../media/image1.png"/><Relationship Id="rId139" Type="http://schemas.openxmlformats.org/officeDocument/2006/relationships/image" Target="../media/image1.png"/><Relationship Id="rId140" Type="http://schemas.openxmlformats.org/officeDocument/2006/relationships/image" Target="../media/image1.png"/><Relationship Id="rId141" Type="http://schemas.openxmlformats.org/officeDocument/2006/relationships/image" Target="../media/image1.png"/><Relationship Id="rId142" Type="http://schemas.openxmlformats.org/officeDocument/2006/relationships/image" Target="../media/image1.png"/><Relationship Id="rId143" Type="http://schemas.openxmlformats.org/officeDocument/2006/relationships/image" Target="../media/image1.png"/><Relationship Id="rId144" Type="http://schemas.openxmlformats.org/officeDocument/2006/relationships/image" Target="../media/image1.png"/><Relationship Id="rId145" Type="http://schemas.openxmlformats.org/officeDocument/2006/relationships/image" Target="../media/image1.png"/><Relationship Id="rId146" Type="http://schemas.openxmlformats.org/officeDocument/2006/relationships/image" Target="../media/image1.png"/><Relationship Id="rId147" Type="http://schemas.openxmlformats.org/officeDocument/2006/relationships/image" Target="../media/image1.png"/><Relationship Id="rId148" Type="http://schemas.openxmlformats.org/officeDocument/2006/relationships/image" Target="../media/image1.png"/><Relationship Id="rId149" Type="http://schemas.openxmlformats.org/officeDocument/2006/relationships/image" Target="../media/image1.png"/><Relationship Id="rId150" Type="http://schemas.openxmlformats.org/officeDocument/2006/relationships/image" Target="../media/image1.png"/><Relationship Id="rId151" Type="http://schemas.openxmlformats.org/officeDocument/2006/relationships/image" Target="../media/image1.png"/><Relationship Id="rId152" Type="http://schemas.openxmlformats.org/officeDocument/2006/relationships/image" Target="../media/image1.png"/><Relationship Id="rId153" Type="http://schemas.openxmlformats.org/officeDocument/2006/relationships/image" Target="../media/image1.png"/><Relationship Id="rId154" Type="http://schemas.openxmlformats.org/officeDocument/2006/relationships/image" Target="../media/image1.png"/><Relationship Id="rId155" Type="http://schemas.openxmlformats.org/officeDocument/2006/relationships/image" Target="../media/image1.png"/><Relationship Id="rId156" Type="http://schemas.openxmlformats.org/officeDocument/2006/relationships/image" Target="../media/image1.png"/><Relationship Id="rId157" Type="http://schemas.openxmlformats.org/officeDocument/2006/relationships/image" Target="../media/image1.png"/><Relationship Id="rId158" Type="http://schemas.openxmlformats.org/officeDocument/2006/relationships/image" Target="../media/image1.png"/><Relationship Id="rId159" Type="http://schemas.openxmlformats.org/officeDocument/2006/relationships/image" Target="../media/image1.png"/><Relationship Id="rId160" Type="http://schemas.openxmlformats.org/officeDocument/2006/relationships/image" Target="../media/image1.png"/><Relationship Id="rId161" Type="http://schemas.openxmlformats.org/officeDocument/2006/relationships/image" Target="../media/image1.png"/><Relationship Id="rId162" Type="http://schemas.openxmlformats.org/officeDocument/2006/relationships/image" Target="../media/image1.png"/><Relationship Id="rId163" Type="http://schemas.openxmlformats.org/officeDocument/2006/relationships/image" Target="../media/image1.png"/><Relationship Id="rId164" Type="http://schemas.openxmlformats.org/officeDocument/2006/relationships/image" Target="../media/image1.png"/><Relationship Id="rId165" Type="http://schemas.openxmlformats.org/officeDocument/2006/relationships/image" Target="../media/image2.png"/><Relationship Id="rId166" Type="http://schemas.openxmlformats.org/officeDocument/2006/relationships/image" Target="../media/image1.png"/><Relationship Id="rId167" Type="http://schemas.openxmlformats.org/officeDocument/2006/relationships/image" Target="../media/image1.png"/><Relationship Id="rId168" Type="http://schemas.openxmlformats.org/officeDocument/2006/relationships/image" Target="../media/image1.png"/><Relationship Id="rId169" Type="http://schemas.openxmlformats.org/officeDocument/2006/relationships/image" Target="../media/image1.png"/><Relationship Id="rId170" Type="http://schemas.openxmlformats.org/officeDocument/2006/relationships/image" Target="../media/image1.png"/><Relationship Id="rId171" Type="http://schemas.openxmlformats.org/officeDocument/2006/relationships/image" Target="../media/image1.png"/><Relationship Id="rId172" Type="http://schemas.openxmlformats.org/officeDocument/2006/relationships/image" Target="../media/image1.png"/><Relationship Id="rId173" Type="http://schemas.openxmlformats.org/officeDocument/2006/relationships/image" Target="../media/image1.png"/><Relationship Id="rId174" Type="http://schemas.openxmlformats.org/officeDocument/2006/relationships/image" Target="../media/image1.png"/><Relationship Id="rId175" Type="http://schemas.openxmlformats.org/officeDocument/2006/relationships/image" Target="../media/image1.png"/><Relationship Id="rId176" Type="http://schemas.openxmlformats.org/officeDocument/2006/relationships/image" Target="../media/image1.png"/><Relationship Id="rId177" Type="http://schemas.openxmlformats.org/officeDocument/2006/relationships/image" Target="../media/image1.png"/><Relationship Id="rId178" Type="http://schemas.openxmlformats.org/officeDocument/2006/relationships/image" Target="../media/image1.png"/><Relationship Id="rId179" Type="http://schemas.openxmlformats.org/officeDocument/2006/relationships/image" Target="../media/image1.png"/><Relationship Id="rId180" Type="http://schemas.openxmlformats.org/officeDocument/2006/relationships/image" Target="../media/image1.png"/><Relationship Id="rId181" Type="http://schemas.openxmlformats.org/officeDocument/2006/relationships/image" Target="../media/image1.png"/><Relationship Id="rId182" Type="http://schemas.openxmlformats.org/officeDocument/2006/relationships/image" Target="../media/image1.png"/><Relationship Id="rId183" Type="http://schemas.openxmlformats.org/officeDocument/2006/relationships/image" Target="../media/image1.png"/><Relationship Id="rId184" Type="http://schemas.openxmlformats.org/officeDocument/2006/relationships/image" Target="../media/image1.png"/><Relationship Id="rId185" Type="http://schemas.openxmlformats.org/officeDocument/2006/relationships/image" Target="../media/image1.png"/><Relationship Id="rId186" Type="http://schemas.openxmlformats.org/officeDocument/2006/relationships/image" Target="../media/image2.png"/><Relationship Id="rId187" Type="http://schemas.openxmlformats.org/officeDocument/2006/relationships/image" Target="../media/image1.png"/><Relationship Id="rId188" Type="http://schemas.openxmlformats.org/officeDocument/2006/relationships/image" Target="../media/image1.png"/><Relationship Id="rId189" Type="http://schemas.openxmlformats.org/officeDocument/2006/relationships/image" Target="../media/image1.png"/><Relationship Id="rId190" Type="http://schemas.openxmlformats.org/officeDocument/2006/relationships/image" Target="../media/image1.png"/><Relationship Id="rId191" Type="http://schemas.openxmlformats.org/officeDocument/2006/relationships/image" Target="../media/image1.png"/><Relationship Id="rId192" Type="http://schemas.openxmlformats.org/officeDocument/2006/relationships/image" Target="../media/image1.png"/><Relationship Id="rId193" Type="http://schemas.openxmlformats.org/officeDocument/2006/relationships/image" Target="../media/image1.png"/><Relationship Id="rId194" Type="http://schemas.openxmlformats.org/officeDocument/2006/relationships/image" Target="../media/image1.png"/><Relationship Id="rId195" Type="http://schemas.openxmlformats.org/officeDocument/2006/relationships/image" Target="../media/image1.png"/><Relationship Id="rId196" Type="http://schemas.openxmlformats.org/officeDocument/2006/relationships/image" Target="../media/image1.png"/><Relationship Id="rId197" Type="http://schemas.openxmlformats.org/officeDocument/2006/relationships/image" Target="../media/image1.png"/><Relationship Id="rId198" Type="http://schemas.openxmlformats.org/officeDocument/2006/relationships/image" Target="../media/image1.png"/><Relationship Id="rId199" Type="http://schemas.openxmlformats.org/officeDocument/2006/relationships/image" Target="../media/image1.png"/><Relationship Id="rId200" Type="http://schemas.openxmlformats.org/officeDocument/2006/relationships/image" Target="../media/image1.png"/><Relationship Id="rId201" Type="http://schemas.openxmlformats.org/officeDocument/2006/relationships/image" Target="../media/image1.png"/><Relationship Id="rId202" Type="http://schemas.openxmlformats.org/officeDocument/2006/relationships/image" Target="../media/image1.png"/><Relationship Id="rId203" Type="http://schemas.openxmlformats.org/officeDocument/2006/relationships/image" Target="../media/image1.png"/><Relationship Id="rId204" Type="http://schemas.openxmlformats.org/officeDocument/2006/relationships/image" Target="../media/image1.png"/><Relationship Id="rId205" Type="http://schemas.openxmlformats.org/officeDocument/2006/relationships/image" Target="../media/image1.png"/><Relationship Id="rId206" Type="http://schemas.openxmlformats.org/officeDocument/2006/relationships/image" Target="../media/image1.png"/><Relationship Id="rId207" Type="http://schemas.openxmlformats.org/officeDocument/2006/relationships/image" Target="../media/image1.png"/><Relationship Id="rId208" Type="http://schemas.openxmlformats.org/officeDocument/2006/relationships/image" Target="../media/image1.png"/><Relationship Id="rId209" Type="http://schemas.openxmlformats.org/officeDocument/2006/relationships/image" Target="../media/image1.png"/><Relationship Id="rId210" Type="http://schemas.openxmlformats.org/officeDocument/2006/relationships/image" Target="../media/image6.png"/><Relationship Id="rId2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6" descr="plants_001"/>
          <p:cNvPicPr/>
          <p:nvPr/>
        </p:nvPicPr>
        <p:blipFill>
          <a:blip r:embed="rId1"/>
          <a:stretch/>
        </p:blipFill>
        <p:spPr>
          <a:xfrm>
            <a:off x="3343320" y="-20289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6" descr="plants_001"/>
          <p:cNvPicPr/>
          <p:nvPr/>
        </p:nvPicPr>
        <p:blipFill>
          <a:blip r:embed="rId2"/>
          <a:stretch/>
        </p:blipFill>
        <p:spPr>
          <a:xfrm>
            <a:off x="2948040" y="-18097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plants_001"/>
          <p:cNvPicPr/>
          <p:nvPr/>
        </p:nvPicPr>
        <p:blipFill>
          <a:blip r:embed="rId3"/>
          <a:stretch/>
        </p:blipFill>
        <p:spPr>
          <a:xfrm>
            <a:off x="2948040" y="-13399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" descr="plants_001"/>
          <p:cNvPicPr/>
          <p:nvPr/>
        </p:nvPicPr>
        <p:blipFill>
          <a:blip r:embed="rId4"/>
          <a:stretch/>
        </p:blipFill>
        <p:spPr>
          <a:xfrm>
            <a:off x="2963880" y="-11667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6" descr="plants_001"/>
          <p:cNvPicPr/>
          <p:nvPr/>
        </p:nvPicPr>
        <p:blipFill>
          <a:blip r:embed="rId5"/>
          <a:stretch/>
        </p:blipFill>
        <p:spPr>
          <a:xfrm>
            <a:off x="3500280" y="-1684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plants_001"/>
          <p:cNvPicPr/>
          <p:nvPr/>
        </p:nvPicPr>
        <p:blipFill>
          <a:blip r:embed="rId6"/>
          <a:stretch/>
        </p:blipFill>
        <p:spPr>
          <a:xfrm>
            <a:off x="2970360" y="-1965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6" descr="plants_001"/>
          <p:cNvPicPr/>
          <p:nvPr/>
        </p:nvPicPr>
        <p:blipFill>
          <a:blip r:embed="rId7"/>
          <a:stretch/>
        </p:blipFill>
        <p:spPr>
          <a:xfrm>
            <a:off x="2925720" y="-14670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6" descr="plants_001"/>
          <p:cNvPicPr/>
          <p:nvPr/>
        </p:nvPicPr>
        <p:blipFill>
          <a:blip r:embed="rId8"/>
          <a:stretch/>
        </p:blipFill>
        <p:spPr>
          <a:xfrm>
            <a:off x="2905200" y="-1627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6" descr="plants_001"/>
          <p:cNvPicPr/>
          <p:nvPr/>
        </p:nvPicPr>
        <p:blipFill>
          <a:blip r:embed="rId9"/>
          <a:stretch/>
        </p:blipFill>
        <p:spPr>
          <a:xfrm>
            <a:off x="2925720" y="-10508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plants_001"/>
          <p:cNvPicPr/>
          <p:nvPr/>
        </p:nvPicPr>
        <p:blipFill>
          <a:blip r:embed="rId10"/>
          <a:stretch/>
        </p:blipFill>
        <p:spPr>
          <a:xfrm rot="1356000">
            <a:off x="3559320" y="-18648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plants_001"/>
          <p:cNvPicPr/>
          <p:nvPr/>
        </p:nvPicPr>
        <p:blipFill>
          <a:blip r:embed="rId11"/>
          <a:stretch/>
        </p:blipFill>
        <p:spPr>
          <a:xfrm>
            <a:off x="3083040" y="-20430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plants_001"/>
          <p:cNvPicPr/>
          <p:nvPr/>
        </p:nvPicPr>
        <p:blipFill>
          <a:blip r:embed="rId12"/>
          <a:stretch/>
        </p:blipFill>
        <p:spPr>
          <a:xfrm rot="19934400">
            <a:off x="2947680" y="-8060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plants_001"/>
          <p:cNvPicPr/>
          <p:nvPr/>
        </p:nvPicPr>
        <p:blipFill>
          <a:blip r:embed="rId13"/>
          <a:stretch/>
        </p:blipFill>
        <p:spPr>
          <a:xfrm rot="2099400">
            <a:off x="3644640" y="-100476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plants_001"/>
          <p:cNvPicPr/>
          <p:nvPr/>
        </p:nvPicPr>
        <p:blipFill>
          <a:blip r:embed="rId14"/>
          <a:stretch/>
        </p:blipFill>
        <p:spPr>
          <a:xfrm rot="19934400">
            <a:off x="3252600" y="-1569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plants_001"/>
          <p:cNvPicPr/>
          <p:nvPr/>
        </p:nvPicPr>
        <p:blipFill>
          <a:blip r:embed="rId15"/>
          <a:stretch/>
        </p:blipFill>
        <p:spPr>
          <a:xfrm rot="19934400">
            <a:off x="3208320" y="-14774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plants_001"/>
          <p:cNvPicPr/>
          <p:nvPr/>
        </p:nvPicPr>
        <p:blipFill>
          <a:blip r:embed="rId16"/>
          <a:stretch/>
        </p:blipFill>
        <p:spPr>
          <a:xfrm rot="19934400">
            <a:off x="3238560" y="-139176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plants_001"/>
          <p:cNvPicPr/>
          <p:nvPr/>
        </p:nvPicPr>
        <p:blipFill>
          <a:blip r:embed="rId17"/>
          <a:stretch/>
        </p:blipFill>
        <p:spPr>
          <a:xfrm rot="2562600">
            <a:off x="3583080" y="-13665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6" descr="plants_001"/>
          <p:cNvPicPr/>
          <p:nvPr/>
        </p:nvPicPr>
        <p:blipFill>
          <a:blip r:embed="rId18"/>
          <a:stretch/>
        </p:blipFill>
        <p:spPr>
          <a:xfrm rot="21347400">
            <a:off x="3455640" y="-947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plants_001"/>
          <p:cNvPicPr/>
          <p:nvPr/>
        </p:nvPicPr>
        <p:blipFill>
          <a:blip r:embed="rId19"/>
          <a:stretch/>
        </p:blipFill>
        <p:spPr>
          <a:xfrm rot="19934400">
            <a:off x="3446280" y="-11934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plants_001"/>
          <p:cNvPicPr/>
          <p:nvPr/>
        </p:nvPicPr>
        <p:blipFill>
          <a:blip r:embed="rId20"/>
          <a:stretch/>
        </p:blipFill>
        <p:spPr>
          <a:xfrm rot="19934400">
            <a:off x="3530160" y="-806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plants_001"/>
          <p:cNvPicPr/>
          <p:nvPr/>
        </p:nvPicPr>
        <p:blipFill>
          <a:blip r:embed="rId21"/>
          <a:stretch/>
        </p:blipFill>
        <p:spPr>
          <a:xfrm rot="1623000">
            <a:off x="3493800" y="-11221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6" descr="plants_001"/>
          <p:cNvPicPr/>
          <p:nvPr/>
        </p:nvPicPr>
        <p:blipFill>
          <a:blip r:embed="rId22"/>
          <a:stretch/>
        </p:blipFill>
        <p:spPr>
          <a:xfrm rot="1356000">
            <a:off x="-3600360" y="26542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plants_001"/>
          <p:cNvPicPr/>
          <p:nvPr/>
        </p:nvPicPr>
        <p:blipFill>
          <a:blip r:embed="rId23"/>
          <a:stretch/>
        </p:blipFill>
        <p:spPr>
          <a:xfrm rot="1356000">
            <a:off x="-3455640" y="25480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plants_001"/>
          <p:cNvPicPr/>
          <p:nvPr/>
        </p:nvPicPr>
        <p:blipFill>
          <a:blip r:embed="rId24"/>
          <a:stretch/>
        </p:blipFill>
        <p:spPr>
          <a:xfrm rot="1356000">
            <a:off x="-3257640" y="2471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plants_001"/>
          <p:cNvPicPr/>
          <p:nvPr/>
        </p:nvPicPr>
        <p:blipFill>
          <a:blip r:embed="rId25"/>
          <a:stretch/>
        </p:blipFill>
        <p:spPr>
          <a:xfrm rot="1356000">
            <a:off x="-3104640" y="2451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plants_001"/>
          <p:cNvPicPr/>
          <p:nvPr/>
        </p:nvPicPr>
        <p:blipFill>
          <a:blip r:embed="rId26"/>
          <a:stretch/>
        </p:blipFill>
        <p:spPr>
          <a:xfrm rot="1356000">
            <a:off x="-2890440" y="2451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lants_001"/>
          <p:cNvPicPr/>
          <p:nvPr/>
        </p:nvPicPr>
        <p:blipFill>
          <a:blip r:embed="rId27"/>
          <a:stretch/>
        </p:blipFill>
        <p:spPr>
          <a:xfrm rot="1356000">
            <a:off x="-3774960" y="28083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lants_001"/>
          <p:cNvPicPr/>
          <p:nvPr/>
        </p:nvPicPr>
        <p:blipFill>
          <a:blip r:embed="rId28"/>
          <a:stretch/>
        </p:blipFill>
        <p:spPr>
          <a:xfrm rot="1356000">
            <a:off x="-3610080" y="2771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6" descr="plants_001"/>
          <p:cNvPicPr/>
          <p:nvPr/>
        </p:nvPicPr>
        <p:blipFill>
          <a:blip r:embed="rId29"/>
          <a:stretch/>
        </p:blipFill>
        <p:spPr>
          <a:xfrm rot="1356000">
            <a:off x="-3807000" y="30222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plants_001"/>
          <p:cNvPicPr/>
          <p:nvPr/>
        </p:nvPicPr>
        <p:blipFill>
          <a:blip r:embed="rId30"/>
          <a:stretch/>
        </p:blipFill>
        <p:spPr>
          <a:xfrm rot="1356000">
            <a:off x="-3807000" y="32792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" descr="plants_001"/>
          <p:cNvPicPr/>
          <p:nvPr/>
        </p:nvPicPr>
        <p:blipFill>
          <a:blip r:embed="rId31"/>
          <a:stretch/>
        </p:blipFill>
        <p:spPr>
          <a:xfrm rot="1356000">
            <a:off x="-3424320" y="32000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plants_001"/>
          <p:cNvPicPr/>
          <p:nvPr/>
        </p:nvPicPr>
        <p:blipFill>
          <a:blip r:embed="rId32"/>
          <a:stretch/>
        </p:blipFill>
        <p:spPr>
          <a:xfrm rot="1356000">
            <a:off x="-3267000" y="35416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" descr="plants_001"/>
          <p:cNvPicPr/>
          <p:nvPr/>
        </p:nvPicPr>
        <p:blipFill>
          <a:blip r:embed="rId33"/>
          <a:stretch/>
        </p:blipFill>
        <p:spPr>
          <a:xfrm rot="3111000">
            <a:off x="-3555360" y="33433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" descr="plants_001"/>
          <p:cNvPicPr/>
          <p:nvPr/>
        </p:nvPicPr>
        <p:blipFill>
          <a:blip r:embed="rId34"/>
          <a:stretch/>
        </p:blipFill>
        <p:spPr>
          <a:xfrm rot="1356000">
            <a:off x="-3423960" y="356688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lants_001"/>
          <p:cNvPicPr/>
          <p:nvPr/>
        </p:nvPicPr>
        <p:blipFill>
          <a:blip r:embed="rId35"/>
          <a:stretch/>
        </p:blipFill>
        <p:spPr>
          <a:xfrm rot="1356000">
            <a:off x="-2778120" y="3279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plants_001"/>
          <p:cNvPicPr/>
          <p:nvPr/>
        </p:nvPicPr>
        <p:blipFill>
          <a:blip r:embed="rId36"/>
          <a:stretch/>
        </p:blipFill>
        <p:spPr>
          <a:xfrm rot="1356000">
            <a:off x="-2852640" y="33447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" descr="plants_001"/>
          <p:cNvPicPr/>
          <p:nvPr/>
        </p:nvPicPr>
        <p:blipFill>
          <a:blip r:embed="rId37"/>
          <a:stretch/>
        </p:blipFill>
        <p:spPr>
          <a:xfrm rot="1356000">
            <a:off x="-3114720" y="35380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6" descr="plants_001"/>
          <p:cNvPicPr/>
          <p:nvPr/>
        </p:nvPicPr>
        <p:blipFill>
          <a:blip r:embed="rId38"/>
          <a:stretch/>
        </p:blipFill>
        <p:spPr>
          <a:xfrm rot="1356000">
            <a:off x="-2919240" y="35146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plants_001"/>
          <p:cNvPicPr/>
          <p:nvPr/>
        </p:nvPicPr>
        <p:blipFill>
          <a:blip r:embed="rId39"/>
          <a:stretch/>
        </p:blipFill>
        <p:spPr>
          <a:xfrm rot="19260000">
            <a:off x="-3038040" y="2890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6" descr="plants_001"/>
          <p:cNvPicPr/>
          <p:nvPr/>
        </p:nvPicPr>
        <p:blipFill>
          <a:blip r:embed="rId40"/>
          <a:stretch/>
        </p:blipFill>
        <p:spPr>
          <a:xfrm rot="1356000">
            <a:off x="-2736720" y="308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6" descr="plants_001"/>
          <p:cNvPicPr/>
          <p:nvPr/>
        </p:nvPicPr>
        <p:blipFill>
          <a:blip r:embed="rId41"/>
          <a:stretch/>
        </p:blipFill>
        <p:spPr>
          <a:xfrm rot="19260000">
            <a:off x="-3063600" y="29624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plants_001"/>
          <p:cNvPicPr/>
          <p:nvPr/>
        </p:nvPicPr>
        <p:blipFill>
          <a:blip r:embed="rId42"/>
          <a:stretch/>
        </p:blipFill>
        <p:spPr>
          <a:xfrm rot="1356000">
            <a:off x="2806200" y="7388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6" descr="plants_001"/>
          <p:cNvPicPr/>
          <p:nvPr/>
        </p:nvPicPr>
        <p:blipFill>
          <a:blip r:embed="rId43"/>
          <a:stretch/>
        </p:blipFill>
        <p:spPr>
          <a:xfrm rot="1356000">
            <a:off x="2922120" y="73803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6" descr="plants_001"/>
          <p:cNvPicPr/>
          <p:nvPr/>
        </p:nvPicPr>
        <p:blipFill>
          <a:blip r:embed="rId44"/>
          <a:stretch/>
        </p:blipFill>
        <p:spPr>
          <a:xfrm rot="1356000">
            <a:off x="3073320" y="733752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6" descr="plants_001"/>
          <p:cNvPicPr/>
          <p:nvPr/>
        </p:nvPicPr>
        <p:blipFill>
          <a:blip r:embed="rId45"/>
          <a:stretch/>
        </p:blipFill>
        <p:spPr>
          <a:xfrm rot="1356000">
            <a:off x="3492000" y="73548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6" descr="plants_001"/>
          <p:cNvPicPr/>
          <p:nvPr/>
        </p:nvPicPr>
        <p:blipFill>
          <a:blip r:embed="rId46"/>
          <a:stretch/>
        </p:blipFill>
        <p:spPr>
          <a:xfrm rot="1356000">
            <a:off x="3198600" y="73389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6" descr="plants_001"/>
          <p:cNvPicPr/>
          <p:nvPr/>
        </p:nvPicPr>
        <p:blipFill>
          <a:blip r:embed="rId47"/>
          <a:stretch/>
        </p:blipFill>
        <p:spPr>
          <a:xfrm rot="2055000">
            <a:off x="3344760" y="7345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plants_001"/>
          <p:cNvPicPr/>
          <p:nvPr/>
        </p:nvPicPr>
        <p:blipFill>
          <a:blip r:embed="rId48"/>
          <a:stretch/>
        </p:blipFill>
        <p:spPr>
          <a:xfrm rot="2055000">
            <a:off x="2744640" y="76057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6" descr="plants_001"/>
          <p:cNvPicPr/>
          <p:nvPr/>
        </p:nvPicPr>
        <p:blipFill>
          <a:blip r:embed="rId49"/>
          <a:stretch/>
        </p:blipFill>
        <p:spPr>
          <a:xfrm rot="2055000">
            <a:off x="2820960" y="81583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6" descr="plants_001"/>
          <p:cNvPicPr/>
          <p:nvPr/>
        </p:nvPicPr>
        <p:blipFill>
          <a:blip r:embed="rId50"/>
          <a:stretch/>
        </p:blipFill>
        <p:spPr>
          <a:xfrm rot="2055000">
            <a:off x="2998800" y="81853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6" descr="plants_001"/>
          <p:cNvPicPr/>
          <p:nvPr/>
        </p:nvPicPr>
        <p:blipFill>
          <a:blip r:embed="rId51"/>
          <a:stretch/>
        </p:blipFill>
        <p:spPr>
          <a:xfrm rot="3023400">
            <a:off x="2779920" y="8303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plants_001"/>
          <p:cNvPicPr/>
          <p:nvPr/>
        </p:nvPicPr>
        <p:blipFill>
          <a:blip r:embed="rId52"/>
          <a:stretch/>
        </p:blipFill>
        <p:spPr>
          <a:xfrm rot="8315400">
            <a:off x="2944440" y="73915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6" descr="plants_001"/>
          <p:cNvPicPr/>
          <p:nvPr/>
        </p:nvPicPr>
        <p:blipFill>
          <a:blip r:embed="rId53"/>
          <a:stretch/>
        </p:blipFill>
        <p:spPr>
          <a:xfrm rot="2055000">
            <a:off x="2868480" y="78184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6" descr="plants_001"/>
          <p:cNvPicPr/>
          <p:nvPr/>
        </p:nvPicPr>
        <p:blipFill>
          <a:blip r:embed="rId54"/>
          <a:stretch/>
        </p:blipFill>
        <p:spPr>
          <a:xfrm rot="11733600">
            <a:off x="3088800" y="83847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6" descr="plants_001"/>
          <p:cNvPicPr/>
          <p:nvPr/>
        </p:nvPicPr>
        <p:blipFill>
          <a:blip r:embed="rId55"/>
          <a:stretch/>
        </p:blipFill>
        <p:spPr>
          <a:xfrm rot="2055000">
            <a:off x="3025800" y="77770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plants_001"/>
          <p:cNvPicPr/>
          <p:nvPr/>
        </p:nvPicPr>
        <p:blipFill>
          <a:blip r:embed="rId56"/>
          <a:stretch/>
        </p:blipFill>
        <p:spPr>
          <a:xfrm rot="3763800">
            <a:off x="2767320" y="79189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6" descr="plants_001"/>
          <p:cNvPicPr/>
          <p:nvPr/>
        </p:nvPicPr>
        <p:blipFill>
          <a:blip r:embed="rId57"/>
          <a:stretch/>
        </p:blipFill>
        <p:spPr>
          <a:xfrm rot="12180000">
            <a:off x="2844360" y="83066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6" descr="plants_001"/>
          <p:cNvPicPr/>
          <p:nvPr/>
        </p:nvPicPr>
        <p:blipFill>
          <a:blip r:embed="rId58"/>
          <a:stretch/>
        </p:blipFill>
        <p:spPr>
          <a:xfrm rot="7923600">
            <a:off x="3306600" y="83998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6" descr="plants_001"/>
          <p:cNvPicPr/>
          <p:nvPr/>
        </p:nvPicPr>
        <p:blipFill>
          <a:blip r:embed="rId59"/>
          <a:stretch/>
        </p:blipFill>
        <p:spPr>
          <a:xfrm>
            <a:off x="3419640" y="8442360"/>
            <a:ext cx="576000" cy="520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6" descr="plants_001"/>
          <p:cNvPicPr/>
          <p:nvPr/>
        </p:nvPicPr>
        <p:blipFill>
          <a:blip r:embed="rId60"/>
          <a:stretch/>
        </p:blipFill>
        <p:spPr>
          <a:xfrm rot="17173200">
            <a:off x="3402720" y="73378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6" descr="plants_001"/>
          <p:cNvPicPr/>
          <p:nvPr/>
        </p:nvPicPr>
        <p:blipFill>
          <a:blip r:embed="rId61"/>
          <a:stretch/>
        </p:blipFill>
        <p:spPr>
          <a:xfrm rot="8356200">
            <a:off x="3219480" y="78642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6" descr="plants_001"/>
          <p:cNvPicPr/>
          <p:nvPr/>
        </p:nvPicPr>
        <p:blipFill>
          <a:blip r:embed="rId62"/>
          <a:stretch/>
        </p:blipFill>
        <p:spPr>
          <a:xfrm rot="18706800">
            <a:off x="3218760" y="78476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6" descr="plants_001"/>
          <p:cNvPicPr/>
          <p:nvPr/>
        </p:nvPicPr>
        <p:blipFill>
          <a:blip r:embed="rId63"/>
          <a:stretch/>
        </p:blipFill>
        <p:spPr>
          <a:xfrm rot="1356000">
            <a:off x="3884760" y="73836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6" descr="plants_001"/>
          <p:cNvPicPr/>
          <p:nvPr/>
        </p:nvPicPr>
        <p:blipFill>
          <a:blip r:embed="rId64"/>
          <a:stretch/>
        </p:blipFill>
        <p:spPr>
          <a:xfrm rot="1356000">
            <a:off x="4000680" y="73756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6" descr="plants_001"/>
          <p:cNvPicPr/>
          <p:nvPr/>
        </p:nvPicPr>
        <p:blipFill>
          <a:blip r:embed="rId65"/>
          <a:stretch/>
        </p:blipFill>
        <p:spPr>
          <a:xfrm rot="1356000">
            <a:off x="4152960" y="73328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plants_001"/>
          <p:cNvPicPr/>
          <p:nvPr/>
        </p:nvPicPr>
        <p:blipFill>
          <a:blip r:embed="rId66"/>
          <a:stretch/>
        </p:blipFill>
        <p:spPr>
          <a:xfrm rot="1356000">
            <a:off x="4498560" y="73515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plants_001"/>
          <p:cNvPicPr/>
          <p:nvPr/>
        </p:nvPicPr>
        <p:blipFill>
          <a:blip r:embed="rId67"/>
          <a:stretch/>
        </p:blipFill>
        <p:spPr>
          <a:xfrm rot="1356000">
            <a:off x="4276440" y="73357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" descr="plants_001"/>
          <p:cNvPicPr/>
          <p:nvPr/>
        </p:nvPicPr>
        <p:blipFill>
          <a:blip r:embed="rId68"/>
          <a:stretch/>
        </p:blipFill>
        <p:spPr>
          <a:xfrm rot="2055000">
            <a:off x="4351320" y="7342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6" descr="plants_001"/>
          <p:cNvPicPr/>
          <p:nvPr/>
        </p:nvPicPr>
        <p:blipFill>
          <a:blip r:embed="rId69"/>
          <a:stretch/>
        </p:blipFill>
        <p:spPr>
          <a:xfrm rot="2055000">
            <a:off x="3753000" y="7508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6" descr="plants_001"/>
          <p:cNvPicPr/>
          <p:nvPr/>
        </p:nvPicPr>
        <p:blipFill>
          <a:blip r:embed="rId70"/>
          <a:stretch/>
        </p:blipFill>
        <p:spPr>
          <a:xfrm rot="2055000">
            <a:off x="3900600" y="81550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6" descr="plants_001"/>
          <p:cNvPicPr/>
          <p:nvPr/>
        </p:nvPicPr>
        <p:blipFill>
          <a:blip r:embed="rId71"/>
          <a:stretch/>
        </p:blipFill>
        <p:spPr>
          <a:xfrm rot="2055000">
            <a:off x="4076640" y="8180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6" descr="plants_001"/>
          <p:cNvPicPr/>
          <p:nvPr/>
        </p:nvPicPr>
        <p:blipFill>
          <a:blip r:embed="rId72"/>
          <a:stretch/>
        </p:blipFill>
        <p:spPr>
          <a:xfrm rot="3023400">
            <a:off x="3786480" y="8355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6" descr="plants_001"/>
          <p:cNvPicPr/>
          <p:nvPr/>
        </p:nvPicPr>
        <p:blipFill>
          <a:blip r:embed="rId73"/>
          <a:stretch/>
        </p:blipFill>
        <p:spPr>
          <a:xfrm rot="8315400">
            <a:off x="4021920" y="73861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plants_001"/>
          <p:cNvPicPr/>
          <p:nvPr/>
        </p:nvPicPr>
        <p:blipFill>
          <a:blip r:embed="rId74"/>
          <a:stretch/>
        </p:blipFill>
        <p:spPr>
          <a:xfrm rot="2055000">
            <a:off x="3948120" y="78152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6" descr="plants_001"/>
          <p:cNvPicPr/>
          <p:nvPr/>
        </p:nvPicPr>
        <p:blipFill>
          <a:blip r:embed="rId75"/>
          <a:stretch/>
        </p:blipFill>
        <p:spPr>
          <a:xfrm rot="11733600">
            <a:off x="4168800" y="83800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6" descr="plants_001"/>
          <p:cNvPicPr/>
          <p:nvPr/>
        </p:nvPicPr>
        <p:blipFill>
          <a:blip r:embed="rId76"/>
          <a:stretch/>
        </p:blipFill>
        <p:spPr>
          <a:xfrm rot="2055000">
            <a:off x="4103640" y="77738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6" descr="plants_001"/>
          <p:cNvPicPr/>
          <p:nvPr/>
        </p:nvPicPr>
        <p:blipFill>
          <a:blip r:embed="rId77"/>
          <a:stretch/>
        </p:blipFill>
        <p:spPr>
          <a:xfrm rot="3763800">
            <a:off x="3773880" y="78969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6" descr="plants_001"/>
          <p:cNvPicPr/>
          <p:nvPr/>
        </p:nvPicPr>
        <p:blipFill>
          <a:blip r:embed="rId78"/>
          <a:stretch/>
        </p:blipFill>
        <p:spPr>
          <a:xfrm rot="12180000">
            <a:off x="3922200" y="8303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6" descr="plants_001"/>
          <p:cNvPicPr/>
          <p:nvPr/>
        </p:nvPicPr>
        <p:blipFill>
          <a:blip r:embed="rId79"/>
          <a:stretch/>
        </p:blipFill>
        <p:spPr>
          <a:xfrm rot="7923600">
            <a:off x="4313160" y="83966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plants_001"/>
          <p:cNvPicPr/>
          <p:nvPr/>
        </p:nvPicPr>
        <p:blipFill>
          <a:blip r:embed="rId80"/>
          <a:stretch/>
        </p:blipFill>
        <p:spPr>
          <a:xfrm>
            <a:off x="4448160" y="8439120"/>
            <a:ext cx="576360" cy="520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6" descr="plants_001"/>
          <p:cNvPicPr/>
          <p:nvPr/>
        </p:nvPicPr>
        <p:blipFill>
          <a:blip r:embed="rId81"/>
          <a:stretch/>
        </p:blipFill>
        <p:spPr>
          <a:xfrm rot="17173200">
            <a:off x="4409280" y="7333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6" descr="plants_001"/>
          <p:cNvPicPr/>
          <p:nvPr/>
        </p:nvPicPr>
        <p:blipFill>
          <a:blip r:embed="rId82"/>
          <a:stretch/>
        </p:blipFill>
        <p:spPr>
          <a:xfrm rot="8356200">
            <a:off x="4296600" y="78606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6" descr="plants_001"/>
          <p:cNvPicPr/>
          <p:nvPr/>
        </p:nvPicPr>
        <p:blipFill>
          <a:blip r:embed="rId83"/>
          <a:stretch/>
        </p:blipFill>
        <p:spPr>
          <a:xfrm rot="18706800">
            <a:off x="4296600" y="784260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6" descr="plants_001"/>
          <p:cNvPicPr/>
          <p:nvPr/>
        </p:nvPicPr>
        <p:blipFill>
          <a:blip r:embed="rId84"/>
          <a:stretch/>
        </p:blipFill>
        <p:spPr>
          <a:xfrm rot="2055000">
            <a:off x="13257360" y="18176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6" descr="plants_001"/>
          <p:cNvPicPr/>
          <p:nvPr/>
        </p:nvPicPr>
        <p:blipFill>
          <a:blip r:embed="rId85"/>
          <a:stretch/>
        </p:blipFill>
        <p:spPr>
          <a:xfrm rot="2055000">
            <a:off x="13409640" y="17971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6" descr="plants_001"/>
          <p:cNvPicPr/>
          <p:nvPr/>
        </p:nvPicPr>
        <p:blipFill>
          <a:blip r:embed="rId86"/>
          <a:stretch/>
        </p:blipFill>
        <p:spPr>
          <a:xfrm rot="2055000">
            <a:off x="13582800" y="1820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6" descr="plants_001"/>
          <p:cNvPicPr/>
          <p:nvPr/>
        </p:nvPicPr>
        <p:blipFill>
          <a:blip r:embed="rId87"/>
          <a:stretch/>
        </p:blipFill>
        <p:spPr>
          <a:xfrm rot="2055000">
            <a:off x="13727160" y="19638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plants_001"/>
          <p:cNvPicPr/>
          <p:nvPr/>
        </p:nvPicPr>
        <p:blipFill>
          <a:blip r:embed="rId88"/>
          <a:stretch/>
        </p:blipFill>
        <p:spPr>
          <a:xfrm rot="2055000">
            <a:off x="13690440" y="217980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plants_001"/>
          <p:cNvPicPr/>
          <p:nvPr/>
        </p:nvPicPr>
        <p:blipFill>
          <a:blip r:embed="rId89"/>
          <a:stretch/>
        </p:blipFill>
        <p:spPr>
          <a:xfrm rot="2055000">
            <a:off x="13257360" y="20858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6" descr="plants_001"/>
          <p:cNvPicPr/>
          <p:nvPr/>
        </p:nvPicPr>
        <p:blipFill>
          <a:blip r:embed="rId90"/>
          <a:stretch/>
        </p:blipFill>
        <p:spPr>
          <a:xfrm rot="2055000">
            <a:off x="13401720" y="2252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6" descr="plants_001"/>
          <p:cNvPicPr/>
          <p:nvPr/>
        </p:nvPicPr>
        <p:blipFill>
          <a:blip r:embed="rId91"/>
          <a:stretch/>
        </p:blipFill>
        <p:spPr>
          <a:xfrm rot="2055000">
            <a:off x="13295160" y="24447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6" descr="plants_001"/>
          <p:cNvPicPr/>
          <p:nvPr/>
        </p:nvPicPr>
        <p:blipFill>
          <a:blip r:embed="rId92"/>
          <a:stretch/>
        </p:blipFill>
        <p:spPr>
          <a:xfrm rot="2055000">
            <a:off x="13439880" y="2684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plants_001"/>
          <p:cNvPicPr/>
          <p:nvPr/>
        </p:nvPicPr>
        <p:blipFill>
          <a:blip r:embed="rId93"/>
          <a:stretch/>
        </p:blipFill>
        <p:spPr>
          <a:xfrm rot="2055000">
            <a:off x="13257360" y="27338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6" descr="plants_001"/>
          <p:cNvPicPr/>
          <p:nvPr/>
        </p:nvPicPr>
        <p:blipFill>
          <a:blip r:embed="rId94"/>
          <a:stretch/>
        </p:blipFill>
        <p:spPr>
          <a:xfrm rot="2055000">
            <a:off x="13800240" y="2468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6" descr="plants_001"/>
          <p:cNvPicPr/>
          <p:nvPr/>
        </p:nvPicPr>
        <p:blipFill>
          <a:blip r:embed="rId95"/>
          <a:stretch/>
        </p:blipFill>
        <p:spPr>
          <a:xfrm rot="2055000">
            <a:off x="13943160" y="2611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6" descr="plants_001"/>
          <p:cNvPicPr/>
          <p:nvPr/>
        </p:nvPicPr>
        <p:blipFill>
          <a:blip r:embed="rId96"/>
          <a:stretch/>
        </p:blipFill>
        <p:spPr>
          <a:xfrm rot="2055000">
            <a:off x="14095440" y="27558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plants_001"/>
          <p:cNvPicPr/>
          <p:nvPr/>
        </p:nvPicPr>
        <p:blipFill>
          <a:blip r:embed="rId97"/>
          <a:stretch/>
        </p:blipFill>
        <p:spPr>
          <a:xfrm rot="2055000">
            <a:off x="14193720" y="27338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6" descr="plants_001"/>
          <p:cNvPicPr/>
          <p:nvPr/>
        </p:nvPicPr>
        <p:blipFill>
          <a:blip r:embed="rId98"/>
          <a:stretch/>
        </p:blipFill>
        <p:spPr>
          <a:xfrm rot="2055000">
            <a:off x="14049360" y="2395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6" descr="plants_001"/>
          <p:cNvPicPr/>
          <p:nvPr/>
        </p:nvPicPr>
        <p:blipFill>
          <a:blip r:embed="rId99"/>
          <a:stretch/>
        </p:blipFill>
        <p:spPr>
          <a:xfrm rot="2055000">
            <a:off x="14193720" y="2395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6" descr="plants_001"/>
          <p:cNvPicPr/>
          <p:nvPr/>
        </p:nvPicPr>
        <p:blipFill>
          <a:blip r:embed="rId100"/>
          <a:stretch/>
        </p:blipFill>
        <p:spPr>
          <a:xfrm rot="2055000">
            <a:off x="14231880" y="21081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6" descr="plants_001"/>
          <p:cNvPicPr/>
          <p:nvPr/>
        </p:nvPicPr>
        <p:blipFill>
          <a:blip r:embed="rId101"/>
          <a:stretch/>
        </p:blipFill>
        <p:spPr>
          <a:xfrm rot="2055000">
            <a:off x="14193720" y="17478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6" descr="plants_001"/>
          <p:cNvPicPr/>
          <p:nvPr/>
        </p:nvPicPr>
        <p:blipFill>
          <a:blip r:embed="rId102"/>
          <a:stretch/>
        </p:blipFill>
        <p:spPr>
          <a:xfrm rot="2055000">
            <a:off x="14049360" y="17478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6" descr="plants_001"/>
          <p:cNvPicPr/>
          <p:nvPr/>
        </p:nvPicPr>
        <p:blipFill>
          <a:blip r:embed="rId103"/>
          <a:stretch/>
        </p:blipFill>
        <p:spPr>
          <a:xfrm rot="2865600">
            <a:off x="14060880" y="21056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:\06副本.jpg"/>
          <p:cNvPicPr/>
          <p:nvPr/>
        </p:nvPicPr>
        <p:blipFill>
          <a:blip r:embed="rId104"/>
          <a:stretch/>
        </p:blipFill>
        <p:spPr>
          <a:xfrm>
            <a:off x="179280" y="1133640"/>
            <a:ext cx="8353440" cy="4527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H:\plants_003.png"/>
          <p:cNvPicPr/>
          <p:nvPr/>
        </p:nvPicPr>
        <p:blipFill>
          <a:blip r:embed="rId105"/>
          <a:stretch/>
        </p:blipFill>
        <p:spPr>
          <a:xfrm rot="7235400">
            <a:off x="1398240" y="1999800"/>
            <a:ext cx="912600" cy="1087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:\plants_006.png"/>
          <p:cNvPicPr/>
          <p:nvPr/>
        </p:nvPicPr>
        <p:blipFill>
          <a:blip r:embed="rId106"/>
          <a:stretch/>
        </p:blipFill>
        <p:spPr>
          <a:xfrm>
            <a:off x="7020000" y="1844640"/>
            <a:ext cx="1031760" cy="1031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6" descr="plants_001"/>
          <p:cNvPicPr/>
          <p:nvPr/>
        </p:nvPicPr>
        <p:blipFill>
          <a:blip r:embed="rId107"/>
          <a:stretch/>
        </p:blipFill>
        <p:spPr>
          <a:xfrm>
            <a:off x="3343320" y="-20289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6" descr="plants_001"/>
          <p:cNvPicPr/>
          <p:nvPr/>
        </p:nvPicPr>
        <p:blipFill>
          <a:blip r:embed="rId108"/>
          <a:stretch/>
        </p:blipFill>
        <p:spPr>
          <a:xfrm>
            <a:off x="2948040" y="-18097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plants_001"/>
          <p:cNvPicPr/>
          <p:nvPr/>
        </p:nvPicPr>
        <p:blipFill>
          <a:blip r:embed="rId109"/>
          <a:stretch/>
        </p:blipFill>
        <p:spPr>
          <a:xfrm>
            <a:off x="2948040" y="-13399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6" descr="plants_001"/>
          <p:cNvPicPr/>
          <p:nvPr/>
        </p:nvPicPr>
        <p:blipFill>
          <a:blip r:embed="rId110"/>
          <a:stretch/>
        </p:blipFill>
        <p:spPr>
          <a:xfrm>
            <a:off x="2963880" y="-11667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plants_001"/>
          <p:cNvPicPr/>
          <p:nvPr/>
        </p:nvPicPr>
        <p:blipFill>
          <a:blip r:embed="rId111"/>
          <a:stretch/>
        </p:blipFill>
        <p:spPr>
          <a:xfrm>
            <a:off x="3500280" y="-1684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6" descr="plants_001"/>
          <p:cNvPicPr/>
          <p:nvPr/>
        </p:nvPicPr>
        <p:blipFill>
          <a:blip r:embed="rId112"/>
          <a:stretch/>
        </p:blipFill>
        <p:spPr>
          <a:xfrm>
            <a:off x="2970360" y="-1965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6" descr="plants_001"/>
          <p:cNvPicPr/>
          <p:nvPr/>
        </p:nvPicPr>
        <p:blipFill>
          <a:blip r:embed="rId113"/>
          <a:stretch/>
        </p:blipFill>
        <p:spPr>
          <a:xfrm>
            <a:off x="2925720" y="-14670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6" descr="plants_001"/>
          <p:cNvPicPr/>
          <p:nvPr/>
        </p:nvPicPr>
        <p:blipFill>
          <a:blip r:embed="rId114"/>
          <a:stretch/>
        </p:blipFill>
        <p:spPr>
          <a:xfrm>
            <a:off x="2905200" y="-1627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6" descr="plants_001"/>
          <p:cNvPicPr/>
          <p:nvPr/>
        </p:nvPicPr>
        <p:blipFill>
          <a:blip r:embed="rId115"/>
          <a:stretch/>
        </p:blipFill>
        <p:spPr>
          <a:xfrm>
            <a:off x="2925720" y="-10508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6" descr="plants_001"/>
          <p:cNvPicPr/>
          <p:nvPr/>
        </p:nvPicPr>
        <p:blipFill>
          <a:blip r:embed="rId116"/>
          <a:stretch/>
        </p:blipFill>
        <p:spPr>
          <a:xfrm rot="1356000">
            <a:off x="3559320" y="-18648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6" descr="plants_001"/>
          <p:cNvPicPr/>
          <p:nvPr/>
        </p:nvPicPr>
        <p:blipFill>
          <a:blip r:embed="rId117"/>
          <a:stretch/>
        </p:blipFill>
        <p:spPr>
          <a:xfrm>
            <a:off x="3083040" y="-20430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6" descr="plants_001"/>
          <p:cNvPicPr/>
          <p:nvPr/>
        </p:nvPicPr>
        <p:blipFill>
          <a:blip r:embed="rId118"/>
          <a:stretch/>
        </p:blipFill>
        <p:spPr>
          <a:xfrm rot="19934400">
            <a:off x="2947680" y="-8060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6" descr="plants_001"/>
          <p:cNvPicPr/>
          <p:nvPr/>
        </p:nvPicPr>
        <p:blipFill>
          <a:blip r:embed="rId119"/>
          <a:stretch/>
        </p:blipFill>
        <p:spPr>
          <a:xfrm rot="2099400">
            <a:off x="3644640" y="-100476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6" descr="plants_001"/>
          <p:cNvPicPr/>
          <p:nvPr/>
        </p:nvPicPr>
        <p:blipFill>
          <a:blip r:embed="rId120"/>
          <a:stretch/>
        </p:blipFill>
        <p:spPr>
          <a:xfrm rot="19934400">
            <a:off x="3252600" y="-1569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6" descr="plants_001"/>
          <p:cNvPicPr/>
          <p:nvPr/>
        </p:nvPicPr>
        <p:blipFill>
          <a:blip r:embed="rId121"/>
          <a:stretch/>
        </p:blipFill>
        <p:spPr>
          <a:xfrm rot="19934400">
            <a:off x="3208320" y="-14774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plants_001"/>
          <p:cNvPicPr/>
          <p:nvPr/>
        </p:nvPicPr>
        <p:blipFill>
          <a:blip r:embed="rId122"/>
          <a:stretch/>
        </p:blipFill>
        <p:spPr>
          <a:xfrm rot="19934400">
            <a:off x="3238560" y="-139176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6" descr="plants_001"/>
          <p:cNvPicPr/>
          <p:nvPr/>
        </p:nvPicPr>
        <p:blipFill>
          <a:blip r:embed="rId123"/>
          <a:stretch/>
        </p:blipFill>
        <p:spPr>
          <a:xfrm rot="2562600">
            <a:off x="3583080" y="-13665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6" descr="plants_001"/>
          <p:cNvPicPr/>
          <p:nvPr/>
        </p:nvPicPr>
        <p:blipFill>
          <a:blip r:embed="rId124"/>
          <a:stretch/>
        </p:blipFill>
        <p:spPr>
          <a:xfrm rot="21347400">
            <a:off x="3455640" y="-947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6" descr="plants_001"/>
          <p:cNvPicPr/>
          <p:nvPr/>
        </p:nvPicPr>
        <p:blipFill>
          <a:blip r:embed="rId125"/>
          <a:stretch/>
        </p:blipFill>
        <p:spPr>
          <a:xfrm rot="19934400">
            <a:off x="3446280" y="-11934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6" descr="plants_001"/>
          <p:cNvPicPr/>
          <p:nvPr/>
        </p:nvPicPr>
        <p:blipFill>
          <a:blip r:embed="rId126"/>
          <a:stretch/>
        </p:blipFill>
        <p:spPr>
          <a:xfrm rot="19934400">
            <a:off x="3530160" y="-806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6" descr="plants_001"/>
          <p:cNvPicPr/>
          <p:nvPr/>
        </p:nvPicPr>
        <p:blipFill>
          <a:blip r:embed="rId127"/>
          <a:stretch/>
        </p:blipFill>
        <p:spPr>
          <a:xfrm rot="1623000">
            <a:off x="3493800" y="-11221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6" descr="plants_001"/>
          <p:cNvPicPr/>
          <p:nvPr/>
        </p:nvPicPr>
        <p:blipFill>
          <a:blip r:embed="rId128"/>
          <a:stretch/>
        </p:blipFill>
        <p:spPr>
          <a:xfrm rot="1356000">
            <a:off x="-3600360" y="26542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6" descr="plants_001"/>
          <p:cNvPicPr/>
          <p:nvPr/>
        </p:nvPicPr>
        <p:blipFill>
          <a:blip r:embed="rId129"/>
          <a:stretch/>
        </p:blipFill>
        <p:spPr>
          <a:xfrm rot="1356000">
            <a:off x="-3455640" y="25480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6" descr="plants_001"/>
          <p:cNvPicPr/>
          <p:nvPr/>
        </p:nvPicPr>
        <p:blipFill>
          <a:blip r:embed="rId130"/>
          <a:stretch/>
        </p:blipFill>
        <p:spPr>
          <a:xfrm rot="1356000">
            <a:off x="-3257640" y="2471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6" descr="plants_001"/>
          <p:cNvPicPr/>
          <p:nvPr/>
        </p:nvPicPr>
        <p:blipFill>
          <a:blip r:embed="rId131"/>
          <a:stretch/>
        </p:blipFill>
        <p:spPr>
          <a:xfrm rot="1356000">
            <a:off x="-3104640" y="2451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6" descr="plants_001"/>
          <p:cNvPicPr/>
          <p:nvPr/>
        </p:nvPicPr>
        <p:blipFill>
          <a:blip r:embed="rId132"/>
          <a:stretch/>
        </p:blipFill>
        <p:spPr>
          <a:xfrm rot="1356000">
            <a:off x="-2890440" y="2451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6" descr="plants_001"/>
          <p:cNvPicPr/>
          <p:nvPr/>
        </p:nvPicPr>
        <p:blipFill>
          <a:blip r:embed="rId133"/>
          <a:stretch/>
        </p:blipFill>
        <p:spPr>
          <a:xfrm rot="1356000">
            <a:off x="-3774960" y="28083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6" descr="plants_001"/>
          <p:cNvPicPr/>
          <p:nvPr/>
        </p:nvPicPr>
        <p:blipFill>
          <a:blip r:embed="rId134"/>
          <a:stretch/>
        </p:blipFill>
        <p:spPr>
          <a:xfrm rot="1356000">
            <a:off x="-3610080" y="2771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6" descr="plants_001"/>
          <p:cNvPicPr/>
          <p:nvPr/>
        </p:nvPicPr>
        <p:blipFill>
          <a:blip r:embed="rId135"/>
          <a:stretch/>
        </p:blipFill>
        <p:spPr>
          <a:xfrm rot="1356000">
            <a:off x="-3807000" y="30222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6" descr="plants_001"/>
          <p:cNvPicPr/>
          <p:nvPr/>
        </p:nvPicPr>
        <p:blipFill>
          <a:blip r:embed="rId136"/>
          <a:stretch/>
        </p:blipFill>
        <p:spPr>
          <a:xfrm rot="1356000">
            <a:off x="-3807000" y="32792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6" descr="plants_001"/>
          <p:cNvPicPr/>
          <p:nvPr/>
        </p:nvPicPr>
        <p:blipFill>
          <a:blip r:embed="rId137"/>
          <a:stretch/>
        </p:blipFill>
        <p:spPr>
          <a:xfrm rot="1356000">
            <a:off x="-3424320" y="32000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6" descr="plants_001"/>
          <p:cNvPicPr/>
          <p:nvPr/>
        </p:nvPicPr>
        <p:blipFill>
          <a:blip r:embed="rId138"/>
          <a:stretch/>
        </p:blipFill>
        <p:spPr>
          <a:xfrm rot="1356000">
            <a:off x="-3267000" y="35416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6" descr="plants_001"/>
          <p:cNvPicPr/>
          <p:nvPr/>
        </p:nvPicPr>
        <p:blipFill>
          <a:blip r:embed="rId139"/>
          <a:stretch/>
        </p:blipFill>
        <p:spPr>
          <a:xfrm rot="3111000">
            <a:off x="-3555360" y="33433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6" descr="plants_001"/>
          <p:cNvPicPr/>
          <p:nvPr/>
        </p:nvPicPr>
        <p:blipFill>
          <a:blip r:embed="rId140"/>
          <a:stretch/>
        </p:blipFill>
        <p:spPr>
          <a:xfrm rot="1356000">
            <a:off x="-3423960" y="356688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6" descr="plants_001"/>
          <p:cNvPicPr/>
          <p:nvPr/>
        </p:nvPicPr>
        <p:blipFill>
          <a:blip r:embed="rId141"/>
          <a:stretch/>
        </p:blipFill>
        <p:spPr>
          <a:xfrm rot="1356000">
            <a:off x="-2778120" y="3279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6" descr="plants_001"/>
          <p:cNvPicPr/>
          <p:nvPr/>
        </p:nvPicPr>
        <p:blipFill>
          <a:blip r:embed="rId142"/>
          <a:stretch/>
        </p:blipFill>
        <p:spPr>
          <a:xfrm rot="1356000">
            <a:off x="-2852640" y="33447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6" descr="plants_001"/>
          <p:cNvPicPr/>
          <p:nvPr/>
        </p:nvPicPr>
        <p:blipFill>
          <a:blip r:embed="rId143"/>
          <a:stretch/>
        </p:blipFill>
        <p:spPr>
          <a:xfrm rot="1356000">
            <a:off x="-3114720" y="35380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6" descr="plants_001"/>
          <p:cNvPicPr/>
          <p:nvPr/>
        </p:nvPicPr>
        <p:blipFill>
          <a:blip r:embed="rId144"/>
          <a:stretch/>
        </p:blipFill>
        <p:spPr>
          <a:xfrm rot="1356000">
            <a:off x="-2919240" y="35146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6" descr="plants_001"/>
          <p:cNvPicPr/>
          <p:nvPr/>
        </p:nvPicPr>
        <p:blipFill>
          <a:blip r:embed="rId145"/>
          <a:stretch/>
        </p:blipFill>
        <p:spPr>
          <a:xfrm rot="19260000">
            <a:off x="-3038040" y="2890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6" descr="plants_001"/>
          <p:cNvPicPr/>
          <p:nvPr/>
        </p:nvPicPr>
        <p:blipFill>
          <a:blip r:embed="rId146"/>
          <a:stretch/>
        </p:blipFill>
        <p:spPr>
          <a:xfrm rot="1356000">
            <a:off x="-2736720" y="308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6" descr="plants_001"/>
          <p:cNvPicPr/>
          <p:nvPr/>
        </p:nvPicPr>
        <p:blipFill>
          <a:blip r:embed="rId147"/>
          <a:stretch/>
        </p:blipFill>
        <p:spPr>
          <a:xfrm rot="19260000">
            <a:off x="-3063600" y="29624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" descr="plants_001"/>
          <p:cNvPicPr/>
          <p:nvPr/>
        </p:nvPicPr>
        <p:blipFill>
          <a:blip r:embed="rId148"/>
          <a:stretch/>
        </p:blipFill>
        <p:spPr>
          <a:xfrm rot="1356000">
            <a:off x="2806200" y="7388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6" descr="plants_001"/>
          <p:cNvPicPr/>
          <p:nvPr/>
        </p:nvPicPr>
        <p:blipFill>
          <a:blip r:embed="rId149"/>
          <a:stretch/>
        </p:blipFill>
        <p:spPr>
          <a:xfrm rot="1356000">
            <a:off x="2922120" y="73803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" descr="plants_001"/>
          <p:cNvPicPr/>
          <p:nvPr/>
        </p:nvPicPr>
        <p:blipFill>
          <a:blip r:embed="rId150"/>
          <a:stretch/>
        </p:blipFill>
        <p:spPr>
          <a:xfrm rot="1356000">
            <a:off x="3073320" y="733752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6" descr="plants_001"/>
          <p:cNvPicPr/>
          <p:nvPr/>
        </p:nvPicPr>
        <p:blipFill>
          <a:blip r:embed="rId151"/>
          <a:stretch/>
        </p:blipFill>
        <p:spPr>
          <a:xfrm rot="1356000">
            <a:off x="3492000" y="73548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6" descr="plants_001"/>
          <p:cNvPicPr/>
          <p:nvPr/>
        </p:nvPicPr>
        <p:blipFill>
          <a:blip r:embed="rId152"/>
          <a:stretch/>
        </p:blipFill>
        <p:spPr>
          <a:xfrm rot="1356000">
            <a:off x="3198600" y="73389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6" descr="plants_001"/>
          <p:cNvPicPr/>
          <p:nvPr/>
        </p:nvPicPr>
        <p:blipFill>
          <a:blip r:embed="rId153"/>
          <a:stretch/>
        </p:blipFill>
        <p:spPr>
          <a:xfrm rot="2055000">
            <a:off x="3344760" y="7345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6" descr="plants_001"/>
          <p:cNvPicPr/>
          <p:nvPr/>
        </p:nvPicPr>
        <p:blipFill>
          <a:blip r:embed="rId154"/>
          <a:stretch/>
        </p:blipFill>
        <p:spPr>
          <a:xfrm rot="2055000">
            <a:off x="2744640" y="76057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6" descr="plants_001"/>
          <p:cNvPicPr/>
          <p:nvPr/>
        </p:nvPicPr>
        <p:blipFill>
          <a:blip r:embed="rId155"/>
          <a:stretch/>
        </p:blipFill>
        <p:spPr>
          <a:xfrm rot="2055000">
            <a:off x="2820960" y="81583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6" descr="plants_001"/>
          <p:cNvPicPr/>
          <p:nvPr/>
        </p:nvPicPr>
        <p:blipFill>
          <a:blip r:embed="rId156"/>
          <a:stretch/>
        </p:blipFill>
        <p:spPr>
          <a:xfrm rot="2055000">
            <a:off x="2998800" y="81853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6" descr="plants_001"/>
          <p:cNvPicPr/>
          <p:nvPr/>
        </p:nvPicPr>
        <p:blipFill>
          <a:blip r:embed="rId157"/>
          <a:stretch/>
        </p:blipFill>
        <p:spPr>
          <a:xfrm rot="3023400">
            <a:off x="2779920" y="8303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6" descr="plants_001"/>
          <p:cNvPicPr/>
          <p:nvPr/>
        </p:nvPicPr>
        <p:blipFill>
          <a:blip r:embed="rId158"/>
          <a:stretch/>
        </p:blipFill>
        <p:spPr>
          <a:xfrm rot="8315400">
            <a:off x="2944440" y="73915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6" descr="plants_001"/>
          <p:cNvPicPr/>
          <p:nvPr/>
        </p:nvPicPr>
        <p:blipFill>
          <a:blip r:embed="rId159"/>
          <a:stretch/>
        </p:blipFill>
        <p:spPr>
          <a:xfrm rot="2055000">
            <a:off x="2868480" y="78184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6" descr="plants_001"/>
          <p:cNvPicPr/>
          <p:nvPr/>
        </p:nvPicPr>
        <p:blipFill>
          <a:blip r:embed="rId160"/>
          <a:stretch/>
        </p:blipFill>
        <p:spPr>
          <a:xfrm rot="11733600">
            <a:off x="3088800" y="83847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6" descr="plants_001"/>
          <p:cNvPicPr/>
          <p:nvPr/>
        </p:nvPicPr>
        <p:blipFill>
          <a:blip r:embed="rId161"/>
          <a:stretch/>
        </p:blipFill>
        <p:spPr>
          <a:xfrm rot="2055000">
            <a:off x="3025800" y="77770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6" descr="plants_001"/>
          <p:cNvPicPr/>
          <p:nvPr/>
        </p:nvPicPr>
        <p:blipFill>
          <a:blip r:embed="rId162"/>
          <a:stretch/>
        </p:blipFill>
        <p:spPr>
          <a:xfrm rot="3763800">
            <a:off x="2767320" y="79189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6" descr="plants_001"/>
          <p:cNvPicPr/>
          <p:nvPr/>
        </p:nvPicPr>
        <p:blipFill>
          <a:blip r:embed="rId163"/>
          <a:stretch/>
        </p:blipFill>
        <p:spPr>
          <a:xfrm rot="12180000">
            <a:off x="2844360" y="83066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6" descr="plants_001"/>
          <p:cNvPicPr/>
          <p:nvPr/>
        </p:nvPicPr>
        <p:blipFill>
          <a:blip r:embed="rId164"/>
          <a:stretch/>
        </p:blipFill>
        <p:spPr>
          <a:xfrm rot="7923600">
            <a:off x="3306600" y="83998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6" descr="plants_001"/>
          <p:cNvPicPr/>
          <p:nvPr/>
        </p:nvPicPr>
        <p:blipFill>
          <a:blip r:embed="rId165"/>
          <a:stretch/>
        </p:blipFill>
        <p:spPr>
          <a:xfrm>
            <a:off x="3419640" y="8442360"/>
            <a:ext cx="576000" cy="520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6" descr="plants_001"/>
          <p:cNvPicPr/>
          <p:nvPr/>
        </p:nvPicPr>
        <p:blipFill>
          <a:blip r:embed="rId166"/>
          <a:stretch/>
        </p:blipFill>
        <p:spPr>
          <a:xfrm rot="17173200">
            <a:off x="3402720" y="73378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6" descr="plants_001"/>
          <p:cNvPicPr/>
          <p:nvPr/>
        </p:nvPicPr>
        <p:blipFill>
          <a:blip r:embed="rId167"/>
          <a:stretch/>
        </p:blipFill>
        <p:spPr>
          <a:xfrm rot="8356200">
            <a:off x="3219480" y="78642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6" descr="plants_001"/>
          <p:cNvPicPr/>
          <p:nvPr/>
        </p:nvPicPr>
        <p:blipFill>
          <a:blip r:embed="rId168"/>
          <a:stretch/>
        </p:blipFill>
        <p:spPr>
          <a:xfrm rot="18706800">
            <a:off x="3218760" y="78476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6" descr="plants_001"/>
          <p:cNvPicPr/>
          <p:nvPr/>
        </p:nvPicPr>
        <p:blipFill>
          <a:blip r:embed="rId169"/>
          <a:stretch/>
        </p:blipFill>
        <p:spPr>
          <a:xfrm rot="1356000">
            <a:off x="3884760" y="73836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6" descr="plants_001"/>
          <p:cNvPicPr/>
          <p:nvPr/>
        </p:nvPicPr>
        <p:blipFill>
          <a:blip r:embed="rId170"/>
          <a:stretch/>
        </p:blipFill>
        <p:spPr>
          <a:xfrm rot="1356000">
            <a:off x="4000680" y="73756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6" descr="plants_001"/>
          <p:cNvPicPr/>
          <p:nvPr/>
        </p:nvPicPr>
        <p:blipFill>
          <a:blip r:embed="rId171"/>
          <a:stretch/>
        </p:blipFill>
        <p:spPr>
          <a:xfrm rot="1356000">
            <a:off x="4152960" y="73328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6" descr="plants_001"/>
          <p:cNvPicPr/>
          <p:nvPr/>
        </p:nvPicPr>
        <p:blipFill>
          <a:blip r:embed="rId172"/>
          <a:stretch/>
        </p:blipFill>
        <p:spPr>
          <a:xfrm rot="1356000">
            <a:off x="4498560" y="73515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6" descr="plants_001"/>
          <p:cNvPicPr/>
          <p:nvPr/>
        </p:nvPicPr>
        <p:blipFill>
          <a:blip r:embed="rId173"/>
          <a:stretch/>
        </p:blipFill>
        <p:spPr>
          <a:xfrm rot="1356000">
            <a:off x="4276440" y="73357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6" descr="plants_001"/>
          <p:cNvPicPr/>
          <p:nvPr/>
        </p:nvPicPr>
        <p:blipFill>
          <a:blip r:embed="rId174"/>
          <a:stretch/>
        </p:blipFill>
        <p:spPr>
          <a:xfrm rot="2055000">
            <a:off x="4351320" y="7342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6" descr="plants_001"/>
          <p:cNvPicPr/>
          <p:nvPr/>
        </p:nvPicPr>
        <p:blipFill>
          <a:blip r:embed="rId175"/>
          <a:stretch/>
        </p:blipFill>
        <p:spPr>
          <a:xfrm rot="2055000">
            <a:off x="3753000" y="7508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6" descr="plants_001"/>
          <p:cNvPicPr/>
          <p:nvPr/>
        </p:nvPicPr>
        <p:blipFill>
          <a:blip r:embed="rId176"/>
          <a:stretch/>
        </p:blipFill>
        <p:spPr>
          <a:xfrm rot="2055000">
            <a:off x="3900600" y="81550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6" descr="plants_001"/>
          <p:cNvPicPr/>
          <p:nvPr/>
        </p:nvPicPr>
        <p:blipFill>
          <a:blip r:embed="rId177"/>
          <a:stretch/>
        </p:blipFill>
        <p:spPr>
          <a:xfrm rot="2055000">
            <a:off x="4076640" y="8180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6" descr="plants_001"/>
          <p:cNvPicPr/>
          <p:nvPr/>
        </p:nvPicPr>
        <p:blipFill>
          <a:blip r:embed="rId178"/>
          <a:stretch/>
        </p:blipFill>
        <p:spPr>
          <a:xfrm rot="3023400">
            <a:off x="3786480" y="8355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6" descr="plants_001"/>
          <p:cNvPicPr/>
          <p:nvPr/>
        </p:nvPicPr>
        <p:blipFill>
          <a:blip r:embed="rId179"/>
          <a:stretch/>
        </p:blipFill>
        <p:spPr>
          <a:xfrm rot="8315400">
            <a:off x="4021920" y="73861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6" descr="plants_001"/>
          <p:cNvPicPr/>
          <p:nvPr/>
        </p:nvPicPr>
        <p:blipFill>
          <a:blip r:embed="rId180"/>
          <a:stretch/>
        </p:blipFill>
        <p:spPr>
          <a:xfrm rot="2055000">
            <a:off x="3948120" y="78152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6" descr="plants_001"/>
          <p:cNvPicPr/>
          <p:nvPr/>
        </p:nvPicPr>
        <p:blipFill>
          <a:blip r:embed="rId181"/>
          <a:stretch/>
        </p:blipFill>
        <p:spPr>
          <a:xfrm rot="11733600">
            <a:off x="4168800" y="83800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6" descr="plants_001"/>
          <p:cNvPicPr/>
          <p:nvPr/>
        </p:nvPicPr>
        <p:blipFill>
          <a:blip r:embed="rId182"/>
          <a:stretch/>
        </p:blipFill>
        <p:spPr>
          <a:xfrm rot="2055000">
            <a:off x="4103640" y="77738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6" descr="plants_001"/>
          <p:cNvPicPr/>
          <p:nvPr/>
        </p:nvPicPr>
        <p:blipFill>
          <a:blip r:embed="rId183"/>
          <a:stretch/>
        </p:blipFill>
        <p:spPr>
          <a:xfrm rot="3763800">
            <a:off x="3773880" y="78969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plants_001"/>
          <p:cNvPicPr/>
          <p:nvPr/>
        </p:nvPicPr>
        <p:blipFill>
          <a:blip r:embed="rId184"/>
          <a:stretch/>
        </p:blipFill>
        <p:spPr>
          <a:xfrm rot="12180000">
            <a:off x="3922200" y="8303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6" descr="plants_001"/>
          <p:cNvPicPr/>
          <p:nvPr/>
        </p:nvPicPr>
        <p:blipFill>
          <a:blip r:embed="rId185"/>
          <a:stretch/>
        </p:blipFill>
        <p:spPr>
          <a:xfrm rot="7923600">
            <a:off x="4313160" y="83966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6" descr="plants_001"/>
          <p:cNvPicPr/>
          <p:nvPr/>
        </p:nvPicPr>
        <p:blipFill>
          <a:blip r:embed="rId186"/>
          <a:stretch/>
        </p:blipFill>
        <p:spPr>
          <a:xfrm>
            <a:off x="4448160" y="8439120"/>
            <a:ext cx="576360" cy="520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6" descr="plants_001"/>
          <p:cNvPicPr/>
          <p:nvPr/>
        </p:nvPicPr>
        <p:blipFill>
          <a:blip r:embed="rId187"/>
          <a:stretch/>
        </p:blipFill>
        <p:spPr>
          <a:xfrm rot="17173200">
            <a:off x="4409280" y="7333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6" descr="plants_001"/>
          <p:cNvPicPr/>
          <p:nvPr/>
        </p:nvPicPr>
        <p:blipFill>
          <a:blip r:embed="rId188"/>
          <a:stretch/>
        </p:blipFill>
        <p:spPr>
          <a:xfrm rot="8356200">
            <a:off x="4296600" y="78606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6" descr="plants_001"/>
          <p:cNvPicPr/>
          <p:nvPr/>
        </p:nvPicPr>
        <p:blipFill>
          <a:blip r:embed="rId189"/>
          <a:stretch/>
        </p:blipFill>
        <p:spPr>
          <a:xfrm rot="18706800">
            <a:off x="4296600" y="784260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6" descr="plants_001"/>
          <p:cNvPicPr/>
          <p:nvPr/>
        </p:nvPicPr>
        <p:blipFill>
          <a:blip r:embed="rId190"/>
          <a:stretch/>
        </p:blipFill>
        <p:spPr>
          <a:xfrm rot="2055000">
            <a:off x="13257360" y="18176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6" descr="plants_001"/>
          <p:cNvPicPr/>
          <p:nvPr/>
        </p:nvPicPr>
        <p:blipFill>
          <a:blip r:embed="rId191"/>
          <a:stretch/>
        </p:blipFill>
        <p:spPr>
          <a:xfrm rot="2055000">
            <a:off x="13409640" y="17971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6" descr="plants_001"/>
          <p:cNvPicPr/>
          <p:nvPr/>
        </p:nvPicPr>
        <p:blipFill>
          <a:blip r:embed="rId192"/>
          <a:stretch/>
        </p:blipFill>
        <p:spPr>
          <a:xfrm rot="2055000">
            <a:off x="13582800" y="1820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6" descr="plants_001"/>
          <p:cNvPicPr/>
          <p:nvPr/>
        </p:nvPicPr>
        <p:blipFill>
          <a:blip r:embed="rId193"/>
          <a:stretch/>
        </p:blipFill>
        <p:spPr>
          <a:xfrm rot="2055000">
            <a:off x="13727160" y="19638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plants_001"/>
          <p:cNvPicPr/>
          <p:nvPr/>
        </p:nvPicPr>
        <p:blipFill>
          <a:blip r:embed="rId194"/>
          <a:stretch/>
        </p:blipFill>
        <p:spPr>
          <a:xfrm rot="2055000">
            <a:off x="13690440" y="217980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6" descr="plants_001"/>
          <p:cNvPicPr/>
          <p:nvPr/>
        </p:nvPicPr>
        <p:blipFill>
          <a:blip r:embed="rId195"/>
          <a:stretch/>
        </p:blipFill>
        <p:spPr>
          <a:xfrm rot="2055000">
            <a:off x="13257360" y="20858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6" descr="plants_001"/>
          <p:cNvPicPr/>
          <p:nvPr/>
        </p:nvPicPr>
        <p:blipFill>
          <a:blip r:embed="rId196"/>
          <a:stretch/>
        </p:blipFill>
        <p:spPr>
          <a:xfrm rot="2055000">
            <a:off x="13401720" y="2252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6" descr="plants_001"/>
          <p:cNvPicPr/>
          <p:nvPr/>
        </p:nvPicPr>
        <p:blipFill>
          <a:blip r:embed="rId197"/>
          <a:stretch/>
        </p:blipFill>
        <p:spPr>
          <a:xfrm rot="2055000">
            <a:off x="13295160" y="24447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6" descr="plants_001"/>
          <p:cNvPicPr/>
          <p:nvPr/>
        </p:nvPicPr>
        <p:blipFill>
          <a:blip r:embed="rId198"/>
          <a:stretch/>
        </p:blipFill>
        <p:spPr>
          <a:xfrm rot="2055000">
            <a:off x="13439880" y="2684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6" descr="plants_001"/>
          <p:cNvPicPr/>
          <p:nvPr/>
        </p:nvPicPr>
        <p:blipFill>
          <a:blip r:embed="rId199"/>
          <a:stretch/>
        </p:blipFill>
        <p:spPr>
          <a:xfrm rot="2055000">
            <a:off x="13257360" y="27338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6" descr="plants_001"/>
          <p:cNvPicPr/>
          <p:nvPr/>
        </p:nvPicPr>
        <p:blipFill>
          <a:blip r:embed="rId200"/>
          <a:stretch/>
        </p:blipFill>
        <p:spPr>
          <a:xfrm rot="2055000">
            <a:off x="13800240" y="2468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6" descr="plants_001"/>
          <p:cNvPicPr/>
          <p:nvPr/>
        </p:nvPicPr>
        <p:blipFill>
          <a:blip r:embed="rId201"/>
          <a:stretch/>
        </p:blipFill>
        <p:spPr>
          <a:xfrm rot="2055000">
            <a:off x="13943160" y="2611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6" descr="plants_001"/>
          <p:cNvPicPr/>
          <p:nvPr/>
        </p:nvPicPr>
        <p:blipFill>
          <a:blip r:embed="rId202"/>
          <a:stretch/>
        </p:blipFill>
        <p:spPr>
          <a:xfrm rot="2055000">
            <a:off x="14095440" y="27558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6" descr="plants_001"/>
          <p:cNvPicPr/>
          <p:nvPr/>
        </p:nvPicPr>
        <p:blipFill>
          <a:blip r:embed="rId203"/>
          <a:stretch/>
        </p:blipFill>
        <p:spPr>
          <a:xfrm rot="2055000">
            <a:off x="14193720" y="27338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6" descr="plants_001"/>
          <p:cNvPicPr/>
          <p:nvPr/>
        </p:nvPicPr>
        <p:blipFill>
          <a:blip r:embed="rId204"/>
          <a:stretch/>
        </p:blipFill>
        <p:spPr>
          <a:xfrm rot="2055000">
            <a:off x="14049360" y="2395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6" descr="plants_001"/>
          <p:cNvPicPr/>
          <p:nvPr/>
        </p:nvPicPr>
        <p:blipFill>
          <a:blip r:embed="rId205"/>
          <a:stretch/>
        </p:blipFill>
        <p:spPr>
          <a:xfrm rot="2055000">
            <a:off x="14193720" y="2395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6" descr="plants_001"/>
          <p:cNvPicPr/>
          <p:nvPr/>
        </p:nvPicPr>
        <p:blipFill>
          <a:blip r:embed="rId206"/>
          <a:stretch/>
        </p:blipFill>
        <p:spPr>
          <a:xfrm rot="2055000">
            <a:off x="14231880" y="21081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6" descr="plants_001"/>
          <p:cNvPicPr/>
          <p:nvPr/>
        </p:nvPicPr>
        <p:blipFill>
          <a:blip r:embed="rId207"/>
          <a:stretch/>
        </p:blipFill>
        <p:spPr>
          <a:xfrm rot="2055000">
            <a:off x="14266800" y="167652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6" descr="plants_001"/>
          <p:cNvPicPr/>
          <p:nvPr/>
        </p:nvPicPr>
        <p:blipFill>
          <a:blip r:embed="rId208"/>
          <a:stretch/>
        </p:blipFill>
        <p:spPr>
          <a:xfrm rot="2055000">
            <a:off x="14122440" y="1725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6" descr="plants_001"/>
          <p:cNvPicPr/>
          <p:nvPr/>
        </p:nvPicPr>
        <p:blipFill>
          <a:blip r:embed="rId209"/>
          <a:stretch/>
        </p:blipFill>
        <p:spPr>
          <a:xfrm rot="2865600">
            <a:off x="14060880" y="21056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50" name="矩形 4" descr=""/>
          <p:cNvPicPr/>
          <p:nvPr/>
        </p:nvPicPr>
        <p:blipFill>
          <a:blip r:embed="rId210"/>
          <a:stretch/>
        </p:blipFill>
        <p:spPr>
          <a:xfrm>
            <a:off x="2556000" y="333360"/>
            <a:ext cx="3809880" cy="17114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38520" y="1628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感恩节幻灯片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6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8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8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10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48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12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8">
                                  <p:stCondLst>
                                    <p:cond delay="95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8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16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48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8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20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8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22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8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24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8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26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8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28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8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30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8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32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8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34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8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36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8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38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8">
                                  <p:stCondLst>
                                    <p:cond delay="64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40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48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42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8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46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48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6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0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6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2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4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2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6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62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62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62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74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62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2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62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62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62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62">
                                  <p:stCondLst>
                                    <p:cond delay="66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90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47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92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7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94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47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96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7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98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7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00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7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02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7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04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47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06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7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08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7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7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12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7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4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16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47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18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7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20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7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22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7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24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47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26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7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28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47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30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47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32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47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34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47">
                                  <p:stCondLst>
                                    <p:cond delay="6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36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47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38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47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7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42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7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44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7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46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4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48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47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50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47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52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47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47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56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47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58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47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60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47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62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47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64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47">
                                  <p:stCondLst>
                                    <p:cond delay="5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66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7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68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47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70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72" dur="1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39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74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39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76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39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78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39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80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9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8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39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84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39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86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39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88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39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90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39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92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39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94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39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96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39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98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39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00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39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02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39">
                                  <p:stCondLst>
                                    <p:cond delay="59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04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39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06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39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08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39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10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1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3200"/>
                            </p:stCondLst>
                            <p:childTnLst>
                              <p:par>
                                <p:cTn id="2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35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48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37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48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39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48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41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48">
                                  <p:stCondLst>
                                    <p:cond delay="95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43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48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45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path" presetID="48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47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48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49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nodeType="withEffect" fill="hold" presetClass="path" presetID="48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51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48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53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48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55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nodeType="withEffect" fill="hold" presetClass="path" presetID="48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57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8" nodeType="withEffect" fill="hold" presetClass="path" presetID="48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59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48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61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48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63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path" presetID="48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65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48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67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48">
                                  <p:stCondLst>
                                    <p:cond delay="64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69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48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71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48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73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7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77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6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79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path" presetID="6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1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6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3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6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5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6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7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6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9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6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91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path" presetID="62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93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6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95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path" presetID="6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97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62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99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nodeType="withEffect" fill="hold" presetClass="path" presetID="62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1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" nodeType="withEffect" fill="hold" presetClass="path" presetID="62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3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62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5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2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7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62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9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62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11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path" presetID="62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13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" nodeType="withEffect" fill="hold" presetClass="path" presetID="62">
                                  <p:stCondLst>
                                    <p:cond delay="66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15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17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19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" nodeType="withEffect" fill="hold" presetClass="path" presetID="47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21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" nodeType="withEffect" fill="hold" presetClass="path" presetID="47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23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47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25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path" presetID="47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27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" nodeType="withEffect" fill="hold" presetClass="path" presetID="4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29" dur="1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" nodeType="withEffect" fill="hold" presetClass="path" presetID="4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31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" nodeType="withEffect" fill="hold" presetClass="path" presetID="47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33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" nodeType="withEffect" fill="hold" presetClass="path" presetID="47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35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path" presetID="47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37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" nodeType="withEffect" fill="hold" presetClass="path" presetID="47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39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47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41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47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43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47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45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nodeType="withEffect" fill="hold" presetClass="path" presetID="47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47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path" presetID="47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49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" nodeType="withEffect" fill="hold" presetClass="path" presetID="47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51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2" nodeType="withEffect" fill="hold" presetClass="path" presetID="47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53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nodeType="withEffect" fill="hold" presetClass="path" presetID="47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55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nodeType="withEffect" fill="hold" presetClass="path" presetID="47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57" dur="1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8" nodeType="withEffect" fill="hold" presetClass="path" presetID="47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59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0" nodeType="withEffect" fill="hold" presetClass="path" presetID="47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61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2" nodeType="withEffect" fill="hold" presetClass="path" presetID="47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63" dur="1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4" nodeType="withEffect" fill="hold" presetClass="path" presetID="47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65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6" nodeType="withEffect" fill="hold" presetClass="path" presetID="47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67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nodeType="withEffect" fill="hold" presetClass="path" presetID="47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69" dur="1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0" nodeType="withEffect" fill="hold" presetClass="path" presetID="47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71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nodeType="withEffect" fill="hold" presetClass="path" presetID="47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73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4" nodeType="withEffect" fill="hold" presetClass="path" presetID="47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75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nodeType="withEffect" fill="hold" presetClass="path" presetID="47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77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8" nodeType="withEffect" fill="hold" presetClass="path" presetID="47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79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nodeType="withEffect" fill="hold" presetClass="path" presetID="47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81" dur="1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path" presetID="47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83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4" nodeType="withEffect" fill="hold" presetClass="path" presetID="47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85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6" nodeType="withEffect" fill="hold" presetClass="path" presetID="47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87" dur="1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8" nodeType="withEffect" fill="hold" presetClass="path" presetID="47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89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0" nodeType="withEffect" fill="hold" presetClass="path" presetID="47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91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2" nodeType="withEffect" fill="hold" presetClass="path" presetID="47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93" dur="1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4" nodeType="withEffect" fill="hold" presetClass="path" presetID="47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95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6" nodeType="withEffect" fill="hold" presetClass="path" presetID="47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97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8" nodeType="withEffect" fill="hold" presetClass="path" presetID="47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99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0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01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2" nodeType="withEffect" fill="hold" presetClass="path" presetID="39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03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39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05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path" presetID="39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07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39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09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39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11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nodeType="withEffect" fill="hold" presetClass="path" presetID="39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13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4" nodeType="withEffect" fill="hold" presetClass="path" presetID="39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15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6" nodeType="withEffect" fill="hold" presetClass="path" presetID="39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17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8" nodeType="withEffect" fill="hold" presetClass="path" presetID="39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19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0" nodeType="withEffect" fill="hold" presetClass="path" presetID="39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21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2" nodeType="withEffect" fill="hold" presetClass="path" presetID="39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23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4" nodeType="withEffect" fill="hold" presetClass="path" presetID="39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25" dur="1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6" nodeType="withEffect" fill="hold" presetClass="path" presetID="39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27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8" nodeType="withEffect" fill="hold" presetClass="path" presetID="39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29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0" nodeType="withEffect" fill="hold" presetClass="path" presetID="39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31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2" nodeType="withEffect" fill="hold" presetClass="path" presetID="39">
                                  <p:stCondLst>
                                    <p:cond delay="59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33" dur="1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4" nodeType="withEffect" fill="hold" presetClass="path" presetID="39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35" dur="1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6" nodeType="withEffect" fill="hold" presetClass="path" presetID="39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37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8" nodeType="withEffect" fill="hold" presetClass="path" presetID="39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39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88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884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09066E-006 L -0.24409 -0.33557 E">
                                      <p:cBhvr>
                                        <p:cTn id="744" dur="845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44753E-006 L 0.09028 -0.1632 C 0.10938 -0.20042 0.18941 -0.23926 0.21893 -0.23926 E">
                                      <p:cBhvr>
                                        <p:cTn id="746" dur="86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组合 13" descr=""/>
          <p:cNvPicPr/>
          <p:nvPr/>
        </p:nvPicPr>
        <p:blipFill>
          <a:blip r:embed="rId1"/>
          <a:stretch/>
        </p:blipFill>
        <p:spPr>
          <a:xfrm>
            <a:off x="590400" y="4309920"/>
            <a:ext cx="1409760" cy="2322720"/>
          </a:xfrm>
          <a:prstGeom prst="rect">
            <a:avLst/>
          </a:prstGeom>
          <a:ln w="0">
            <a:noFill/>
          </a:ln>
        </p:spPr>
      </p:pic>
      <p:grpSp>
        <p:nvGrpSpPr>
          <p:cNvPr id="372" name="组合 2065"/>
          <p:cNvGrpSpPr/>
          <p:nvPr/>
        </p:nvGrpSpPr>
        <p:grpSpPr>
          <a:xfrm>
            <a:off x="3240000" y="4206960"/>
            <a:ext cx="2729520" cy="2569680"/>
            <a:chOff x="3240000" y="4206960"/>
            <a:chExt cx="2729520" cy="2569680"/>
          </a:xfrm>
        </p:grpSpPr>
        <p:sp>
          <p:nvSpPr>
            <p:cNvPr id="373" name="弧形 27"/>
            <p:cNvSpPr/>
            <p:nvPr/>
          </p:nvSpPr>
          <p:spPr>
            <a:xfrm rot="14745000">
              <a:off x="3963600" y="4612680"/>
              <a:ext cx="1478520" cy="2112120"/>
            </a:xfrm>
            <a:custGeom>
              <a:avLst/>
              <a:gdLst/>
              <a:ahLst/>
              <a:rect l="l" t="t" r="r" b="b"/>
              <a:pathLst>
                <a:path stroke="0" w="1478012" h="1516736">
                  <a:moveTo>
                    <a:pt x="700778" y="1015"/>
                  </a:moveTo>
                  <a:cubicBezTo>
                    <a:pt x="906623" y="-9927"/>
                    <a:pt x="1107568" y="67850"/>
                    <a:pt x="1255098" y="215568"/>
                  </a:cubicBezTo>
                  <a:cubicBezTo>
                    <a:pt x="1397637" y="358288"/>
                    <a:pt x="1478012" y="554003"/>
                    <a:pt x="1478012" y="758367"/>
                  </a:cubicBezTo>
                  <a:lnTo>
                    <a:pt x="739006" y="758368"/>
                  </a:lnTo>
                  <a:lnTo>
                    <a:pt x="700778" y="1015"/>
                  </a:lnTo>
                  <a:close/>
                </a:path>
                <a:path fill="none" w="1478012" h="1516736">
                  <a:moveTo>
                    <a:pt x="700778" y="1015"/>
                  </a:moveTo>
                  <a:cubicBezTo>
                    <a:pt x="906623" y="-9927"/>
                    <a:pt x="1107568" y="67850"/>
                    <a:pt x="1255098" y="215568"/>
                  </a:cubicBezTo>
                  <a:cubicBezTo>
                    <a:pt x="1397637" y="358288"/>
                    <a:pt x="1478012" y="554003"/>
                    <a:pt x="1478012" y="75836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组合 2064" descr=""/>
            <p:cNvPicPr/>
            <p:nvPr/>
          </p:nvPicPr>
          <p:blipFill>
            <a:blip r:embed="rId2"/>
            <a:stretch/>
          </p:blipFill>
          <p:spPr>
            <a:xfrm>
              <a:off x="3240000" y="4206960"/>
              <a:ext cx="1382040" cy="231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5" name="组合 2076" descr=""/>
          <p:cNvPicPr/>
          <p:nvPr/>
        </p:nvPicPr>
        <p:blipFill>
          <a:blip r:embed="rId3"/>
          <a:stretch/>
        </p:blipFill>
        <p:spPr>
          <a:xfrm>
            <a:off x="5962680" y="3846600"/>
            <a:ext cx="1425600" cy="26766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2077"/>
          <p:cNvSpPr/>
          <p:nvPr/>
        </p:nvSpPr>
        <p:spPr>
          <a:xfrm>
            <a:off x="1372320" y="5493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们在长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2078"/>
          <p:cNvSpPr/>
          <p:nvPr/>
        </p:nvSpPr>
        <p:spPr>
          <a:xfrm>
            <a:off x="3771360" y="1692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他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079"/>
          <p:cNvSpPr/>
          <p:nvPr/>
        </p:nvSpPr>
        <p:spPr>
          <a:xfrm>
            <a:off x="5006880" y="1544760"/>
            <a:ext cx="307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变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6" descr="plants_001"/>
          <p:cNvPicPr/>
          <p:nvPr/>
        </p:nvPicPr>
        <p:blipFill>
          <a:blip r:embed="rId4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5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6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7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"/>
          <p:cNvPicPr/>
          <p:nvPr/>
        </p:nvPicPr>
        <p:blipFill>
          <a:blip r:embed="rId8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9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ipe dir="u"/>
  </p:transition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0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path" presetID="37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 0 L 0.067 0.04 C 0.081 0.049 0.102 0.054 0.124 0.054 C 0.149 0.054 0.169 0.049 0.183 0.04 L 0.25 0 E">
                                      <p:cBhvr>
                                        <p:cTn id="1168" dur="3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0" dur="14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path" presetID="0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8.61111E-006 -5.18519E-006 C 0.01442 0.00624 0.01962 0.00925 0.03004 0.02314 C 0.04341 0.02198 0.05678 0.02268 0.06997 0.0199 C 0.07744 0.01828 0.08629 0.00208 0.09254 -0.00348 C 0.10087 -0.00232 0.10955 -0.00348 0.11754 -5.18519E-006 C 0.12032 0.00115 0.12067 0.00694 0.12257 0.00995 C 0.12483 0.01365 0.12709 0.01735 0.13004 0.0199 C 0.13525 0.02453 0.14185 0.02615 0.14757 0.02985 C 0.16094 0.0287 0.1757 0.03495 0.18751 0.02661 C 0.19341 0.02245 0.18733 0.00809 0.19011 -5.18519E-006 C 0.19115 -0.00325 0.19514 -0.00232 0.19757 -0.00348 C 0.20834 -0.00232 0.2198 -0.00487 0.23004 -5.18519E-006 C 0.23317 0.00161 0.23056 0.00948 0.23247 0.01319 C 0.23421 0.01666 0.23768 0.01735 0.24011 0.0199 C 0.24289 0.02291 0.24445 0.02754 0.24757 0.02985 C 0.2533 0.03425 0.27969 0.03657 0.28004 0.03657 C 0.28664 0.03425 0.29393 0.03425 0.30001 0.02985 C 0.30226 0.02823 0.30348 0.02314 0.30261 0.0199 C 0.30105 0.01388 0.29584 0.0111 0.29254 0.00647 E">
                                      <p:cBhvr>
                                        <p:cTn id="1176" dur="4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16" presetSubtype="21">
                                  <p:stCondLst>
                                    <p:cond delay="1160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78" dur="22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21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6" presetSubtype="21">
                                  <p:stCondLst>
                                    <p:cond delay="124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2" dur="22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10">
                                  <p:stCondLst>
                                    <p:cond delay="1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4" dur="1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36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26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42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36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3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3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remove" presetClass="path" presetID="5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1198" dur="8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9" nodeType="withEffect" fill="remove" presetClass="path" presetID="6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13334 -0.05108 C 0.11997 0.00115 0.10677 0.07926 0.17726 0.14213 C 0.27848 0.23526 0.3915 0.03813 0.51285 0.1486 C 0.62118 0.2489 0.47084 0.3737 0.57587 0.46914 C 0.68542 0.57014 0.69375 0.3871 0.81042 0.4948 C 0.91493 0.59094 0.81164 0.62422 0.90521 0.70996 C 0.99497 0.79292 0.98247 0.68315 1.06424 0.75826 C 1.11094 0.80171 1.10539 0.82297 1.10243 0.84053 E">
                                      <p:cBhvr>
                                        <p:cTn id="1200" dur="10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1" nodeType="withEffect" fill="remove" presetClass="path" presetID="61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72118 0.28842 C 0.72361 0.25144 0.72865 0.20984 0.72274 0.18673 C 0.7158 0.162 0.70365 0.14352 0.69184 0.12503 C 0.67934 0.10608 0.6632 0.10446 0.64636 0.10169 C 0.63004 0.1003 0.61129 0.10122 0.58872 0.11971 C 0.56788 0.13358 0.54288 0.16478 0.51875 0.20106 C 0.49601 0.2348 0.47274 0.27686 0.45191 0.32054 C 0.43125 0.36468 0.41285 0.40998 0.39809 0.45366 C 0.38177 0.50127 0.37066 0.54703 0.36719 0.58793 C 0.36077 0.62838 0.35955 0.66697 0.36615 0.69124 C 0.37031 0.71943 0.38386 0.73746 0.3967 0.74763 C 0.40816 0.76011 0.42518 0.76797 0.44583 0.7571 C 0.46476 0.74809 0.48854 0.72036 0.51111 0.67737 C 0.53368 0.63439 0.54774 0.58493 0.55174 0.54911 C 0.55399 0.51629 0.54879 0.48833 0.53507 0.47354 C 0.52014 0.46244 0.50417 0.45643 0.4842 0.4666 C 0.46528 0.47747 0.46476 0.47099 0.41788 0.53663 C 0.37396 0.59279 0.3507 0.66536 0.33281 0.7058 C 0.31545 0.74786 0.3066 0.7853 0.29445 0.82967 C 0.28143 0.88098 0.27726 0.92512 0.27587 0.95955 C 0.27431 0.9926 0.28125 1.01317 0.29393 1.04114 C 0.30868 1.06771 0.31754 1.0728 0.33177 1.08366 C 0.34618 1.09383 0.36042 1.10377 0.37413 1.1137 E">
                                      <p:cBhvr>
                                        <p:cTn id="1202" dur="10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3" nodeType="withEffect" fill="remove" presetClass="path" presetID="37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1204" dur="65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5" nodeType="withEffect" fill="hold" presetClass="path" presetID="5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1206" dur="10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7" nodeType="withEffect" fill="remove" presetClass="path" presetID="0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1208" dur="10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1"/>
          <p:cNvSpPr/>
          <p:nvPr/>
        </p:nvSpPr>
        <p:spPr>
          <a:xfrm>
            <a:off x="639360" y="58968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否发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2"/>
          <p:cNvSpPr/>
          <p:nvPr/>
        </p:nvSpPr>
        <p:spPr>
          <a:xfrm>
            <a:off x="4222800" y="14241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他们爱吃煮得烂烂的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3"/>
          <p:cNvSpPr/>
          <p:nvPr/>
        </p:nvSpPr>
        <p:spPr>
          <a:xfrm>
            <a:off x="5369760" y="2135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喜欢吃稀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1876680" y="41832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再有安稳的睡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2981160" y="5037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矫健的步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2981160" y="591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健康的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  <p:sp>
        <p:nvSpPr>
          <p:cNvPr id="397" name="矩形 15"/>
          <p:cNvSpPr/>
          <p:nvPr/>
        </p:nvSpPr>
        <p:spPr>
          <a:xfrm>
            <a:off x="3065400" y="1020600"/>
            <a:ext cx="4753080" cy="1905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7"/>
          <a:srcRect l="0" t="0" r="0" b="48827"/>
          <a:stretch/>
        </p:blipFill>
        <p:spPr>
          <a:xfrm>
            <a:off x="2405160" y="565200"/>
            <a:ext cx="6456240" cy="24796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</p:spTree>
  </p:cSld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0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14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42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2" presetSubtype="8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remove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1240" dur="8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1" nodeType="withEffect" fill="remove" presetClass="path" presetID="6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13334 -0.05108 C 0.11997 0.00115 0.10677 0.07926 0.17726 0.14213 C 0.27848 0.23526 0.3915 0.03813 0.51285 0.1486 C 0.62118 0.2489 0.47084 0.3737 0.57587 0.46914 C 0.68542 0.57014 0.69375 0.3871 0.81042 0.4948 C 0.91493 0.59094 0.81164 0.62422 0.90521 0.70996 C 0.99497 0.79292 0.98247 0.68315 1.06424 0.75826 C 1.11094 0.80171 1.10539 0.82297 1.10243 0.84053 E">
                                      <p:cBhvr>
                                        <p:cTn id="1242" dur="10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3" nodeType="withEffect" fill="remove" presetClass="path" presetID="61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72118 0.28842 C 0.72361 0.25144 0.72865 0.20984 0.72274 0.18673 C 0.7158 0.162 0.70365 0.14352 0.69184 0.12503 C 0.67934 0.10608 0.6632 0.10446 0.64636 0.10169 C 0.63004 0.1003 0.61129 0.10122 0.58872 0.11971 C 0.56788 0.13358 0.54288 0.16478 0.51875 0.20106 C 0.49601 0.2348 0.47274 0.27686 0.45191 0.32054 C 0.43125 0.36468 0.41285 0.40998 0.39809 0.45366 C 0.38177 0.50127 0.37066 0.54703 0.36719 0.58793 C 0.36077 0.62838 0.35955 0.66697 0.36615 0.69124 C 0.37031 0.71943 0.38386 0.73746 0.3967 0.74763 C 0.40816 0.76011 0.42518 0.76797 0.44583 0.7571 C 0.46476 0.74809 0.48854 0.72036 0.51111 0.67737 C 0.53368 0.63439 0.54774 0.58493 0.55174 0.54911 C 0.55399 0.51629 0.54879 0.48833 0.53507 0.47354 C 0.52014 0.46244 0.50417 0.45643 0.4842 0.4666 C 0.46528 0.47747 0.46476 0.47099 0.41788 0.53663 C 0.37396 0.59279 0.3507 0.66536 0.33281 0.7058 C 0.31545 0.74786 0.3066 0.7853 0.29445 0.82967 C 0.28143 0.88098 0.27726 0.92512 0.27587 0.95955 C 0.27431 0.9926 0.28125 1.01317 0.29393 1.04114 C 0.30868 1.06771 0.31754 1.0728 0.33177 1.08366 C 0.34618 1.09383 0.36042 1.10377 0.37413 1.1137 E">
                                      <p:cBhvr>
                                        <p:cTn id="1244" dur="10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5" nodeType="withEffect" fill="remove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1246" dur="65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7" nodeType="withEffect" fill="hold" presetClass="path" presetID="5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1248" dur="10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9" nodeType="withEffect" fill="remove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1250" dur="10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矩形 7"/>
          <p:cNvSpPr/>
          <p:nvPr/>
        </p:nvSpPr>
        <p:spPr>
          <a:xfrm>
            <a:off x="1313280" y="7650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个人都会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但他们比我们要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8"/>
          <p:cNvSpPr/>
          <p:nvPr/>
        </p:nvSpPr>
        <p:spPr>
          <a:xfrm>
            <a:off x="1979640" y="256068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在一个平凡的家庭长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他们还健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9"/>
          <p:cNvSpPr/>
          <p:nvPr/>
        </p:nvSpPr>
        <p:spPr>
          <a:xfrm>
            <a:off x="1367280" y="3314880"/>
            <a:ext cx="16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就“请”我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0"/>
          <p:cNvSpPr/>
          <p:nvPr/>
        </p:nvSpPr>
        <p:spPr>
          <a:xfrm>
            <a:off x="2972880" y="4325760"/>
            <a:ext cx="164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时时挂念他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时时联络他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时时关心他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"/>
          <p:cNvPicPr/>
          <p:nvPr/>
        </p:nvPicPr>
        <p:blipFill>
          <a:blip r:embed="rId7"/>
          <a:srcRect l="3207" t="7330" r="49191" b="36063"/>
          <a:stretch/>
        </p:blipFill>
        <p:spPr>
          <a:xfrm>
            <a:off x="5162400" y="3276720"/>
            <a:ext cx="4013280" cy="35812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0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1.94444E-006 4.84975E-006 L 0.00399 -0.20366 E">
                                      <p:cBhvr>
                                        <p:cTn id="1265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5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5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remove" presetClass="emph" presetID="26" repeatCount="2000">
                                  <p:stCondLst>
                                    <p:cond delay="5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8" dur="50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3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remove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1283" dur="8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4" nodeType="withEffect" fill="remove" presetClass="path" presetID="6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13334 -0.05108 C 0.11997 0.00115 0.10677 0.07926 0.17726 0.14213 C 0.27848 0.23526 0.3915 0.03813 0.51285 0.1486 C 0.62118 0.2489 0.47084 0.3737 0.57587 0.46914 C 0.68542 0.57014 0.69375 0.3871 0.81042 0.4948 C 0.91493 0.59094 0.81164 0.62422 0.90521 0.70996 C 0.99497 0.79292 0.98247 0.68315 1.06424 0.75826 C 1.11094 0.80171 1.10539 0.82297 1.10243 0.84053 E">
                                      <p:cBhvr>
                                        <p:cTn id="1285" dur="925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6" nodeType="withEffect" fill="remove" presetClass="path" presetID="61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72118 0.28842 C 0.72361 0.25144 0.72865 0.20984 0.72274 0.18673 C 0.7158 0.162 0.70365 0.14352 0.69184 0.12503 C 0.67934 0.10608 0.6632 0.10446 0.64636 0.10169 C 0.63004 0.1003 0.61129 0.10122 0.58872 0.11971 C 0.56788 0.13358 0.54288 0.16478 0.51875 0.20106 C 0.49601 0.2348 0.47274 0.27686 0.45191 0.32054 C 0.43125 0.36468 0.41285 0.40998 0.39809 0.45366 C 0.38177 0.50127 0.37066 0.54703 0.36719 0.58793 C 0.36077 0.62838 0.35955 0.66697 0.36615 0.69124 C 0.37031 0.71943 0.38386 0.73746 0.3967 0.74763 C 0.40816 0.76011 0.42518 0.76797 0.44583 0.7571 C 0.46476 0.74809 0.48854 0.72036 0.51111 0.67737 C 0.53368 0.63439 0.54774 0.58493 0.55174 0.54911 C 0.55399 0.51629 0.54879 0.48833 0.53507 0.47354 C 0.52014 0.46244 0.50417 0.45643 0.4842 0.4666 C 0.46528 0.47747 0.46476 0.47099 0.41788 0.53663 C 0.37396 0.59279 0.3507 0.66536 0.33281 0.7058 C 0.31545 0.74786 0.3066 0.7853 0.29445 0.82967 C 0.28143 0.88098 0.27726 0.92512 0.27587 0.95955 C 0.27431 0.9926 0.28125 1.01317 0.29393 1.04114 C 0.30868 1.06771 0.31754 1.0728 0.33177 1.08366 C 0.34618 1.09383 0.36042 1.10377 0.37413 1.1137 E">
                                      <p:cBhvr>
                                        <p:cTn id="1287" dur="875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8" nodeType="withEffect" fill="remove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1289" dur="55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0" nodeType="withEffect" fill="hold" presetClass="path" presetID="5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1291" dur="10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2" nodeType="withEffect" fill="remove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1293" dur="85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1392120" y="47484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他们会感到温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心形 2" descr=""/>
          <p:cNvPicPr/>
          <p:nvPr/>
        </p:nvPicPr>
        <p:blipFill>
          <a:blip r:embed="rId1"/>
          <a:stretch/>
        </p:blipFill>
        <p:spPr>
          <a:xfrm>
            <a:off x="4230720" y="2736720"/>
            <a:ext cx="1407960" cy="2670480"/>
          </a:xfrm>
          <a:prstGeom prst="rect">
            <a:avLst/>
          </a:prstGeom>
          <a:ln w="0">
            <a:noFill/>
          </a:ln>
        </p:spPr>
      </p:pic>
      <p:pic>
        <p:nvPicPr>
          <p:cNvPr id="412" name="心形 3" descr=""/>
          <p:cNvPicPr/>
          <p:nvPr/>
        </p:nvPicPr>
        <p:blipFill>
          <a:blip r:embed="rId2"/>
          <a:stretch/>
        </p:blipFill>
        <p:spPr>
          <a:xfrm>
            <a:off x="1316160" y="4541760"/>
            <a:ext cx="1396800" cy="2657520"/>
          </a:xfrm>
          <a:prstGeom prst="rect">
            <a:avLst/>
          </a:prstGeom>
          <a:ln w="0">
            <a:noFill/>
          </a:ln>
        </p:spPr>
      </p:pic>
      <p:pic>
        <p:nvPicPr>
          <p:cNvPr id="413" name="心形 4" descr=""/>
          <p:cNvPicPr/>
          <p:nvPr/>
        </p:nvPicPr>
        <p:blipFill>
          <a:blip r:embed="rId3"/>
          <a:stretch/>
        </p:blipFill>
        <p:spPr>
          <a:xfrm>
            <a:off x="1371600" y="1560600"/>
            <a:ext cx="1395360" cy="2657520"/>
          </a:xfrm>
          <a:prstGeom prst="rect">
            <a:avLst/>
          </a:prstGeom>
          <a:ln w="0">
            <a:noFill/>
          </a:ln>
        </p:spPr>
      </p:pic>
      <p:pic>
        <p:nvPicPr>
          <p:cNvPr id="414" name="心形 5" descr=""/>
          <p:cNvPicPr/>
          <p:nvPr/>
        </p:nvPicPr>
        <p:blipFill>
          <a:blip r:embed="rId4"/>
          <a:stretch/>
        </p:blipFill>
        <p:spPr>
          <a:xfrm>
            <a:off x="6516720" y="1414440"/>
            <a:ext cx="1414440" cy="2597040"/>
          </a:xfrm>
          <a:prstGeom prst="rect">
            <a:avLst/>
          </a:prstGeom>
          <a:ln w="0">
            <a:noFill/>
          </a:ln>
        </p:spPr>
      </p:pic>
      <p:pic>
        <p:nvPicPr>
          <p:cNvPr id="415" name="心形 6" descr=""/>
          <p:cNvPicPr/>
          <p:nvPr/>
        </p:nvPicPr>
        <p:blipFill>
          <a:blip r:embed="rId5"/>
          <a:stretch/>
        </p:blipFill>
        <p:spPr>
          <a:xfrm>
            <a:off x="6656400" y="4273560"/>
            <a:ext cx="1401840" cy="25351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Users\V I E\Desktop\111\心.jpg"/>
          <p:cNvPicPr/>
          <p:nvPr/>
        </p:nvPicPr>
        <p:blipFill>
          <a:blip r:embed="rId6"/>
          <a:stretch/>
        </p:blipFill>
        <p:spPr>
          <a:xfrm>
            <a:off x="-349200" y="-1012680"/>
            <a:ext cx="949320" cy="846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7"/>
          <a:stretch/>
        </p:blipFill>
        <p:spPr>
          <a:xfrm>
            <a:off x="6081840" y="-1185840"/>
            <a:ext cx="950760" cy="8413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Users\V I E\Desktop\111\心.jpg"/>
          <p:cNvPicPr/>
          <p:nvPr/>
        </p:nvPicPr>
        <p:blipFill>
          <a:blip r:embed="rId8"/>
          <a:stretch/>
        </p:blipFill>
        <p:spPr>
          <a:xfrm>
            <a:off x="1960560" y="-833400"/>
            <a:ext cx="949320" cy="846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9"/>
          <a:stretch/>
        </p:blipFill>
        <p:spPr>
          <a:xfrm>
            <a:off x="7238880" y="-1003320"/>
            <a:ext cx="1005120" cy="841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299" dur="2000" fill="hold"/>
                                        <p:tgtEl>
                                          <p:spTgt spid="4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301" dur="2000" fill="hold"/>
                                        <p:tgtEl>
                                          <p:spTgt spid="4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2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303" dur="2000" fill="hold"/>
                                        <p:tgtEl>
                                          <p:spTgt spid="4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4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305" dur="2000" fill="hold"/>
                                        <p:tgtEl>
                                          <p:spTgt spid="4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6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307" dur="2000" fill="hold"/>
                                        <p:tgtEl>
                                          <p:spTgt spid="4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6.93783E-006 C -0.00226 0.00093 -0.00642 -0.00022 -0.00694 0.00301 C -0.00833 0.0111 -0.00573 0.01965 -0.00469 0.02774 C -0.00434 0.03098 -0.00399 0.03444 -0.00243 0.03698 C 0.01163 0.06125 0.03507 0.08829 0.05573 0.10216 C 0.06337 0.11718 0.06458 0.11025 0.07431 0.12064 C 0.08594 0.13336 0.07621 0.12758 0.08837 0.13312 C 0.09826 0.15277 0.08698 0.13451 0.1 0.14537 C 0.10365 0.14838 0.11302 0.16086 0.11858 0.16386 C 0.12378 0.1671 0.12951 0.16779 0.1349 0.1701 C 0.14167 0.18374 0.14514 0.18073 0.15573 0.18882 C 0.17205 0.2013 0.18663 0.2117 0.20469 0.21979 C 0.22448 0.22857 0.2526 0.25399 0.26979 0.26925 C 0.27257 0.27156 0.27413 0.27595 0.27674 0.27849 C 0.27951 0.28126 0.28316 0.28196 0.28594 0.28473 C 0.30799 0.30553 0.27726 0.28334 0.30226 0.30022 C 0.30382 0.30437 0.30451 0.30923 0.30694 0.31246 C 0.30868 0.31477 0.31163 0.31431 0.31389 0.3157 C 0.31632 0.31732 0.31858 0.31986 0.32083 0.32194 C 0.3224 0.32494 0.32448 0.32772 0.32552 0.33118 C 0.32674 0.33511 0.32639 0.33973 0.32795 0.34343 C 0.32969 0.34736 0.33264 0.34967 0.3349 0.35291 C 0.33976 0.37255 0.33333 0.35129 0.3441 0.3714 C 0.34774 0.3781 0.35 0.38619 0.35347 0.39312 C 0.35417 0.39612 0.35469 0.39936 0.35573 0.40236 C 0.35694 0.4056 0.35937 0.40814 0.36042 0.41161 C 0.36944 0.43957 0.35556 0.41022 0.36736 0.43333 C 0.37014 0.45783 0.37118 0.48302 0.37431 0.50752 C 0.37569 0.51838 0.38108 0.52809 0.38368 0.53849 C 0.38819 0.58864 0.38958 0.64942 0.36736 0.69333 C 0.36094 0.71875 0.35538 0.74371 0.34653 0.76774 C 0.34184 0.78022 0.34167 0.77491 0.3349 0.78623 C 0.31024 0.82806 0.33698 0.79039 0.31858 0.81096 C 0.31615 0.81373 0.31371 0.81697 0.31163 0.82021 C 0.3099 0.82298 0.30903 0.82691 0.30694 0.82945 C 0.29618 0.84216 0.28524 0.84701 0.27431 0.85741 C 0.2717 0.85996 0.27014 0.86412 0.26736 0.86666 C 0.26146 0.87197 0.25295 0.87475 0.24653 0.87914 C 0.23368 0.88769 0.22465 0.90132 0.21163 0.91011 C 0.19896 0.93507 0.21684 0.90433 0.19757 0.92236 C 0.18663 0.93252 0.17292 0.9554 0.16267 0.96881 C 0.1526 0.98221 0.14253 0.99562 0.13246 1.00902 C 0.11962 1.02612 0.12691 1.0245 0.11858 1.03999 C 0.11667 1.04369 0.11354 1.04577 0.11163 1.04946 C 0.10799 1.05617 0.10573 1.06402 0.10226 1.07096 C 0.09705 1.09222 0.10434 1.06726 0.09306 1.08968 C 0.09167 1.09245 0.09184 1.09615 0.09062 1.09892 C 0.08333 1.11625 0.08316 1.1151 0.07431 1.12665 C 0.07274 1.13081 0.07187 1.13544 0.06979 1.13913 C 0.06719 1.14376 0.06285 1.14653 0.06042 1.15161 C 0.05868 1.15508 0.0592 1.15993 0.05816 1.16386 C 0.05694 1.16825 0.05347 1.17634 0.05347 1.17634 L 0.0349 1.17634 E">
                                      <p:cBhvr>
                                        <p:cTn id="1309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0.05162 C -0.00086 0.0493 -0.00312 0.04467 -0.00625 0.04467 C -0.01007 0.04467 -0.01302 0.05 -0.01666 0.05162 C -0.021 0.05347 -0.02552 0.05393 -0.02986 0.05509 C -0.03507 0.05972 -0.04045 0.06458 -0.04566 0.06921 C -0.05642 0.07893 -0.07083 0.07893 -0.08246 0.0868 C -0.08698 0.08981 -0.09114 0.09398 -0.09566 0.09722 C -0.09913 0.09976 -0.10277 0.10185 -0.10625 0.10416 C -0.11632 0.11805 -0.12777 0.12384 -0.14045 0.1324 C -0.15989 0.14537 -0.13698 0.13449 -0.15625 0.14282 C -0.17257 0.15717 -0.18941 0.17152 -0.20625 0.18495 C -0.21475 0.20208 -0.20711 0.19074 -0.22204 0.20254 C -0.22743 0.20648 -0.23784 0.2162 -0.23784 0.21643 C -0.24461 0.23032 -0.24548 0.23888 -0.25625 0.24814 C -0.25798 0.25254 -0.2592 0.2581 -0.26145 0.26203 C -0.26354 0.26597 -0.2677 0.26828 -0.26944 0.27268 C -0.27222 0.27893 -0.27152 0.2875 -0.27465 0.29375 C -0.27638 0.29722 -0.27812 0.30046 -0.27986 0.30393 C -0.28628 0.32916 -0.28211 0.31898 -0.29045 0.33588 C -0.29461 0.36458 -0.29895 0.39051 -0.30104 0.42013 C -0.29878 0.46713 -0.30364 0.56342 -0.26406 0.59907 C -0.26232 0.60601 -0.26059 0.61296 -0.25885 0.6199 C -0.25573 0.63263 -0.24045 0.65138 -0.24045 0.65162 C -0.23437 0.67638 -0.24305 0.64814 -0.22986 0.66921 C -0.22743 0.67291 -0.22691 0.67893 -0.22465 0.6831 C -0.2217 0.68796 -0.21736 0.69189 -0.21406 0.69699 C -0.19218 0.73078 -0.21944 0.69421 -0.19826 0.72176 C -0.18281 0.76342 -0.20329 0.71365 -0.18524 0.74282 C -0.18263 0.74676 -0.18229 0.75277 -0.17986 0.75648 C -0.17986 0.75671 -0.15659 0.78773 -0.15364 0.79189 C -0.14045 0.80926 -0.15034 0.78726 -0.13784 0.80926 C -0.1302 0.82291 -0.12378 0.84027 -0.11406 0.85115 C -0.11024 0.85578 -0.10503 0.85787 -0.10104 0.86203 C -0.08576 0.87754 -0.10052 0.86944 -0.08524 0.87615 C -0.08003 0.88287 -0.07361 0.88842 -0.06944 0.89699 C -0.0677 0.90046 -0.06649 0.90486 -0.06406 0.90763 C -0.06198 0.90995 -0.05885 0.90995 -0.05625 0.91111 C -0.02899 0.94745 0.00243 0.98217 0.02535 1.02361 C 0.03334 1.05578 0.02014 1.00833 0.03594 1.04467 C 0.03768 1.04884 0.0375 1.05393 0.03855 1.05833 C 0.04219 1.07476 0.0448 1.09398 0.05174 1.10787 C 0.05452 1.13426 0.05313 1.15208 0.06754 1.17083 C 0.07813 1.21388 0.07796 1.21041 0.07796 1.26203 E">
                                      <p:cBhvr>
                                        <p:cTn id="1311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2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1.38889E-006 6.93783E-006 C -0.00226 0.00093 -0.00642 -0.00022 -0.00694 0.00301 C -0.00833 0.0111 -0.00573 0.01965 -0.00469 0.02774 C -0.00434 0.03098 -0.00399 0.03444 -0.00243 0.03698 C 0.01163 0.06125 0.03507 0.08829 0.05573 0.10216 C 0.06337 0.11718 0.06458 0.11025 0.07431 0.12064 C 0.08594 0.13336 0.07621 0.12758 0.08837 0.13312 C 0.09826 0.15277 0.08698 0.13451 0.1 0.14537 C 0.10365 0.14838 0.11302 0.16086 0.11858 0.16386 C 0.12378 0.1671 0.12951 0.16779 0.1349 0.1701 C 0.14167 0.18374 0.14514 0.18073 0.15573 0.18882 C 0.17205 0.2013 0.18663 0.2117 0.20469 0.21979 C 0.22448 0.22857 0.2526 0.25399 0.26979 0.26925 C 0.27257 0.27156 0.27413 0.27595 0.27674 0.27849 C 0.27951 0.28126 0.28316 0.28196 0.28594 0.28473 C 0.30799 0.30553 0.27726 0.28334 0.30226 0.30022 C 0.30382 0.30437 0.30451 0.30923 0.30694 0.31246 C 0.30868 0.31477 0.31163 0.31431 0.31389 0.3157 C 0.31632 0.31732 0.31858 0.31986 0.32083 0.32194 C 0.3224 0.32494 0.32448 0.32772 0.32552 0.33118 C 0.32674 0.33511 0.32639 0.33973 0.32795 0.34343 C 0.32969 0.34736 0.33264 0.34967 0.3349 0.35291 C 0.33976 0.37255 0.33333 0.35129 0.3441 0.3714 C 0.34774 0.3781 0.35 0.38619 0.35347 0.39312 C 0.35417 0.39612 0.35469 0.39936 0.35573 0.40236 C 0.35694 0.4056 0.35937 0.40814 0.36042 0.41161 C 0.36944 0.43957 0.35556 0.41022 0.36736 0.43333 C 0.37014 0.45783 0.37118 0.48302 0.37431 0.50752 C 0.37569 0.51838 0.38108 0.52809 0.38368 0.53849 C 0.38819 0.58864 0.38958 0.64942 0.36736 0.69333 C 0.36094 0.71875 0.35538 0.74371 0.34653 0.76774 C 0.34184 0.78022 0.34167 0.77491 0.3349 0.78623 C 0.31024 0.82806 0.33698 0.79039 0.31858 0.81096 C 0.31615 0.81373 0.31371 0.81697 0.31163 0.82021 C 0.3099 0.82298 0.30903 0.82691 0.30694 0.82945 C 0.29618 0.84216 0.28524 0.84701 0.27431 0.85741 C 0.2717 0.85996 0.27014 0.86412 0.26736 0.86666 C 0.26146 0.87197 0.25295 0.87475 0.24653 0.87914 C 0.23368 0.88769 0.22465 0.90132 0.21163 0.91011 C 0.19896 0.93507 0.21684 0.90433 0.19757 0.92236 C 0.18663 0.93252 0.17292 0.9554 0.16267 0.96881 C 0.1526 0.98221 0.14253 0.99562 0.13246 1.00902 C 0.11962 1.02612 0.12691 1.0245 0.11858 1.03999 C 0.11667 1.04369 0.11354 1.04577 0.11163 1.04946 C 0.10799 1.05617 0.10573 1.06402 0.10226 1.07096 C 0.09705 1.09222 0.10434 1.06726 0.09306 1.08968 C 0.09167 1.09245 0.09184 1.09615 0.09062 1.09892 C 0.08333 1.11625 0.08316 1.1151 0.07431 1.12665 C 0.07274 1.13081 0.07187 1.13544 0.06979 1.13913 C 0.06719 1.14376 0.06285 1.14653 0.06042 1.15161 C 0.05868 1.15508 0.0592 1.15993 0.05816 1.16386 C 0.05694 1.16825 0.05347 1.17634 0.05347 1.17634 L 0.0349 1.17634 E">
                                      <p:cBhvr>
                                        <p:cTn id="1313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3.7037E-007 C -0.0026 -0.00232 -0.00486 -0.00695 -0.00799 -0.00695 C -0.01181 -0.00695 -0.01476 -0.00162 -0.0184 -3.7037E-007 C -0.02274 0.00185 -0.02726 0.00231 -0.0316 0.00347 C -0.03681 0.0081 -0.04219 0.01296 -0.0474 0.01759 C -0.05816 0.02731 -0.07257 0.02731 -0.0842 0.03518 C -0.08871 0.03819 -0.09288 0.04236 -0.0974 0.0456 C -0.10087 0.04815 -0.10451 0.05023 -0.10799 0.05254 C -0.11806 0.06643 -0.12951 0.07222 -0.14219 0.08079 C -0.16163 0.09375 -0.13871 0.08287 -0.15799 0.0912 C -0.17431 0.10579 -0.19115 0.11991 -0.20799 0.13333 C -0.21649 0.15046 -0.20885 0.13912 -0.22378 0.15092 C -0.22917 0.15509 -0.23958 0.16458 -0.23958 0.16458 C -0.24635 0.1787 -0.24722 0.18727 -0.25799 0.19653 C -0.25972 0.20092 -0.26094 0.20648 -0.26319 0.21065 C -0.26528 0.21458 -0.26944 0.21667 -0.27118 0.22106 C -0.27396 0.22731 -0.27326 0.23588 -0.27639 0.24213 C -0.27812 0.2456 -0.27986 0.24884 -0.2816 0.25231 C -0.28802 0.27754 -0.28385 0.26736 -0.29219 0.28426 C -0.29635 0.31296 -0.30069 0.33889 -0.30278 0.36852 C -0.30052 0.41551 -0.30538 0.5118 -0.2658 0.54745 C -0.26406 0.5544 -0.26233 0.56134 -0.26059 0.56829 C -0.25746 0.58102 -0.24219 0.59977 -0.24219 0.59977 C -0.23611 0.625 -0.24479 0.59653 -0.2316 0.61759 C -0.22917 0.62129 -0.22865 0.62731 -0.22639 0.63148 C -0.22344 0.63657 -0.2191 0.64028 -0.2158 0.64537 C -0.19392 0.67917 -0.22118 0.64259 -0.2 0.67014 C -0.18455 0.7118 -0.20503 0.66227 -0.18698 0.6912 C -0.18437 0.69514 -0.18403 0.70116 -0.1816 0.70509 C -0.1816 0.70509 -0.15833 0.73611 -0.15538 0.74028 C -0.14219 0.75787 -0.15208 0.73565 -0.13958 0.75787 C -0.13194 0.77129 -0.12552 0.78866 -0.1158 0.79977 C -0.11198 0.80417 -0.10677 0.80625 -0.10278 0.81065 C -0.0875 0.82592 -0.10226 0.81782 -0.08698 0.82454 C -0.08177 0.83148 -0.07535 0.83704 -0.07118 0.84537 C -0.06944 0.84884 -0.06823 0.85347 -0.0658 0.85602 C -0.06371 0.85856 -0.06059 0.85856 -0.05799 0.85949 C -0.03073 0.89606 0.00069 0.93055 0.02361 0.97199 C 0.0316 1.00417 0.0184 0.95671 0.0342 0.99305 C 0.03594 0.99722 0.03576 1.00231 0.03681 1.00671 C 0.04045 1.02315 0.04306 1.04236 0.05 1.05625 C 0.05278 1.08264 0.05139 1.10046 0.0658 1.11921 C 0.07639 1.16227 0.07622 1.15879 0.07622 1.21042 E">
                                      <p:cBhvr>
                                        <p:cTn id="1315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矩形 3" descr=""/>
          <p:cNvPicPr/>
          <p:nvPr/>
        </p:nvPicPr>
        <p:blipFill>
          <a:blip r:embed="rId1"/>
          <a:stretch/>
        </p:blipFill>
        <p:spPr>
          <a:xfrm>
            <a:off x="291960" y="884160"/>
            <a:ext cx="4299120" cy="1657440"/>
          </a:xfrm>
          <a:prstGeom prst="rect">
            <a:avLst/>
          </a:prstGeom>
          <a:ln w="0">
            <a:noFill/>
          </a:ln>
        </p:spPr>
      </p:pic>
      <p:sp>
        <p:nvSpPr>
          <p:cNvPr id="421" name="TextBox 4"/>
          <p:cNvSpPr/>
          <p:nvPr/>
        </p:nvSpPr>
        <p:spPr>
          <a:xfrm>
            <a:off x="3483720" y="2535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一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"/>
          <p:cNvSpPr/>
          <p:nvPr/>
        </p:nvSpPr>
        <p:spPr>
          <a:xfrm>
            <a:off x="1210680" y="3789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他们站也站不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2"/>
          <a:srcRect l="45461" t="5147" r="4195" b="23173"/>
          <a:stretch/>
        </p:blipFill>
        <p:spPr>
          <a:xfrm>
            <a:off x="4545000" y="-157320"/>
            <a:ext cx="4599000" cy="5778720"/>
          </a:xfrm>
          <a:prstGeom prst="rect">
            <a:avLst/>
          </a:prstGeom>
          <a:ln w="0">
            <a:noFill/>
          </a:ln>
        </p:spPr>
      </p:pic>
      <p:sp>
        <p:nvSpPr>
          <p:cNvPr id="424" name="椭圆 7"/>
          <p:cNvSpPr/>
          <p:nvPr/>
        </p:nvSpPr>
        <p:spPr>
          <a:xfrm>
            <a:off x="4243320" y="4816440"/>
            <a:ext cx="1305000" cy="104472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6"/>
          <p:cNvSpPr/>
          <p:nvPr/>
        </p:nvSpPr>
        <p:spPr>
          <a:xfrm>
            <a:off x="1745640" y="5275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走也走不动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6" descr="plants_001"/>
          <p:cNvPicPr/>
          <p:nvPr/>
        </p:nvPicPr>
        <p:blipFill>
          <a:blip r:embed="rId3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"/>
          <p:cNvPicPr/>
          <p:nvPr/>
        </p:nvPicPr>
        <p:blipFill>
          <a:blip r:embed="rId4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5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"/>
          <p:cNvPicPr/>
          <p:nvPr/>
        </p:nvPicPr>
        <p:blipFill>
          <a:blip r:embed="rId6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"/>
          <p:cNvPicPr/>
          <p:nvPr/>
        </p:nvPicPr>
        <p:blipFill>
          <a:blip r:embed="rId7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"/>
          <p:cNvPicPr/>
          <p:nvPr/>
        </p:nvPicPr>
        <p:blipFill>
          <a:blip r:embed="rId8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0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remove" presetClass="emph" presetID="26" repeatCount="3000">
                                  <p:stCondLst>
                                    <p:cond delay="6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2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5" dur="1000" autoRev="1" fill="hold"/>
                                        <p:tgtEl>
                                          <p:spTgt spid="4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6" presetSubtype="2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1" dur="21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16" presetSubtype="2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4" dur="24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6" presetSubtype="16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7" dur="4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remove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1339" dur="675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0" nodeType="withEffect" fill="remove" presetClass="path" presetID="6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13334 -0.05108 C 0.11997 0.00115 0.10677 0.07926 0.17726 0.14213 C 0.27848 0.23526 0.3915 0.03813 0.51285 0.1486 C 0.62118 0.2489 0.47084 0.3737 0.57587 0.46914 C 0.68542 0.57014 0.69375 0.3871 0.81042 0.4948 C 0.91493 0.59094 0.81164 0.62422 0.90521 0.70996 C 0.99497 0.79292 0.98247 0.68315 1.06424 0.75826 C 1.11094 0.80171 1.10539 0.82297 1.10243 0.84053 E">
                                      <p:cBhvr>
                                        <p:cTn id="1341" dur="625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2" nodeType="withEffect" fill="remove" presetClass="path" presetID="61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.72118 0.28842 C 0.72361 0.25144 0.72865 0.20984 0.72274 0.18673 C 0.7158 0.162 0.70365 0.14352 0.69184 0.12503 C 0.67934 0.10608 0.6632 0.10446 0.64636 0.10169 C 0.63004 0.1003 0.61129 0.10122 0.58872 0.11971 C 0.56788 0.13358 0.54288 0.16478 0.51875 0.20106 C 0.49601 0.2348 0.47274 0.27686 0.45191 0.32054 C 0.43125 0.36468 0.41285 0.40998 0.39809 0.45366 C 0.38177 0.50127 0.37066 0.54703 0.36719 0.58793 C 0.36077 0.62838 0.35955 0.66697 0.36615 0.69124 C 0.37031 0.71943 0.38386 0.73746 0.3967 0.74763 C 0.40816 0.76011 0.42518 0.76797 0.44583 0.7571 C 0.46476 0.74809 0.48854 0.72036 0.51111 0.67737 C 0.53368 0.63439 0.54774 0.58493 0.55174 0.54911 C 0.55399 0.51629 0.54879 0.48833 0.53507 0.47354 C 0.52014 0.46244 0.50417 0.45643 0.4842 0.4666 C 0.46528 0.47747 0.46476 0.47099 0.41788 0.53663 C 0.37396 0.59279 0.3507 0.66536 0.33281 0.7058 C 0.31545 0.74786 0.3066 0.7853 0.29445 0.82967 C 0.28143 0.88098 0.27726 0.92512 0.27587 0.95955 C 0.27431 0.9926 0.28125 1.01317 0.29393 1.04114 C 0.30868 1.06771 0.31754 1.0728 0.33177 1.08366 C 0.34618 1.09383 0.36042 1.10377 0.37413 1.1137 E">
                                      <p:cBhvr>
                                        <p:cTn id="1343" dur="51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4" nodeType="withEffect" fill="remove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1345" dur="625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6" nodeType="withEffect" fill="hold" presetClass="path" presetID="5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1347" dur="6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8" nodeType="withEffect" fill="remove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1349" dur="51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H:\感动20~1.JPG"/>
          <p:cNvPicPr/>
          <p:nvPr/>
        </p:nvPicPr>
        <p:blipFill>
          <a:blip r:embed="rId1"/>
          <a:srcRect l="3069" t="2459" r="42195" b="8406"/>
          <a:stretch/>
        </p:blipFill>
        <p:spPr>
          <a:xfrm>
            <a:off x="30240" y="1338120"/>
            <a:ext cx="5759280" cy="5519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H:\感动22~1.JPG"/>
          <p:cNvPicPr/>
          <p:nvPr/>
        </p:nvPicPr>
        <p:blipFill>
          <a:blip r:embed="rId2"/>
          <a:srcRect l="4195" t="2651" r="10023" b="28039"/>
          <a:stretch/>
        </p:blipFill>
        <p:spPr>
          <a:xfrm>
            <a:off x="71280" y="1592280"/>
            <a:ext cx="6640560" cy="5013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" descr="C:\Users\V I E\Desktop\111\心.jpg"/>
          <p:cNvPicPr/>
          <p:nvPr/>
        </p:nvPicPr>
        <p:blipFill>
          <a:blip r:embed="rId3"/>
          <a:stretch/>
        </p:blipFill>
        <p:spPr>
          <a:xfrm>
            <a:off x="-349200" y="-1012680"/>
            <a:ext cx="949320" cy="846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"/>
          <p:cNvPicPr/>
          <p:nvPr/>
        </p:nvPicPr>
        <p:blipFill>
          <a:blip r:embed="rId4"/>
          <a:stretch/>
        </p:blipFill>
        <p:spPr>
          <a:xfrm>
            <a:off x="6081840" y="-1185840"/>
            <a:ext cx="950760" cy="8413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Users\V I E\Desktop\111\心.jpg"/>
          <p:cNvPicPr/>
          <p:nvPr/>
        </p:nvPicPr>
        <p:blipFill>
          <a:blip r:embed="rId5"/>
          <a:stretch/>
        </p:blipFill>
        <p:spPr>
          <a:xfrm>
            <a:off x="1960560" y="-833400"/>
            <a:ext cx="949320" cy="846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"/>
          <p:cNvPicPr/>
          <p:nvPr/>
        </p:nvPicPr>
        <p:blipFill>
          <a:blip r:embed="rId6"/>
          <a:stretch/>
        </p:blipFill>
        <p:spPr>
          <a:xfrm>
            <a:off x="7238880" y="-1003320"/>
            <a:ext cx="1005120" cy="841320"/>
          </a:xfrm>
          <a:prstGeom prst="rect">
            <a:avLst/>
          </a:prstGeom>
          <a:ln w="0">
            <a:noFill/>
          </a:ln>
        </p:spPr>
      </p:pic>
      <p:sp>
        <p:nvSpPr>
          <p:cNvPr id="438" name="TextBox 5"/>
          <p:cNvSpPr/>
          <p:nvPr/>
        </p:nvSpPr>
        <p:spPr>
          <a:xfrm>
            <a:off x="2012760" y="404640"/>
            <a:ext cx="51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牢牢地握着她（他）的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7"/>
          <a:stretch/>
        </p:blipFill>
        <p:spPr>
          <a:xfrm>
            <a:off x="8228160" y="-1041480"/>
            <a:ext cx="950760" cy="841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C:\Users\V I E\Desktop\111\心.jpg"/>
          <p:cNvPicPr/>
          <p:nvPr/>
        </p:nvPicPr>
        <p:blipFill>
          <a:blip r:embed="rId8"/>
          <a:stretch/>
        </p:blipFill>
        <p:spPr>
          <a:xfrm>
            <a:off x="3622680" y="-1035000"/>
            <a:ext cx="949320" cy="844560"/>
          </a:xfrm>
          <a:prstGeom prst="rect">
            <a:avLst/>
          </a:prstGeom>
          <a:ln w="0">
            <a:noFill/>
          </a:ln>
        </p:spPr>
      </p:pic>
      <p:sp>
        <p:nvSpPr>
          <p:cNvPr id="441" name="TextBox 8"/>
          <p:cNvSpPr/>
          <p:nvPr/>
        </p:nvSpPr>
        <p:spPr>
          <a:xfrm>
            <a:off x="6995160" y="1975320"/>
            <a:ext cx="109476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慢慢的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9"/>
          <p:cNvSpPr/>
          <p:nvPr/>
        </p:nvSpPr>
        <p:spPr>
          <a:xfrm>
            <a:off x="6964920" y="3013200"/>
            <a:ext cx="109476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就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/>
  </p:transition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withEffect" fill="remove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037E-007 C -0.00243 0.00093 -0.00712 -0.00023 -0.00747 0.00301 C -0.00886 0.01111 -0.00625 0.01968 -0.00504 0.02778 C -0.00469 0.03102 -0.00452 0.03449 -0.00261 0.03704 C 0.01267 0.06134 0.03802 0.08819 0.06041 0.10208 C 0.06875 0.11713 0.06996 0.11019 0.08055 0.12037 C 0.09305 0.13333 0.08264 0.12755 0.09566 0.1331 C 0.10659 0.15278 0.09427 0.13449 0.10833 0.14514 C 0.1125 0.14838 0.12274 0.16088 0.12864 0.16389 C 0.13437 0.16713 0.14027 0.16782 0.14635 0.16991 C 0.15347 0.1838 0.15729 0.18056 0.16875 0.18889 C 0.18663 0.20093 0.2026 0.21134 0.22204 0.21944 C 0.24357 0.22824 0.27395 0.25394 0.29253 0.26921 C 0.29548 0.2713 0.29739 0.27569 0.3 0.27847 C 0.30295 0.28125 0.30711 0.28194 0.31024 0.28472 C 0.3342 0.30532 0.30069 0.28333 0.32777 0.30023 C 0.32934 0.3044 0.3302 0.30926 0.33298 0.3125 C 0.33472 0.31482 0.33802 0.31412 0.34045 0.31551 C 0.34305 0.31713 0.34548 0.31968 0.34791 0.32199 C 0.34965 0.325 0.35173 0.32755 0.35295 0.33125 C 0.35451 0.33519 0.35382 0.33958 0.35573 0.34306 C 0.35746 0.34722 0.36076 0.34977 0.36319 0.35278 C 0.36857 0.37222 0.36163 0.35116 0.37326 0.37107 C 0.37725 0.37801 0.37951 0.38611 0.3835 0.39306 C 0.38402 0.39583 0.38472 0.39907 0.38593 0.40208 C 0.38698 0.40532 0.38975 0.4081 0.39097 0.41157 C 0.40052 0.43935 0.38559 0.40995 0.39843 0.4331 C 0.40139 0.45741 0.4026 0.48287 0.4059 0.50741 C 0.40746 0.51829 0.41336 0.52801 0.41614 0.53843 C 0.42083 0.58866 0.42274 0.64907 0.39843 0.69329 C 0.39149 0.71875 0.38524 0.74375 0.37569 0.76782 C 0.37066 0.78009 0.37066 0.775 0.36319 0.78634 C 0.33645 0.82801 0.36545 0.79028 0.34548 0.81042 C 0.34288 0.81343 0.3401 0.8169 0.33802 0.82014 C 0.33628 0.82292 0.33507 0.82685 0.33298 0.8294 C 0.32118 0.8419 0.30937 0.84676 0.29739 0.85741 C 0.29461 0.85972 0.29288 0.86412 0.28993 0.86644 C 0.2835 0.87176 0.2743 0.87454 0.26736 0.87894 C 0.25329 0.88727 0.24357 0.90139 0.22951 0.90995 C 0.21562 0.93519 0.23507 0.90394 0.21423 0.92222 C 0.2026 0.93194 0.1875 0.95509 0.17656 0.96875 C 0.16545 0.98194 0.15468 0.9956 0.14357 1.0088 C 0.12986 1.02616 0.13767 1.02454 0.12864 1.04005 C 0.12656 1.04375 0.12291 1.04583 0.12118 1.04931 C 0.11701 1.05625 0.11458 1.06412 0.11093 1.07083 C 0.10538 1.09213 0.11302 1.06736 0.10086 1.08958 C 0.0993 1.09236 0.09965 1.09607 0.09809 1.09884 C 0.09027 1.11597 0.0901 1.11505 0.08055 1.12639 C 0.07899 1.13079 0.07777 1.13542 0.07569 1.13889 C 0.07274 1.14352 0.06823 1.14653 0.06545 1.15162 C 0.06371 1.15509 0.06406 1.15972 0.06319 1.16366 C 0.06163 1.16829 0.05798 1.17616 0.05798 1.17662 L 0.03767 1.17616 E">
                                      <p:cBhvr>
                                        <p:cTn id="1355" dur="5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6" nodeType="withEffect" fill="remove" presetClass="path" presetID="0" repeatCount="200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321 0.04097 C -0.32378 0.03865 -0.32604 0.03402 -0.32899 0.03402 C -0.33281 0.03402 -0.33593 0.03935 -0.33958 0.04097 C -0.34392 0.04282 -0.34826 0.04328 -0.35277 0.04444 C -0.35798 0.04907 -0.36319 0.05393 -0.36857 0.05856 C -0.37934 0.06828 -0.39392 0.06828 -0.40555 0.07615 C -0.40989 0.07916 -0.41406 0.08333 -0.41875 0.08657 C -0.42204 0.08912 -0.42569 0.0912 -0.42916 0.09351 C -0.43923 0.1074 -0.45069 0.11319 -0.46354 0.12176 C -0.48281 0.13472 -0.45989 0.12384 -0.47916 0.13217 C -0.49548 0.14652 -0.51232 0.16088 -0.52916 0.1743 C -0.53767 0.19143 -0.5302 0.18009 -0.54513 0.19189 C -0.55052 0.19583 -0.56093 0.20555 -0.56093 0.20578 C -0.56788 0.21967 -0.56875 0.22824 -0.57951 0.2375 C -0.58107 0.24189 -0.58211 0.24745 -0.58472 0.25138 C -0.58663 0.25532 -0.59079 0.25763 -0.5927 0.26203 C -0.59548 0.26828 -0.59461 0.27685 -0.59774 0.2831 C -0.59965 0.28657 -0.60121 0.28981 -0.60295 0.29328 C -0.60954 0.31851 -0.60503 0.30833 -0.61371 0.32523 C -0.61788 0.35393 -0.62222 0.37986 -0.62413 0.40949 C -0.62187 0.45648 -0.62656 0.55277 -0.58715 0.58842 C -0.58559 0.59537 -0.5835 0.60231 -0.58194 0.60926 C -0.57882 0.62199 -0.56336 0.64074 -0.56336 0.64097 C -0.55729 0.66574 -0.56614 0.6375 -0.55295 0.65856 C -0.55052 0.66226 -0.54982 0.66828 -0.54774 0.67245 C -0.54461 0.67662 -0.54045 0.68125 -0.53715 0.68634 C -0.5151 0.72013 -0.54236 0.68356 -0.52118 0.71111 C -0.50573 0.75277 -0.52638 0.70277 -0.50816 0.73217 C -0.50573 0.73611 -0.50538 0.74213 -0.50295 0.74513 C -0.50295 0.74537 -0.47951 0.77708 -0.47673 0.78125 C -0.46354 0.79814 -0.47343 0.77662 -0.46076 0.79814 C -0.45329 0.81226 -0.4467 0.82963 -0.43698 0.84051 C -0.43316 0.84513 -0.42777 0.84722 -0.42395 0.85115 C -0.40885 0.86689 -0.42343 0.85879 -0.40833 0.86551 C -0.40295 0.87222 -0.3967 0.87754 -0.39218 0.88634 C -0.39062 0.88981 -0.38941 0.89351 -0.38698 0.89699 C -0.38472 0.89861 -0.38177 0.89861 -0.37934 0.90046 C -0.35191 0.93611 -0.32048 0.97152 -0.29757 1.01296 C -0.28958 1.04513 -0.30277 0.99768 -0.2868 1.03402 C -0.28507 1.03819 -0.28541 1.04328 -0.28437 1.04768 C -0.28073 1.06412 -0.27795 1.08333 -0.271 1.09722 C -0.26823 1.12361 -0.26961 1.14143 -0.25538 1.16018 C -0.24444 1.20324 -0.24479 1.19976 -0.24479 1.25138 E">
                                      <p:cBhvr>
                                        <p:cTn id="1357" dur="5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8" nodeType="withEffect" fill="remove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09271 -0.00695 C 0.09045 -0.00602 0.08576 -0.00718 0.08542 -0.00394 C 0.08403 0.00416 0.08663 0.01273 0.08767 0.02083 C 0.08802 0.02407 0.08837 0.02754 0.0901 0.03009 C 0.10503 0.0544 0.13003 0.08125 0.15208 0.09514 C 0.16024 0.11018 0.16146 0.10324 0.1717 0.11342 C 0.18403 0.12639 0.17378 0.1206 0.18681 0.12616 C 0.19722 0.14583 0.18524 0.12754 0.19913 0.13819 C 0.20312 0.14143 0.21319 0.15393 0.2191 0.15694 C 0.22465 0.16018 0.23056 0.16088 0.23628 0.16296 C 0.2434 0.17685 0.24722 0.17361 0.25833 0.18194 C 0.27604 0.19398 0.29149 0.2044 0.31059 0.2125 C 0.33177 0.22129 0.36181 0.24699 0.38003 0.26227 C 0.38299 0.26435 0.38472 0.26875 0.38733 0.27153 C 0.39028 0.2743 0.39444 0.275 0.39722 0.27778 C 0.42083 0.29838 0.38785 0.27639 0.41458 0.29328 C 0.41615 0.29745 0.41701 0.30231 0.41962 0.30555 C 0.42135 0.30787 0.42465 0.30717 0.42691 0.30856 C 0.42969 0.31018 0.43194 0.31273 0.43437 0.31504 C 0.43611 0.31805 0.43819 0.3206 0.43924 0.3243 C 0.4408 0.32824 0.4401 0.33264 0.44201 0.33611 C 0.44375 0.34028 0.44687 0.34282 0.44931 0.34583 C 0.45451 0.36528 0.44774 0.34421 0.4592 0.36412 C 0.46302 0.37106 0.46545 0.37916 0.46927 0.38611 C 0.46979 0.38889 0.47049 0.39213 0.47153 0.39514 C 0.47274 0.39838 0.47535 0.40116 0.47656 0.40463 C 0.48594 0.43241 0.47135 0.40301 0.48385 0.42616 C 0.48681 0.45046 0.48802 0.47592 0.49132 0.50046 C 0.49271 0.51134 0.49861 0.52106 0.50121 0.53148 C 0.5059 0.58171 0.50781 0.64213 0.48385 0.68634 C 0.47726 0.7118 0.47101 0.7368 0.46163 0.76088 C 0.4566 0.77315 0.4566 0.76805 0.44931 0.7794 C 0.42309 0.82106 0.45156 0.78333 0.43194 0.80347 C 0.42934 0.80648 0.42674 0.80995 0.42465 0.81319 C 0.42292 0.81597 0.4217 0.81991 0.41962 0.82245 C 0.40816 0.83495 0.39635 0.83981 0.38472 0.85046 C 0.38194 0.85278 0.38021 0.85717 0.37726 0.85949 C 0.37118 0.86481 0.36198 0.86759 0.35538 0.87199 C 0.34149 0.88032 0.33177 0.89444 0.31806 0.90301 C 0.30451 0.92824 0.32361 0.89699 0.30295 0.91528 C 0.29149 0.925 0.27691 0.94815 0.26597 0.9618 C 0.25521 0.975 0.24462 0.98866 0.23368 1.00185 C 0.22014 1.01921 0.22778 1.01759 0.2191 1.0331 C 0.21701 1.0368 0.21354 1.03889 0.21163 1.04236 C 0.20764 1.0493 0.20521 1.05717 0.20174 1.06389 C 0.19618 1.08518 0.20382 1.06041 0.19167 1.08264 C 0.19028 1.08541 0.19062 1.08912 0.18906 1.0919 C 0.18142 1.10903 0.18108 1.1081 0.1717 1.11944 C 0.17031 1.12384 0.1691 1.12847 0.16701 1.13194 C 0.16406 1.13657 0.15972 1.13958 0.15712 1.14467 C 0.15538 1.14815 0.15556 1.15278 0.15469 1.15671 C 0.1533 1.16134 0.14965 1.16921 0.14965 1.16967 L 0.12969 1.16921 E">
                                      <p:cBhvr>
                                        <p:cTn id="1359" dur="5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0" nodeType="withEffect" fill="remove" presetClass="path" presetID="0" repeatCount="200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2.5E-006 3.7037E-006 C -0.00295 -0.00232 -0.00521 -0.00695 -0.00851 -0.00695 C -0.0125 -0.00695 -0.01563 -0.00162 -0.01945 3.7037E-006 C -0.02413 0.00185 -0.02865 0.00231 -0.03334 0.00347 C -0.03872 0.0081 -0.04427 0.01296 -0.04983 0.01759 C -0.06111 0.02731 -0.07639 0.02731 -0.08854 0.03518 C -0.09306 0.03819 -0.0974 0.04236 -0.10226 0.0456 C -0.10573 0.04814 -0.10955 0.05023 -0.11337 0.05254 C -0.12379 0.06643 -0.13594 0.07222 -0.14913 0.08101 C -0.16945 0.09375 -0.14531 0.08287 -0.16563 0.0912 C -0.18264 0.10555 -0.20035 0.1199 -0.21788 0.13333 C -0.22691 0.15046 -0.2191 0.13912 -0.23472 0.15092 C -0.24011 0.15486 -0.25104 0.16458 -0.25104 0.16481 C -0.25834 0.1787 -0.2592 0.18726 -0.27049 0.19652 C -0.27222 0.20092 -0.27344 0.20648 -0.27604 0.21041 C -0.27795 0.21435 -0.28229 0.21666 -0.28438 0.22106 C -0.28716 0.22731 -0.28629 0.23588 -0.28959 0.24213 C -0.2915 0.2456 -0.29323 0.24884 -0.29497 0.25231 C -0.30191 0.27754 -0.2974 0.26736 -0.30625 0.28426 C -0.31059 0.31296 -0.31528 0.33889 -0.31736 0.36851 C -0.31493 0.41551 -0.31979 0.5118 -0.27865 0.54745 C -0.27691 0.55439 -0.27483 0.56134 -0.27309 0.56828 C -0.26997 0.58101 -0.25365 0.59976 -0.25365 0.6 C -0.2474 0.62476 -0.2566 0.59652 -0.24271 0.61759 C -0.24011 0.62129 -0.23959 0.62731 -0.23733 0.63148 C -0.23403 0.63611 -0.22969 0.64027 -0.22622 0.64537 C -0.20313 0.67916 -0.23177 0.64259 -0.20955 0.67014 C -0.19341 0.7118 -0.21493 0.6618 -0.19601 0.6912 C -0.19341 0.69514 -0.19306 0.70115 -0.19045 0.70463 C -0.19045 0.70486 -0.16597 0.73611 -0.16302 0.74027 C -0.14913 0.7574 -0.15955 0.73564 -0.14618 0.7574 C -0.13837 0.77129 -0.1316 0.78865 -0.12136 0.79953 C -0.11736 0.80416 -0.11181 0.80625 -0.10781 0.81018 C -0.09202 0.82592 -0.10729 0.81782 -0.09132 0.82453 C -0.08594 0.83125 -0.07917 0.83657 -0.07466 0.84537 C -0.07292 0.84884 -0.0717 0.85301 -0.0691 0.85601 C -0.06684 0.8581 -0.06372 0.8581 -0.06111 0.85949 C -0.03247 0.8956 0.00052 0.93055 0.02448 0.97199 C 0.03281 1.00416 0.01892 0.95671 0.03576 0.99305 C 0.0375 0.99722 0.03715 1.00231 0.03837 1.00671 C 0.04219 1.02314 0.04496 1.04236 0.05225 1.05625 C 0.05503 1.08264 0.05364 1.10046 0.06875 1.11921 C 0.08003 1.16226 0.07969 1.15879 0.07969 1.21041 E">
                                      <p:cBhvr>
                                        <p:cTn id="1361" dur="5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2" nodeType="withEffect" fill="remove" presetClass="path" presetID="0" repeatCount="200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0.321 0.04097 C -0.32378 0.03865 -0.32604 0.03402 -0.32899 0.03402 C -0.33281 0.03402 -0.33593 0.03935 -0.33958 0.04097 C -0.34392 0.04282 -0.34826 0.04328 -0.35277 0.04444 C -0.35798 0.04907 -0.36319 0.05393 -0.36857 0.05856 C -0.37934 0.06828 -0.39392 0.06828 -0.40555 0.07615 C -0.40989 0.07916 -0.41406 0.08333 -0.41875 0.08657 C -0.42204 0.08912 -0.42569 0.0912 -0.42916 0.09351 C -0.43923 0.1074 -0.45069 0.11319 -0.46354 0.12176 C -0.48281 0.13472 -0.45989 0.12384 -0.47916 0.13217 C -0.49548 0.14652 -0.51232 0.16088 -0.52916 0.1743 C -0.53767 0.19143 -0.5302 0.18009 -0.54513 0.19189 C -0.55052 0.19583 -0.56093 0.20555 -0.56093 0.20578 C -0.56788 0.21967 -0.56875 0.22824 -0.57951 0.2375 C -0.58107 0.24189 -0.58211 0.24745 -0.58472 0.25138 C -0.58663 0.25532 -0.59079 0.25763 -0.5927 0.26203 C -0.59548 0.26828 -0.59461 0.27685 -0.59774 0.2831 C -0.59965 0.28657 -0.60121 0.28981 -0.60295 0.29328 C -0.60954 0.31851 -0.60503 0.30833 -0.61371 0.32523 C -0.61788 0.35393 -0.62222 0.37986 -0.62413 0.40949 C -0.62187 0.45648 -0.62656 0.55277 -0.58715 0.58842 C -0.58559 0.59537 -0.5835 0.60231 -0.58194 0.60926 C -0.57882 0.62199 -0.56336 0.64074 -0.56336 0.64097 C -0.55729 0.66574 -0.56614 0.6375 -0.55295 0.65856 C -0.55052 0.66226 -0.54982 0.66828 -0.54774 0.67245 C -0.54461 0.67662 -0.54045 0.68125 -0.53715 0.68634 C -0.5151 0.72013 -0.54236 0.68356 -0.52118 0.71111 C -0.50573 0.75277 -0.52638 0.70277 -0.50816 0.73217 C -0.50573 0.73611 -0.50538 0.74213 -0.50295 0.74513 C -0.50295 0.74537 -0.47951 0.77708 -0.47673 0.78125 C -0.46354 0.79814 -0.47343 0.77662 -0.46076 0.79814 C -0.45329 0.81226 -0.4467 0.82963 -0.43698 0.84051 C -0.43316 0.84513 -0.42777 0.84722 -0.42395 0.85115 C -0.40885 0.86689 -0.42343 0.85879 -0.40833 0.86551 C -0.40295 0.87222 -0.3967 0.87754 -0.39218 0.88634 C -0.39062 0.88981 -0.38941 0.89351 -0.38698 0.89699 C -0.38472 0.89861 -0.38177 0.89861 -0.37934 0.90046 C -0.35191 0.93611 -0.32048 0.97152 -0.29757 1.01296 C -0.28958 1.04513 -0.30277 0.99768 -0.2868 1.03402 C -0.28507 1.03819 -0.28541 1.04328 -0.28437 1.04768 C -0.28073 1.06412 -0.27795 1.08333 -0.271 1.09722 C -0.26823 1.12361 -0.26961 1.14143 -0.25538 1.16018 C -0.24444 1.20324 -0.24479 1.19976 -0.24479 1.25138 E">
                                      <p:cBhvr>
                                        <p:cTn id="1363" dur="5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4" nodeType="withEffect" fill="remove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.09271 -0.00695 C 0.09045 -0.00602 0.08576 -0.00718 0.08542 -0.00394 C 0.08403 0.00416 0.08663 0.01273 0.08767 0.02083 C 0.08802 0.02407 0.08837 0.02754 0.0901 0.03009 C 0.10503 0.0544 0.13003 0.08125 0.15208 0.09514 C 0.16024 0.11018 0.16146 0.10324 0.1717 0.11342 C 0.18403 0.12639 0.17378 0.1206 0.18681 0.12616 C 0.19722 0.14583 0.18524 0.12754 0.19913 0.13819 C 0.20312 0.14143 0.21319 0.15393 0.2191 0.15694 C 0.22465 0.16018 0.23056 0.16088 0.23628 0.16296 C 0.2434 0.17685 0.24722 0.17361 0.25833 0.18194 C 0.27604 0.19398 0.29149 0.2044 0.31059 0.2125 C 0.33177 0.22129 0.36181 0.24699 0.38003 0.26227 C 0.38299 0.26435 0.38472 0.26875 0.38733 0.27153 C 0.39028 0.2743 0.39444 0.275 0.39722 0.27778 C 0.42083 0.29838 0.38785 0.27639 0.41458 0.29328 C 0.41615 0.29745 0.41701 0.30231 0.41962 0.30555 C 0.42135 0.30787 0.42465 0.30717 0.42691 0.30856 C 0.42969 0.31018 0.43194 0.31273 0.43437 0.31504 C 0.43611 0.31805 0.43819 0.3206 0.43924 0.3243 C 0.4408 0.32824 0.4401 0.33264 0.44201 0.33611 C 0.44375 0.34028 0.44687 0.34282 0.44931 0.34583 C 0.45451 0.36528 0.44774 0.34421 0.4592 0.36412 C 0.46302 0.37106 0.46545 0.37916 0.46927 0.38611 C 0.46979 0.38889 0.47049 0.39213 0.47153 0.39514 C 0.47274 0.39838 0.47535 0.40116 0.47656 0.40463 C 0.48594 0.43241 0.47135 0.40301 0.48385 0.42616 C 0.48681 0.45046 0.48802 0.47592 0.49132 0.50046 C 0.49271 0.51134 0.49861 0.52106 0.50121 0.53148 C 0.5059 0.58171 0.50781 0.64213 0.48385 0.68634 C 0.47726 0.7118 0.47101 0.7368 0.46163 0.76088 C 0.4566 0.77315 0.4566 0.76805 0.44931 0.7794 C 0.42309 0.82106 0.45156 0.78333 0.43194 0.80347 C 0.42934 0.80648 0.42674 0.80995 0.42465 0.81319 C 0.42292 0.81597 0.4217 0.81991 0.41962 0.82245 C 0.40816 0.83495 0.39635 0.83981 0.38472 0.85046 C 0.38194 0.85278 0.38021 0.85717 0.37726 0.85949 C 0.37118 0.86481 0.36198 0.86759 0.35538 0.87199 C 0.34149 0.88032 0.33177 0.89444 0.31806 0.90301 C 0.30451 0.92824 0.32361 0.89699 0.30295 0.91528 C 0.29149 0.925 0.27691 0.94815 0.26597 0.9618 C 0.25521 0.975 0.24462 0.98866 0.23368 1.00185 C 0.22014 1.01921 0.22778 1.01759 0.2191 1.0331 C 0.21701 1.0368 0.21354 1.03889 0.21163 1.04236 C 0.20764 1.0493 0.20521 1.05717 0.20174 1.06389 C 0.19618 1.08518 0.20382 1.06041 0.19167 1.08264 C 0.19028 1.08541 0.19062 1.08912 0.18906 1.0919 C 0.18142 1.10903 0.18108 1.1081 0.1717 1.11944 C 0.17031 1.12384 0.1691 1.12847 0.16701 1.13194 C 0.16406 1.13657 0.15972 1.13958 0.15712 1.14467 C 0.15538 1.14815 0.15556 1.15278 0.15469 1.15671 C 0.1533 1.16134 0.14965 1.16921 0.14965 1.16967 L 0.12969 1.16921 E">
                                      <p:cBhvr>
                                        <p:cTn id="1365" dur="5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8" presetSubtype="1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8" dur="4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42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4" nodeType="withEffect" fill="hold" presetClass="exit" presetID="42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6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42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21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21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21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10">
                                  <p:stCondLst>
                                    <p:cond delay="8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5" dur="9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42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4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24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24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422-8536-4459-81EF-B015D43618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0" descr="C:\Users\V I E\Desktop\111\心.jpg"/>
          <p:cNvPicPr/>
          <p:nvPr/>
        </p:nvPicPr>
        <p:blipFill>
          <a:blip r:embed="rId1"/>
          <a:stretch/>
        </p:blipFill>
        <p:spPr>
          <a:xfrm>
            <a:off x="3943440" y="7677000"/>
            <a:ext cx="1565280" cy="13939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C:\Users\V I E\Desktop\111\心.jpg"/>
          <p:cNvPicPr/>
          <p:nvPr/>
        </p:nvPicPr>
        <p:blipFill>
          <a:blip r:embed="rId2"/>
          <a:stretch/>
        </p:blipFill>
        <p:spPr>
          <a:xfrm>
            <a:off x="395280" y="-2286000"/>
            <a:ext cx="1565280" cy="13939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0" descr="C:\Users\V I E\Desktop\111\心.jpg"/>
          <p:cNvPicPr/>
          <p:nvPr/>
        </p:nvPicPr>
        <p:blipFill>
          <a:blip r:embed="rId3"/>
          <a:stretch/>
        </p:blipFill>
        <p:spPr>
          <a:xfrm>
            <a:off x="-2340000" y="2898720"/>
            <a:ext cx="1563840" cy="13939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0" descr="C:\Users\V I E\Desktop\111\心.jpg"/>
          <p:cNvPicPr/>
          <p:nvPr/>
        </p:nvPicPr>
        <p:blipFill>
          <a:blip r:embed="rId4"/>
          <a:stretch/>
        </p:blipFill>
        <p:spPr>
          <a:xfrm>
            <a:off x="7399440" y="-2116080"/>
            <a:ext cx="1565280" cy="1395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0" descr="C:\Users\V I E\Desktop\111\心.jpg"/>
          <p:cNvPicPr/>
          <p:nvPr/>
        </p:nvPicPr>
        <p:blipFill>
          <a:blip r:embed="rId5"/>
          <a:stretch/>
        </p:blipFill>
        <p:spPr>
          <a:xfrm>
            <a:off x="9685440" y="1263600"/>
            <a:ext cx="1563480" cy="1393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C:\Users\V I E\Desktop\111\心.jpg"/>
          <p:cNvPicPr/>
          <p:nvPr/>
        </p:nvPicPr>
        <p:blipFill>
          <a:blip r:embed="rId6"/>
          <a:stretch/>
        </p:blipFill>
        <p:spPr>
          <a:xfrm>
            <a:off x="-1376280" y="6894360"/>
            <a:ext cx="1565280" cy="13939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0" descr="C:\Users\V I E\Desktop\111\心.jpg"/>
          <p:cNvPicPr/>
          <p:nvPr/>
        </p:nvPicPr>
        <p:blipFill>
          <a:blip r:embed="rId7"/>
          <a:stretch/>
        </p:blipFill>
        <p:spPr>
          <a:xfrm>
            <a:off x="7929720" y="8182080"/>
            <a:ext cx="1565280" cy="13935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C:\Users\V I E\Desktop\111\心.jpg"/>
          <p:cNvPicPr/>
          <p:nvPr/>
        </p:nvPicPr>
        <p:blipFill>
          <a:blip r:embed="rId8"/>
          <a:stretch/>
        </p:blipFill>
        <p:spPr>
          <a:xfrm>
            <a:off x="-2197080" y="-1133640"/>
            <a:ext cx="1565280" cy="13939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1" descr="C:\Users\V I E\Desktop\111\111 (14) 副本.png"/>
          <p:cNvPicPr/>
          <p:nvPr/>
        </p:nvPicPr>
        <p:blipFill>
          <a:blip r:embed="rId9"/>
          <a:stretch/>
        </p:blipFill>
        <p:spPr>
          <a:xfrm>
            <a:off x="1747800" y="1263600"/>
            <a:ext cx="56516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222 0.63926 C 0.29149 0.62217 0.26823 0.64527 0.28524 0.61825 C 0.28733 0.61501 0.29062 0.61363 0.29323 0.61132 C 0.29757 0.59354 0.30104 0.57598 0.30642 0.55866 C 0.3217 0.45543 0.34462 0.3127 0.30382 0.22956 C 0.29844 0.20277 0.30469 0.22956 0.29323 0.19839 C 0.28628 0.17945 0.2901 0.17506 0.27743 0.16328 C 0.27205 0.13441 0.28003 0.16328 0.26163 0.13857 C 0.2342 0.10185 0.26927 0.13441 0.24583 0.11409 C 0.23628 0.09515 0.23333 0.09492 0.21649 0.08961 C 0.20625 0.06929 0.19774 0.07552 0.18524 0.0582 C 0.17621 0.04596 0.17153 0.04134 0.15903 0.03718 C 0.15729 0.03372 0.1566 0.02841 0.15382 0.02656 C 0.14479 0.02056 0.13437 0.02033 0.12483 0.01617 C 0.1151 0.00324 0.1217 0.00924 0.10104 0.00554 C 0.05069 -0.00323 0.00694 -0.00138 -0.04618 -0.00138 E">
                                      <p:cBhvr>
                                        <p:cTn id="1397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8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27482 0.62125 C -0.27222 0.6201 -0.26892 0.62033 -0.26701 0.61779 C -0.2651 0.61525 -0.2658 0.6104 -0.26441 0.60716 C -0.26319 0.60439 -0.26076 0.60254 -0.25903 0.60024 C -0.25243 0.57391 -0.26267 0.60994 -0.24583 0.57576 C -0.23871 0.56144 -0.23368 0.5455 -0.22482 0.53372 C -0.21996 0.50786 -0.20989 0.4873 -0.20121 0.46375 C -0.19132 0.43672 -0.20746 0.46998 -0.19323 0.44273 C -0.18906 0.42564 -0.18871 0.41709 -0.18021 0.40416 C -0.17396 0.37137 -0.17986 0.38315 -0.16701 0.36559 C -0.16111 0.33418 -0.16927 0.3716 -0.15642 0.33418 C -0.15416 0.32749 -0.15295 0.3201 -0.15121 0.31317 C -0.14913 0.30439 -0.13455 0.28268 -0.13021 0.2746 C -0.12604 0.26698 -0.12378 0.25774 -0.11962 0.25012 C -0.11302 0.23788 -0.10538 0.22726 -0.09861 0.21525 C -0.09062 0.18499 -0.10382 0.22887 -0.08541 0.19423 C -0.08333 0.1903 -0.08437 0.18453 -0.08281 0.18014 C -0.07969 0.17345 -0.07326 0.16698 -0.06962 0.15913 C -0.05903 0.13626 -0.05208 0.10786 -0.03802 0.08915 C -0.02899 0.05289 -0.04323 0.10716 -0.03021 0.06813 C -0.01996 0.03765 -0.03125 0.05566 -0.01701 0.03672 C -0.0151 0.02887 -0.01302 0.01871 -0.00903 0.01224 C -0.00312 0.00278 0.00209 0.0037 0.00677 -0.00877 E">
                                      <p:cBhvr>
                                        <p:cTn id="1399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0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57361 -0.02454 C 0.51909 -0.0125 0.46701 -0.01389 0.41041 -0.01065 C 0.27725 0.0162 0.13437 2.96296E-006 4.44444E-006 2.96296E-006 E">
                                      <p:cBhvr>
                                        <p:cTn id="1401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54219 0.22817 C -0.53611 0.22702 -0.52969 0.22656 -0.52379 0.22448 C -0.51997 0.22309 -0.51702 0.21894 -0.5132 0.21755 C -0.48351 0.20647 -0.45139 0.20323 -0.42118 0.19654 C -0.40504 0.19307 -0.38993 0.1836 -0.37379 0.17898 C -0.36163 0.16836 -0.34584 0.16536 -0.3316 0.16166 C -0.32899 0.15935 -0.32674 0.15612 -0.32379 0.1545 C -0.32049 0.15266 -0.31632 0.15335 -0.3132 0.15104 C -0.29757 0.13949 -0.30469 0.13834 -0.29219 0.13002 C -0.2783 0.12102 -0.28976 0.13372 -0.27379 0.11963 C -0.26615 0.1127 -0.26215 0.10623 -0.25278 0.10208 C -0.2467 0.08984 -0.2408 0.08222 -0.2316 0.07413 C -0.21927 0.04896 -0.23542 0.07921 -0.2158 0.05312 C -0.21354 0.05011 -0.21268 0.04573 -0.21059 0.04249 C -0.20799 0.03834 -0.18247 0.00831 -0.1816 0.00762 C -0.17865 0.00485 -0.17448 0.00554 -0.17118 0.00393 C -0.16754 0.00208 -0.16406 -0.00069 -0.16059 -0.003 C -0.15018 -0.01686 -0.1467 -0.0134 -0.1342 -0.02055 C -0.11441 -0.03187 -0.10156 -0.03487 -0.07899 -0.03788 C -0.05434 -0.0358 -0.03004 -0.03095 -0.00538 -0.03095 E">
                                      <p:cBhvr>
                                        <p:cTn id="1403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4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66041 0.54375 C 0.65347 0.54259 0.64618 0.5419 0.63923 0.54027 C 0.62968 0.53796 0.62413 0.52986 0.61319 0.52639 C 0.59687 0.5118 0.61441 0.52569 0.59218 0.51574 C 0.57291 0.5074 0.55555 0.49352 0.5368 0.48426 C 0.52465 0.46759 0.53819 0.48379 0.50798 0.47361 C 0.50486 0.47268 0.5026 0.46852 0.49982 0.46666 C 0.49149 0.46111 0.48246 0.45694 0.47378 0.45254 C 0.46927 0.45046 0.4651 0.44745 0.46059 0.4456 C 0.45347 0.44282 0.43923 0.43865 0.43923 0.43889 C 0.43593 0.43634 0.43229 0.43333 0.42899 0.43148 C 0.42552 0.42986 0.4217 0.42986 0.41822 0.42801 C 0.37968 0.40555 0.42239 0.42523 0.39739 0.41412 C 0.38142 0.39815 0.36354 0.39421 0.34479 0.38588 C 0.33715 0.37639 0.3309 0.37523 0.32083 0.37199 C 0.30225 0.34652 0.26822 0.32615 0.24218 0.31921 C 0.23941 0.31574 0.2375 0.31111 0.23385 0.30879 C 0.22673 0.30393 0.21059 0.29815 0.21059 0.29838 C 0.2 0.28449 0.19218 0.28333 0.17899 0.27708 C 0.17378 0.27477 0.17031 0.26967 0.16562 0.26666 C 0.16336 0.26504 0.16041 0.26435 0.15781 0.26319 C 0.14045 0.24004 0.12048 0.21782 0.1 0.2 C 0.09444 0.18495 0.09166 0.18102 0.08159 0.17199 C 0.07326 0.14953 0.06041 0.13171 0.0526 0.10879 C 0.04756 0.09398 0.04826 0.07801 0.03941 0.06666 C 0.03628 0.04953 0.03194 0.04143 0.021 0.03148 C 0.01927 0.02685 0.01822 0.02152 0.01579 0.01759 C 0.01284 0.01273 0.00399 0.00532 4.44444E-006 2.96296E-006 E">
                                      <p:cBhvr>
                                        <p:cTn id="1405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6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51579 -0.50857 C 0.48611 -0.50139 0.45642 -0.4956 0.42639 -0.49121 C 0.41145 -0.4831 0.39757 -0.47778 0.38159 -0.47361 C 0.37222 -0.46528 0.36319 -0.46204 0.35277 -0.45602 C 0.33941 -0.44815 0.33611 -0.44236 0.32118 -0.43843 C 0.31684 -0.43496 0.31267 -0.43079 0.30781 -0.42801 C 0.30295 -0.425 0.29704 -0.42431 0.29218 -0.42107 C 0.28871 -0.41875 0.28489 -0.4169 0.28142 -0.41389 C 0.27864 -0.41111 0.27708 -0.40556 0.27378 -0.40347 C 0.26979 -0.40093 0.26475 -0.40139 0.26059 -0.4 C 0.25781 -0.39908 0.2552 -0.39792 0.25277 -0.3963 C 0.24826 -0.39329 0.24427 -0.38866 0.23958 -0.38588 C 0.23368 -0.38241 0.22725 -0.38172 0.22118 -0.37894 C 0.21232 -0.36713 0.19895 -0.3632 0.18698 -0.35787 C 0.16059 -0.31111 0.19444 -0.36783 0.17118 -0.33681 C 0.16892 -0.3338 0.16805 -0.32917 0.16579 -0.32616 C 0.16267 -0.32199 0.1585 -0.31991 0.1552 -0.31574 C 0.15312 -0.31273 0.15225 -0.3081 0.15 -0.3051 C 0.14687 -0.30093 0.1427 -0.29885 0.13958 -0.29468 C 0.13715 -0.29167 0.13628 -0.28727 0.1342 -0.28403 C 0.12795 -0.27408 0.12621 -0.27361 0.11857 -0.26667 C 0.11684 -0.2632 0.11545 -0.25903 0.11319 -0.25602 C 0.11007 -0.25185 0.10555 -0.25 0.10277 -0.2456 C 0.10104 -0.24283 0.10173 -0.23797 0.1 -0.23496 C 0.09548 -0.22709 0.0875 -0.22269 0.0842 -0.21389 C 0.08125 -0.20602 0.08003 -0.19676 0.07639 -0.18935 C 0.06458 -0.16551 0.07204 -0.1919 0.06319 -0.16829 C 0.05434 -0.14445 0.06371 -0.15556 0.05 -0.14375 C 0.04826 -0.13912 0.04687 -0.13403 0.04479 -0.12963 C 0.04149 -0.12246 0.0342 -0.10857 0.0342 -0.10834 C 0.0309 -0.09074 0.02361 -0.07477 0.01579 -0.05949 C 0.00989 -0.01158 0.01788 -0.05764 0.00798 -0.02801 C 0.00573 -0.0213 0.00538 -0.01343 0.00277 -0.00695 C 0.00191 -0.00463 0.00086 -0.00232 3.88889E-006 2.59259E-006 E">
                                      <p:cBhvr>
                                        <p:cTn id="1407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39011 -0.70878 C -0.3257 -0.6843 -0.31962 -0.67021 -0.23663 -0.60786 C -0.22656 -0.597 -0.22483 -0.597 -0.21684 -0.58245 C -0.21493 -0.57945 -0.21424 -0.5746 -0.21215 -0.57137 C -0.20868 -0.56582 -0.20434 -0.56144 -0.20052 -0.55566 C -0.19861 -0.55312 -0.19479 -0.54781 -0.19479 -0.54758 C -0.1908 -0.53026 -0.17847 -0.52079 -0.16806 -0.51017 C -0.16146 -0.49446 -0.15313 -0.4783 -0.14358 -0.46605 C -0.13611 -0.44758 -0.14271 -0.45982 -0.12847 -0.44365 C -0.12639 -0.44111 -0.12413 -0.43903 -0.12275 -0.43557 C -0.12101 -0.43234 -0.12049 -0.42749 -0.11806 -0.42448 C -0.11354 -0.41917 -0.10781 -0.41502 -0.10295 -0.4104 C -0.0967 -0.39492 -0.08611 -0.38961 -0.07726 -0.37691 C -0.07309 -0.3679 -0.06875 -0.3582 -0.06459 -0.34873 C -0.0632 -0.34527 -0.06059 -0.34342 -0.05868 -0.34065 C -0.05625 -0.33719 -0.05382 -0.33257 -0.05191 -0.32841 C -0.05052 -0.32518 -0.05052 -0.32148 -0.04948 -0.31848 C -0.04827 -0.31478 -0.04653 -0.31132 -0.04497 -0.30763 C -0.04306 -0.28661 -0.03559 -0.28776 -0.02986 -0.26975 C -0.02535 -0.25636 -0.02396 -0.24758 -0.01615 -0.23672 C -0.00851 -0.20532 -0.01771 -0.23765 -0.00695 -0.21455 C -0.00434 -0.21086 -0.0033 -0.20416 -0.00104 -0.19977 C 0.00104 -0.19469 0.00364 -0.19054 0.0059 -0.18638 C 0.00868 -0.15728 0.00399 -0.194 0.0125 -0.1582 C 0.0151 -0.14873 0.0158 -0.13788 0.0184 -0.12702 C 0.01632 -0.10993 0.01475 -0.09885 0.01562 -0.0813 C 0.01528 -0.07876 0.01163 -0.06074 0.0118 -0.05636 C 0.01215 -0.04896 0.01736 -0.04411 0.01528 -0.03465 C 0.01215 -0.02217 0.00642 -0.01155 0.00208 4.08776E-006 E">
                                      <p:cBhvr>
                                        <p:cTn id="1409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0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146 -0.553 C -0.01059 -0.43379 -0.01024 -0.31435 -0.00885 -0.19513 C -0.00799 -0.11759 -0.01458 -0.13981 -0.00104 -0.10393 C 0.00174 -0.06157 0.00434 -0.04421 0.00434 0.00139 E">
                                      <p:cBhvr>
                                        <p:cTn id="1411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0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5612040" y="2674080"/>
            <a:ext cx="7898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一种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4286520" y="76752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即使我们付出所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2962440" y="138204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也报答不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remove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281 -0.00394 C 0.09114 0.05671 0.15937 0.22592 0.2816 0.37268 C 0.40712 0.525 0.53993 0.59861 0.58142 0.53727 C 0.62344 0.47592 0.75677 0.55 0.88194 0.70185 C 1.00503 0.85046 1.07257 1.01875 1.03142 1.08009 E">
                                      <p:cBhvr>
                                        <p:cTn id="752" dur="10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5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754" dur="10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3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33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3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2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32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32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2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2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2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2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2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1" dur="27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26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26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26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1617120" y="1202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十余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3976920" y="826920"/>
            <a:ext cx="143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. . 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7576560" y="267840"/>
            <a:ext cx="606960" cy="44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儿时琐碎的点点滴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6668640" y="1468080"/>
            <a:ext cx="606960" cy="44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只得丝缕仍留在心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5660640" y="276732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曾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"/>
          <p:cNvSpPr/>
          <p:nvPr/>
        </p:nvSpPr>
        <p:spPr>
          <a:xfrm>
            <a:off x="1993320" y="3166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却是一些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3242880" y="3166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9"/>
          <p:cNvSpPr/>
          <p:nvPr/>
        </p:nvSpPr>
        <p:spPr>
          <a:xfrm>
            <a:off x="4000320" y="3166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记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Img250868001.jpg"/>
          <p:cNvPicPr/>
          <p:nvPr/>
        </p:nvPicPr>
        <p:blipFill>
          <a:blip r:embed="rId7"/>
          <a:srcRect l="0" t="0" r="0" b="23864"/>
          <a:stretch/>
        </p:blipFill>
        <p:spPr>
          <a:xfrm>
            <a:off x="1079640" y="3905280"/>
            <a:ext cx="4572000" cy="261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7" name="Picture 3" descr="Img250868007.jpg"/>
          <p:cNvPicPr/>
          <p:nvPr/>
        </p:nvPicPr>
        <p:blipFill>
          <a:blip r:embed="rId8"/>
          <a:srcRect l="2220" t="0" r="2709" b="46824"/>
          <a:stretch/>
        </p:blipFill>
        <p:spPr>
          <a:xfrm>
            <a:off x="1047600" y="1039680"/>
            <a:ext cx="4348440" cy="182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remove" presetClass="path" presetID="59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784" dur="9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5" nodeType="withEffect" fill="remove" presetClass="path" presetID="60" repeatCount="300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6146 -0.025 C 0.14792 0.02709 0.13421 0.10463 0.20261 0.16574 C 0.30105 0.25602 0.41389 0.05903 0.5316 0.16621 C 0.63698 0.26343 0.4882 0.38982 0.59011 0.48264 C 0.69671 0.58079 0.7066 0.39908 0.81997 0.50347 C 0.92153 0.59722 0.81997 0.63195 0.91059 0.71528 C 0.99775 0.7956 0.98664 0.68704 1.06615 0.76042 C 1.11146 0.80232 1.10573 0.82338 1.10261 0.84097 E">
                                      <p:cBhvr>
                                        <p:cTn id="786" dur="10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7" nodeType="withEffect" fill="remove" presetClass="path" presetID="61" repeatCount="4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71077 0.28078 C 0.71372 0.24398 0.7191 0.203 0.71389 0.17986 C 0.70764 0.15578 0.69636 0.13796 0.68542 0.1199 C 0.67361 0.10138 0.65816 0.10023 0.64202 0.09814 C 0.62656 0.09722 0.60833 0.09861 0.58629 0.11782 C 0.56615 0.13217 0.54149 0.16365 0.51788 0.20046 C 0.49549 0.23425 0.47257 0.27662 0.45191 0.3206 C 0.43125 0.36458 0.41285 0.40995 0.39809 0.45347 C 0.3816 0.50115 0.37014 0.54652 0.36597 0.58703 C 0.35938 0.62754 0.35747 0.66527 0.36354 0.68912 C 0.36684 0.71689 0.37969 0.73449 0.39167 0.74398 C 0.40261 0.75601 0.41875 0.76342 0.43872 0.75208 C 0.45695 0.74259 0.48021 0.71435 0.50278 0.67129 C 0.525 0.628 0.53941 0.57893 0.54375 0.54328 C 0.54653 0.51064 0.54202 0.48356 0.52917 0.46921 C 0.51476 0.45856 0.49965 0.453 0.48038 0.46388 C 0.46198 0.475 0.46163 0.46875 0.41563 0.53495 C 0.3724 0.59166 0.34896 0.66388 0.33108 0.70463 C 0.31389 0.74675 0.30469 0.78379 0.29236 0.82824 C 0.27899 0.87939 0.27431 0.92314 0.2724 0.95694 C 0.27031 0.98981 0.27656 1.00995 0.28837 1.03726 C 0.30208 1.06296 0.31059 1.06782 0.32379 1.078 C 0.3375 1.0875 0.35104 1.09699 0.36406 1.10648 E">
                                      <p:cBhvr>
                                        <p:cTn id="788" dur="9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9" nodeType="withEffect" fill="remove" presetClass="path" presetID="37" repeatCount="400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790" dur="9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1" nodeType="withEffect" fill="hold" presetClass="path" presetID="50" repeatCount="3000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792" dur="10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3" nodeType="withEffect" fill="remove" presetClass="path" presetID="0" repeatCount="3000">
                                  <p:stCondLst>
                                    <p:cond delay="91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794" dur="10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4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4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47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47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1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74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171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8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1">
                                  <p:stCondLst>
                                    <p:cond delay="254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27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2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42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42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10">
                                  <p:stCondLst>
                                    <p:cond delay="33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0">
                                  <p:stCondLst>
                                    <p:cond delay="33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mph" presetID="6">
                                  <p:stCondLst>
                                    <p:cond delay="34300"/>
                                  </p:stCondLst>
                                  <p:childTnLst>
                                    <p:animScale>
                                      <p:cBhvr>
                                        <p:cTn id="842" dur="3000" fill="hold"/>
                                        <p:tgtEl>
                                          <p:spTgt spid="274"/>
                                        </p:tgtEl>
                                      </p:cBhvr>
                                      <p:to x="235000" y="235000"/>
                                    </p:animScale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" presetSubtype="2">
                                  <p:stCondLst>
                                    <p:cond delay="34300"/>
                                  </p:stCondLst>
                                  <p:childTnLst>
                                    <p:animClr clrSpc="rgb">
                                      <p:cBhvr>
                                        <p:cTn id="844" dur="2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6" presetSubtype="16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7" dur="57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0">
                                  <p:stCondLst>
                                    <p:cond delay="20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9" dur="13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6" presetSubtype="37">
                                  <p:stCondLst>
                                    <p:cond delay="223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6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10">
                                  <p:stCondLst>
                                    <p:cond delay="2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5" dur="16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15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13"/>
          <p:cNvGrpSpPr/>
          <p:nvPr/>
        </p:nvGrpSpPr>
        <p:grpSpPr>
          <a:xfrm>
            <a:off x="3348000" y="4794120"/>
            <a:ext cx="1145160" cy="1123560"/>
            <a:chOff x="3348000" y="4794120"/>
            <a:chExt cx="1145160" cy="1123560"/>
          </a:xfrm>
        </p:grpSpPr>
        <p:sp>
          <p:nvSpPr>
            <p:cNvPr id="279" name="椭圆 1"/>
            <p:cNvSpPr/>
            <p:nvPr/>
          </p:nvSpPr>
          <p:spPr>
            <a:xfrm flipH="1">
              <a:off x="3468600" y="4794120"/>
              <a:ext cx="480960" cy="42552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3"/>
            <p:cNvSpPr/>
            <p:nvPr/>
          </p:nvSpPr>
          <p:spPr>
            <a:xfrm>
              <a:off x="3879720" y="5157720"/>
              <a:ext cx="231840" cy="2300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6"/>
            <p:cNvSpPr/>
            <p:nvPr/>
          </p:nvSpPr>
          <p:spPr>
            <a:xfrm flipH="1">
              <a:off x="3348000" y="5157720"/>
              <a:ext cx="190440" cy="2300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弧形 8"/>
            <p:cNvSpPr/>
            <p:nvPr/>
          </p:nvSpPr>
          <p:spPr>
            <a:xfrm flipH="1" rot="16982400">
              <a:off x="3743280" y="5182920"/>
              <a:ext cx="735120" cy="614520"/>
            </a:xfrm>
            <a:custGeom>
              <a:avLst/>
              <a:gdLst/>
              <a:ahLst/>
              <a:rect l="l" t="t" r="r" b="b"/>
              <a:pathLst>
                <a:path stroke="0" w="1368785" h="1101787">
                  <a:moveTo>
                    <a:pt x="657119" y="438"/>
                  </a:moveTo>
                  <a:cubicBezTo>
                    <a:pt x="813268" y="-4575"/>
                    <a:pt x="966845" y="33578"/>
                    <a:pt x="1092324" y="108555"/>
                  </a:cubicBezTo>
                  <a:cubicBezTo>
                    <a:pt x="1258721" y="207982"/>
                    <a:pt x="1360189" y="362742"/>
                    <a:pt x="1368266" y="529426"/>
                  </a:cubicBezTo>
                  <a:lnTo>
                    <a:pt x="684393" y="550894"/>
                  </a:lnTo>
                  <a:lnTo>
                    <a:pt x="657119" y="438"/>
                  </a:lnTo>
                  <a:close/>
                </a:path>
                <a:path fill="none" w="1368785" h="1101787">
                  <a:moveTo>
                    <a:pt x="657119" y="438"/>
                  </a:moveTo>
                  <a:cubicBezTo>
                    <a:pt x="813268" y="-4575"/>
                    <a:pt x="966845" y="33578"/>
                    <a:pt x="1092324" y="108555"/>
                  </a:cubicBezTo>
                  <a:cubicBezTo>
                    <a:pt x="1258721" y="207982"/>
                    <a:pt x="1360189" y="362742"/>
                    <a:pt x="1368266" y="529426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10"/>
            <p:cNvSpPr/>
            <p:nvPr/>
          </p:nvSpPr>
          <p:spPr>
            <a:xfrm flipH="1">
              <a:off x="3468960" y="5388120"/>
              <a:ext cx="126720" cy="4888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14"/>
          <p:cNvGrpSpPr/>
          <p:nvPr/>
        </p:nvGrpSpPr>
        <p:grpSpPr>
          <a:xfrm>
            <a:off x="1150560" y="5130720"/>
            <a:ext cx="900360" cy="920880"/>
            <a:chOff x="1150560" y="5130720"/>
            <a:chExt cx="900360" cy="920880"/>
          </a:xfrm>
        </p:grpSpPr>
        <p:sp>
          <p:nvSpPr>
            <p:cNvPr id="285" name="椭圆 15"/>
            <p:cNvSpPr/>
            <p:nvPr/>
          </p:nvSpPr>
          <p:spPr>
            <a:xfrm>
              <a:off x="1579320" y="5130720"/>
              <a:ext cx="377640" cy="34920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16"/>
            <p:cNvSpPr/>
            <p:nvPr/>
          </p:nvSpPr>
          <p:spPr>
            <a:xfrm flipH="1">
              <a:off x="1454040" y="5429160"/>
              <a:ext cx="180720" cy="190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直接连接符 17"/>
            <p:cNvSpPr/>
            <p:nvPr/>
          </p:nvSpPr>
          <p:spPr>
            <a:xfrm>
              <a:off x="1901880" y="5429160"/>
              <a:ext cx="149040" cy="190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弧形 18"/>
            <p:cNvSpPr/>
            <p:nvPr/>
          </p:nvSpPr>
          <p:spPr>
            <a:xfrm rot="4617600">
              <a:off x="1150560" y="5462280"/>
              <a:ext cx="604800" cy="480960"/>
            </a:xfrm>
            <a:custGeom>
              <a:avLst/>
              <a:gdLst/>
              <a:ahLst/>
              <a:rect l="l" t="t" r="r" b="b"/>
              <a:pathLst>
                <a:path stroke="0" w="1369308" h="1101174">
                  <a:moveTo>
                    <a:pt x="533764" y="13538"/>
                  </a:moveTo>
                  <a:cubicBezTo>
                    <a:pt x="703870" y="-17370"/>
                    <a:pt x="882231" y="5088"/>
                    <a:pt x="1032448" y="76330"/>
                  </a:cubicBezTo>
                  <a:cubicBezTo>
                    <a:pt x="1233005" y="171446"/>
                    <a:pt x="1359704" y="342010"/>
                    <a:pt x="1368787" y="529110"/>
                  </a:cubicBezTo>
                  <a:lnTo>
                    <a:pt x="684654" y="550587"/>
                  </a:lnTo>
                  <a:lnTo>
                    <a:pt x="533764" y="13538"/>
                  </a:lnTo>
                  <a:close/>
                </a:path>
                <a:path fill="none" w="1369308" h="1101174">
                  <a:moveTo>
                    <a:pt x="533764" y="13538"/>
                  </a:moveTo>
                  <a:cubicBezTo>
                    <a:pt x="703870" y="-17370"/>
                    <a:pt x="882231" y="5088"/>
                    <a:pt x="1032448" y="76330"/>
                  </a:cubicBezTo>
                  <a:cubicBezTo>
                    <a:pt x="1233005" y="171446"/>
                    <a:pt x="1359704" y="342010"/>
                    <a:pt x="1368787" y="52911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19"/>
            <p:cNvSpPr/>
            <p:nvPr/>
          </p:nvSpPr>
          <p:spPr>
            <a:xfrm>
              <a:off x="1857240" y="5619600"/>
              <a:ext cx="99720" cy="401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31"/>
          <p:cNvGrpSpPr/>
          <p:nvPr/>
        </p:nvGrpSpPr>
        <p:grpSpPr>
          <a:xfrm>
            <a:off x="5301720" y="4284720"/>
            <a:ext cx="1573920" cy="1808280"/>
            <a:chOff x="5301720" y="4284720"/>
            <a:chExt cx="1573920" cy="1808280"/>
          </a:xfrm>
        </p:grpSpPr>
        <p:grpSp>
          <p:nvGrpSpPr>
            <p:cNvPr id="291" name="组合 20"/>
            <p:cNvGrpSpPr/>
            <p:nvPr/>
          </p:nvGrpSpPr>
          <p:grpSpPr>
            <a:xfrm>
              <a:off x="5301720" y="4284720"/>
              <a:ext cx="1573920" cy="1808280"/>
              <a:chOff x="5301720" y="4284720"/>
              <a:chExt cx="1573920" cy="1808280"/>
            </a:xfrm>
          </p:grpSpPr>
          <p:sp>
            <p:nvSpPr>
              <p:cNvPr id="292" name="椭圆 21"/>
              <p:cNvSpPr/>
              <p:nvPr/>
            </p:nvSpPr>
            <p:spPr>
              <a:xfrm>
                <a:off x="5634000" y="4284720"/>
                <a:ext cx="993960" cy="70956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直接连接符 22"/>
              <p:cNvSpPr/>
              <p:nvPr/>
            </p:nvSpPr>
            <p:spPr>
              <a:xfrm flipH="1">
                <a:off x="5301720" y="4890960"/>
                <a:ext cx="476280" cy="38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直接连接符 23"/>
              <p:cNvSpPr/>
              <p:nvPr/>
            </p:nvSpPr>
            <p:spPr>
              <a:xfrm>
                <a:off x="6481800" y="4890960"/>
                <a:ext cx="393840" cy="38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直接连接符 25"/>
              <p:cNvSpPr/>
              <p:nvPr/>
            </p:nvSpPr>
            <p:spPr>
              <a:xfrm>
                <a:off x="6364440" y="5275440"/>
                <a:ext cx="0" cy="8175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直接连接符 27"/>
            <p:cNvSpPr/>
            <p:nvPr/>
          </p:nvSpPr>
          <p:spPr>
            <a:xfrm>
              <a:off x="5892840" y="5210280"/>
              <a:ext cx="0" cy="765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2"/>
          <p:cNvSpPr/>
          <p:nvPr/>
        </p:nvSpPr>
        <p:spPr>
          <a:xfrm>
            <a:off x="1077480" y="6904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一年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2004840" y="12556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渴望长大的人终于长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2833920" y="18716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因为有太多的梦想想要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9"/>
          <p:cNvSpPr/>
          <p:nvPr/>
        </p:nvSpPr>
        <p:spPr>
          <a:xfrm>
            <a:off x="8108280" y="304200"/>
            <a:ext cx="606960" cy="49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想要让他们更好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圆角矩形 11"/>
          <p:cNvSpPr/>
          <p:nvPr/>
        </p:nvSpPr>
        <p:spPr>
          <a:xfrm>
            <a:off x="468360" y="189000"/>
            <a:ext cx="6407280" cy="257796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2"/>
          <p:cNvSpPr/>
          <p:nvPr/>
        </p:nvSpPr>
        <p:spPr>
          <a:xfrm>
            <a:off x="2257200" y="2157480"/>
            <a:ext cx="236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想要 </a:t>
            </a:r>
            <a:r>
              <a:rPr b="0" lang="en-US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?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6"/>
          <p:cNvSpPr/>
          <p:nvPr/>
        </p:nvSpPr>
        <p:spPr>
          <a:xfrm>
            <a:off x="-396720" y="-100080"/>
            <a:ext cx="9577080" cy="71024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1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path" presetID="37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139 -2.96296E-006 L 0.06563 0.04005 C 0.07969 0.04908 0.1007 0.05394 0.12257 0.05394 C 0.14757 0.05394 0.16754 0.04908 0.1816 0.04005 L 0.24861 -2.96296E-006 E">
                                      <p:cBhvr>
                                        <p:cTn id="865" dur="3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47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2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2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path" presetID="38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3.33333E-006 -1.48148E-006 L 0.01597 0.03681 L 0.03107 -1.48148E-006 L 0.04705 0.03681 L 0.06302 -1.48148E-006 L 0.07795 0.03681 L 0.09392 -1.48148E-006 L 0.10902 0.03681 L 0.125 -1.48148E-006 L 0.14097 0.03681 L 0.15607 -1.48148E-006 L 0.17205 0.03681 L 0.18698 -1.48148E-006 L 0.20295 0.03681 L 0.21892 -1.48148E-006 L 0.23402 0.03681 L 0.25 -1.48148E-006 E">
                                      <p:cBhvr>
                                        <p:cTn id="875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42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2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2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4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2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1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3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8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42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remove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909" dur="10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0" nodeType="withEffect" fill="remove" presetClass="path" presetID="6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6146 -0.025 C 0.14792 0.02709 0.13421 0.10463 0.20261 0.16574 C 0.30105 0.25602 0.41389 0.05903 0.5316 0.16621 C 0.63698 0.26343 0.4882 0.38982 0.59011 0.48264 C 0.69671 0.58079 0.7066 0.39908 0.81997 0.50347 C 0.92153 0.59722 0.81997 0.63195 0.91059 0.71528 C 0.99775 0.7956 0.98664 0.68704 1.06615 0.76042 C 1.11146 0.80232 1.10573 0.82338 1.10261 0.84097 E">
                                      <p:cBhvr>
                                        <p:cTn id="911" dur="10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2" nodeType="withEffect" fill="remove" presetClass="path" presetID="61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71077 0.28078 C 0.71372 0.24398 0.7191 0.203 0.71389 0.17986 C 0.70764 0.15578 0.69636 0.13796 0.68542 0.1199 C 0.67361 0.10138 0.65816 0.10023 0.64202 0.09814 C 0.62656 0.09722 0.60833 0.09861 0.58629 0.11782 C 0.56615 0.13217 0.54149 0.16365 0.51788 0.20046 C 0.49549 0.23425 0.47257 0.27662 0.45191 0.3206 C 0.43125 0.36458 0.41285 0.40995 0.39809 0.45347 C 0.3816 0.50115 0.37014 0.54652 0.36597 0.58703 C 0.35938 0.62754 0.35747 0.66527 0.36354 0.68912 C 0.36684 0.71689 0.37969 0.73449 0.39167 0.74398 C 0.40261 0.75601 0.41875 0.76342 0.43872 0.75208 C 0.45695 0.74259 0.48021 0.71435 0.50278 0.67129 C 0.525 0.628 0.53941 0.57893 0.54375 0.54328 C 0.54653 0.51064 0.54202 0.48356 0.52917 0.46921 C 0.51476 0.45856 0.49965 0.453 0.48038 0.46388 C 0.46198 0.475 0.46163 0.46875 0.41563 0.53495 C 0.3724 0.59166 0.34896 0.66388 0.33108 0.70463 C 0.31389 0.74675 0.30469 0.78379 0.29236 0.82824 C 0.27899 0.87939 0.27431 0.92314 0.2724 0.95694 C 0.27031 0.98981 0.27656 1.00995 0.28837 1.03726 C 0.30208 1.06296 0.31059 1.06782 0.32379 1.078 C 0.3375 1.0875 0.35104 1.09699 0.36406 1.10648 E">
                                      <p:cBhvr>
                                        <p:cTn id="913" dur="10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4" nodeType="withEffect" fill="remove" presetClass="path" presetID="37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915" dur="10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6" nodeType="withEffect" fill="hold" presetClass="path" presetID="5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917" dur="10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8" nodeType="withEffect" fill="remove" presetClass="path" presetID="0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919" dur="10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1"/>
          <p:cNvSpPr/>
          <p:nvPr/>
        </p:nvSpPr>
        <p:spPr>
          <a:xfrm>
            <a:off x="1269360" y="7430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猛然之间发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"/>
          <p:cNvSpPr/>
          <p:nvPr/>
        </p:nvSpPr>
        <p:spPr>
          <a:xfrm>
            <a:off x="1711440" y="1619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儿时那么多的想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3"/>
          <p:cNvSpPr/>
          <p:nvPr/>
        </p:nvSpPr>
        <p:spPr>
          <a:xfrm>
            <a:off x="2233440" y="2492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却无力想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4"/>
          <p:cNvSpPr/>
          <p:nvPr/>
        </p:nvSpPr>
        <p:spPr>
          <a:xfrm>
            <a:off x="0" y="743040"/>
            <a:ext cx="4511520" cy="27572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7973640" y="113760"/>
            <a:ext cx="60696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慢慢长大的同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6"/>
          <p:cNvSpPr/>
          <p:nvPr/>
        </p:nvSpPr>
        <p:spPr>
          <a:xfrm>
            <a:off x="6298560" y="2127240"/>
            <a:ext cx="6069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偷走了他们的黑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7"/>
          <p:cNvSpPr/>
          <p:nvPr/>
        </p:nvSpPr>
        <p:spPr>
          <a:xfrm>
            <a:off x="7104960" y="222264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8"/>
          <p:cNvSpPr/>
          <p:nvPr/>
        </p:nvSpPr>
        <p:spPr>
          <a:xfrm>
            <a:off x="5796000" y="260280"/>
            <a:ext cx="2952720" cy="5616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9"/>
          <p:cNvSpPr/>
          <p:nvPr/>
        </p:nvSpPr>
        <p:spPr>
          <a:xfrm>
            <a:off x="2486520" y="16844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然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0"/>
          <p:cNvSpPr/>
          <p:nvPr/>
        </p:nvSpPr>
        <p:spPr>
          <a:xfrm>
            <a:off x="2564280" y="392256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点一点的脱离他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1"/>
          <p:cNvSpPr/>
          <p:nvPr/>
        </p:nvSpPr>
        <p:spPr>
          <a:xfrm>
            <a:off x="4333680" y="4643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脱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4"/>
          <p:cNvSpPr/>
          <p:nvPr/>
        </p:nvSpPr>
        <p:spPr>
          <a:xfrm>
            <a:off x="5243760" y="5154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脱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5"/>
          <p:cNvSpPr/>
          <p:nvPr/>
        </p:nvSpPr>
        <p:spPr>
          <a:xfrm>
            <a:off x="6277320" y="5746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脱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6" descr="2008052419253815296"/>
          <p:cNvPicPr/>
          <p:nvPr/>
        </p:nvPicPr>
        <p:blipFill>
          <a:blip r:embed="rId7"/>
          <a:srcRect l="0" t="0" r="0" b="24439"/>
          <a:stretch/>
        </p:blipFill>
        <p:spPr>
          <a:xfrm>
            <a:off x="324000" y="189000"/>
            <a:ext cx="4716360" cy="289728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331" name="Picture 27" descr="2008052419261671823"/>
          <p:cNvPicPr/>
          <p:nvPr/>
        </p:nvPicPr>
        <p:blipFill>
          <a:blip r:embed="rId8"/>
          <a:srcRect l="0" t="0" r="0" b="34392"/>
          <a:stretch/>
        </p:blipFill>
        <p:spPr>
          <a:xfrm>
            <a:off x="4427640" y="189000"/>
            <a:ext cx="4392360" cy="263664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sp>
        <p:nvSpPr>
          <p:cNvPr id="332" name="矩形 12"/>
          <p:cNvSpPr/>
          <p:nvPr/>
        </p:nvSpPr>
        <p:spPr>
          <a:xfrm>
            <a:off x="-179280" y="0"/>
            <a:ext cx="9323280" cy="4444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8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21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8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26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26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26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4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24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24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4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42">
                                  <p:stCondLst>
                                    <p:cond delay="161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32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32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32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195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2">
                                  <p:stCondLst>
                                    <p:cond delay="203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2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2">
                                  <p:stCondLst>
                                    <p:cond delay="237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2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>
                                  <p:stCondLst>
                                    <p:cond delay="236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263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25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0">
                                  <p:stCondLst>
                                    <p:cond delay="26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27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2" dur="1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remove" presetClass="path" presetID="59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985" dur="10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6" nodeType="withEffect" fill="remove" presetClass="path" presetID="60" repeatCount="200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6146 -0.025 C 0.14792 0.02709 0.13421 0.10463 0.20261 0.16574 C 0.30105 0.25602 0.41389 0.05903 0.5316 0.16621 C 0.63698 0.26343 0.4882 0.38982 0.59011 0.48264 C 0.69671 0.58079 0.7066 0.39908 0.81997 0.50347 C 0.92153 0.59722 0.81997 0.63195 0.91059 0.71528 C 0.99775 0.7956 0.98664 0.68704 1.06615 0.76042 C 1.11146 0.80232 1.10573 0.82338 1.10261 0.84097 E">
                                      <p:cBhvr>
                                        <p:cTn id="987" dur="10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8" nodeType="withEffect" fill="remove" presetClass="path" presetID="61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71077 0.28078 C 0.71372 0.24398 0.7191 0.203 0.71389 0.17986 C 0.70764 0.15578 0.69636 0.13796 0.68542 0.1199 C 0.67361 0.10138 0.65816 0.10023 0.64202 0.09814 C 0.62656 0.09722 0.60833 0.09861 0.58629 0.11782 C 0.56615 0.13217 0.54149 0.16365 0.51788 0.20046 C 0.49549 0.23425 0.47257 0.27662 0.45191 0.3206 C 0.43125 0.36458 0.41285 0.40995 0.39809 0.45347 C 0.3816 0.50115 0.37014 0.54652 0.36597 0.58703 C 0.35938 0.62754 0.35747 0.66527 0.36354 0.68912 C 0.36684 0.71689 0.37969 0.73449 0.39167 0.74398 C 0.40261 0.75601 0.41875 0.76342 0.43872 0.75208 C 0.45695 0.74259 0.48021 0.71435 0.50278 0.67129 C 0.525 0.628 0.53941 0.57893 0.54375 0.54328 C 0.54653 0.51064 0.54202 0.48356 0.52917 0.46921 C 0.51476 0.45856 0.49965 0.453 0.48038 0.46388 C 0.46198 0.475 0.46163 0.46875 0.41563 0.53495 C 0.3724 0.59166 0.34896 0.66388 0.33108 0.70463 C 0.31389 0.74675 0.30469 0.78379 0.29236 0.82824 C 0.27899 0.87939 0.27431 0.92314 0.2724 0.95694 C 0.27031 0.98981 0.27656 1.00995 0.28837 1.03726 C 0.30208 1.06296 0.31059 1.06782 0.32379 1.078 C 0.3375 1.0875 0.35104 1.09699 0.36406 1.10648 E">
                                      <p:cBhvr>
                                        <p:cTn id="989" dur="10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0" nodeType="withEffect" fill="remove" presetClass="path" presetID="37" repeatCount="200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991" dur="10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2" nodeType="withEffect" fill="hold" presetClass="path" presetID="50" repeatCount="2000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993" dur="10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4" nodeType="withEffect" fill="remove" presetClass="path" presetID="0" repeatCount="2000">
                                  <p:stCondLst>
                                    <p:cond delay="91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995" dur="10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6" presetSubtype="26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29">
                                  <p:stCondLst>
                                    <p:cond delay="1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0" dur="24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4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2" dur="24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6" presetSubtype="37">
                                  <p:stCondLst>
                                    <p:cond delay="216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"/>
          <p:cNvSpPr/>
          <p:nvPr/>
        </p:nvSpPr>
        <p:spPr>
          <a:xfrm>
            <a:off x="7093080" y="914400"/>
            <a:ext cx="129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新月形 4"/>
          <p:cNvSpPr/>
          <p:nvPr/>
        </p:nvSpPr>
        <p:spPr>
          <a:xfrm rot="1410000">
            <a:off x="1068120" y="7808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云形 5"/>
          <p:cNvGrpSpPr/>
          <p:nvPr/>
        </p:nvGrpSpPr>
        <p:grpSpPr>
          <a:xfrm>
            <a:off x="2755800" y="1085760"/>
            <a:ext cx="1682640" cy="1224000"/>
            <a:chOff x="2755800" y="1085760"/>
            <a:chExt cx="1682640" cy="1224000"/>
          </a:xfrm>
        </p:grpSpPr>
        <p:pic>
          <p:nvPicPr>
            <p:cNvPr id="337" name="云形 5" descr=""/>
            <p:cNvPicPr/>
            <p:nvPr/>
          </p:nvPicPr>
          <p:blipFill>
            <a:blip r:embed="rId1"/>
            <a:stretch/>
          </p:blipFill>
          <p:spPr>
            <a:xfrm>
              <a:off x="2755800" y="1085760"/>
              <a:ext cx="1682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3103560" y="1376280"/>
              <a:ext cx="89064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Box 7"/>
          <p:cNvSpPr/>
          <p:nvPr/>
        </p:nvSpPr>
        <p:spPr>
          <a:xfrm>
            <a:off x="1227960" y="3386160"/>
            <a:ext cx="231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涌上心头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除却深深地寂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还有  </a:t>
            </a:r>
            <a:r>
              <a:rPr b="1" lang="en-US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7778520" y="46044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唯有寄托于音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9"/>
          <p:cNvSpPr/>
          <p:nvPr/>
        </p:nvSpPr>
        <p:spPr>
          <a:xfrm>
            <a:off x="420840" y="2852640"/>
            <a:ext cx="4392360" cy="247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0"/>
          <p:cNvSpPr/>
          <p:nvPr/>
        </p:nvSpPr>
        <p:spPr>
          <a:xfrm>
            <a:off x="1544760" y="3460680"/>
            <a:ext cx="55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只期盼可以带来一丝慰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使自己不孤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C -0.00625 -0.01295 0.00139 0.00047 -0.00903 -0.00994 C -0.01129 -0.01225 -0.0125 -0.01595 -0.01493 -0.01803 C -0.02135 -0.02335 -0.03021 -0.02058 -0.03733 -0.02382 C -0.04358 -0.02659 -0.04879 -0.02983 -0.05521 -0.03191 C -0.06424 -0.03492 -0.05521 -0.0326 -0.06424 -0.03584 C -0.07014 -0.03792 -0.08212 -0.04186 -0.08212 -0.04186 C -0.09462 -0.04001 -0.10729 -0.03792 -0.11944 -0.03376 C -0.12517 -0.02266 -0.11892 -0.03214 -0.1283 -0.0259 C -0.12951 -0.02497 -0.13021 -0.02289 -0.13142 -0.02197 C -0.13281 -0.02081 -0.13438 -0.02058 -0.13576 -0.01989 C -0.1408 -0.01318 -0.14688 -0.00485 -0.15365 -0.00208 C -0.16285 0.00602 -0.15278 -0.00185 -0.16563 0.00394 C -0.18108 0.01087 -0.18663 0.01388 -0.20451 0.01596 C -0.2184 0.01527 -0.23229 0.01504 -0.24618 0.01388 C -0.25833 0.01272 -0.26892 0.0037 -0.28056 0 C -0.28264 -0.00277 -0.28455 -0.00555 -0.28663 -0.00809 C -0.28802 -0.00971 -0.28993 -0.01017 -0.29097 -0.01202 C -0.29271 -0.0148 -0.29288 -0.01873 -0.2941 -0.02197 E">
                                      <p:cBhvr>
                                        <p:cTn id="1024" dur="16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47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47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47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44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44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44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42">
                                  <p:stCondLst>
                                    <p:cond delay="137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3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55">
                                  <p:stCondLst>
                                    <p:cond delay="151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0">
                                  <p:stCondLst>
                                    <p:cond delay="178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204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3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extBox 1" descr=""/>
          <p:cNvPicPr/>
          <p:nvPr/>
        </p:nvPicPr>
        <p:blipFill>
          <a:blip r:embed="rId1"/>
          <a:stretch/>
        </p:blipFill>
        <p:spPr>
          <a:xfrm>
            <a:off x="3352680" y="2925720"/>
            <a:ext cx="2371680" cy="1890720"/>
          </a:xfrm>
          <a:prstGeom prst="rect">
            <a:avLst/>
          </a:prstGeom>
          <a:ln w="0">
            <a:noFill/>
          </a:ln>
        </p:spPr>
      </p:pic>
      <p:sp>
        <p:nvSpPr>
          <p:cNvPr id="344" name="TextBox 2"/>
          <p:cNvSpPr/>
          <p:nvPr/>
        </p:nvSpPr>
        <p:spPr>
          <a:xfrm>
            <a:off x="4470480" y="928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习惯于沉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4"/>
          <p:cNvSpPr/>
          <p:nvPr/>
        </p:nvSpPr>
        <p:spPr>
          <a:xfrm>
            <a:off x="4734720" y="220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习惯于封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2169000" y="3813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或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3557520" y="5516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习惯了孤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C:\Users\V I E\Desktop\111\111\111 (4).png"/>
          <p:cNvPicPr/>
          <p:nvPr/>
        </p:nvPicPr>
        <p:blipFill>
          <a:blip r:embed="rId2"/>
          <a:stretch/>
        </p:blipFill>
        <p:spPr>
          <a:xfrm>
            <a:off x="9540720" y="217440"/>
            <a:ext cx="1046160" cy="1047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"/>
          <p:cNvPicPr/>
          <p:nvPr/>
        </p:nvPicPr>
        <p:blipFill>
          <a:blip r:embed="rId3"/>
          <a:stretch/>
        </p:blipFill>
        <p:spPr>
          <a:xfrm>
            <a:off x="539640" y="474840"/>
            <a:ext cx="695520" cy="90792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fade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0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 0 L -0.31493 -0.29398 E">
                                      <p:cBhvr>
                                        <p:cTn id="1064" dur="31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42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1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1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42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2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2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path" presetID="0">
                                  <p:stCondLst>
                                    <p:cond delay="12900"/>
                                  </p:stCondLst>
                                  <p:childTnLst>
                                    <p:animMotion origin="layout" path="M 0.03767 0.31273 C 0.03663 0.30741 0.03733 0.3 0.03351 0.29838 C 0.00781 0.27593 -0.01424 0.26111 -0.04392 0.24097 C -0.05278 0.22685 -0.06545 0.21759 -0.07656 0.20764 C -0.08559 0.18634 -0.11163 0.16991 -0.1217 0.15602 C -0.18837 0.11551 -0.25955 0.06042 -0.33437 0.03519 C -0.3493 0.03357 -0.36354 0.02871 -0.37864 0.02477 C -0.39097 0.03218 -0.40746 0.02986 -0.41962 0.02847 C -0.42101 0.02917 -0.42274 0.03195 -0.42465 0.0331 C -0.42621 0.03357 -0.42708 0.03195 -0.42864 0.03403 C -0.43212 0.03681 -0.43559 0.04352 -0.43958 0.04722 C -0.44757 0.06343 -0.45226 0.08195 -0.45573 0.10116 C -0.45677 0.10671 -0.45833 0.11181 -0.45851 0.11667 C -0.45868 0.11875 -0.45851 0.12153 -0.45851 0.12546 C -0.45885 0.13727 -0.46076 0.13866 -0.45833 0.15093 C -0.45729 0.15764 -0.45885 0.16389 -0.45694 0.17084 C -0.45729 0.19584 -0.45399 0.21621 -0.44757 0.2338 C -0.44844 0.24283 -0.44757 0.24653 -0.44462 0.25162 C -0.44496 0.27037 -0.44114 0.27014 -0.43472 0.28033 C -0.42014 0.3088 -0.40087 0.3338 -0.38021 0.34815 C -0.36753 0.35764 -0.35347 0.36759 -0.33941 0.37639 C -0.33055 0.39398 -0.34062 0.37685 -0.32639 0.39352 C -0.3217 0.39931 -0.31788 0.40741 -0.31267 0.41343 C -0.30746 0.42431 -0.31354 0.4088 -0.31042 0.4257 C -0.31007 0.42732 -0.3092 0.42824 -0.30816 0.43009 C -0.30694 0.4331 -0.30677 0.43334 -0.30503 0.43704 C -0.30417 0.44005 -0.30486 0.44421 -0.30573 0.4463 C -0.30364 0.44908 -0.30035 0.4581 -0.29913 0.46088 C -0.29896 0.46459 -0.2993 0.46667 -0.30052 0.46921 C -0.29983 0.47269 -0.29722 0.48218 -0.29705 0.48287 C -0.29722 0.49861 -0.29792 0.5088 -0.29496 0.52014 C -0.29514 0.53195 -0.2967 0.54584 -0.29601 0.55648 C -0.29635 0.56019 -0.29774 0.5625 -0.29774 0.5669 C -0.29809 0.56898 -0.29792 0.56968 -0.29722 0.57315 C -0.29896 0.58357 -0.3026 0.59838 -0.30555 0.60949 C -0.31128 0.62639 -0.32187 0.66644 -0.33437 0.67384 C -0.33889 0.68079 -0.34288 0.68727 -0.34705 0.69352 C -0.34896 0.69421 -0.34983 0.69769 -0.35174 0.69931 C -0.35364 0.70093 -0.35538 0.70278 -0.35746 0.70417 C -0.36285 0.71574 -0.37014 0.71852 -0.37569 0.72732 C -0.37847 0.72824 -0.37864 0.73125 -0.38055 0.7331 C -0.38177 0.73334 -0.38264 0.73334 -0.38489 0.73287 C -0.3934 0.73843 -0.40087 0.7419 -0.40868 0.74375 C -0.41753 0.75162 -0.40555 0.74144 -0.42101 0.74792 C -0.42378 0.74884 -0.43316 0.75371 -0.43698 0.75695 E">
                                      <p:cBhvr>
                                        <p:cTn id="1082" dur="9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3" nodeType="withEffect" fill="hold" presetClass="emph" presetID="8">
                                  <p:stCondLst>
                                    <p:cond delay="12800"/>
                                  </p:stCondLst>
                                  <p:childTnLst>
                                    <p:animRot by="21600000">
                                      <p:cBhvr>
                                        <p:cTn id="1084" dur="9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"/>
          <p:cNvPicPr/>
          <p:nvPr/>
        </p:nvPicPr>
        <p:blipFill>
          <a:blip r:embed="rId1"/>
          <a:stretch/>
        </p:blipFill>
        <p:spPr>
          <a:xfrm>
            <a:off x="4572000" y="5734080"/>
            <a:ext cx="1049400" cy="10429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>
            <a:off x="5538960" y="5410080"/>
            <a:ext cx="1049040" cy="10432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695520" cy="907920"/>
          </a:xfrm>
          <a:prstGeom prst="rect">
            <a:avLst/>
          </a:prstGeom>
          <a:ln w="0">
            <a:noFill/>
          </a:ln>
        </p:spPr>
      </p:pic>
      <p:sp>
        <p:nvSpPr>
          <p:cNvPr id="353" name="矩形 1"/>
          <p:cNvSpPr/>
          <p:nvPr/>
        </p:nvSpPr>
        <p:spPr>
          <a:xfrm>
            <a:off x="4661280" y="551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孤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"/>
          <p:cNvSpPr/>
          <p:nvPr/>
        </p:nvSpPr>
        <p:spPr>
          <a:xfrm>
            <a:off x="3023280" y="9190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其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5523120" y="296712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就让绿叶带走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1864080" y="4287960"/>
            <a:ext cx="24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那本不属于谁</a:t>
            </a:r>
            <a:r>
              <a:rPr b="0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5"/>
          <p:cNvSpPr/>
          <p:nvPr/>
        </p:nvSpPr>
        <p:spPr>
          <a:xfrm>
            <a:off x="755640" y="5932440"/>
            <a:ext cx="269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提供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81481E-006 L -0.10781 0.04468 E">
                                      <p:cBhvr>
                                        <p:cTn id="1090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path" presetID="39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4.72222E-006 1.69401E-006 C 0.02171 0.01941 0.09636 -0.07742 0.16737 -0.2147 C 0.24063 -0.35614 0.28247 -0.48417 0.26077 -0.50428 C 0.23924 -0.52461 0.28125 -0.65311 0.35452 -0.79501 C 0.42587 -0.93321 0.50105 -1.03143 0.52275 -1.01156 E">
                                      <p:cBhvr>
                                        <p:cTn id="1096" dur="7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7" nodeType="withEffect" fill="hold" presetClass="path" presetID="39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0.00208 -0.00231 C 0.01997 0.01641 0.09271 -0.08528 0.16024 -0.22718 C 0.23125 -0.37532 0.26979 -0.50636 0.24792 -0.52623 C 0.22587 -0.54403 0.26476 -0.6753 0.33455 -0.82159 C 0.40226 -0.96441 0.47656 -1.0691 0.49827 -1.04969 E">
                                      <p:cBhvr>
                                        <p:cTn id="1098" dur="7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1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2" presetSubtype="8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26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新月形 2"/>
          <p:cNvSpPr/>
          <p:nvPr/>
        </p:nvSpPr>
        <p:spPr>
          <a:xfrm rot="1614600">
            <a:off x="577800" y="38700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1"/>
          <p:cNvSpPr/>
          <p:nvPr/>
        </p:nvSpPr>
        <p:spPr>
          <a:xfrm>
            <a:off x="0" y="0"/>
            <a:ext cx="9144000" cy="6885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3917160" y="10368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勿忘远方家乡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5223240" y="26240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勿忘他们的寄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1146600" y="3789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勿忘他们的喜与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3810960" y="27050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勿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39640" y="206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07465E-006 L 0.3882 0.40767 E">
                                      <p:cBhvr>
                                        <p:cTn id="1116" dur="5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8" dur="5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6" presetSubtype="2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10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0">
                                  <p:stCondLst>
                                    <p:cond delay="9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0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0">
                                  <p:stCondLst>
                                    <p:cond delay="1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16" presetSubtype="21">
                                  <p:stCondLst>
                                    <p:cond delay="1360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3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147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mph" presetID="3" presetSubtype="2">
                                  <p:stCondLst>
                                    <p:cond delay="16100"/>
                                  </p:stCondLst>
                                  <p:childTnLst>
                                    <p:animClr clrSpc="rgb">
                                      <p:cBhvr>
                                        <p:cTn id="1143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44" nodeType="withEffect" fill="hold" presetClass="emph" presetID="6">
                                  <p:stCondLst>
                                    <p:cond delay="16100"/>
                                  </p:stCondLst>
                                  <p:childTnLst>
                                    <p:animScale>
                                      <p:cBhvr>
                                        <p:cTn id="1145" dur="2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46" nodeType="withEffect" fill="remove" presetClass="path" presetID="59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1147" dur="10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8" nodeType="withEffect" fill="remove" presetClass="path" presetID="60">
                                  <p:stCondLst>
                                    <p:cond delay="8600"/>
                                  </p:stCondLst>
                                  <p:childTnLst>
                                    <p:animMotion origin="layout" path="M 0.13334 -0.05108 C 0.11997 0.00115 0.10677 0.07926 0.17726 0.14213 C 0.27848 0.23526 0.3915 0.03813 0.51285 0.1486 C 0.62118 0.2489 0.47084 0.3737 0.57587 0.46914 C 0.68542 0.57014 0.69375 0.3871 0.81042 0.4948 C 0.91493 0.59094 0.81164 0.62422 0.90521 0.70996 C 0.99497 0.79292 0.98247 0.68315 1.06424 0.75826 C 1.11094 0.80171 1.10539 0.82297 1.10243 0.84053 E">
                                      <p:cBhvr>
                                        <p:cTn id="1149" dur="10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0" nodeType="withEffect" fill="remove" presetClass="path" presetID="61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72118 0.28842 C 0.72361 0.25144 0.72865 0.20984 0.72274 0.18673 C 0.7158 0.162 0.70365 0.14352 0.69184 0.12503 C 0.67934 0.10608 0.6632 0.10446 0.64636 0.10169 C 0.63004 0.1003 0.61129 0.10122 0.58872 0.11971 C 0.56788 0.13358 0.54288 0.16478 0.51875 0.20106 C 0.49601 0.2348 0.47274 0.27686 0.45191 0.32054 C 0.43125 0.36468 0.41285 0.40998 0.39809 0.45366 C 0.38177 0.50127 0.37066 0.54703 0.36719 0.58793 C 0.36077 0.62838 0.35955 0.66697 0.36615 0.69124 C 0.37031 0.71943 0.38386 0.73746 0.3967 0.74763 C 0.40816 0.76011 0.42518 0.76797 0.44583 0.7571 C 0.46476 0.74809 0.48854 0.72036 0.51111 0.67737 C 0.53368 0.63439 0.54774 0.58493 0.55174 0.54911 C 0.55399 0.51629 0.54879 0.48833 0.53507 0.47354 C 0.52014 0.46244 0.50417 0.45643 0.4842 0.4666 C 0.46528 0.47747 0.46476 0.47099 0.41788 0.53663 C 0.37396 0.59279 0.3507 0.66536 0.33281 0.7058 C 0.31545 0.74786 0.3066 0.7853 0.29445 0.82967 C 0.28143 0.88098 0.27726 0.92512 0.27587 0.95955 C 0.27431 0.9926 0.28125 1.01317 0.29393 1.04114 C 0.30868 1.06771 0.31754 1.0728 0.33177 1.08366 C 0.34618 1.09383 0.36042 1.10377 0.37413 1.1137 E">
                                      <p:cBhvr>
                                        <p:cTn id="1151" dur="10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2" nodeType="withEffect" fill="remove" presetClass="path" presetID="37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1153" dur="10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4" nodeType="withEffect" fill="hold" presetClass="path" presetID="50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1155" dur="10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6" nodeType="withEffect" fill="remove" presetClass="path" presetID="0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1157" dur="10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7:57:42Z</dcterms:created>
  <dc:creator>幻灯片之家 http://www.eeppt.com; pc</dc:creator>
  <dc:description>幻灯片之家 http://www.eeppt.com</dc:description>
  <cp:keywords>幻灯片之家 http:/www.eeppt.com; www.eeppt.com</cp:keywords>
  <dc:language>en-US</dc:language>
  <cp:lastModifiedBy>jccook</cp:lastModifiedBy>
  <dcterms:modified xsi:type="dcterms:W3CDTF">2015-08-14T12:51:59Z</dcterms:modified>
  <cp:revision>13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