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88D63-724B-432C-A1FD-D9D814592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16714-69F3-4320-9FA2-949512406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D1FA2-E529-41D0-8CA4-11EC5A11A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0BB03-6F6C-4C0B-988A-C936801A9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5117B-938A-470B-BF86-9E17BE0CF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C2B22-7C1B-49C8-909D-40A0E1EEC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B372F-89AB-491A-9248-22075C7A7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F203B-1098-4AA3-A10B-5D91AC3B8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4B8B8-FFBE-423C-9796-06A378E18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87649-574C-4802-A473-CF61C1B39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BF757-3C4B-4092-8C85-3097BD0A6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ED3A0-6165-4F34-A8EA-64A18FB3D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6EDBD-E789-42B7-BD08-0A1D21D1AD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2"/>
          <a:stretch/>
        </p:blipFill>
        <p:spPr>
          <a:xfrm>
            <a:off x="3205080" y="1628640"/>
            <a:ext cx="2382840" cy="31384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3"/>
          <a:stretch/>
        </p:blipFill>
        <p:spPr>
          <a:xfrm>
            <a:off x="1044720" y="3141720"/>
            <a:ext cx="2984400" cy="10414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6" descr=""/>
          <p:cNvPicPr/>
          <p:nvPr/>
        </p:nvPicPr>
        <p:blipFill>
          <a:blip r:embed="rId4"/>
          <a:stretch/>
        </p:blipFill>
        <p:spPr>
          <a:xfrm>
            <a:off x="5869080" y="3213000"/>
            <a:ext cx="1439640" cy="8938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636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896840" y="260280"/>
            <a:ext cx="4762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感恩教师节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6" descr=""/>
          <p:cNvPicPr/>
          <p:nvPr/>
        </p:nvPicPr>
        <p:blipFill>
          <a:blip r:embed="rId2"/>
          <a:stretch/>
        </p:blipFill>
        <p:spPr>
          <a:xfrm>
            <a:off x="0" y="2565360"/>
            <a:ext cx="9325080" cy="1628640"/>
          </a:xfrm>
          <a:prstGeom prst="rect">
            <a:avLst/>
          </a:prstGeom>
          <a:ln w="0">
            <a:noFill/>
          </a:ln>
        </p:spPr>
      </p:pic>
      <p:sp>
        <p:nvSpPr>
          <p:cNvPr id="47" name="Text Box 7"/>
          <p:cNvSpPr/>
          <p:nvPr/>
        </p:nvSpPr>
        <p:spPr>
          <a:xfrm>
            <a:off x="4129200" y="2997360"/>
            <a:ext cx="86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教师是火种，点燃了学生的心灵之火 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4"/>
          <p:cNvSpPr/>
          <p:nvPr/>
        </p:nvSpPr>
        <p:spPr>
          <a:xfrm>
            <a:off x="0" y="6453360"/>
            <a:ext cx="79200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模板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moban/     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jieri/           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素材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背景图片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beijing/      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图表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xiazai/        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word/              Excel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教程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ziliao/                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课件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fanwen/             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4"/>
          <p:cNvSpPr/>
          <p:nvPr/>
        </p:nvSpPr>
        <p:spPr>
          <a:xfrm>
            <a:off x="4170960" y="5373720"/>
            <a:ext cx="12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教师是石级，承受着学生一步步踏实地向上攀登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62064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4"/>
          <p:cNvSpPr/>
          <p:nvPr/>
        </p:nvSpPr>
        <p:spPr>
          <a:xfrm>
            <a:off x="4080240" y="692280"/>
            <a:ext cx="114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教师是一支蜡烛，虽然细弱，但有一分热，发一分光，照亮了别人，耗尽了自己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" dur="80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" dur="80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" dur="80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4"/>
          <p:cNvSpPr/>
          <p:nvPr/>
        </p:nvSpPr>
        <p:spPr>
          <a:xfrm>
            <a:off x="1403280" y="2924280"/>
            <a:ext cx="668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这无私的奉献，令人永志不忘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45194-3784-4006-A845-FEA15A2949B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7" descr=""/>
          <p:cNvPicPr/>
          <p:nvPr/>
        </p:nvPicPr>
        <p:blipFill>
          <a:blip r:embed="rId2"/>
          <a:stretch/>
        </p:blipFill>
        <p:spPr>
          <a:xfrm>
            <a:off x="324000" y="836640"/>
            <a:ext cx="4103640" cy="11415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0" descr=""/>
          <p:cNvPicPr/>
          <p:nvPr/>
        </p:nvPicPr>
        <p:blipFill>
          <a:blip r:embed="rId3"/>
          <a:stretch/>
        </p:blipFill>
        <p:spPr>
          <a:xfrm>
            <a:off x="2195640" y="476280"/>
            <a:ext cx="158904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6T13:54:32Z</dcterms:created>
  <dc:creator>幻灯片之家 http://www.eeppt.com; pc</dc:creator>
  <dc:description>幻灯片之家 http://www.eeppt.com</dc:description>
  <cp:keywords>幻灯片之家 http:/www.eeppt.com; www.eeppt.com</cp:keywords>
  <dc:language>en-US</dc:language>
  <cp:lastModifiedBy>lenovo</cp:lastModifiedBy>
  <dcterms:modified xsi:type="dcterms:W3CDTF">2015-08-14T12:51:54Z</dcterms:modified>
  <cp:revision>27</cp:revision>
  <dc:subject/>
  <dc:title>www.eeppt.com;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