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BCC-25AF-499C-96AD-ACF23ADC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7C1-782C-4755-B0A1-4E69C04C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17C-B9E2-4EE2-A55C-23AA5D2E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61C-7C62-4F94-B3C1-5993EF5E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9135-B5CF-4E87-A00E-D1529B58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A7C8-33BB-4960-BF5A-66FBDF7C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29B-02C5-427F-A148-CECB4B2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1D3F-ED93-4833-AA0D-A6E4F268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E927-4061-4CC8-ACA3-2702B245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3710-5AA2-4887-B98B-A25ACCD5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DD8-EBAB-4A8C-91FC-5D207B8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92D-7D2A-4C47-8E85-7ED963FB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E3EF-0E58-4F5B-9A65-AA5A7DE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7635-F739-4AB3-8ADF-7BAC82F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1EC9-2D59-4AFF-BEF5-36AB88A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E0AA-7E37-43E0-8C53-8306D71A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53E4-58A3-4AE5-A2ED-1CE745B1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BC9-1024-4174-B0C3-2BD66611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026-99B3-493C-8C8A-D8C7DE6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70D-C534-4055-A429-2E9E8ABD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1C9-C01A-42A7-A079-9D28A6E2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7B5-8B7C-40C7-AFD5-6536954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D86-B503-4C2D-A769-8741948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F14-48A7-4A12-AA06-887B32C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668A-0C61-4BEE-834A-53E53A05C8AF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E29C-6633-42CD-9087-FA4FD8D44F79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THANKSGIVING FAL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9144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1760" y="1341360"/>
            <a:ext cx="53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节之秋的色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9E8-DECD-4DC2-B01E-58F9FA31C049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rId3"/>
          </p:cNvPr>
          <p:cNvSpPr/>
          <p:nvPr/>
        </p:nvSpPr>
        <p:spPr>
          <a:xfrm>
            <a:off x="761040" y="700200"/>
            <a:ext cx="90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13" descr="thanksgiving_fall_qx"/>
          <p:cNvPicPr/>
          <p:nvPr/>
        </p:nvPicPr>
        <p:blipFill>
          <a:blip r:embed="rId4"/>
          <a:stretch/>
        </p:blipFill>
        <p:spPr>
          <a:xfrm>
            <a:off x="24940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5" name="Picture 214" descr="thanksgiving_fall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6" name="Picture 215" descr="thanksgiving_fall_prt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7" name="Picture 216" descr="thanksgiving_fall_trs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6:44:39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58Z</dcterms:modified>
  <cp:revision>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