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EA5-C92D-4E41-93C8-1098127D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B57-BA57-4FED-8D2F-FE9D055F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0FB-69AD-4308-8976-076FB9F5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0DC-0EB7-4B4D-8760-D4479C99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4806-E255-4B51-AEBE-ABE88140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92B-D118-4AE9-8EBB-05A8C16B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172-AF8B-430D-83AA-7D23ECC3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525A-C36D-4388-8EB9-BA22FC24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6973-542D-4AFC-8915-F9051308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3EFD-38A2-433C-BE17-67144035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C006-7A3D-4F85-9637-45214C8B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7FA-97F4-48B6-A37B-1758B391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4209-92E0-479E-89F5-C9071278E1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6.png"/><Relationship Id="rId20" Type="http://schemas.openxmlformats.org/officeDocument/2006/relationships/image" Target="../media/image4.png"/><Relationship Id="rId21" Type="http://schemas.openxmlformats.org/officeDocument/2006/relationships/image" Target="../media/image5.png"/><Relationship Id="rId22" Type="http://schemas.openxmlformats.org/officeDocument/2006/relationships/image" Target="../media/image4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3.png"/><Relationship Id="rId28" Type="http://schemas.openxmlformats.org/officeDocument/2006/relationships/image" Target="../media/image5.png"/><Relationship Id="rId29" Type="http://schemas.openxmlformats.org/officeDocument/2006/relationships/image" Target="../media/image6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image" Target="../media/image10.png"/><Relationship Id="rId35" Type="http://schemas.openxmlformats.org/officeDocument/2006/relationships/image" Target="../media/image11.png"/><Relationship Id="rId36" Type="http://schemas.openxmlformats.org/officeDocument/2006/relationships/image" Target="../media/image12.png"/><Relationship Id="rId37" Type="http://schemas.openxmlformats.org/officeDocument/2006/relationships/image" Target="../media/image10.png"/><Relationship Id="rId38" Type="http://schemas.openxmlformats.org/officeDocument/2006/relationships/image" Target="../media/image13.png"/><Relationship Id="rId39" Type="http://schemas.openxmlformats.org/officeDocument/2006/relationships/image" Target="../media/image14.png"/><Relationship Id="rId40" Type="http://schemas.openxmlformats.org/officeDocument/2006/relationships/image" Target="../media/image12.png"/><Relationship Id="rId4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929200" y="10000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6534720" y="1857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6320520" y="2786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6677640" y="3857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心形 5"/>
          <p:cNvSpPr/>
          <p:nvPr/>
        </p:nvSpPr>
        <p:spPr>
          <a:xfrm>
            <a:off x="1357200" y="1357200"/>
            <a:ext cx="3357720" cy="2571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心形 6"/>
          <p:cNvSpPr/>
          <p:nvPr/>
        </p:nvSpPr>
        <p:spPr>
          <a:xfrm>
            <a:off x="3179880" y="2502000"/>
            <a:ext cx="1660320" cy="1538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20090429145512748.mp3" descr=""/>
          <p:cNvPicPr/>
          <p:nvPr/>
        </p:nvPicPr>
        <p:blipFill>
          <a:blip r:embed="rId1"/>
          <a:stretch/>
        </p:blipFill>
        <p:spPr>
          <a:xfrm>
            <a:off x="9429840" y="2214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325080" y="27129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9468000" y="32893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1080" y="53053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12840" y="40968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感恩母亲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4f4f4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BA81-9C27-41D7-8335-A70D52257F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681" name="椭圆 112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Box 113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182"/>
          <p:cNvSpPr/>
          <p:nvPr/>
        </p:nvSpPr>
        <p:spPr>
          <a:xfrm flipH="1">
            <a:off x="4785840" y="3357720"/>
            <a:ext cx="4357800" cy="235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直接连接符 187"/>
          <p:cNvSpPr/>
          <p:nvPr/>
        </p:nvSpPr>
        <p:spPr>
          <a:xfrm flipH="1">
            <a:off x="2571840" y="3143160"/>
            <a:ext cx="6572160" cy="221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直接连接符 189"/>
          <p:cNvSpPr/>
          <p:nvPr/>
        </p:nvSpPr>
        <p:spPr>
          <a:xfrm>
            <a:off x="428760" y="1428840"/>
            <a:ext cx="1714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直接连接符 191"/>
          <p:cNvSpPr/>
          <p:nvPr/>
        </p:nvSpPr>
        <p:spPr>
          <a:xfrm>
            <a:off x="2143080" y="1428840"/>
            <a:ext cx="0" cy="36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直接连接符 194"/>
          <p:cNvSpPr/>
          <p:nvPr/>
        </p:nvSpPr>
        <p:spPr>
          <a:xfrm>
            <a:off x="426960" y="1428840"/>
            <a:ext cx="0" cy="36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197"/>
          <p:cNvSpPr/>
          <p:nvPr/>
        </p:nvSpPr>
        <p:spPr>
          <a:xfrm>
            <a:off x="428760" y="1428840"/>
            <a:ext cx="42840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直接连接符 199"/>
          <p:cNvSpPr/>
          <p:nvPr/>
        </p:nvSpPr>
        <p:spPr>
          <a:xfrm>
            <a:off x="857160" y="1643040"/>
            <a:ext cx="1714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直接连接符 204"/>
          <p:cNvSpPr/>
          <p:nvPr/>
        </p:nvSpPr>
        <p:spPr>
          <a:xfrm>
            <a:off x="2143080" y="1428840"/>
            <a:ext cx="42876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接连接符 207"/>
          <p:cNvSpPr/>
          <p:nvPr/>
        </p:nvSpPr>
        <p:spPr>
          <a:xfrm flipH="1">
            <a:off x="2569680" y="1643040"/>
            <a:ext cx="1800" cy="378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直接连接符 210"/>
          <p:cNvSpPr/>
          <p:nvPr/>
        </p:nvSpPr>
        <p:spPr>
          <a:xfrm>
            <a:off x="857160" y="1643040"/>
            <a:ext cx="0" cy="3857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直接连接符 216"/>
          <p:cNvSpPr/>
          <p:nvPr/>
        </p:nvSpPr>
        <p:spPr>
          <a:xfrm flipV="1">
            <a:off x="857160" y="5430960"/>
            <a:ext cx="171468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直接连接符 219"/>
          <p:cNvSpPr/>
          <p:nvPr/>
        </p:nvSpPr>
        <p:spPr>
          <a:xfrm>
            <a:off x="428760" y="5072040"/>
            <a:ext cx="428400" cy="428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直接连接符 221"/>
          <p:cNvSpPr/>
          <p:nvPr/>
        </p:nvSpPr>
        <p:spPr>
          <a:xfrm>
            <a:off x="2143080" y="5072040"/>
            <a:ext cx="428760" cy="35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直接连接符 224"/>
          <p:cNvSpPr/>
          <p:nvPr/>
        </p:nvSpPr>
        <p:spPr>
          <a:xfrm flipH="1">
            <a:off x="1212840" y="928800"/>
            <a:ext cx="1440" cy="421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直接连接符 227"/>
          <p:cNvSpPr/>
          <p:nvPr/>
        </p:nvSpPr>
        <p:spPr>
          <a:xfrm>
            <a:off x="1857240" y="928800"/>
            <a:ext cx="0" cy="42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直接连接符 229"/>
          <p:cNvSpPr/>
          <p:nvPr/>
        </p:nvSpPr>
        <p:spPr>
          <a:xfrm flipV="1">
            <a:off x="1225440" y="928440"/>
            <a:ext cx="631800" cy="11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直接连接符 232"/>
          <p:cNvSpPr/>
          <p:nvPr/>
        </p:nvSpPr>
        <p:spPr>
          <a:xfrm>
            <a:off x="1213560" y="928800"/>
            <a:ext cx="716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直接连接符 234"/>
          <p:cNvSpPr/>
          <p:nvPr/>
        </p:nvSpPr>
        <p:spPr>
          <a:xfrm>
            <a:off x="1856520" y="928800"/>
            <a:ext cx="14292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直接连接符 242"/>
          <p:cNvSpPr/>
          <p:nvPr/>
        </p:nvSpPr>
        <p:spPr>
          <a:xfrm flipV="1">
            <a:off x="1285920" y="1142640"/>
            <a:ext cx="714240" cy="11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直接连接符 248"/>
          <p:cNvSpPr/>
          <p:nvPr/>
        </p:nvSpPr>
        <p:spPr>
          <a:xfrm>
            <a:off x="1285920" y="1143000"/>
            <a:ext cx="71280" cy="421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直接连接符 253"/>
          <p:cNvSpPr/>
          <p:nvPr/>
        </p:nvSpPr>
        <p:spPr>
          <a:xfrm>
            <a:off x="2000160" y="1143000"/>
            <a:ext cx="0" cy="421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262"/>
          <p:cNvSpPr/>
          <p:nvPr/>
        </p:nvSpPr>
        <p:spPr>
          <a:xfrm>
            <a:off x="1357200" y="5357880"/>
            <a:ext cx="6429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直接连接符 264"/>
          <p:cNvSpPr/>
          <p:nvPr/>
        </p:nvSpPr>
        <p:spPr>
          <a:xfrm>
            <a:off x="1214280" y="5141880"/>
            <a:ext cx="6429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直接连接符 266"/>
          <p:cNvSpPr/>
          <p:nvPr/>
        </p:nvSpPr>
        <p:spPr>
          <a:xfrm>
            <a:off x="1213560" y="5143680"/>
            <a:ext cx="14292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直接连接符 269"/>
          <p:cNvSpPr/>
          <p:nvPr/>
        </p:nvSpPr>
        <p:spPr>
          <a:xfrm>
            <a:off x="1856520" y="5143680"/>
            <a:ext cx="14292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直接连接符 303"/>
          <p:cNvSpPr/>
          <p:nvPr/>
        </p:nvSpPr>
        <p:spPr>
          <a:xfrm>
            <a:off x="428760" y="5072040"/>
            <a:ext cx="1714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直接连接符 312"/>
          <p:cNvSpPr/>
          <p:nvPr/>
        </p:nvSpPr>
        <p:spPr>
          <a:xfrm>
            <a:off x="428760" y="178596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直接连接符 314"/>
          <p:cNvSpPr/>
          <p:nvPr/>
        </p:nvSpPr>
        <p:spPr>
          <a:xfrm>
            <a:off x="857160" y="2000160"/>
            <a:ext cx="171468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直接连接符 316"/>
          <p:cNvSpPr/>
          <p:nvPr/>
        </p:nvSpPr>
        <p:spPr>
          <a:xfrm flipH="1" flipV="1">
            <a:off x="2142720" y="178560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接连接符 319"/>
          <p:cNvSpPr/>
          <p:nvPr/>
        </p:nvSpPr>
        <p:spPr>
          <a:xfrm flipH="1" flipV="1">
            <a:off x="428760" y="178596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直接连接符 321"/>
          <p:cNvSpPr/>
          <p:nvPr/>
        </p:nvSpPr>
        <p:spPr>
          <a:xfrm>
            <a:off x="428760" y="221472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 330"/>
          <p:cNvSpPr/>
          <p:nvPr/>
        </p:nvSpPr>
        <p:spPr>
          <a:xfrm>
            <a:off x="857160" y="242892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接连接符 331"/>
          <p:cNvSpPr/>
          <p:nvPr/>
        </p:nvSpPr>
        <p:spPr>
          <a:xfrm flipH="1" flipV="1">
            <a:off x="2142720" y="221436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直接连接符 332"/>
          <p:cNvSpPr/>
          <p:nvPr/>
        </p:nvSpPr>
        <p:spPr>
          <a:xfrm flipH="1" flipV="1">
            <a:off x="428760" y="221472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直接连接符 333"/>
          <p:cNvSpPr/>
          <p:nvPr/>
        </p:nvSpPr>
        <p:spPr>
          <a:xfrm>
            <a:off x="428760" y="2643120"/>
            <a:ext cx="42840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直接连接符 334"/>
          <p:cNvSpPr/>
          <p:nvPr/>
        </p:nvSpPr>
        <p:spPr>
          <a:xfrm>
            <a:off x="857160" y="285768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直接连接符 335"/>
          <p:cNvSpPr/>
          <p:nvPr/>
        </p:nvSpPr>
        <p:spPr>
          <a:xfrm flipH="1" flipV="1">
            <a:off x="2142720" y="2643120"/>
            <a:ext cx="42876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直接连接符 336"/>
          <p:cNvSpPr/>
          <p:nvPr/>
        </p:nvSpPr>
        <p:spPr>
          <a:xfrm flipH="1" flipV="1">
            <a:off x="428760" y="264276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直接连接符 339"/>
          <p:cNvSpPr/>
          <p:nvPr/>
        </p:nvSpPr>
        <p:spPr>
          <a:xfrm>
            <a:off x="428760" y="3000240"/>
            <a:ext cx="42840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直接连接符 342"/>
          <p:cNvSpPr/>
          <p:nvPr/>
        </p:nvSpPr>
        <p:spPr>
          <a:xfrm>
            <a:off x="857160" y="321480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直接连接符 343"/>
          <p:cNvSpPr/>
          <p:nvPr/>
        </p:nvSpPr>
        <p:spPr>
          <a:xfrm flipH="1" flipV="1">
            <a:off x="2142720" y="3000240"/>
            <a:ext cx="42876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直接连接符 344"/>
          <p:cNvSpPr/>
          <p:nvPr/>
        </p:nvSpPr>
        <p:spPr>
          <a:xfrm flipH="1" flipV="1">
            <a:off x="428760" y="299988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直接连接符 345"/>
          <p:cNvSpPr/>
          <p:nvPr/>
        </p:nvSpPr>
        <p:spPr>
          <a:xfrm>
            <a:off x="428760" y="342900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直接连接符 346"/>
          <p:cNvSpPr/>
          <p:nvPr/>
        </p:nvSpPr>
        <p:spPr>
          <a:xfrm>
            <a:off x="857160" y="3643200"/>
            <a:ext cx="171468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347"/>
          <p:cNvSpPr/>
          <p:nvPr/>
        </p:nvSpPr>
        <p:spPr>
          <a:xfrm flipH="1" flipV="1">
            <a:off x="2142720" y="342864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直接连接符 348"/>
          <p:cNvSpPr/>
          <p:nvPr/>
        </p:nvSpPr>
        <p:spPr>
          <a:xfrm flipH="1" flipV="1">
            <a:off x="428760" y="342900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直接连接符 349"/>
          <p:cNvSpPr/>
          <p:nvPr/>
        </p:nvSpPr>
        <p:spPr>
          <a:xfrm>
            <a:off x="428760" y="3786120"/>
            <a:ext cx="42840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直接连接符 350"/>
          <p:cNvSpPr/>
          <p:nvPr/>
        </p:nvSpPr>
        <p:spPr>
          <a:xfrm>
            <a:off x="857160" y="400068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接连接符 351"/>
          <p:cNvSpPr/>
          <p:nvPr/>
        </p:nvSpPr>
        <p:spPr>
          <a:xfrm flipH="1" flipV="1">
            <a:off x="2142720" y="3786120"/>
            <a:ext cx="42876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直接连接符 352"/>
          <p:cNvSpPr/>
          <p:nvPr/>
        </p:nvSpPr>
        <p:spPr>
          <a:xfrm flipH="1" flipV="1">
            <a:off x="428760" y="378576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直接连接符 353"/>
          <p:cNvSpPr/>
          <p:nvPr/>
        </p:nvSpPr>
        <p:spPr>
          <a:xfrm>
            <a:off x="428760" y="4143240"/>
            <a:ext cx="42840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直接连接符 354"/>
          <p:cNvSpPr/>
          <p:nvPr/>
        </p:nvSpPr>
        <p:spPr>
          <a:xfrm>
            <a:off x="857160" y="435780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直接连接符 355"/>
          <p:cNvSpPr/>
          <p:nvPr/>
        </p:nvSpPr>
        <p:spPr>
          <a:xfrm flipH="1" flipV="1">
            <a:off x="2142720" y="4143240"/>
            <a:ext cx="42876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直接连接符 356"/>
          <p:cNvSpPr/>
          <p:nvPr/>
        </p:nvSpPr>
        <p:spPr>
          <a:xfrm flipH="1" flipV="1">
            <a:off x="428760" y="414288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357"/>
          <p:cNvSpPr/>
          <p:nvPr/>
        </p:nvSpPr>
        <p:spPr>
          <a:xfrm>
            <a:off x="428760" y="442908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358"/>
          <p:cNvSpPr/>
          <p:nvPr/>
        </p:nvSpPr>
        <p:spPr>
          <a:xfrm>
            <a:off x="857160" y="4643280"/>
            <a:ext cx="171468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直接连接符 359"/>
          <p:cNvSpPr/>
          <p:nvPr/>
        </p:nvSpPr>
        <p:spPr>
          <a:xfrm flipH="1" flipV="1">
            <a:off x="2142720" y="442872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360"/>
          <p:cNvSpPr/>
          <p:nvPr/>
        </p:nvSpPr>
        <p:spPr>
          <a:xfrm flipH="1" flipV="1">
            <a:off x="428760" y="442872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361"/>
          <p:cNvSpPr/>
          <p:nvPr/>
        </p:nvSpPr>
        <p:spPr>
          <a:xfrm>
            <a:off x="428760" y="4786200"/>
            <a:ext cx="42840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直接连接符 362"/>
          <p:cNvSpPr/>
          <p:nvPr/>
        </p:nvSpPr>
        <p:spPr>
          <a:xfrm>
            <a:off x="857160" y="500076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接连接符 363"/>
          <p:cNvSpPr/>
          <p:nvPr/>
        </p:nvSpPr>
        <p:spPr>
          <a:xfrm flipH="1" flipV="1">
            <a:off x="2142720" y="4786200"/>
            <a:ext cx="42876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364"/>
          <p:cNvSpPr/>
          <p:nvPr/>
        </p:nvSpPr>
        <p:spPr>
          <a:xfrm flipH="1" flipV="1">
            <a:off x="428760" y="478584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366"/>
          <p:cNvSpPr/>
          <p:nvPr/>
        </p:nvSpPr>
        <p:spPr>
          <a:xfrm>
            <a:off x="428760" y="471492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367"/>
          <p:cNvSpPr/>
          <p:nvPr/>
        </p:nvSpPr>
        <p:spPr>
          <a:xfrm>
            <a:off x="857160" y="4929120"/>
            <a:ext cx="171468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369"/>
          <p:cNvSpPr/>
          <p:nvPr/>
        </p:nvSpPr>
        <p:spPr>
          <a:xfrm flipH="1" flipV="1">
            <a:off x="2142720" y="471456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370"/>
          <p:cNvSpPr/>
          <p:nvPr/>
        </p:nvSpPr>
        <p:spPr>
          <a:xfrm flipH="1" flipV="1">
            <a:off x="428760" y="471492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371"/>
          <p:cNvSpPr/>
          <p:nvPr/>
        </p:nvSpPr>
        <p:spPr>
          <a:xfrm>
            <a:off x="428760" y="450072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373"/>
          <p:cNvSpPr/>
          <p:nvPr/>
        </p:nvSpPr>
        <p:spPr>
          <a:xfrm>
            <a:off x="857160" y="471492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直接连接符 374"/>
          <p:cNvSpPr/>
          <p:nvPr/>
        </p:nvSpPr>
        <p:spPr>
          <a:xfrm flipH="1" flipV="1">
            <a:off x="2142720" y="450036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直接连接符 375"/>
          <p:cNvSpPr/>
          <p:nvPr/>
        </p:nvSpPr>
        <p:spPr>
          <a:xfrm flipH="1" flipV="1">
            <a:off x="428760" y="450072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直接连接符 376"/>
          <p:cNvSpPr/>
          <p:nvPr/>
        </p:nvSpPr>
        <p:spPr>
          <a:xfrm>
            <a:off x="428760" y="421488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直接连接符 379"/>
          <p:cNvSpPr/>
          <p:nvPr/>
        </p:nvSpPr>
        <p:spPr>
          <a:xfrm>
            <a:off x="857160" y="4429080"/>
            <a:ext cx="171468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直接连接符 380"/>
          <p:cNvSpPr/>
          <p:nvPr/>
        </p:nvSpPr>
        <p:spPr>
          <a:xfrm flipH="1" flipV="1">
            <a:off x="2142720" y="421452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381"/>
          <p:cNvSpPr/>
          <p:nvPr/>
        </p:nvSpPr>
        <p:spPr>
          <a:xfrm flipH="1" flipV="1">
            <a:off x="428760" y="421488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直接连接符 382"/>
          <p:cNvSpPr/>
          <p:nvPr/>
        </p:nvSpPr>
        <p:spPr>
          <a:xfrm>
            <a:off x="428760" y="385776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接连接符 383"/>
          <p:cNvSpPr/>
          <p:nvPr/>
        </p:nvSpPr>
        <p:spPr>
          <a:xfrm>
            <a:off x="857160" y="407196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384"/>
          <p:cNvSpPr/>
          <p:nvPr/>
        </p:nvSpPr>
        <p:spPr>
          <a:xfrm flipH="1" flipV="1">
            <a:off x="2142720" y="385740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385"/>
          <p:cNvSpPr/>
          <p:nvPr/>
        </p:nvSpPr>
        <p:spPr>
          <a:xfrm flipH="1" flipV="1">
            <a:off x="428760" y="385776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直接连接符 386"/>
          <p:cNvSpPr/>
          <p:nvPr/>
        </p:nvSpPr>
        <p:spPr>
          <a:xfrm>
            <a:off x="428760" y="3500280"/>
            <a:ext cx="42840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直接连接符 387"/>
          <p:cNvSpPr/>
          <p:nvPr/>
        </p:nvSpPr>
        <p:spPr>
          <a:xfrm>
            <a:off x="857160" y="371484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388"/>
          <p:cNvSpPr/>
          <p:nvPr/>
        </p:nvSpPr>
        <p:spPr>
          <a:xfrm flipH="1" flipV="1">
            <a:off x="2142720" y="3500280"/>
            <a:ext cx="42876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389"/>
          <p:cNvSpPr/>
          <p:nvPr/>
        </p:nvSpPr>
        <p:spPr>
          <a:xfrm flipH="1" flipV="1">
            <a:off x="428760" y="349992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直接连接符 390"/>
          <p:cNvSpPr/>
          <p:nvPr/>
        </p:nvSpPr>
        <p:spPr>
          <a:xfrm>
            <a:off x="428760" y="307188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直接连接符 391"/>
          <p:cNvSpPr/>
          <p:nvPr/>
        </p:nvSpPr>
        <p:spPr>
          <a:xfrm>
            <a:off x="857160" y="3286080"/>
            <a:ext cx="171468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直接连接符 392"/>
          <p:cNvSpPr/>
          <p:nvPr/>
        </p:nvSpPr>
        <p:spPr>
          <a:xfrm flipH="1" flipV="1">
            <a:off x="2142720" y="307152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393"/>
          <p:cNvSpPr/>
          <p:nvPr/>
        </p:nvSpPr>
        <p:spPr>
          <a:xfrm flipH="1" flipV="1">
            <a:off x="428760" y="307188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394"/>
          <p:cNvSpPr/>
          <p:nvPr/>
        </p:nvSpPr>
        <p:spPr>
          <a:xfrm>
            <a:off x="428760" y="271476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直接连接符 395"/>
          <p:cNvSpPr/>
          <p:nvPr/>
        </p:nvSpPr>
        <p:spPr>
          <a:xfrm>
            <a:off x="857160" y="292896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直接连接符 396"/>
          <p:cNvSpPr/>
          <p:nvPr/>
        </p:nvSpPr>
        <p:spPr>
          <a:xfrm flipH="1" flipV="1">
            <a:off x="2142720" y="271440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直接连接符 397"/>
          <p:cNvSpPr/>
          <p:nvPr/>
        </p:nvSpPr>
        <p:spPr>
          <a:xfrm flipH="1" flipV="1">
            <a:off x="428760" y="271476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直接连接符 398"/>
          <p:cNvSpPr/>
          <p:nvPr/>
        </p:nvSpPr>
        <p:spPr>
          <a:xfrm>
            <a:off x="428760" y="228600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直接连接符 399"/>
          <p:cNvSpPr/>
          <p:nvPr/>
        </p:nvSpPr>
        <p:spPr>
          <a:xfrm>
            <a:off x="857160" y="2500200"/>
            <a:ext cx="171468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接连接符 400"/>
          <p:cNvSpPr/>
          <p:nvPr/>
        </p:nvSpPr>
        <p:spPr>
          <a:xfrm flipH="1" flipV="1">
            <a:off x="2142720" y="228564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直接连接符 401"/>
          <p:cNvSpPr/>
          <p:nvPr/>
        </p:nvSpPr>
        <p:spPr>
          <a:xfrm flipH="1" flipV="1">
            <a:off x="428760" y="228600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直接连接符 402"/>
          <p:cNvSpPr/>
          <p:nvPr/>
        </p:nvSpPr>
        <p:spPr>
          <a:xfrm>
            <a:off x="428760" y="1857240"/>
            <a:ext cx="42840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直接连接符 403"/>
          <p:cNvSpPr/>
          <p:nvPr/>
        </p:nvSpPr>
        <p:spPr>
          <a:xfrm>
            <a:off x="857160" y="207180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直接连接符 404"/>
          <p:cNvSpPr/>
          <p:nvPr/>
        </p:nvSpPr>
        <p:spPr>
          <a:xfrm flipH="1" flipV="1">
            <a:off x="2142720" y="1857240"/>
            <a:ext cx="42876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直接连接符 405"/>
          <p:cNvSpPr/>
          <p:nvPr/>
        </p:nvSpPr>
        <p:spPr>
          <a:xfrm flipH="1" flipV="1">
            <a:off x="428760" y="185688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410"/>
          <p:cNvSpPr/>
          <p:nvPr/>
        </p:nvSpPr>
        <p:spPr>
          <a:xfrm flipH="1">
            <a:off x="1641600" y="1143000"/>
            <a:ext cx="1440" cy="357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411"/>
          <p:cNvSpPr/>
          <p:nvPr/>
        </p:nvSpPr>
        <p:spPr>
          <a:xfrm>
            <a:off x="1500120" y="4714920"/>
            <a:ext cx="285840" cy="357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412"/>
          <p:cNvSpPr/>
          <p:nvPr/>
        </p:nvSpPr>
        <p:spPr>
          <a:xfrm>
            <a:off x="1571760" y="4929120"/>
            <a:ext cx="142920" cy="14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直接连接符 414"/>
          <p:cNvSpPr/>
          <p:nvPr/>
        </p:nvSpPr>
        <p:spPr>
          <a:xfrm flipV="1">
            <a:off x="2714760" y="2286000"/>
            <a:ext cx="1576080" cy="303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417"/>
          <p:cNvSpPr/>
          <p:nvPr/>
        </p:nvSpPr>
        <p:spPr>
          <a:xfrm>
            <a:off x="2714760" y="2589120"/>
            <a:ext cx="5428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419"/>
          <p:cNvSpPr/>
          <p:nvPr/>
        </p:nvSpPr>
        <p:spPr>
          <a:xfrm flipV="1">
            <a:off x="3247920" y="2437920"/>
            <a:ext cx="1555920" cy="30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直接连接符 428"/>
          <p:cNvSpPr/>
          <p:nvPr/>
        </p:nvSpPr>
        <p:spPr>
          <a:xfrm>
            <a:off x="4259160" y="2286000"/>
            <a:ext cx="5446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430"/>
          <p:cNvSpPr/>
          <p:nvPr/>
        </p:nvSpPr>
        <p:spPr>
          <a:xfrm flipV="1">
            <a:off x="2728800" y="2495160"/>
            <a:ext cx="1571760" cy="29196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直接连接符 431"/>
          <p:cNvSpPr/>
          <p:nvPr/>
        </p:nvSpPr>
        <p:spPr>
          <a:xfrm>
            <a:off x="2714760" y="2792520"/>
            <a:ext cx="5428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直接连接符 432"/>
          <p:cNvSpPr/>
          <p:nvPr/>
        </p:nvSpPr>
        <p:spPr>
          <a:xfrm flipV="1">
            <a:off x="3281400" y="2639520"/>
            <a:ext cx="15224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直接连接符 433"/>
          <p:cNvSpPr/>
          <p:nvPr/>
        </p:nvSpPr>
        <p:spPr>
          <a:xfrm>
            <a:off x="4314960" y="2489040"/>
            <a:ext cx="488880" cy="15084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直接连接符 438"/>
          <p:cNvSpPr/>
          <p:nvPr/>
        </p:nvSpPr>
        <p:spPr>
          <a:xfrm flipH="1">
            <a:off x="4312800" y="2286000"/>
            <a:ext cx="1800" cy="20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439"/>
          <p:cNvSpPr/>
          <p:nvPr/>
        </p:nvSpPr>
        <p:spPr>
          <a:xfrm flipH="1">
            <a:off x="2714760" y="2589120"/>
            <a:ext cx="1440" cy="203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直接连接符 440"/>
          <p:cNvSpPr/>
          <p:nvPr/>
        </p:nvSpPr>
        <p:spPr>
          <a:xfrm flipH="1">
            <a:off x="4803840" y="2438280"/>
            <a:ext cx="1440" cy="20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441"/>
          <p:cNvSpPr/>
          <p:nvPr/>
        </p:nvSpPr>
        <p:spPr>
          <a:xfrm>
            <a:off x="3273480" y="2741760"/>
            <a:ext cx="0" cy="20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456"/>
          <p:cNvSpPr/>
          <p:nvPr/>
        </p:nvSpPr>
        <p:spPr>
          <a:xfrm>
            <a:off x="3952800" y="2357280"/>
            <a:ext cx="308160" cy="18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460"/>
          <p:cNvSpPr/>
          <p:nvPr/>
        </p:nvSpPr>
        <p:spPr>
          <a:xfrm>
            <a:off x="3595680" y="2428920"/>
            <a:ext cx="26208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直接连接符 484"/>
          <p:cNvSpPr/>
          <p:nvPr/>
        </p:nvSpPr>
        <p:spPr>
          <a:xfrm>
            <a:off x="3595680" y="314316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486"/>
          <p:cNvSpPr/>
          <p:nvPr/>
        </p:nvSpPr>
        <p:spPr>
          <a:xfrm flipV="1">
            <a:off x="3824280" y="3146400"/>
            <a:ext cx="43488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直接连接符 488"/>
          <p:cNvSpPr/>
          <p:nvPr/>
        </p:nvSpPr>
        <p:spPr>
          <a:xfrm flipH="1">
            <a:off x="3595680" y="2999520"/>
            <a:ext cx="379440" cy="1018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490"/>
          <p:cNvSpPr/>
          <p:nvPr/>
        </p:nvSpPr>
        <p:spPr>
          <a:xfrm>
            <a:off x="3952800" y="3000240"/>
            <a:ext cx="306360" cy="1461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接连接符 525"/>
          <p:cNvSpPr/>
          <p:nvPr/>
        </p:nvSpPr>
        <p:spPr>
          <a:xfrm flipH="1" flipV="1">
            <a:off x="4000320" y="2857320"/>
            <a:ext cx="642600" cy="28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537"/>
          <p:cNvSpPr/>
          <p:nvPr/>
        </p:nvSpPr>
        <p:spPr>
          <a:xfrm flipH="1">
            <a:off x="3357720" y="2857680"/>
            <a:ext cx="64296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直接连接符 539"/>
          <p:cNvSpPr/>
          <p:nvPr/>
        </p:nvSpPr>
        <p:spPr>
          <a:xfrm flipH="1">
            <a:off x="3281400" y="3000240"/>
            <a:ext cx="76320" cy="501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直接连接符 542"/>
          <p:cNvSpPr/>
          <p:nvPr/>
        </p:nvSpPr>
        <p:spPr>
          <a:xfrm>
            <a:off x="3281400" y="3502080"/>
            <a:ext cx="652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直接连接符 544"/>
          <p:cNvSpPr/>
          <p:nvPr/>
        </p:nvSpPr>
        <p:spPr>
          <a:xfrm flipV="1">
            <a:off x="3933720" y="3501720"/>
            <a:ext cx="5428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直接连接符 547"/>
          <p:cNvSpPr/>
          <p:nvPr/>
        </p:nvSpPr>
        <p:spPr>
          <a:xfrm flipH="1">
            <a:off x="4476240" y="3143160"/>
            <a:ext cx="16668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直接连接符 561"/>
          <p:cNvSpPr/>
          <p:nvPr/>
        </p:nvSpPr>
        <p:spPr>
          <a:xfrm>
            <a:off x="3357720" y="3000240"/>
            <a:ext cx="71280" cy="1500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直接连接符 565"/>
          <p:cNvSpPr/>
          <p:nvPr/>
        </p:nvSpPr>
        <p:spPr>
          <a:xfrm>
            <a:off x="3286080" y="4786200"/>
            <a:ext cx="50004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直接连接符 568"/>
          <p:cNvSpPr/>
          <p:nvPr/>
        </p:nvSpPr>
        <p:spPr>
          <a:xfrm flipV="1">
            <a:off x="3786120" y="4714560"/>
            <a:ext cx="5666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直接连接符 570"/>
          <p:cNvSpPr/>
          <p:nvPr/>
        </p:nvSpPr>
        <p:spPr>
          <a:xfrm>
            <a:off x="4286160" y="4357800"/>
            <a:ext cx="6984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直接连接符 572"/>
          <p:cNvSpPr/>
          <p:nvPr/>
        </p:nvSpPr>
        <p:spPr>
          <a:xfrm flipV="1">
            <a:off x="3285360" y="4500360"/>
            <a:ext cx="142920" cy="28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直接连接符 574"/>
          <p:cNvSpPr/>
          <p:nvPr/>
        </p:nvSpPr>
        <p:spPr>
          <a:xfrm flipV="1">
            <a:off x="3429000" y="4286160"/>
            <a:ext cx="357120" cy="223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直接连接符 577"/>
          <p:cNvSpPr/>
          <p:nvPr/>
        </p:nvSpPr>
        <p:spPr>
          <a:xfrm>
            <a:off x="3786120" y="4286160"/>
            <a:ext cx="50004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直接连接符 582"/>
          <p:cNvSpPr/>
          <p:nvPr/>
        </p:nvSpPr>
        <p:spPr>
          <a:xfrm flipH="1">
            <a:off x="3284640" y="3502080"/>
            <a:ext cx="1440" cy="1285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584"/>
          <p:cNvSpPr/>
          <p:nvPr/>
        </p:nvSpPr>
        <p:spPr>
          <a:xfrm flipH="1">
            <a:off x="3786120" y="3654360"/>
            <a:ext cx="147600" cy="120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直接连接符 586"/>
          <p:cNvSpPr/>
          <p:nvPr/>
        </p:nvSpPr>
        <p:spPr>
          <a:xfrm flipH="1">
            <a:off x="4357800" y="3502080"/>
            <a:ext cx="118800" cy="121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直接连接符 588"/>
          <p:cNvSpPr/>
          <p:nvPr/>
        </p:nvSpPr>
        <p:spPr>
          <a:xfrm flipH="1">
            <a:off x="4286160" y="3143160"/>
            <a:ext cx="357120" cy="121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直接连接符 590"/>
          <p:cNvSpPr/>
          <p:nvPr/>
        </p:nvSpPr>
        <p:spPr>
          <a:xfrm flipH="1">
            <a:off x="3786120" y="2857680"/>
            <a:ext cx="214560" cy="142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直接连接符 609"/>
          <p:cNvSpPr/>
          <p:nvPr/>
        </p:nvSpPr>
        <p:spPr>
          <a:xfrm>
            <a:off x="3852720" y="2643120"/>
            <a:ext cx="0" cy="20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直接连接符 611"/>
          <p:cNvSpPr/>
          <p:nvPr/>
        </p:nvSpPr>
        <p:spPr>
          <a:xfrm>
            <a:off x="4257720" y="2571840"/>
            <a:ext cx="0" cy="207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直接连接符 613"/>
          <p:cNvSpPr/>
          <p:nvPr/>
        </p:nvSpPr>
        <p:spPr>
          <a:xfrm>
            <a:off x="3595680" y="242892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直接连接符 615"/>
          <p:cNvSpPr/>
          <p:nvPr/>
        </p:nvSpPr>
        <p:spPr>
          <a:xfrm>
            <a:off x="3952800" y="2357280"/>
            <a:ext cx="0" cy="214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直接连接符 625"/>
          <p:cNvSpPr/>
          <p:nvPr/>
        </p:nvSpPr>
        <p:spPr>
          <a:xfrm>
            <a:off x="3595680" y="350028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直接连接符 626"/>
          <p:cNvSpPr/>
          <p:nvPr/>
        </p:nvSpPr>
        <p:spPr>
          <a:xfrm flipV="1">
            <a:off x="3824280" y="3503520"/>
            <a:ext cx="43488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直接连接符 627"/>
          <p:cNvSpPr/>
          <p:nvPr/>
        </p:nvSpPr>
        <p:spPr>
          <a:xfrm flipH="1">
            <a:off x="3595680" y="3357720"/>
            <a:ext cx="37944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直接连接符 628"/>
          <p:cNvSpPr/>
          <p:nvPr/>
        </p:nvSpPr>
        <p:spPr>
          <a:xfrm>
            <a:off x="3952800" y="3357720"/>
            <a:ext cx="306360" cy="145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629"/>
          <p:cNvSpPr/>
          <p:nvPr/>
        </p:nvSpPr>
        <p:spPr>
          <a:xfrm>
            <a:off x="3595680" y="392904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直接连接符 630"/>
          <p:cNvSpPr/>
          <p:nvPr/>
        </p:nvSpPr>
        <p:spPr>
          <a:xfrm flipV="1">
            <a:off x="3824280" y="3932280"/>
            <a:ext cx="43488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直接连接符 631"/>
          <p:cNvSpPr/>
          <p:nvPr/>
        </p:nvSpPr>
        <p:spPr>
          <a:xfrm flipH="1">
            <a:off x="3595680" y="3786120"/>
            <a:ext cx="37944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直接连接符 632"/>
          <p:cNvSpPr/>
          <p:nvPr/>
        </p:nvSpPr>
        <p:spPr>
          <a:xfrm>
            <a:off x="3952800" y="3786120"/>
            <a:ext cx="306360" cy="1461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直接连接符 633"/>
          <p:cNvSpPr/>
          <p:nvPr/>
        </p:nvSpPr>
        <p:spPr>
          <a:xfrm>
            <a:off x="3595680" y="385776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直接连接符 634"/>
          <p:cNvSpPr/>
          <p:nvPr/>
        </p:nvSpPr>
        <p:spPr>
          <a:xfrm flipV="1">
            <a:off x="3824280" y="3860280"/>
            <a:ext cx="434880" cy="1018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直接连接符 635"/>
          <p:cNvSpPr/>
          <p:nvPr/>
        </p:nvSpPr>
        <p:spPr>
          <a:xfrm flipH="1">
            <a:off x="3595680" y="3714840"/>
            <a:ext cx="37944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直接连接符 636"/>
          <p:cNvSpPr/>
          <p:nvPr/>
        </p:nvSpPr>
        <p:spPr>
          <a:xfrm>
            <a:off x="3952800" y="3714840"/>
            <a:ext cx="306360" cy="145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直接连接符 637"/>
          <p:cNvSpPr/>
          <p:nvPr/>
        </p:nvSpPr>
        <p:spPr>
          <a:xfrm>
            <a:off x="3595680" y="342900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直接连接符 638"/>
          <p:cNvSpPr/>
          <p:nvPr/>
        </p:nvSpPr>
        <p:spPr>
          <a:xfrm flipV="1">
            <a:off x="3824280" y="3432240"/>
            <a:ext cx="43488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直接连接符 639"/>
          <p:cNvSpPr/>
          <p:nvPr/>
        </p:nvSpPr>
        <p:spPr>
          <a:xfrm flipH="1">
            <a:off x="3595680" y="3286080"/>
            <a:ext cx="37944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直接连接符 640"/>
          <p:cNvSpPr/>
          <p:nvPr/>
        </p:nvSpPr>
        <p:spPr>
          <a:xfrm>
            <a:off x="3952800" y="3286080"/>
            <a:ext cx="306360" cy="1461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直接连接符 641"/>
          <p:cNvSpPr/>
          <p:nvPr/>
        </p:nvSpPr>
        <p:spPr>
          <a:xfrm>
            <a:off x="3595680" y="421164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直接连接符 642"/>
          <p:cNvSpPr/>
          <p:nvPr/>
        </p:nvSpPr>
        <p:spPr>
          <a:xfrm flipV="1">
            <a:off x="3824280" y="4214880"/>
            <a:ext cx="43488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直接连接符 643"/>
          <p:cNvSpPr/>
          <p:nvPr/>
        </p:nvSpPr>
        <p:spPr>
          <a:xfrm flipH="1">
            <a:off x="3595680" y="4068720"/>
            <a:ext cx="379440" cy="1000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直接连接符 644"/>
          <p:cNvSpPr/>
          <p:nvPr/>
        </p:nvSpPr>
        <p:spPr>
          <a:xfrm>
            <a:off x="3952800" y="4068720"/>
            <a:ext cx="306360" cy="1461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直接连接符 645"/>
          <p:cNvSpPr/>
          <p:nvPr/>
        </p:nvSpPr>
        <p:spPr>
          <a:xfrm>
            <a:off x="3595680" y="428292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直接连接符 646"/>
          <p:cNvSpPr/>
          <p:nvPr/>
        </p:nvSpPr>
        <p:spPr>
          <a:xfrm flipV="1">
            <a:off x="3824280" y="4286160"/>
            <a:ext cx="43488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直接连接符 647"/>
          <p:cNvSpPr/>
          <p:nvPr/>
        </p:nvSpPr>
        <p:spPr>
          <a:xfrm flipH="1">
            <a:off x="3595680" y="4139640"/>
            <a:ext cx="379440" cy="997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直接连接符 648"/>
          <p:cNvSpPr/>
          <p:nvPr/>
        </p:nvSpPr>
        <p:spPr>
          <a:xfrm>
            <a:off x="3952800" y="4140360"/>
            <a:ext cx="306360" cy="145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直接连接符 649"/>
          <p:cNvSpPr/>
          <p:nvPr/>
        </p:nvSpPr>
        <p:spPr>
          <a:xfrm>
            <a:off x="3595680" y="456876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650"/>
          <p:cNvSpPr/>
          <p:nvPr/>
        </p:nvSpPr>
        <p:spPr>
          <a:xfrm flipV="1">
            <a:off x="3824280" y="4572000"/>
            <a:ext cx="43488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651"/>
          <p:cNvSpPr/>
          <p:nvPr/>
        </p:nvSpPr>
        <p:spPr>
          <a:xfrm flipH="1">
            <a:off x="3595680" y="4425840"/>
            <a:ext cx="379440" cy="1000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652"/>
          <p:cNvSpPr/>
          <p:nvPr/>
        </p:nvSpPr>
        <p:spPr>
          <a:xfrm>
            <a:off x="3952800" y="4425840"/>
            <a:ext cx="306360" cy="1461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653"/>
          <p:cNvSpPr/>
          <p:nvPr/>
        </p:nvSpPr>
        <p:spPr>
          <a:xfrm>
            <a:off x="3595680" y="464040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654"/>
          <p:cNvSpPr/>
          <p:nvPr/>
        </p:nvSpPr>
        <p:spPr>
          <a:xfrm flipV="1">
            <a:off x="3824280" y="4642920"/>
            <a:ext cx="434880" cy="1018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655"/>
          <p:cNvSpPr/>
          <p:nvPr/>
        </p:nvSpPr>
        <p:spPr>
          <a:xfrm flipH="1">
            <a:off x="3595680" y="4497480"/>
            <a:ext cx="379440" cy="1000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直接连接符 656"/>
          <p:cNvSpPr/>
          <p:nvPr/>
        </p:nvSpPr>
        <p:spPr>
          <a:xfrm>
            <a:off x="3952800" y="4497480"/>
            <a:ext cx="306360" cy="145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3956040" y="2428920"/>
            <a:ext cx="187200" cy="2214360"/>
            <a:chOff x="3956040" y="2428920"/>
            <a:chExt cx="187200" cy="2214360"/>
          </a:xfrm>
        </p:grpSpPr>
        <p:sp>
          <p:nvSpPr>
            <p:cNvPr id="858" name="直接连接符 659"/>
            <p:cNvSpPr/>
            <p:nvPr/>
          </p:nvSpPr>
          <p:spPr>
            <a:xfrm flipH="1">
              <a:off x="4051440" y="2428920"/>
              <a:ext cx="15840" cy="1981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矩形 660"/>
            <p:cNvSpPr/>
            <p:nvPr/>
          </p:nvSpPr>
          <p:spPr>
            <a:xfrm flipH="1">
              <a:off x="3956040" y="4410000"/>
              <a:ext cx="18720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矩形 661"/>
            <p:cNvSpPr/>
            <p:nvPr/>
          </p:nvSpPr>
          <p:spPr>
            <a:xfrm flipH="1">
              <a:off x="4003560" y="4549680"/>
              <a:ext cx="93600" cy="93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直接连接符 671"/>
          <p:cNvSpPr/>
          <p:nvPr/>
        </p:nvSpPr>
        <p:spPr>
          <a:xfrm>
            <a:off x="2714760" y="2682720"/>
            <a:ext cx="571320" cy="174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直接连接符 673"/>
          <p:cNvSpPr/>
          <p:nvPr/>
        </p:nvSpPr>
        <p:spPr>
          <a:xfrm flipV="1">
            <a:off x="3286080" y="2540160"/>
            <a:ext cx="1523880" cy="31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直接连接符 674"/>
          <p:cNvSpPr/>
          <p:nvPr/>
        </p:nvSpPr>
        <p:spPr>
          <a:xfrm>
            <a:off x="2714760" y="2643120"/>
            <a:ext cx="5713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直接连接符 675"/>
          <p:cNvSpPr/>
          <p:nvPr/>
        </p:nvSpPr>
        <p:spPr>
          <a:xfrm flipV="1">
            <a:off x="3286080" y="2521080"/>
            <a:ext cx="1523880" cy="264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直接连接符 683"/>
          <p:cNvSpPr/>
          <p:nvPr/>
        </p:nvSpPr>
        <p:spPr>
          <a:xfrm flipH="1">
            <a:off x="4928760" y="2071800"/>
            <a:ext cx="3429000" cy="100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685"/>
          <p:cNvSpPr/>
          <p:nvPr/>
        </p:nvSpPr>
        <p:spPr>
          <a:xfrm flipH="1">
            <a:off x="5214600" y="2214720"/>
            <a:ext cx="3429000" cy="100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直接连接符 687"/>
          <p:cNvSpPr/>
          <p:nvPr/>
        </p:nvSpPr>
        <p:spPr>
          <a:xfrm>
            <a:off x="8358120" y="2071800"/>
            <a:ext cx="2858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直接连接符 690"/>
          <p:cNvSpPr/>
          <p:nvPr/>
        </p:nvSpPr>
        <p:spPr>
          <a:xfrm>
            <a:off x="4929120" y="3071880"/>
            <a:ext cx="2858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直接连接符 694"/>
          <p:cNvSpPr/>
          <p:nvPr/>
        </p:nvSpPr>
        <p:spPr>
          <a:xfrm flipH="1">
            <a:off x="5285880" y="2643120"/>
            <a:ext cx="1800" cy="1787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直接连接符 698"/>
          <p:cNvSpPr/>
          <p:nvPr/>
        </p:nvSpPr>
        <p:spPr>
          <a:xfrm flipH="1">
            <a:off x="5713560" y="2500200"/>
            <a:ext cx="1440" cy="178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直接连接符 699"/>
          <p:cNvSpPr/>
          <p:nvPr/>
        </p:nvSpPr>
        <p:spPr>
          <a:xfrm flipH="1">
            <a:off x="4928760" y="2571840"/>
            <a:ext cx="1800" cy="178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直接连接符 700"/>
          <p:cNvSpPr/>
          <p:nvPr/>
        </p:nvSpPr>
        <p:spPr>
          <a:xfrm flipH="1">
            <a:off x="5428800" y="2428920"/>
            <a:ext cx="1800" cy="178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直接连接符 705"/>
          <p:cNvSpPr/>
          <p:nvPr/>
        </p:nvSpPr>
        <p:spPr>
          <a:xfrm>
            <a:off x="4929120" y="2571840"/>
            <a:ext cx="3571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直接连接符 709"/>
          <p:cNvSpPr/>
          <p:nvPr/>
        </p:nvSpPr>
        <p:spPr>
          <a:xfrm flipH="1" flipV="1">
            <a:off x="5429160" y="2428920"/>
            <a:ext cx="2858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直接连接符 712"/>
          <p:cNvSpPr/>
          <p:nvPr/>
        </p:nvSpPr>
        <p:spPr>
          <a:xfrm flipH="1">
            <a:off x="4928760" y="2428200"/>
            <a:ext cx="5000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直接连接符 714"/>
          <p:cNvSpPr/>
          <p:nvPr/>
        </p:nvSpPr>
        <p:spPr>
          <a:xfrm flipH="1">
            <a:off x="5285880" y="2499480"/>
            <a:ext cx="42876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直接连接符 718"/>
          <p:cNvSpPr/>
          <p:nvPr/>
        </p:nvSpPr>
        <p:spPr>
          <a:xfrm flipH="1">
            <a:off x="8214840" y="1857240"/>
            <a:ext cx="1800" cy="157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直接连接符 719"/>
          <p:cNvSpPr/>
          <p:nvPr/>
        </p:nvSpPr>
        <p:spPr>
          <a:xfrm flipH="1">
            <a:off x="8643960" y="1714680"/>
            <a:ext cx="1440" cy="157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直接连接符 720"/>
          <p:cNvSpPr/>
          <p:nvPr/>
        </p:nvSpPr>
        <p:spPr>
          <a:xfrm flipH="1">
            <a:off x="7857720" y="1785960"/>
            <a:ext cx="1800" cy="157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直接连接符 721"/>
          <p:cNvSpPr/>
          <p:nvPr/>
        </p:nvSpPr>
        <p:spPr>
          <a:xfrm flipH="1">
            <a:off x="8357760" y="1643040"/>
            <a:ext cx="1800" cy="157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直接连接符 722"/>
          <p:cNvSpPr/>
          <p:nvPr/>
        </p:nvSpPr>
        <p:spPr>
          <a:xfrm>
            <a:off x="7858080" y="1785960"/>
            <a:ext cx="3571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直接连接符 723"/>
          <p:cNvSpPr/>
          <p:nvPr/>
        </p:nvSpPr>
        <p:spPr>
          <a:xfrm flipH="1" flipV="1">
            <a:off x="8358120" y="1642680"/>
            <a:ext cx="28584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直接连接符 724"/>
          <p:cNvSpPr/>
          <p:nvPr/>
        </p:nvSpPr>
        <p:spPr>
          <a:xfrm flipH="1">
            <a:off x="7857720" y="1642320"/>
            <a:ext cx="5000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直接连接符 725"/>
          <p:cNvSpPr/>
          <p:nvPr/>
        </p:nvSpPr>
        <p:spPr>
          <a:xfrm flipH="1">
            <a:off x="8214840" y="1714680"/>
            <a:ext cx="42876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直接连接符 730"/>
          <p:cNvSpPr/>
          <p:nvPr/>
        </p:nvSpPr>
        <p:spPr>
          <a:xfrm flipH="1">
            <a:off x="4928760" y="2142360"/>
            <a:ext cx="3429000" cy="98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直接连接符 731"/>
          <p:cNvSpPr/>
          <p:nvPr/>
        </p:nvSpPr>
        <p:spPr>
          <a:xfrm flipH="1">
            <a:off x="5214600" y="2286000"/>
            <a:ext cx="3429000" cy="98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直接连接符 732"/>
          <p:cNvSpPr/>
          <p:nvPr/>
        </p:nvSpPr>
        <p:spPr>
          <a:xfrm>
            <a:off x="8358120" y="2143080"/>
            <a:ext cx="2858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直接连接符 733"/>
          <p:cNvSpPr/>
          <p:nvPr/>
        </p:nvSpPr>
        <p:spPr>
          <a:xfrm>
            <a:off x="4929120" y="3129120"/>
            <a:ext cx="28584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直接连接符 734"/>
          <p:cNvSpPr/>
          <p:nvPr/>
        </p:nvSpPr>
        <p:spPr>
          <a:xfrm flipH="1">
            <a:off x="4928760" y="2500200"/>
            <a:ext cx="3429000" cy="100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直接连接符 735"/>
          <p:cNvSpPr/>
          <p:nvPr/>
        </p:nvSpPr>
        <p:spPr>
          <a:xfrm flipH="1">
            <a:off x="5214600" y="2643120"/>
            <a:ext cx="3429000" cy="100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直接连接符 736"/>
          <p:cNvSpPr/>
          <p:nvPr/>
        </p:nvSpPr>
        <p:spPr>
          <a:xfrm>
            <a:off x="8358120" y="2500200"/>
            <a:ext cx="2858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直接连接符 737"/>
          <p:cNvSpPr/>
          <p:nvPr/>
        </p:nvSpPr>
        <p:spPr>
          <a:xfrm>
            <a:off x="4929120" y="3500280"/>
            <a:ext cx="2858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直接连接符 738"/>
          <p:cNvSpPr/>
          <p:nvPr/>
        </p:nvSpPr>
        <p:spPr>
          <a:xfrm flipH="1">
            <a:off x="4928760" y="2571120"/>
            <a:ext cx="3429000" cy="99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739"/>
          <p:cNvSpPr/>
          <p:nvPr/>
        </p:nvSpPr>
        <p:spPr>
          <a:xfrm flipH="1">
            <a:off x="5214600" y="2714040"/>
            <a:ext cx="3429000" cy="99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直接连接符 740"/>
          <p:cNvSpPr/>
          <p:nvPr/>
        </p:nvSpPr>
        <p:spPr>
          <a:xfrm>
            <a:off x="8358120" y="2571840"/>
            <a:ext cx="2858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直接连接符 741"/>
          <p:cNvSpPr/>
          <p:nvPr/>
        </p:nvSpPr>
        <p:spPr>
          <a:xfrm>
            <a:off x="4929120" y="3568680"/>
            <a:ext cx="2858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直接连接符 743"/>
          <p:cNvSpPr/>
          <p:nvPr/>
        </p:nvSpPr>
        <p:spPr>
          <a:xfrm>
            <a:off x="6000840" y="272880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直接连接符 745"/>
          <p:cNvSpPr/>
          <p:nvPr/>
        </p:nvSpPr>
        <p:spPr>
          <a:xfrm flipH="1">
            <a:off x="6357960" y="2859120"/>
            <a:ext cx="144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747"/>
          <p:cNvSpPr/>
          <p:nvPr/>
        </p:nvSpPr>
        <p:spPr>
          <a:xfrm flipH="1">
            <a:off x="6000840" y="2714760"/>
            <a:ext cx="1440" cy="573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直接连接符 749"/>
          <p:cNvSpPr/>
          <p:nvPr/>
        </p:nvSpPr>
        <p:spPr>
          <a:xfrm>
            <a:off x="6000840" y="328608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直接连接符 751"/>
          <p:cNvSpPr/>
          <p:nvPr/>
        </p:nvSpPr>
        <p:spPr>
          <a:xfrm>
            <a:off x="6073920" y="272880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直接连接符 752"/>
          <p:cNvSpPr/>
          <p:nvPr/>
        </p:nvSpPr>
        <p:spPr>
          <a:xfrm flipH="1">
            <a:off x="6428880" y="2859120"/>
            <a:ext cx="180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直接连接符 753"/>
          <p:cNvSpPr/>
          <p:nvPr/>
        </p:nvSpPr>
        <p:spPr>
          <a:xfrm flipH="1">
            <a:off x="6073920" y="2714760"/>
            <a:ext cx="1440" cy="573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直接连接符 754"/>
          <p:cNvSpPr/>
          <p:nvPr/>
        </p:nvSpPr>
        <p:spPr>
          <a:xfrm>
            <a:off x="6073920" y="328608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直接连接符 755"/>
          <p:cNvSpPr/>
          <p:nvPr/>
        </p:nvSpPr>
        <p:spPr>
          <a:xfrm>
            <a:off x="6502320" y="258588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直接连接符 756"/>
          <p:cNvSpPr/>
          <p:nvPr/>
        </p:nvSpPr>
        <p:spPr>
          <a:xfrm flipH="1">
            <a:off x="6858000" y="2714760"/>
            <a:ext cx="144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直接连接符 757"/>
          <p:cNvSpPr/>
          <p:nvPr/>
        </p:nvSpPr>
        <p:spPr>
          <a:xfrm flipH="1">
            <a:off x="6501960" y="2571840"/>
            <a:ext cx="180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直接连接符 758"/>
          <p:cNvSpPr/>
          <p:nvPr/>
        </p:nvSpPr>
        <p:spPr>
          <a:xfrm>
            <a:off x="6502320" y="314316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直接连接符 763"/>
          <p:cNvSpPr/>
          <p:nvPr/>
        </p:nvSpPr>
        <p:spPr>
          <a:xfrm>
            <a:off x="6586560" y="255600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 764"/>
          <p:cNvSpPr/>
          <p:nvPr/>
        </p:nvSpPr>
        <p:spPr>
          <a:xfrm flipH="1">
            <a:off x="6943320" y="2684520"/>
            <a:ext cx="180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直接连接符 765"/>
          <p:cNvSpPr/>
          <p:nvPr/>
        </p:nvSpPr>
        <p:spPr>
          <a:xfrm flipH="1">
            <a:off x="6586560" y="2541600"/>
            <a:ext cx="144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直接连接符 766"/>
          <p:cNvSpPr/>
          <p:nvPr/>
        </p:nvSpPr>
        <p:spPr>
          <a:xfrm>
            <a:off x="6586560" y="311292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直接连接符 767"/>
          <p:cNvSpPr/>
          <p:nvPr/>
        </p:nvSpPr>
        <p:spPr>
          <a:xfrm>
            <a:off x="7002360" y="2443320"/>
            <a:ext cx="35712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直接连接符 768"/>
          <p:cNvSpPr/>
          <p:nvPr/>
        </p:nvSpPr>
        <p:spPr>
          <a:xfrm flipH="1">
            <a:off x="7358040" y="2571840"/>
            <a:ext cx="144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直接连接符 769"/>
          <p:cNvSpPr/>
          <p:nvPr/>
        </p:nvSpPr>
        <p:spPr>
          <a:xfrm flipH="1">
            <a:off x="7002000" y="2428920"/>
            <a:ext cx="180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直接连接符 770"/>
          <p:cNvSpPr/>
          <p:nvPr/>
        </p:nvSpPr>
        <p:spPr>
          <a:xfrm>
            <a:off x="7002360" y="300024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直接连接符 771"/>
          <p:cNvSpPr/>
          <p:nvPr/>
        </p:nvSpPr>
        <p:spPr>
          <a:xfrm>
            <a:off x="7145280" y="237168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直接连接符 772"/>
          <p:cNvSpPr/>
          <p:nvPr/>
        </p:nvSpPr>
        <p:spPr>
          <a:xfrm flipH="1">
            <a:off x="7500960" y="2500200"/>
            <a:ext cx="1440" cy="571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直接连接符 773"/>
          <p:cNvSpPr/>
          <p:nvPr/>
        </p:nvSpPr>
        <p:spPr>
          <a:xfrm flipH="1">
            <a:off x="7144920" y="2357280"/>
            <a:ext cx="1800" cy="571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直接连接符 774"/>
          <p:cNvSpPr/>
          <p:nvPr/>
        </p:nvSpPr>
        <p:spPr>
          <a:xfrm>
            <a:off x="7145280" y="292896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直接连接符 775"/>
          <p:cNvSpPr/>
          <p:nvPr/>
        </p:nvSpPr>
        <p:spPr>
          <a:xfrm>
            <a:off x="7502400" y="2300400"/>
            <a:ext cx="35748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直接连接符 776"/>
          <p:cNvSpPr/>
          <p:nvPr/>
        </p:nvSpPr>
        <p:spPr>
          <a:xfrm flipH="1">
            <a:off x="7857720" y="2428920"/>
            <a:ext cx="180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直接连接符 777"/>
          <p:cNvSpPr/>
          <p:nvPr/>
        </p:nvSpPr>
        <p:spPr>
          <a:xfrm flipH="1">
            <a:off x="7502040" y="2286000"/>
            <a:ext cx="1800" cy="571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直接连接符 778"/>
          <p:cNvSpPr/>
          <p:nvPr/>
        </p:nvSpPr>
        <p:spPr>
          <a:xfrm>
            <a:off x="7502400" y="2855880"/>
            <a:ext cx="35748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直接连接符 779"/>
          <p:cNvSpPr/>
          <p:nvPr/>
        </p:nvSpPr>
        <p:spPr>
          <a:xfrm>
            <a:off x="7574040" y="230040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直接连接符 780"/>
          <p:cNvSpPr/>
          <p:nvPr/>
        </p:nvSpPr>
        <p:spPr>
          <a:xfrm flipH="1">
            <a:off x="7929720" y="2428920"/>
            <a:ext cx="144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直接连接符 781"/>
          <p:cNvSpPr/>
          <p:nvPr/>
        </p:nvSpPr>
        <p:spPr>
          <a:xfrm flipH="1">
            <a:off x="7574040" y="2286000"/>
            <a:ext cx="1440" cy="571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直接连接符 782"/>
          <p:cNvSpPr/>
          <p:nvPr/>
        </p:nvSpPr>
        <p:spPr>
          <a:xfrm>
            <a:off x="7574040" y="2855880"/>
            <a:ext cx="3571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直接连接符 784"/>
          <p:cNvSpPr/>
          <p:nvPr/>
        </p:nvSpPr>
        <p:spPr>
          <a:xfrm flipH="1" flipV="1">
            <a:off x="8358120" y="3214800"/>
            <a:ext cx="2858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直接连接符 786"/>
          <p:cNvSpPr/>
          <p:nvPr/>
        </p:nvSpPr>
        <p:spPr>
          <a:xfrm flipH="1">
            <a:off x="7857720" y="3214080"/>
            <a:ext cx="5000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直接连接符 788"/>
          <p:cNvSpPr/>
          <p:nvPr/>
        </p:nvSpPr>
        <p:spPr>
          <a:xfrm flipH="1">
            <a:off x="8214840" y="3285360"/>
            <a:ext cx="42876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直接连接符 790"/>
          <p:cNvSpPr/>
          <p:nvPr/>
        </p:nvSpPr>
        <p:spPr>
          <a:xfrm flipH="1" flipV="1">
            <a:off x="7858080" y="3357720"/>
            <a:ext cx="3571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直接连接符 793"/>
          <p:cNvSpPr/>
          <p:nvPr/>
        </p:nvSpPr>
        <p:spPr>
          <a:xfrm flipH="1" flipV="1">
            <a:off x="5429160" y="4214880"/>
            <a:ext cx="2858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直接连接符 795"/>
          <p:cNvSpPr/>
          <p:nvPr/>
        </p:nvSpPr>
        <p:spPr>
          <a:xfrm>
            <a:off x="4929120" y="4357800"/>
            <a:ext cx="3571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797"/>
          <p:cNvSpPr/>
          <p:nvPr/>
        </p:nvSpPr>
        <p:spPr>
          <a:xfrm flipV="1">
            <a:off x="5286240" y="4285800"/>
            <a:ext cx="42876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799"/>
          <p:cNvSpPr/>
          <p:nvPr/>
        </p:nvSpPr>
        <p:spPr>
          <a:xfrm flipH="1">
            <a:off x="4928760" y="4214160"/>
            <a:ext cx="5000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直接连接符 813"/>
          <p:cNvSpPr/>
          <p:nvPr/>
        </p:nvSpPr>
        <p:spPr>
          <a:xfrm>
            <a:off x="4929120" y="271476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直接连接符 817"/>
          <p:cNvSpPr/>
          <p:nvPr/>
        </p:nvSpPr>
        <p:spPr>
          <a:xfrm flipV="1">
            <a:off x="5286240" y="264276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直接连接符 819"/>
          <p:cNvSpPr/>
          <p:nvPr/>
        </p:nvSpPr>
        <p:spPr>
          <a:xfrm flipV="1">
            <a:off x="4929120" y="257148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直接连接符 821"/>
          <p:cNvSpPr/>
          <p:nvPr/>
        </p:nvSpPr>
        <p:spPr>
          <a:xfrm>
            <a:off x="5429160" y="257184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直接连接符 828"/>
          <p:cNvSpPr/>
          <p:nvPr/>
        </p:nvSpPr>
        <p:spPr>
          <a:xfrm>
            <a:off x="4929120" y="285768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直接连接符 829"/>
          <p:cNvSpPr/>
          <p:nvPr/>
        </p:nvSpPr>
        <p:spPr>
          <a:xfrm flipV="1">
            <a:off x="5286240" y="278568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直接连接符 830"/>
          <p:cNvSpPr/>
          <p:nvPr/>
        </p:nvSpPr>
        <p:spPr>
          <a:xfrm flipV="1">
            <a:off x="4929120" y="271440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直接连接符 831"/>
          <p:cNvSpPr/>
          <p:nvPr/>
        </p:nvSpPr>
        <p:spPr>
          <a:xfrm>
            <a:off x="5429160" y="271476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直接连接符 836"/>
          <p:cNvSpPr/>
          <p:nvPr/>
        </p:nvSpPr>
        <p:spPr>
          <a:xfrm>
            <a:off x="4929120" y="3286080"/>
            <a:ext cx="357120" cy="716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直接连接符 837"/>
          <p:cNvSpPr/>
          <p:nvPr/>
        </p:nvSpPr>
        <p:spPr>
          <a:xfrm flipV="1">
            <a:off x="5286240" y="321444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直接连接符 838"/>
          <p:cNvSpPr/>
          <p:nvPr/>
        </p:nvSpPr>
        <p:spPr>
          <a:xfrm flipV="1">
            <a:off x="4929120" y="314280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直接连接符 839"/>
          <p:cNvSpPr/>
          <p:nvPr/>
        </p:nvSpPr>
        <p:spPr>
          <a:xfrm>
            <a:off x="5429160" y="3143160"/>
            <a:ext cx="285840" cy="716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直接连接符 844"/>
          <p:cNvSpPr/>
          <p:nvPr/>
        </p:nvSpPr>
        <p:spPr>
          <a:xfrm>
            <a:off x="4929120" y="3500280"/>
            <a:ext cx="357120" cy="716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直接连接符 845"/>
          <p:cNvSpPr/>
          <p:nvPr/>
        </p:nvSpPr>
        <p:spPr>
          <a:xfrm flipV="1">
            <a:off x="5286240" y="342864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直接连接符 846"/>
          <p:cNvSpPr/>
          <p:nvPr/>
        </p:nvSpPr>
        <p:spPr>
          <a:xfrm flipV="1">
            <a:off x="4929120" y="3357720"/>
            <a:ext cx="500040" cy="1425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直接连接符 847"/>
          <p:cNvSpPr/>
          <p:nvPr/>
        </p:nvSpPr>
        <p:spPr>
          <a:xfrm>
            <a:off x="5429160" y="335772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直接连接符 848"/>
          <p:cNvSpPr/>
          <p:nvPr/>
        </p:nvSpPr>
        <p:spPr>
          <a:xfrm>
            <a:off x="4929120" y="385776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直接连接符 849"/>
          <p:cNvSpPr/>
          <p:nvPr/>
        </p:nvSpPr>
        <p:spPr>
          <a:xfrm flipV="1">
            <a:off x="5286240" y="378576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直接连接符 850"/>
          <p:cNvSpPr/>
          <p:nvPr/>
        </p:nvSpPr>
        <p:spPr>
          <a:xfrm flipV="1">
            <a:off x="4929120" y="371448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直接连接符 851"/>
          <p:cNvSpPr/>
          <p:nvPr/>
        </p:nvSpPr>
        <p:spPr>
          <a:xfrm>
            <a:off x="5429160" y="371484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直接连接符 864"/>
          <p:cNvSpPr/>
          <p:nvPr/>
        </p:nvSpPr>
        <p:spPr>
          <a:xfrm>
            <a:off x="4929120" y="400068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直接连接符 865"/>
          <p:cNvSpPr/>
          <p:nvPr/>
        </p:nvSpPr>
        <p:spPr>
          <a:xfrm flipV="1">
            <a:off x="5286240" y="392868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直接连接符 866"/>
          <p:cNvSpPr/>
          <p:nvPr/>
        </p:nvSpPr>
        <p:spPr>
          <a:xfrm flipV="1">
            <a:off x="4929120" y="385740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直接连接符 867"/>
          <p:cNvSpPr/>
          <p:nvPr/>
        </p:nvSpPr>
        <p:spPr>
          <a:xfrm>
            <a:off x="5429160" y="385776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直接连接符 868"/>
          <p:cNvSpPr/>
          <p:nvPr/>
        </p:nvSpPr>
        <p:spPr>
          <a:xfrm>
            <a:off x="4929120" y="4143240"/>
            <a:ext cx="357120" cy="716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直接连接符 869"/>
          <p:cNvSpPr/>
          <p:nvPr/>
        </p:nvSpPr>
        <p:spPr>
          <a:xfrm flipV="1">
            <a:off x="5286240" y="407160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直接连接符 870"/>
          <p:cNvSpPr/>
          <p:nvPr/>
        </p:nvSpPr>
        <p:spPr>
          <a:xfrm flipV="1">
            <a:off x="4929120" y="4000680"/>
            <a:ext cx="500040" cy="1425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直接连接符 871"/>
          <p:cNvSpPr/>
          <p:nvPr/>
        </p:nvSpPr>
        <p:spPr>
          <a:xfrm>
            <a:off x="5429160" y="400068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直接连接符 885"/>
          <p:cNvSpPr/>
          <p:nvPr/>
        </p:nvSpPr>
        <p:spPr>
          <a:xfrm>
            <a:off x="7858080" y="192888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直接连接符 886"/>
          <p:cNvSpPr/>
          <p:nvPr/>
        </p:nvSpPr>
        <p:spPr>
          <a:xfrm flipH="1" flipV="1">
            <a:off x="8358120" y="178596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直接连接符 887"/>
          <p:cNvSpPr/>
          <p:nvPr/>
        </p:nvSpPr>
        <p:spPr>
          <a:xfrm flipH="1">
            <a:off x="7857720" y="178524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直接连接符 888"/>
          <p:cNvSpPr/>
          <p:nvPr/>
        </p:nvSpPr>
        <p:spPr>
          <a:xfrm flipH="1">
            <a:off x="8214840" y="185652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直接连接符 893"/>
          <p:cNvSpPr/>
          <p:nvPr/>
        </p:nvSpPr>
        <p:spPr>
          <a:xfrm>
            <a:off x="7858080" y="2136600"/>
            <a:ext cx="357120" cy="716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直接连接符 894"/>
          <p:cNvSpPr/>
          <p:nvPr/>
        </p:nvSpPr>
        <p:spPr>
          <a:xfrm flipH="1" flipV="1">
            <a:off x="8358120" y="199404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直接连接符 895"/>
          <p:cNvSpPr/>
          <p:nvPr/>
        </p:nvSpPr>
        <p:spPr>
          <a:xfrm flipH="1">
            <a:off x="7857720" y="1994040"/>
            <a:ext cx="500040" cy="1425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直接连接符 896"/>
          <p:cNvSpPr/>
          <p:nvPr/>
        </p:nvSpPr>
        <p:spPr>
          <a:xfrm flipH="1">
            <a:off x="8214840" y="206460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直接连接符 897"/>
          <p:cNvSpPr/>
          <p:nvPr/>
        </p:nvSpPr>
        <p:spPr>
          <a:xfrm>
            <a:off x="7858080" y="239400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直接连接符 898"/>
          <p:cNvSpPr/>
          <p:nvPr/>
        </p:nvSpPr>
        <p:spPr>
          <a:xfrm flipH="1" flipV="1">
            <a:off x="8358120" y="225108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直接连接符 899"/>
          <p:cNvSpPr/>
          <p:nvPr/>
        </p:nvSpPr>
        <p:spPr>
          <a:xfrm flipH="1">
            <a:off x="7857720" y="225036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直接连接符 900"/>
          <p:cNvSpPr/>
          <p:nvPr/>
        </p:nvSpPr>
        <p:spPr>
          <a:xfrm flipH="1">
            <a:off x="8214840" y="232164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直接连接符 909"/>
          <p:cNvSpPr/>
          <p:nvPr/>
        </p:nvSpPr>
        <p:spPr>
          <a:xfrm>
            <a:off x="7858080" y="257184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直接连接符 910"/>
          <p:cNvSpPr/>
          <p:nvPr/>
        </p:nvSpPr>
        <p:spPr>
          <a:xfrm flipH="1" flipV="1">
            <a:off x="8358120" y="242892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直接连接符 911"/>
          <p:cNvSpPr/>
          <p:nvPr/>
        </p:nvSpPr>
        <p:spPr>
          <a:xfrm flipH="1">
            <a:off x="7857720" y="242820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直接连接符 912"/>
          <p:cNvSpPr/>
          <p:nvPr/>
        </p:nvSpPr>
        <p:spPr>
          <a:xfrm flipH="1">
            <a:off x="8214840" y="249948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直接连接符 921"/>
          <p:cNvSpPr/>
          <p:nvPr/>
        </p:nvSpPr>
        <p:spPr>
          <a:xfrm>
            <a:off x="7858080" y="292896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直接连接符 922"/>
          <p:cNvSpPr/>
          <p:nvPr/>
        </p:nvSpPr>
        <p:spPr>
          <a:xfrm flipH="1" flipV="1">
            <a:off x="8358120" y="2785680"/>
            <a:ext cx="285840" cy="716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直接连接符 923"/>
          <p:cNvSpPr/>
          <p:nvPr/>
        </p:nvSpPr>
        <p:spPr>
          <a:xfrm flipH="1">
            <a:off x="7857720" y="278532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直接连接符 924"/>
          <p:cNvSpPr/>
          <p:nvPr/>
        </p:nvSpPr>
        <p:spPr>
          <a:xfrm flipH="1">
            <a:off x="8214840" y="2857680"/>
            <a:ext cx="428760" cy="1425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直接连接符 933"/>
          <p:cNvSpPr/>
          <p:nvPr/>
        </p:nvSpPr>
        <p:spPr>
          <a:xfrm>
            <a:off x="7858080" y="307188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直接连接符 934"/>
          <p:cNvSpPr/>
          <p:nvPr/>
        </p:nvSpPr>
        <p:spPr>
          <a:xfrm flipH="1" flipV="1">
            <a:off x="8358120" y="292896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直接连接符 935"/>
          <p:cNvSpPr/>
          <p:nvPr/>
        </p:nvSpPr>
        <p:spPr>
          <a:xfrm flipH="1">
            <a:off x="7857720" y="292824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直接连接符 936"/>
          <p:cNvSpPr/>
          <p:nvPr/>
        </p:nvSpPr>
        <p:spPr>
          <a:xfrm flipH="1">
            <a:off x="8214840" y="299952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直接连接符 941"/>
          <p:cNvSpPr/>
          <p:nvPr/>
        </p:nvSpPr>
        <p:spPr>
          <a:xfrm>
            <a:off x="7858080" y="321480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直接连接符 942"/>
          <p:cNvSpPr/>
          <p:nvPr/>
        </p:nvSpPr>
        <p:spPr>
          <a:xfrm flipH="1" flipV="1">
            <a:off x="8358120" y="307188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直接连接符 943"/>
          <p:cNvSpPr/>
          <p:nvPr/>
        </p:nvSpPr>
        <p:spPr>
          <a:xfrm flipH="1">
            <a:off x="7857720" y="307116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直接连接符 944"/>
          <p:cNvSpPr/>
          <p:nvPr/>
        </p:nvSpPr>
        <p:spPr>
          <a:xfrm flipH="1">
            <a:off x="8214840" y="314244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直接连接符 946"/>
          <p:cNvSpPr/>
          <p:nvPr/>
        </p:nvSpPr>
        <p:spPr>
          <a:xfrm flipH="1">
            <a:off x="5428800" y="4243320"/>
            <a:ext cx="1800" cy="14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直接连接符 950"/>
          <p:cNvSpPr/>
          <p:nvPr/>
        </p:nvSpPr>
        <p:spPr>
          <a:xfrm flipH="1">
            <a:off x="5500800" y="4214880"/>
            <a:ext cx="14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直接连接符 959"/>
          <p:cNvSpPr/>
          <p:nvPr/>
        </p:nvSpPr>
        <p:spPr>
          <a:xfrm flipV="1">
            <a:off x="5430960" y="4216320"/>
            <a:ext cx="69840" cy="30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直接连接符 962"/>
          <p:cNvSpPr/>
          <p:nvPr/>
        </p:nvSpPr>
        <p:spPr>
          <a:xfrm>
            <a:off x="5465880" y="4230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直接连接符 963"/>
          <p:cNvSpPr/>
          <p:nvPr/>
        </p:nvSpPr>
        <p:spPr>
          <a:xfrm flipH="1">
            <a:off x="8357760" y="3243240"/>
            <a:ext cx="1800" cy="14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直接连接符 964"/>
          <p:cNvSpPr/>
          <p:nvPr/>
        </p:nvSpPr>
        <p:spPr>
          <a:xfrm flipH="1">
            <a:off x="8429760" y="3214800"/>
            <a:ext cx="14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直接连接符 965"/>
          <p:cNvSpPr/>
          <p:nvPr/>
        </p:nvSpPr>
        <p:spPr>
          <a:xfrm flipV="1">
            <a:off x="8359920" y="3216240"/>
            <a:ext cx="69840" cy="30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直接连接符 966"/>
          <p:cNvSpPr/>
          <p:nvPr/>
        </p:nvSpPr>
        <p:spPr>
          <a:xfrm>
            <a:off x="8394840" y="323064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463" descr="92.png"/>
          <p:cNvPicPr/>
          <p:nvPr/>
        </p:nvPicPr>
        <p:blipFill>
          <a:blip r:embed="rId1"/>
          <a:stretch/>
        </p:blipFill>
        <p:spPr>
          <a:xfrm>
            <a:off x="6715080" y="4071960"/>
            <a:ext cx="298440" cy="1143000"/>
          </a:xfrm>
          <a:prstGeom prst="rect">
            <a:avLst/>
          </a:prstGeom>
          <a:ln w="0">
            <a:noFill/>
          </a:ln>
        </p:spPr>
      </p:pic>
      <p:pic>
        <p:nvPicPr>
          <p:cNvPr id="1002" name="图片 503" descr="272.png"/>
          <p:cNvPicPr/>
          <p:nvPr/>
        </p:nvPicPr>
        <p:blipFill>
          <a:blip r:embed="rId2"/>
          <a:stretch/>
        </p:blipFill>
        <p:spPr>
          <a:xfrm>
            <a:off x="4786200" y="4071960"/>
            <a:ext cx="669960" cy="1500120"/>
          </a:xfrm>
          <a:prstGeom prst="rect">
            <a:avLst/>
          </a:prstGeom>
          <a:ln w="0">
            <a:noFill/>
          </a:ln>
        </p:spPr>
      </p:pic>
      <p:sp>
        <p:nvSpPr>
          <p:cNvPr id="1003" name="直接连接符 505"/>
          <p:cNvSpPr/>
          <p:nvPr/>
        </p:nvSpPr>
        <p:spPr>
          <a:xfrm flipH="1">
            <a:off x="5143680" y="3429000"/>
            <a:ext cx="400032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5429160" y="1593360"/>
            <a:ext cx="3773520" cy="4121640"/>
            <a:chOff x="5429160" y="1593360"/>
            <a:chExt cx="3773520" cy="4121640"/>
          </a:xfrm>
        </p:grpSpPr>
        <p:grpSp>
          <p:nvGrpSpPr>
            <p:cNvPr id="1005" name=""/>
            <p:cNvGrpSpPr/>
            <p:nvPr/>
          </p:nvGrpSpPr>
          <p:grpSpPr>
            <a:xfrm>
              <a:off x="6086520" y="1618200"/>
              <a:ext cx="3116160" cy="4096800"/>
              <a:chOff x="6086520" y="1618200"/>
              <a:chExt cx="3116160" cy="409680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6086520" y="1618200"/>
                <a:ext cx="3116160" cy="4096800"/>
                <a:chOff x="6086520" y="1618200"/>
                <a:chExt cx="3116160" cy="4096800"/>
              </a:xfrm>
            </p:grpSpPr>
            <p:sp>
              <p:nvSpPr>
                <p:cNvPr id="1007" name="任意多边形 2"/>
                <p:cNvSpPr/>
                <p:nvPr/>
              </p:nvSpPr>
              <p:spPr>
                <a:xfrm>
                  <a:off x="6086520" y="1618200"/>
                  <a:ext cx="3116160" cy="4096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任意多边形 543"/>
                <p:cNvSpPr/>
                <p:nvPr/>
              </p:nvSpPr>
              <p:spPr>
                <a:xfrm rot="2584800">
                  <a:off x="7949880" y="1730880"/>
                  <a:ext cx="357120" cy="334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任意多边形 545"/>
                <p:cNvSpPr/>
                <p:nvPr/>
              </p:nvSpPr>
              <p:spPr>
                <a:xfrm rot="2584800">
                  <a:off x="8449920" y="2003400"/>
                  <a:ext cx="357120" cy="33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任意多边形 546"/>
                <p:cNvSpPr/>
                <p:nvPr/>
              </p:nvSpPr>
              <p:spPr>
                <a:xfrm rot="2584800">
                  <a:off x="8010360" y="2086200"/>
                  <a:ext cx="357120" cy="33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任意多边形 548"/>
                <p:cNvSpPr/>
                <p:nvPr/>
              </p:nvSpPr>
              <p:spPr>
                <a:xfrm>
                  <a:off x="7364520" y="2296080"/>
                  <a:ext cx="1438200" cy="466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任意多边形 10"/>
                <p:cNvSpPr/>
                <p:nvPr/>
              </p:nvSpPr>
              <p:spPr>
                <a:xfrm>
                  <a:off x="8515440" y="2378520"/>
                  <a:ext cx="2142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任意多边形 531"/>
              <p:cNvSpPr/>
              <p:nvPr/>
            </p:nvSpPr>
            <p:spPr>
              <a:xfrm rot="18890400">
                <a:off x="8282880" y="283680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任意多边形 532"/>
              <p:cNvSpPr/>
              <p:nvPr/>
            </p:nvSpPr>
            <p:spPr>
              <a:xfrm rot="18993000">
                <a:off x="7335360" y="3104280"/>
                <a:ext cx="1438200" cy="46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任意多边形 533"/>
              <p:cNvSpPr/>
              <p:nvPr/>
            </p:nvSpPr>
            <p:spPr>
              <a:xfrm rot="519000">
                <a:off x="8208720" y="2471400"/>
                <a:ext cx="263520" cy="24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任意多边形 534"/>
              <p:cNvSpPr/>
              <p:nvPr/>
            </p:nvSpPr>
            <p:spPr>
              <a:xfrm rot="17349600">
                <a:off x="8403480" y="256860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任意多边形 535"/>
              <p:cNvSpPr/>
              <p:nvPr/>
            </p:nvSpPr>
            <p:spPr>
              <a:xfrm rot="19486800">
                <a:off x="7951680" y="290268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任意多边形 536"/>
              <p:cNvSpPr/>
              <p:nvPr/>
            </p:nvSpPr>
            <p:spPr>
              <a:xfrm>
                <a:off x="7837200" y="2864880"/>
                <a:ext cx="104760" cy="70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任意多边形 538"/>
              <p:cNvSpPr/>
              <p:nvPr/>
            </p:nvSpPr>
            <p:spPr>
              <a:xfrm rot="17349600">
                <a:off x="8433720" y="254304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任意多边形 540"/>
              <p:cNvSpPr/>
              <p:nvPr/>
            </p:nvSpPr>
            <p:spPr>
              <a:xfrm rot="17349600">
                <a:off x="8433720" y="254304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1" name="任意多边形 512"/>
            <p:cNvSpPr/>
            <p:nvPr/>
          </p:nvSpPr>
          <p:spPr>
            <a:xfrm>
              <a:off x="5879880" y="1877760"/>
              <a:ext cx="1252440" cy="9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任意多边形 513"/>
            <p:cNvSpPr/>
            <p:nvPr/>
          </p:nvSpPr>
          <p:spPr>
            <a:xfrm rot="916200">
              <a:off x="5433480" y="2844360"/>
              <a:ext cx="1557360" cy="24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任意多边形 514"/>
            <p:cNvSpPr/>
            <p:nvPr/>
          </p:nvSpPr>
          <p:spPr>
            <a:xfrm rot="1231800">
              <a:off x="5649480" y="2700000"/>
              <a:ext cx="925560" cy="15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任意多边形 515"/>
            <p:cNvSpPr/>
            <p:nvPr/>
          </p:nvSpPr>
          <p:spPr>
            <a:xfrm rot="20353200">
              <a:off x="5947920" y="2187000"/>
              <a:ext cx="78588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任意多边形 516"/>
            <p:cNvSpPr/>
            <p:nvPr/>
          </p:nvSpPr>
          <p:spPr>
            <a:xfrm rot="5400000">
              <a:off x="5645880" y="2796480"/>
              <a:ext cx="2124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任意多边形 517"/>
            <p:cNvSpPr/>
            <p:nvPr/>
          </p:nvSpPr>
          <p:spPr>
            <a:xfrm rot="327000">
              <a:off x="5703480" y="1609200"/>
              <a:ext cx="357120" cy="33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任意多边形 518"/>
            <p:cNvSpPr/>
            <p:nvPr/>
          </p:nvSpPr>
          <p:spPr>
            <a:xfrm rot="6948600">
              <a:off x="5622840" y="25718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任意多边形 519"/>
            <p:cNvSpPr/>
            <p:nvPr/>
          </p:nvSpPr>
          <p:spPr>
            <a:xfrm rot="2910000">
              <a:off x="5946840" y="251460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 520"/>
            <p:cNvSpPr/>
            <p:nvPr/>
          </p:nvSpPr>
          <p:spPr>
            <a:xfrm rot="17688000">
              <a:off x="5833080" y="2235240"/>
              <a:ext cx="269640" cy="25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 521"/>
            <p:cNvSpPr/>
            <p:nvPr/>
          </p:nvSpPr>
          <p:spPr>
            <a:xfrm rot="10241400">
              <a:off x="5983920" y="21218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 522"/>
            <p:cNvSpPr/>
            <p:nvPr/>
          </p:nvSpPr>
          <p:spPr>
            <a:xfrm rot="1342200">
              <a:off x="6092280" y="2390400"/>
              <a:ext cx="2426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 523"/>
            <p:cNvSpPr/>
            <p:nvPr/>
          </p:nvSpPr>
          <p:spPr>
            <a:xfrm rot="5649000">
              <a:off x="5845320" y="195732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任意多边形 524"/>
            <p:cNvSpPr/>
            <p:nvPr/>
          </p:nvSpPr>
          <p:spPr>
            <a:xfrm rot="2511600">
              <a:off x="6068520" y="2016000"/>
              <a:ext cx="925560" cy="15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任意多边形 526"/>
            <p:cNvSpPr/>
            <p:nvPr/>
          </p:nvSpPr>
          <p:spPr>
            <a:xfrm rot="8227200">
              <a:off x="6031800" y="1693080"/>
              <a:ext cx="2124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 527"/>
            <p:cNvSpPr/>
            <p:nvPr/>
          </p:nvSpPr>
          <p:spPr>
            <a:xfrm rot="4189200">
              <a:off x="6415200" y="178308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 528"/>
            <p:cNvSpPr/>
            <p:nvPr/>
          </p:nvSpPr>
          <p:spPr>
            <a:xfrm rot="327000">
              <a:off x="5700240" y="1610640"/>
              <a:ext cx="357120" cy="33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任意多边形 704"/>
          <p:cNvSpPr/>
          <p:nvPr/>
        </p:nvSpPr>
        <p:spPr>
          <a:xfrm rot="4189200">
            <a:off x="6417000" y="175824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Box 706"/>
          <p:cNvSpPr/>
          <p:nvPr/>
        </p:nvSpPr>
        <p:spPr>
          <a:xfrm>
            <a:off x="5286240" y="11430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亲的无私支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Box 707"/>
          <p:cNvSpPr/>
          <p:nvPr/>
        </p:nvSpPr>
        <p:spPr>
          <a:xfrm>
            <a:off x="5357880" y="773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人生的成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55" dur="5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6" presetSubtype="2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3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6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2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4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4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9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2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2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1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6" presetSubtype="26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7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6" presetSubtype="26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0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6" presetSubtype="26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3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6" presetSubtype="2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6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2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1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2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4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2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2" presetSubtype="1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2" presetSubtype="2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4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8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1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2" presetSubtype="2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2" presetSubtype="4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2" presetSubtype="8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1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8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4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2" presetSubtype="2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2" presetSubtype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2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4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8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2" presetSubtype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4300"/>
                            </p:stCondLst>
                            <p:childTnLst>
                              <p:par>
                                <p:cTn id="1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4800"/>
                            </p:stCondLst>
                            <p:childTnLst>
                              <p:par>
                                <p:cTn id="1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9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15300"/>
                            </p:stCondLst>
                            <p:childTnLst>
                              <p:par>
                                <p:cTn id="1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6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9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5800"/>
                            </p:stCondLst>
                            <p:childTnLst>
                              <p:par>
                                <p:cTn id="1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16300"/>
                            </p:stCondLst>
                            <p:childTnLst>
                              <p:par>
                                <p:cTn id="1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6800"/>
                            </p:stCondLst>
                            <p:childTnLst>
                              <p:par>
                                <p:cTn id="1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173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17800"/>
                            </p:stCondLst>
                            <p:childTnLst>
                              <p:par>
                                <p:cTn id="1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1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0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9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18300"/>
                            </p:stCondLst>
                            <p:childTnLst>
                              <p:par>
                                <p:cTn id="1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18800"/>
                            </p:stCondLst>
                            <p:childTnLst>
                              <p:par>
                                <p:cTn id="1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1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9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19300"/>
                            </p:stCondLst>
                            <p:childTnLst>
                              <p:par>
                                <p:cTn id="1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9800"/>
                            </p:stCondLst>
                            <p:childTnLst>
                              <p:par>
                                <p:cTn id="16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20300"/>
                            </p:stCondLst>
                            <p:childTnLst>
                              <p:par>
                                <p:cTn id="1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0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20800"/>
                            </p:stCondLst>
                            <p:childTnLst>
                              <p:par>
                                <p:cTn id="1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6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9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1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7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3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9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2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5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1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0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21300"/>
                            </p:stCondLst>
                            <p:childTnLst>
                              <p:par>
                                <p:cTn id="18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6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2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5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1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4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21800"/>
                            </p:stCondLst>
                            <p:childTnLst>
                              <p:par>
                                <p:cTn id="1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22300"/>
                            </p:stCondLst>
                            <p:childTnLst>
                              <p:par>
                                <p:cTn id="18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1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22800"/>
                            </p:stCondLst>
                            <p:childTnLst>
                              <p:par>
                                <p:cTn id="1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0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9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23300"/>
                            </p:stCondLst>
                            <p:childTnLst>
                              <p:par>
                                <p:cTn id="19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8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4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23800"/>
                            </p:stCondLst>
                            <p:childTnLst>
                              <p:par>
                                <p:cTn id="19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1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7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3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0" fill="hold">
                            <p:stCondLst>
                              <p:cond delay="24300"/>
                            </p:stCondLst>
                            <p:childTnLst>
                              <p:par>
                                <p:cTn id="19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5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1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4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24800"/>
                            </p:stCondLst>
                            <p:childTnLst>
                              <p:par>
                                <p:cTn id="20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9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fill="hold">
                            <p:stCondLst>
                              <p:cond delay="25300"/>
                            </p:stCondLst>
                            <p:childTnLst>
                              <p:par>
                                <p:cTn id="20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3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159 0.0125 -0.06302 0.02528 -0.08663 0.06306 C -0.11024 0.10083 -0.14184 0.17833 -0.14184 0.22667 C -0.14184 0.275 -0.08663 0.30445 -0.08663 0.35278 C -0.08663 0.40111 -0.11423 0.45889 -0.14184 0.51667 E">
                                      <p:cBhvr>
                                        <p:cTn id="2037" dur="2000" fill="hold"/>
                                        <p:tgtEl>
                                          <p:spTgt spid="10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039" dur="2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0" nodeType="withEffect" fill="hold" presetClass="exit" presetID="50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1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7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41">
                                  <p:stCondLst>
                                    <p:cond delay="1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1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6"/>
          <p:cNvSpPr/>
          <p:nvPr/>
        </p:nvSpPr>
        <p:spPr>
          <a:xfrm rot="1783800">
            <a:off x="3703320" y="3638160"/>
            <a:ext cx="357120" cy="33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286240" y="3786120"/>
            <a:ext cx="1143000" cy="1214640"/>
            <a:chOff x="5286240" y="3786120"/>
            <a:chExt cx="1143000" cy="1214640"/>
          </a:xfrm>
        </p:grpSpPr>
        <p:sp>
          <p:nvSpPr>
            <p:cNvPr id="55" name="椭圆 12"/>
            <p:cNvSpPr/>
            <p:nvPr/>
          </p:nvSpPr>
          <p:spPr>
            <a:xfrm>
              <a:off x="5286240" y="3786120"/>
              <a:ext cx="1143000" cy="1214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13"/>
            <p:cNvSpPr/>
            <p:nvPr/>
          </p:nvSpPr>
          <p:spPr>
            <a:xfrm>
              <a:off x="5509800" y="3949560"/>
              <a:ext cx="577800" cy="920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椭圆 14"/>
          <p:cNvSpPr/>
          <p:nvPr/>
        </p:nvSpPr>
        <p:spPr>
          <a:xfrm>
            <a:off x="7286760" y="642960"/>
            <a:ext cx="857160" cy="8571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7358040" y="71424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4967280" y="773280"/>
            <a:ext cx="23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一个新生命的诞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795840" y="3562200"/>
            <a:ext cx="214200" cy="227160"/>
            <a:chOff x="3795840" y="3562200"/>
            <a:chExt cx="214200" cy="227160"/>
          </a:xfrm>
        </p:grpSpPr>
        <p:sp>
          <p:nvSpPr>
            <p:cNvPr id="61" name="椭圆 17"/>
            <p:cNvSpPr/>
            <p:nvPr/>
          </p:nvSpPr>
          <p:spPr>
            <a:xfrm>
              <a:off x="3795840" y="3562200"/>
              <a:ext cx="214200" cy="22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任意多边形 18"/>
            <p:cNvSpPr/>
            <p:nvPr/>
          </p:nvSpPr>
          <p:spPr>
            <a:xfrm>
              <a:off x="3836880" y="3592080"/>
              <a:ext cx="109440" cy="1731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任意多边形 22"/>
          <p:cNvSpPr/>
          <p:nvPr/>
        </p:nvSpPr>
        <p:spPr>
          <a:xfrm>
            <a:off x="1266840" y="3976560"/>
            <a:ext cx="3521160" cy="115884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3"/>
          <p:cNvSpPr/>
          <p:nvPr/>
        </p:nvSpPr>
        <p:spPr>
          <a:xfrm>
            <a:off x="2433600" y="3774960"/>
            <a:ext cx="6791400" cy="207504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4"/>
          <p:cNvSpPr/>
          <p:nvPr/>
        </p:nvSpPr>
        <p:spPr>
          <a:xfrm>
            <a:off x="-128520" y="4087800"/>
            <a:ext cx="2952720" cy="171936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5"/>
          <p:cNvSpPr/>
          <p:nvPr/>
        </p:nvSpPr>
        <p:spPr>
          <a:xfrm>
            <a:off x="6184800" y="4127400"/>
            <a:ext cx="2932200" cy="130032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8"/>
          <p:cNvSpPr/>
          <p:nvPr/>
        </p:nvSpPr>
        <p:spPr>
          <a:xfrm>
            <a:off x="3714840" y="3857760"/>
            <a:ext cx="455400" cy="21420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857760" y="3929040"/>
            <a:ext cx="142920" cy="95400"/>
            <a:chOff x="3857760" y="3929040"/>
            <a:chExt cx="142920" cy="95400"/>
          </a:xfrm>
        </p:grpSpPr>
        <p:sp>
          <p:nvSpPr>
            <p:cNvPr id="69" name="椭圆 29"/>
            <p:cNvSpPr/>
            <p:nvPr/>
          </p:nvSpPr>
          <p:spPr>
            <a:xfrm>
              <a:off x="3857760" y="3929040"/>
              <a:ext cx="142920" cy="954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30"/>
            <p:cNvSpPr/>
            <p:nvPr/>
          </p:nvSpPr>
          <p:spPr>
            <a:xfrm flipV="1">
              <a:off x="3951360" y="3946320"/>
              <a:ext cx="46080" cy="30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图片 32" descr="0.png"/>
          <p:cNvPicPr/>
          <p:nvPr/>
        </p:nvPicPr>
        <p:blipFill>
          <a:blip r:embed="rId1"/>
          <a:stretch/>
        </p:blipFill>
        <p:spPr>
          <a:xfrm>
            <a:off x="-830160" y="1928880"/>
            <a:ext cx="83016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3" descr="23.png"/>
          <p:cNvPicPr/>
          <p:nvPr/>
        </p:nvPicPr>
        <p:blipFill>
          <a:blip r:embed="rId2"/>
          <a:stretch/>
        </p:blipFill>
        <p:spPr>
          <a:xfrm>
            <a:off x="3600360" y="-39996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4" descr="23.png"/>
          <p:cNvPicPr/>
          <p:nvPr/>
        </p:nvPicPr>
        <p:blipFill>
          <a:blip r:embed="rId3"/>
          <a:stretch/>
        </p:blipFill>
        <p:spPr>
          <a:xfrm>
            <a:off x="2879640" y="-39996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5" descr="23.png"/>
          <p:cNvPicPr/>
          <p:nvPr/>
        </p:nvPicPr>
        <p:blipFill>
          <a:blip r:embed="rId4"/>
          <a:stretch/>
        </p:blipFill>
        <p:spPr>
          <a:xfrm>
            <a:off x="2232000" y="-527040"/>
            <a:ext cx="291960" cy="2872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6" descr="23.png"/>
          <p:cNvPicPr/>
          <p:nvPr/>
        </p:nvPicPr>
        <p:blipFill>
          <a:blip r:embed="rId5"/>
          <a:stretch/>
        </p:blipFill>
        <p:spPr>
          <a:xfrm>
            <a:off x="5122800" y="-5144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7" descr="23.png"/>
          <p:cNvPicPr/>
          <p:nvPr/>
        </p:nvPicPr>
        <p:blipFill>
          <a:blip r:embed="rId6"/>
          <a:stretch/>
        </p:blipFill>
        <p:spPr>
          <a:xfrm>
            <a:off x="6192720" y="-514440"/>
            <a:ext cx="292320" cy="2872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38" descr="23.png"/>
          <p:cNvPicPr/>
          <p:nvPr/>
        </p:nvPicPr>
        <p:blipFill>
          <a:blip r:embed="rId7"/>
          <a:stretch/>
        </p:blipFill>
        <p:spPr>
          <a:xfrm>
            <a:off x="1440000" y="-399960"/>
            <a:ext cx="145800" cy="1458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39" descr="23.png"/>
          <p:cNvPicPr/>
          <p:nvPr/>
        </p:nvPicPr>
        <p:blipFill>
          <a:blip r:embed="rId8"/>
          <a:stretch/>
        </p:blipFill>
        <p:spPr>
          <a:xfrm>
            <a:off x="2087640" y="-279360"/>
            <a:ext cx="145800" cy="1461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0" descr="23.png"/>
          <p:cNvPicPr/>
          <p:nvPr/>
        </p:nvPicPr>
        <p:blipFill>
          <a:blip r:embed="rId9"/>
          <a:stretch/>
        </p:blipFill>
        <p:spPr>
          <a:xfrm>
            <a:off x="2664000" y="-519120"/>
            <a:ext cx="145800" cy="1461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1" descr="23.png"/>
          <p:cNvPicPr/>
          <p:nvPr/>
        </p:nvPicPr>
        <p:blipFill>
          <a:blip r:embed="rId10"/>
          <a:stretch/>
        </p:blipFill>
        <p:spPr>
          <a:xfrm>
            <a:off x="3313080" y="-27936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2" descr="23.png"/>
          <p:cNvPicPr/>
          <p:nvPr/>
        </p:nvPicPr>
        <p:blipFill>
          <a:blip r:embed="rId11"/>
          <a:stretch/>
        </p:blipFill>
        <p:spPr>
          <a:xfrm>
            <a:off x="4317840" y="-27936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3" descr="23.png"/>
          <p:cNvPicPr/>
          <p:nvPr/>
        </p:nvPicPr>
        <p:blipFill>
          <a:blip r:embed="rId12"/>
          <a:stretch/>
        </p:blipFill>
        <p:spPr>
          <a:xfrm>
            <a:off x="5832360" y="-399960"/>
            <a:ext cx="146160" cy="1458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4" descr="23.png"/>
          <p:cNvPicPr/>
          <p:nvPr/>
        </p:nvPicPr>
        <p:blipFill>
          <a:blip r:embed="rId13"/>
          <a:stretch/>
        </p:blipFill>
        <p:spPr>
          <a:xfrm>
            <a:off x="6913440" y="-27936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45" descr="23.png"/>
          <p:cNvPicPr/>
          <p:nvPr/>
        </p:nvPicPr>
        <p:blipFill>
          <a:blip r:embed="rId14"/>
          <a:stretch/>
        </p:blipFill>
        <p:spPr>
          <a:xfrm>
            <a:off x="7704000" y="-46044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46" descr="23.png"/>
          <p:cNvPicPr/>
          <p:nvPr/>
        </p:nvPicPr>
        <p:blipFill>
          <a:blip r:embed="rId15"/>
          <a:stretch/>
        </p:blipFill>
        <p:spPr>
          <a:xfrm>
            <a:off x="7416720" y="-27936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47" descr="23.png"/>
          <p:cNvPicPr/>
          <p:nvPr/>
        </p:nvPicPr>
        <p:blipFill>
          <a:blip r:embed="rId16"/>
          <a:stretch/>
        </p:blipFill>
        <p:spPr>
          <a:xfrm>
            <a:off x="8209080" y="-399960"/>
            <a:ext cx="145800" cy="1458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48" descr="23.png"/>
          <p:cNvPicPr/>
          <p:nvPr/>
        </p:nvPicPr>
        <p:blipFill>
          <a:blip r:embed="rId17"/>
          <a:stretch/>
        </p:blipFill>
        <p:spPr>
          <a:xfrm>
            <a:off x="8640720" y="-27936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49" descr="23.png"/>
          <p:cNvPicPr/>
          <p:nvPr/>
        </p:nvPicPr>
        <p:blipFill>
          <a:blip r:embed="rId18"/>
          <a:stretch/>
        </p:blipFill>
        <p:spPr>
          <a:xfrm>
            <a:off x="6769080" y="-57960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50" descr="23.png"/>
          <p:cNvPicPr/>
          <p:nvPr/>
        </p:nvPicPr>
        <p:blipFill>
          <a:blip r:embed="rId19"/>
          <a:stretch/>
        </p:blipFill>
        <p:spPr>
          <a:xfrm>
            <a:off x="8926560" y="-38412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51" descr="23.png"/>
          <p:cNvPicPr/>
          <p:nvPr/>
        </p:nvPicPr>
        <p:blipFill>
          <a:blip r:embed="rId20"/>
          <a:stretch/>
        </p:blipFill>
        <p:spPr>
          <a:xfrm>
            <a:off x="7777080" y="-514440"/>
            <a:ext cx="292320" cy="2872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52" descr="23.png"/>
          <p:cNvPicPr/>
          <p:nvPr/>
        </p:nvPicPr>
        <p:blipFill>
          <a:blip r:embed="rId21"/>
          <a:stretch/>
        </p:blipFill>
        <p:spPr>
          <a:xfrm>
            <a:off x="6986520" y="-6397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53" descr="23.png"/>
          <p:cNvPicPr/>
          <p:nvPr/>
        </p:nvPicPr>
        <p:blipFill>
          <a:blip r:embed="rId22"/>
          <a:stretch/>
        </p:blipFill>
        <p:spPr>
          <a:xfrm>
            <a:off x="792000" y="-514440"/>
            <a:ext cx="292320" cy="2872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54" descr="23.png"/>
          <p:cNvPicPr/>
          <p:nvPr/>
        </p:nvPicPr>
        <p:blipFill>
          <a:blip r:embed="rId23"/>
          <a:stretch/>
        </p:blipFill>
        <p:spPr>
          <a:xfrm>
            <a:off x="576360" y="-460440"/>
            <a:ext cx="145800" cy="1461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55" descr="23.png"/>
          <p:cNvPicPr/>
          <p:nvPr/>
        </p:nvPicPr>
        <p:blipFill>
          <a:blip r:embed="rId24"/>
          <a:stretch/>
        </p:blipFill>
        <p:spPr>
          <a:xfrm>
            <a:off x="0" y="-399960"/>
            <a:ext cx="146160" cy="1458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6" descr="23.png"/>
          <p:cNvPicPr/>
          <p:nvPr/>
        </p:nvPicPr>
        <p:blipFill>
          <a:blip r:embed="rId25"/>
          <a:stretch/>
        </p:blipFill>
        <p:spPr>
          <a:xfrm>
            <a:off x="203040" y="-514440"/>
            <a:ext cx="292320" cy="2872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7" descr="23.png"/>
          <p:cNvPicPr/>
          <p:nvPr/>
        </p:nvPicPr>
        <p:blipFill>
          <a:blip r:embed="rId26"/>
          <a:stretch/>
        </p:blipFill>
        <p:spPr>
          <a:xfrm>
            <a:off x="1584360" y="-514440"/>
            <a:ext cx="291960" cy="2872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8" descr="23.png"/>
          <p:cNvPicPr/>
          <p:nvPr/>
        </p:nvPicPr>
        <p:blipFill>
          <a:blip r:embed="rId27"/>
          <a:stretch/>
        </p:blipFill>
        <p:spPr>
          <a:xfrm>
            <a:off x="1152360" y="-39996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9" descr="23.png"/>
          <p:cNvPicPr/>
          <p:nvPr/>
        </p:nvPicPr>
        <p:blipFill>
          <a:blip r:embed="rId28"/>
          <a:stretch/>
        </p:blipFill>
        <p:spPr>
          <a:xfrm>
            <a:off x="3890880" y="-5144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60" descr="23.png"/>
          <p:cNvPicPr/>
          <p:nvPr/>
        </p:nvPicPr>
        <p:blipFill>
          <a:blip r:embed="rId29"/>
          <a:stretch/>
        </p:blipFill>
        <p:spPr>
          <a:xfrm>
            <a:off x="4968720" y="-27936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61" descr="23.png"/>
          <p:cNvPicPr/>
          <p:nvPr/>
        </p:nvPicPr>
        <p:blipFill>
          <a:blip r:embed="rId30"/>
          <a:stretch/>
        </p:blipFill>
        <p:spPr>
          <a:xfrm>
            <a:off x="5616720" y="-63972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62" descr="23.png"/>
          <p:cNvPicPr/>
          <p:nvPr/>
        </p:nvPicPr>
        <p:blipFill>
          <a:blip r:embed="rId31"/>
          <a:stretch/>
        </p:blipFill>
        <p:spPr>
          <a:xfrm>
            <a:off x="5977080" y="-39996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63" descr="23.png"/>
          <p:cNvPicPr/>
          <p:nvPr/>
        </p:nvPicPr>
        <p:blipFill>
          <a:blip r:embed="rId32"/>
          <a:stretch/>
        </p:blipFill>
        <p:spPr>
          <a:xfrm>
            <a:off x="8424720" y="-63972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103" name="P1" descr="F:\临时\amy\模板\圣诞\场景\7.png"/>
          <p:cNvPicPr/>
          <p:nvPr/>
        </p:nvPicPr>
        <p:blipFill>
          <a:blip r:embed="rId33"/>
          <a:stretch/>
        </p:blipFill>
        <p:spPr>
          <a:xfrm>
            <a:off x="2592360" y="-331920"/>
            <a:ext cx="111240" cy="111240"/>
          </a:xfrm>
          <a:prstGeom prst="rect">
            <a:avLst/>
          </a:prstGeom>
          <a:ln w="0">
            <a:noFill/>
          </a:ln>
        </p:spPr>
      </p:pic>
      <p:pic>
        <p:nvPicPr>
          <p:cNvPr id="104" name="P2" descr="F:\临时\amy\模板\圣诞\场景\7.png"/>
          <p:cNvPicPr/>
          <p:nvPr/>
        </p:nvPicPr>
        <p:blipFill>
          <a:blip r:embed="rId34"/>
          <a:stretch/>
        </p:blipFill>
        <p:spPr>
          <a:xfrm>
            <a:off x="360360" y="-519120"/>
            <a:ext cx="146160" cy="150840"/>
          </a:xfrm>
          <a:prstGeom prst="rect">
            <a:avLst/>
          </a:prstGeom>
          <a:ln w="0">
            <a:noFill/>
          </a:ln>
        </p:spPr>
      </p:pic>
      <p:pic>
        <p:nvPicPr>
          <p:cNvPr id="105" name="P3" descr="F:\临时\amy\模板\圣诞\场景\7.png"/>
          <p:cNvPicPr/>
          <p:nvPr/>
        </p:nvPicPr>
        <p:blipFill>
          <a:blip r:embed="rId35"/>
          <a:stretch/>
        </p:blipFill>
        <p:spPr>
          <a:xfrm>
            <a:off x="5191200" y="-406440"/>
            <a:ext cx="218880" cy="223920"/>
          </a:xfrm>
          <a:prstGeom prst="rect">
            <a:avLst/>
          </a:prstGeom>
          <a:ln w="0">
            <a:noFill/>
          </a:ln>
        </p:spPr>
      </p:pic>
      <p:pic>
        <p:nvPicPr>
          <p:cNvPr id="106" name="P4" descr="F:\临时\amy\模板\圣诞\场景\7.png"/>
          <p:cNvPicPr/>
          <p:nvPr/>
        </p:nvPicPr>
        <p:blipFill>
          <a:blip r:embed="rId36"/>
          <a:stretch/>
        </p:blipFill>
        <p:spPr>
          <a:xfrm>
            <a:off x="7201080" y="-331920"/>
            <a:ext cx="174600" cy="174600"/>
          </a:xfrm>
          <a:prstGeom prst="rect">
            <a:avLst/>
          </a:prstGeom>
          <a:ln w="0">
            <a:noFill/>
          </a:ln>
        </p:spPr>
      </p:pic>
      <p:pic>
        <p:nvPicPr>
          <p:cNvPr id="107" name="P5" descr="F:\临时\amy\模板\圣诞\场景\7.png"/>
          <p:cNvPicPr/>
          <p:nvPr/>
        </p:nvPicPr>
        <p:blipFill>
          <a:blip r:embed="rId37"/>
          <a:stretch/>
        </p:blipFill>
        <p:spPr>
          <a:xfrm>
            <a:off x="8209080" y="-519120"/>
            <a:ext cx="145800" cy="150840"/>
          </a:xfrm>
          <a:prstGeom prst="rect">
            <a:avLst/>
          </a:prstGeom>
          <a:ln w="0">
            <a:noFill/>
          </a:ln>
        </p:spPr>
      </p:pic>
      <p:pic>
        <p:nvPicPr>
          <p:cNvPr id="108" name="P6" descr="F:\临时\amy\模板\圣诞\场景\7.png"/>
          <p:cNvPicPr/>
          <p:nvPr/>
        </p:nvPicPr>
        <p:blipFill>
          <a:blip r:embed="rId38"/>
          <a:stretch/>
        </p:blipFill>
        <p:spPr>
          <a:xfrm>
            <a:off x="1800360" y="-639720"/>
            <a:ext cx="257040" cy="257040"/>
          </a:xfrm>
          <a:prstGeom prst="rect">
            <a:avLst/>
          </a:prstGeom>
          <a:ln w="0">
            <a:noFill/>
          </a:ln>
        </p:spPr>
      </p:pic>
      <p:pic>
        <p:nvPicPr>
          <p:cNvPr id="109" name="P7" descr="F:\临时\amy\模板\圣诞\场景\7.png"/>
          <p:cNvPicPr/>
          <p:nvPr/>
        </p:nvPicPr>
        <p:blipFill>
          <a:blip r:embed="rId39"/>
          <a:stretch/>
        </p:blipFill>
        <p:spPr>
          <a:xfrm>
            <a:off x="6553080" y="-399960"/>
            <a:ext cx="111240" cy="110880"/>
          </a:xfrm>
          <a:prstGeom prst="rect">
            <a:avLst/>
          </a:prstGeom>
          <a:ln w="0">
            <a:noFill/>
          </a:ln>
        </p:spPr>
      </p:pic>
      <p:pic>
        <p:nvPicPr>
          <p:cNvPr id="110" name="P8" descr="F:\临时\amy\模板\圣诞\场景\7.png"/>
          <p:cNvPicPr/>
          <p:nvPr/>
        </p:nvPicPr>
        <p:blipFill>
          <a:blip r:embed="rId40"/>
          <a:stretch/>
        </p:blipFill>
        <p:spPr>
          <a:xfrm>
            <a:off x="3529080" y="-460440"/>
            <a:ext cx="174600" cy="17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22222E-006 C 0.00122 0.01945 0.00382 0.0338 0.00834 0.05185 C 0.01042 0.05995 0.01736 0.06597 0.01945 0.07408 C 0.02136 0.08148 0.02361 0.08519 0.02778 0.09074 C 0.02882 0.09514 0.03403 0.10579 0.03611 0.10926 C 0.03837 0.11296 0.04219 0.11482 0.04445 0.11852 C 0.04827 0.12477 0.05035 0.13056 0.05556 0.13519 C 0.05868 0.14144 0.06285 0.14699 0.06528 0.1537 C 0.07205 0.17176 0.06441 0.15556 0.07084 0.16852 C 0.07257 0.17778 0.07518 0.1882 0.07917 0.1963 C 0.0842 0.22292 0.08907 0.24908 0.09306 0.27593 C 0.09497 0.3044 0.09445 0.3331 0.09861 0.36111 C 0.09966 0.37546 0.10105 0.38958 0.10278 0.4037 C 0.10365 0.41065 0.10452 0.40833 0.10695 0.41482 C 0.10816 0.41783 0.10903 0.42477 0.10973 0.42778 C 0.11146 0.43634 0.11459 0.44352 0.11667 0.45185 C 0.11771 0.51366 0.11355 0.54977 0.12917 0.60185 C 0.12848 0.6544 0.13125 0.68195 0.125 0.72408 C 0.12605 0.77176 0.12188 0.8125 0.14723 0.8463 C 0.14948 0.85833 0.15834 0.86273 0.1625 0.87408 C 0.16667 0.88542 0.17396 0.89445 0.17917 0.90556 C 0.18438 0.91644 0.18594 0.93195 0.1875 0.94445 C 0.18907 0.98148 0.19063 1.01875 0.18611 1.05556 C 0.18282 1.08125 0.17084 1.11181 0.17084 1.13704 E">
                                      <p:cBhvr>
                                        <p:cTn id="32" dur="44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34" dur="44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 repeatCount="indefinite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36" dur="44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 repeatCount="indefinite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38" dur="44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 repeatCount="indefinite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40" dur="44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42" dur="44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 repeatCount="indefinite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44" dur="44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46" dur="44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 repeatCount="indefinite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48" dur="44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50" dur="44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 repeatCount="indefinite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52" dur="44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 repeatCount="indefinite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54" dur="44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 repeatCount="indefinite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56" dur="44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58" dur="44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60" dur="44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62" dur="44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 repeatCount="indefinite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64" dur="44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3.88889E-006 4.77898E-006 C -0.03472 0.04865 -0.06927 0.09702 -0.08888 0.15207 C -0.1085 0.20711 -0.12378 0.2819 -0.11736 0.32971 C -0.11093 0.37753 -0.05416 0.38142 -0.05069 0.43953 C -0.04722 0.49763 -0.06302 0.6105 -0.0967 0.67834 C -0.13038 0.74645 -0.2276 0.78231 -0.25225 0.84765 C -0.27691 0.91298 -0.24739 1.02307 -0.24444 1.07172 C -0.24149 1.1201 -0.23819 1.12983 -0.23489 1.13928 E">
                                      <p:cBhvr>
                                        <p:cTn id="66" dur="44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 repeatCount="indefinite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68" dur="44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70" dur="44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72" dur="44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74" dur="44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76" dur="44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78" dur="44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80" dur="44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82" dur="44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 repeatCount="indefinite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84" dur="4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86" dur="44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88" dur="44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33 0.00583 C 0.03195 0.07188 0.06077 0.13794 0.06372 0.22148 C 0.06667 0.30502 0.02691 0.35359 0.02083 0.50708 C 0.01476 0.66056 -0.00382 1.03497 0.02708 1.14377 C 0.05799 1.25229 0.13229 1.20538 0.2066 1.15848 E">
                                      <p:cBhvr>
                                        <p:cTn id="90" dur="44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0.00434 -0.01549 C 0.02431 0.05041 0.05313 0.11654 0.05608 0.2 C 0.05903 0.28347 0.01927 0.33203 0.01319 0.48555 C 0.00712 0.63862 -0.01146 1.01318 0.01944 1.12185 C 0.05035 1.23029 0.12465 1.18336 0.19896 1.13665 E">
                                      <p:cBhvr>
                                        <p:cTn id="92" dur="44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childTnLst>
                                    <p:animRot by="43200000">
                                      <p:cBhvr>
                                        <p:cTn id="94" dur="4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8.09249E-007 C 0.00104 0.03052 -0.00139 0.05364 0.01163 0.07491 C 0.01215 0.07838 0.01215 0.08208 0.01319 0.08509 C 0.01389 0.0874 0.01597 0.08832 0.01667 0.09064 C 0.01823 0.09549 0.01806 0.10127 0.01996 0.1059 C 0.02431 0.1163 0.02951 0.12509 0.03472 0.13457 C 0.04201 0.14774 0.0467 0.16347 0.05469 0.17595 C 0.05851 0.19399 0.06545 0.20994 0.07292 0.2252 C 0.075 0.23537 0.07778 0.24069 0.08264 0.24832 C 0.08733 0.2689 0.08056 0.24416 0.08941 0.2615 C 0.09045 0.26335 0.0901 0.26682 0.09097 0.26913 C 0.09201 0.27191 0.09653 0.27699 0.09774 0.27954 C 0.10295 0.28948 0.10955 0.31422 0.1125 0.32624 C 0.11406 0.41965 0.11562 0.72717 0.11927 0.74335 C 0.11962 0.76069 0.11996 0.8111 0.12257 0.83676 C 0.12326 0.84324 0.12587 0.84855 0.12743 0.8548 C 0.12951 0.86381 0.13021 0.87399 0.13246 0.88324 C 0.13663 0.90035 0.14479 0.91468 0.14896 0.93248 C 0.15243 0.94705 0.1533 0.96324 0.15885 0.97642 C 0.16719 1.01595 0.1566 0.96925 0.16719 1.00485 C 0.16979 1.01341 0.17222 1.02173 0.17378 1.03075 C 0.17431 1.03422 0.17448 1.03792 0.17535 1.04116 C 0.18056 1.06081 0.18403 1.06682 0.18698 1.08509 C 0.1875 1.09827 0.18837 1.11121 0.18871 1.12416 C 0.18941 1.1563 0.18889 1.18821 0.19045 1.22011 C 0.1908 1.22821 0.19531 1.24324 0.19531 1.24347 C 0.19687 1.2622 0.19861 1.28092 0.19861 1.30035 E">
                                      <p:cBhvr>
                                        <p:cTn id="96" dur="44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43200000">
                                      <p:cBhvr>
                                        <p:cTn id="98" dur="4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 repeatCount="indefinite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.0007 -0.00028 C 0.00486 0.206 0.00903 0.41284 -0.01371 0.55407 C -0.03645 0.69502 -0.11024 0.74673 -0.13593 0.8457 C -0.16163 0.94495 -0.16232 1.09786 -0.16753 1.14845 E">
                                      <p:cBhvr>
                                        <p:cTn id="100" dur="44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 repeatCount="indefinite">
                                  <p:stCondLst>
                                    <p:cond delay="3200"/>
                                  </p:stCondLst>
                                  <p:childTnLst>
                                    <p:animRot by="43200000">
                                      <p:cBhvr>
                                        <p:cTn id="102" dur="4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00087 0.0007 C 0.04184 0.11492 0.08281 0.22937 0.09132 0.33457 C 0.09982 0.43954 0.0658 0.53434 0.05173 0.63052 C 0.03767 0.72648 0.0118 0.82151 0.00729 0.91145 C 0.00278 1.00185 0.01371 1.08671 0.02465 1.17157 E">
                                      <p:cBhvr>
                                        <p:cTn id="104" dur="44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 repeatCount="indefinite">
                                  <p:stCondLst>
                                    <p:cond delay="1400"/>
                                  </p:stCondLst>
                                  <p:childTnLst>
                                    <p:animRot by="43200000">
                                      <p:cBhvr>
                                        <p:cTn id="106" dur="4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3.88889E-006 1.44509E-006 C 0.01475 0.05803 0.02951 0.1163 0.05711 0.17757 C 0.08472 0.23861 0.146 0.29919 0.1651 0.36555 C 0.1842 0.43214 0.18229 0.51121 0.17152 0.57503 C 0.16076 0.63861 0.11927 0.67977 0.1 0.74821 C 0.08072 0.81711 0.06111 0.92439 0.05555 0.98728 C 0.05 1.04994 0.05833 1.08717 0.06666 1.12462 E">
                                      <p:cBhvr>
                                        <p:cTn id="108" dur="44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 repeatCount="indefinite">
                                  <p:stCondLst>
                                    <p:cond delay="3500"/>
                                  </p:stCondLst>
                                  <p:childTnLst>
                                    <p:animRot by="43200000">
                                      <p:cBhvr>
                                        <p:cTn id="110" dur="4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1.47345E-007 C 0.02257 0.08312 0.04514 0.16569 0.03976 0.26633 C 0.03438 0.36669 -0.01719 0.50042 -0.03177 0.60272 C -0.04635 0.70475 -0.0533 0.79705 -0.04757 0.87907 C -0.04184 0.96136 -0.0066 1.05199 0.00313 1.0948 C 0.01285 1.13817 0.01198 1.13761 0.01111 1.13706 E">
                                      <p:cBhvr>
                                        <p:cTn id="112" dur="44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4" dur="4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 repeatCount="indefinite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1.38889E-006 2.89017E-007 C 0.00833 0.04162 0.01666 0.08323 0.01267 0.17341 C 0.00868 0.26358 -0.02969 0.45318 -0.02379 0.54127 C -0.01789 0.62913 0.04513 0.6074 0.04774 0.70173 C 0.05034 0.7963 0.02118 0.9519 -0.00782 1.10774 E">
                                      <p:cBhvr>
                                        <p:cTn id="116" dur="44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8" repeatCount="indefinite">
                                  <p:stCondLst>
                                    <p:cond delay="2400"/>
                                  </p:stCondLst>
                                  <p:childTnLst>
                                    <p:animRot by="43200000">
                                      <p:cBhvr>
                                        <p:cTn id="118" dur="4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1.94444E-006 2.31214E-006 C -0.00416 0.00809 -0.00833 0.01642 -0.00642 0.06543 C -0.00451 0.11445 0.00868 0.22867 0.01112 0.29387 C 0.01355 0.35908 0.02587 0.38798 0.00782 0.45665 C -0.01024 0.52532 -0.075 0.6222 -0.09687 0.70613 C -0.11875 0.79006 -0.14062 0.89364 -0.12378 0.95977 C -0.10694 1.0259 -0.01666 1.07931 0.00469 1.10335 E">
                                      <p:cBhvr>
                                        <p:cTn id="120" dur="44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 repeatCount="indefinite">
                                  <p:stCondLst>
                                    <p:cond delay="1400"/>
                                  </p:stCondLst>
                                  <p:childTnLst>
                                    <p:animRot by="43200000">
                                      <p:cBhvr>
                                        <p:cTn id="122" dur="4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5E-006 3.64162E-006 C 0.00609 0.0541 0.01216 0.10821 0.01112 0.24948 C 0.01008 0.39075 -0.00642 0.70104 -0.00642 0.84763 C -0.00642 0.99422 0.00227 1.0615 0.01112 1.12878 E">
                                      <p:cBhvr>
                                        <p:cTn id="124" dur="44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66667E-006 -5.27893E-006 C 0.0342 0.02525 0.06823 0.0505 0.1092 0.05245 C 0.15018 0.05439 0.20434 0.05578 0.24549 0.01165 C 0.28663 -0.03248 0.31736 -0.19068 0.35643 -0.21205 C 0.39549 -0.23343 0.43663 -0.14184 0.48004 -0.1163 C 0.52344 -0.09077 0.56372 -0.04636 0.6165 -0.05802 C 0.66927 -0.06967 0.72118 -0.12879 0.79636 -0.18624 C 0.87153 -0.24314 1.01163 -0.35499 1.06736 -0.40106 C 1.12309 -0.44714 1.12691 -0.45463 1.13091 -0.46212 E">
                                      <p:cBhvr>
                                        <p:cTn id="141" dur="6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autoRev="1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143" dur="3250" fill="hold"/>
                                        <p:tgtEl>
                                          <p:spTgt spid="7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53">
                                  <p:stCondLst>
                                    <p:cond delay="8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" dur="1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64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 0 L 0 -0.39967 E">
                                      <p:cBhvr>
                                        <p:cTn id="152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65353E-006 C 0.03056 -0.00638 0.05973 -0.01887 0.10834 -0.01915 C 0.15695 -0.01943 0.19757 -0.02248 0.29219 -0.00249 C 0.38664 0.01749 0.60157 -0.000270000000000006 0.67657 0.10161 C 0.75157 0.2035 0.72848 0.50306 0.74219 0.60883 E">
                                      <p:cBhvr>
                                        <p:cTn id="163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6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1">
                                  <p:stCondLst>
                                    <p:cond delay="116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0">
                                  <p:stCondLst>
                                    <p:cond delay="116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2" presetSubtype="4">
                                  <p:stCondLst>
                                    <p:cond delay="141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15200"/>
                                  </p:stCondLst>
                                  <p:childTnLst>
                                    <p:animMotion origin="layout" path="M 0.00347 4.44444E-006 C 0.02014 -0.01056 0.06545 -0.02139 0.10364 -0.06389 C 0.14184 -0.10639 0.19253 -0.25778 0.23298 -0.25528 C 0.27343 -0.25278 0.35017 -0.11362 0.346 -0.04834 C 0.34184 0.01694 0.2368 0.09777 0.20798 0.13611 E">
                                      <p:cBhvr>
                                        <p:cTn id="18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8">
                                  <p:stCondLst>
                                    <p:cond delay="15300"/>
                                  </p:stCondLst>
                                  <p:childTnLst>
                                    <p:animRot by="43200000">
                                      <p:cBhvr>
                                        <p:cTn id="18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6">
                                  <p:stCondLst>
                                    <p:cond delay="15300"/>
                                  </p:stCondLst>
                                  <p:childTnLst>
                                    <p:animScale>
                                      <p:cBhvr>
                                        <p:cTn id="187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17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17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6"/>
          <p:cNvSpPr/>
          <p:nvPr/>
        </p:nvSpPr>
        <p:spPr>
          <a:xfrm rot="1783800">
            <a:off x="3703320" y="3638160"/>
            <a:ext cx="357120" cy="33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114" name="椭圆 14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5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冬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16"/>
          <p:cNvSpPr/>
          <p:nvPr/>
        </p:nvSpPr>
        <p:spPr>
          <a:xfrm>
            <a:off x="4967280" y="773280"/>
            <a:ext cx="23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一个新生命的诞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-128520" y="3786120"/>
            <a:ext cx="9353520" cy="2075040"/>
            <a:chOff x="-128520" y="3786120"/>
            <a:chExt cx="9353520" cy="2075040"/>
          </a:xfrm>
        </p:grpSpPr>
        <p:sp>
          <p:nvSpPr>
            <p:cNvPr id="118" name="任意多边形 22"/>
            <p:cNvSpPr/>
            <p:nvPr/>
          </p:nvSpPr>
          <p:spPr>
            <a:xfrm>
              <a:off x="1271160" y="3987720"/>
              <a:ext cx="3518280" cy="1160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23"/>
            <p:cNvSpPr/>
            <p:nvPr/>
          </p:nvSpPr>
          <p:spPr>
            <a:xfrm>
              <a:off x="2435760" y="3786120"/>
              <a:ext cx="6789240" cy="20750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任意多边形 24"/>
            <p:cNvSpPr/>
            <p:nvPr/>
          </p:nvSpPr>
          <p:spPr>
            <a:xfrm>
              <a:off x="-128520" y="4100400"/>
              <a:ext cx="2954880" cy="1719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25"/>
            <p:cNvSpPr/>
            <p:nvPr/>
          </p:nvSpPr>
          <p:spPr>
            <a:xfrm>
              <a:off x="6187680" y="4140000"/>
              <a:ext cx="2929320" cy="13003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28"/>
            <p:cNvSpPr/>
            <p:nvPr/>
          </p:nvSpPr>
          <p:spPr>
            <a:xfrm>
              <a:off x="3716640" y="3868560"/>
              <a:ext cx="455400" cy="214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任意多边形 75"/>
          <p:cNvSpPr/>
          <p:nvPr/>
        </p:nvSpPr>
        <p:spPr>
          <a:xfrm rot="1783800">
            <a:off x="1417320" y="5138280"/>
            <a:ext cx="357120" cy="33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286240" y="3786120"/>
            <a:ext cx="1143000" cy="1214640"/>
            <a:chOff x="5286240" y="3786120"/>
            <a:chExt cx="1143000" cy="1214640"/>
          </a:xfrm>
        </p:grpSpPr>
        <p:sp>
          <p:nvSpPr>
            <p:cNvPr id="125" name="椭圆 77"/>
            <p:cNvSpPr/>
            <p:nvPr/>
          </p:nvSpPr>
          <p:spPr>
            <a:xfrm>
              <a:off x="5286240" y="3786120"/>
              <a:ext cx="1143000" cy="1214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78"/>
            <p:cNvSpPr/>
            <p:nvPr/>
          </p:nvSpPr>
          <p:spPr>
            <a:xfrm>
              <a:off x="5509800" y="3949560"/>
              <a:ext cx="577800" cy="920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Box 79"/>
          <p:cNvSpPr/>
          <p:nvPr/>
        </p:nvSpPr>
        <p:spPr>
          <a:xfrm>
            <a:off x="5072040" y="11430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亲的无私奉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80"/>
          <p:cNvSpPr/>
          <p:nvPr/>
        </p:nvSpPr>
        <p:spPr>
          <a:xfrm>
            <a:off x="3929040" y="2270160"/>
            <a:ext cx="1143000" cy="1214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81"/>
          <p:cNvSpPr/>
          <p:nvPr/>
        </p:nvSpPr>
        <p:spPr>
          <a:xfrm>
            <a:off x="4152960" y="2433600"/>
            <a:ext cx="577800" cy="92088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0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33333E-006 L -0.0033 0.26244 E">
                                      <p:cBhvr>
                                        <p:cTn id="21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64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5E-006 -1.11111E-006 L -0.14844 -0.26861 E">
                                      <p:cBhvr>
                                        <p:cTn id="22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 repeatCount="indefinite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6" repeatCount="indefinite">
                                  <p:stCondLst>
                                    <p:cond delay="550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929040" y="2270160"/>
            <a:ext cx="1143000" cy="1214280"/>
            <a:chOff x="3929040" y="2270160"/>
            <a:chExt cx="1143000" cy="1214280"/>
          </a:xfrm>
        </p:grpSpPr>
        <p:sp>
          <p:nvSpPr>
            <p:cNvPr id="131" name="椭圆 12"/>
            <p:cNvSpPr/>
            <p:nvPr/>
          </p:nvSpPr>
          <p:spPr>
            <a:xfrm>
              <a:off x="3929040" y="2270160"/>
              <a:ext cx="1143000" cy="12142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 13"/>
            <p:cNvSpPr/>
            <p:nvPr/>
          </p:nvSpPr>
          <p:spPr>
            <a:xfrm>
              <a:off x="4152600" y="2433600"/>
              <a:ext cx="577800" cy="920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任意多边形 24"/>
          <p:cNvSpPr/>
          <p:nvPr/>
        </p:nvSpPr>
        <p:spPr>
          <a:xfrm>
            <a:off x="4152960" y="2433600"/>
            <a:ext cx="577800" cy="92088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任意多边形 7"/>
          <p:cNvSpPr/>
          <p:nvPr/>
        </p:nvSpPr>
        <p:spPr>
          <a:xfrm rot="20572800">
            <a:off x="1488960" y="4064040"/>
            <a:ext cx="617760" cy="59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10"/>
          <p:cNvSpPr/>
          <p:nvPr/>
        </p:nvSpPr>
        <p:spPr>
          <a:xfrm rot="19362600">
            <a:off x="1928880" y="407160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23"/>
          <p:cNvSpPr/>
          <p:nvPr/>
        </p:nvSpPr>
        <p:spPr>
          <a:xfrm>
            <a:off x="3929040" y="2270160"/>
            <a:ext cx="1143000" cy="1214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72280" y="2063880"/>
            <a:ext cx="1705680" cy="1528560"/>
            <a:chOff x="3572280" y="2063880"/>
            <a:chExt cx="1705680" cy="1528560"/>
          </a:xfrm>
        </p:grpSpPr>
        <p:sp>
          <p:nvSpPr>
            <p:cNvPr id="139" name="椭圆 27"/>
            <p:cNvSpPr/>
            <p:nvPr/>
          </p:nvSpPr>
          <p:spPr>
            <a:xfrm rot="3563400">
              <a:off x="3960720" y="2112120"/>
              <a:ext cx="928800" cy="143208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椭圆 28"/>
            <p:cNvSpPr/>
            <p:nvPr/>
          </p:nvSpPr>
          <p:spPr>
            <a:xfrm rot="3563400">
              <a:off x="4498200" y="2341080"/>
              <a:ext cx="571680" cy="50112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25"/>
            <p:cNvSpPr/>
            <p:nvPr/>
          </p:nvSpPr>
          <p:spPr>
            <a:xfrm rot="3563400">
              <a:off x="4614120" y="2237760"/>
              <a:ext cx="571680" cy="5328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30"/>
            <p:cNvSpPr/>
            <p:nvPr/>
          </p:nvSpPr>
          <p:spPr>
            <a:xfrm flipH="1">
              <a:off x="3957480" y="2507760"/>
              <a:ext cx="573120" cy="80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34"/>
            <p:cNvSpPr/>
            <p:nvPr/>
          </p:nvSpPr>
          <p:spPr>
            <a:xfrm rot="3563400">
              <a:off x="4622400" y="2338920"/>
              <a:ext cx="420840" cy="428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145" name="椭圆 31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32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148" name="椭圆 35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36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冬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37"/>
          <p:cNvSpPr/>
          <p:nvPr/>
        </p:nvSpPr>
        <p:spPr>
          <a:xfrm>
            <a:off x="4967280" y="773280"/>
            <a:ext cx="23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一个新生命的诞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8"/>
          <p:cNvSpPr/>
          <p:nvPr/>
        </p:nvSpPr>
        <p:spPr>
          <a:xfrm>
            <a:off x="5072040" y="11430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亲的无私奉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39"/>
          <p:cNvSpPr/>
          <p:nvPr/>
        </p:nvSpPr>
        <p:spPr>
          <a:xfrm rot="1783800">
            <a:off x="1391760" y="5209920"/>
            <a:ext cx="357480" cy="33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40"/>
          <p:cNvSpPr/>
          <p:nvPr/>
        </p:nvSpPr>
        <p:spPr>
          <a:xfrm>
            <a:off x="1384200" y="3616200"/>
            <a:ext cx="451080" cy="224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41"/>
          <p:cNvSpPr/>
          <p:nvPr/>
        </p:nvSpPr>
        <p:spPr>
          <a:xfrm rot="20467800">
            <a:off x="1879560" y="429552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42"/>
          <p:cNvSpPr/>
          <p:nvPr/>
        </p:nvSpPr>
        <p:spPr>
          <a:xfrm rot="2148600">
            <a:off x="1768320" y="4096800"/>
            <a:ext cx="276480" cy="520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45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0">
                                  <p:stCondLst>
                                    <p:cond delay="14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41">
                                  <p:stCondLst>
                                    <p:cond delay="37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41">
                                  <p:stCondLst>
                                    <p:cond delay="37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572280" y="2063880"/>
            <a:ext cx="1705680" cy="1528560"/>
            <a:chOff x="3572280" y="2063880"/>
            <a:chExt cx="1705680" cy="1528560"/>
          </a:xfrm>
        </p:grpSpPr>
        <p:sp>
          <p:nvSpPr>
            <p:cNvPr id="158" name="椭圆 27"/>
            <p:cNvSpPr/>
            <p:nvPr/>
          </p:nvSpPr>
          <p:spPr>
            <a:xfrm rot="3563400">
              <a:off x="3960720" y="2112120"/>
              <a:ext cx="928800" cy="143208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28"/>
            <p:cNvSpPr/>
            <p:nvPr/>
          </p:nvSpPr>
          <p:spPr>
            <a:xfrm rot="3563400">
              <a:off x="4498200" y="2341080"/>
              <a:ext cx="571680" cy="50112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25"/>
            <p:cNvSpPr/>
            <p:nvPr/>
          </p:nvSpPr>
          <p:spPr>
            <a:xfrm rot="3563400">
              <a:off x="4614120" y="2237760"/>
              <a:ext cx="571680" cy="5328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30"/>
            <p:cNvSpPr/>
            <p:nvPr/>
          </p:nvSpPr>
          <p:spPr>
            <a:xfrm flipH="1">
              <a:off x="3957480" y="2507760"/>
              <a:ext cx="573120" cy="80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34"/>
            <p:cNvSpPr/>
            <p:nvPr/>
          </p:nvSpPr>
          <p:spPr>
            <a:xfrm rot="3563400">
              <a:off x="4622400" y="2338920"/>
              <a:ext cx="420840" cy="428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164" name="椭圆 31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32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384200" y="3616200"/>
            <a:ext cx="795600" cy="2241720"/>
            <a:chOff x="1384200" y="3616200"/>
            <a:chExt cx="795600" cy="2241720"/>
          </a:xfrm>
        </p:grpSpPr>
        <p:sp>
          <p:nvSpPr>
            <p:cNvPr id="167" name="任意多边形 7"/>
            <p:cNvSpPr/>
            <p:nvPr/>
          </p:nvSpPr>
          <p:spPr>
            <a:xfrm rot="20572800">
              <a:off x="1488600" y="4065480"/>
              <a:ext cx="617760" cy="58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10"/>
            <p:cNvSpPr/>
            <p:nvPr/>
          </p:nvSpPr>
          <p:spPr>
            <a:xfrm rot="19362600">
              <a:off x="1928880" y="40712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40"/>
            <p:cNvSpPr/>
            <p:nvPr/>
          </p:nvSpPr>
          <p:spPr>
            <a:xfrm>
              <a:off x="1384200" y="3616200"/>
              <a:ext cx="451080" cy="224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41"/>
            <p:cNvSpPr/>
            <p:nvPr/>
          </p:nvSpPr>
          <p:spPr>
            <a:xfrm rot="20467800">
              <a:off x="1879560" y="429516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42"/>
            <p:cNvSpPr/>
            <p:nvPr/>
          </p:nvSpPr>
          <p:spPr>
            <a:xfrm rot="2148600">
              <a:off x="1769760" y="4097160"/>
              <a:ext cx="274680" cy="52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41"/>
          <p:cNvSpPr/>
          <p:nvPr/>
        </p:nvSpPr>
        <p:spPr>
          <a:xfrm>
            <a:off x="1979640" y="-4489560"/>
            <a:ext cx="0" cy="287280"/>
          </a:xfrm>
          <a:prstGeom prst="line">
            <a:avLst/>
          </a:prstGeom>
          <a:ln w="3816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2"/>
          <p:cNvSpPr/>
          <p:nvPr/>
        </p:nvSpPr>
        <p:spPr>
          <a:xfrm>
            <a:off x="2195640" y="-4417920"/>
            <a:ext cx="0" cy="287280"/>
          </a:xfrm>
          <a:prstGeom prst="line">
            <a:avLst/>
          </a:prstGeom>
          <a:ln w="3816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6"/>
          <p:cNvSpPr/>
          <p:nvPr/>
        </p:nvSpPr>
        <p:spPr>
          <a:xfrm>
            <a:off x="1979640" y="-4489560"/>
            <a:ext cx="0" cy="287280"/>
          </a:xfrm>
          <a:prstGeom prst="line">
            <a:avLst/>
          </a:prstGeom>
          <a:ln w="3816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7"/>
          <p:cNvSpPr/>
          <p:nvPr/>
        </p:nvSpPr>
        <p:spPr>
          <a:xfrm>
            <a:off x="2195640" y="-4417920"/>
            <a:ext cx="0" cy="287280"/>
          </a:xfrm>
          <a:prstGeom prst="line">
            <a:avLst/>
          </a:prstGeom>
          <a:ln w="3816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8"/>
          <p:cNvSpPr/>
          <p:nvPr/>
        </p:nvSpPr>
        <p:spPr>
          <a:xfrm>
            <a:off x="2411280" y="-3841920"/>
            <a:ext cx="0" cy="287640"/>
          </a:xfrm>
          <a:prstGeom prst="line">
            <a:avLst/>
          </a:prstGeom>
          <a:ln w="3816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2"/>
          <p:cNvSpPr/>
          <p:nvPr/>
        </p:nvSpPr>
        <p:spPr>
          <a:xfrm>
            <a:off x="1979640" y="-4489560"/>
            <a:ext cx="0" cy="287280"/>
          </a:xfrm>
          <a:prstGeom prst="line">
            <a:avLst/>
          </a:prstGeom>
          <a:ln w="3816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3"/>
          <p:cNvSpPr/>
          <p:nvPr/>
        </p:nvSpPr>
        <p:spPr>
          <a:xfrm>
            <a:off x="2195640" y="-4417920"/>
            <a:ext cx="0" cy="287280"/>
          </a:xfrm>
          <a:prstGeom prst="line">
            <a:avLst/>
          </a:prstGeom>
          <a:ln w="3816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4"/>
          <p:cNvSpPr/>
          <p:nvPr/>
        </p:nvSpPr>
        <p:spPr>
          <a:xfrm>
            <a:off x="2411280" y="-3841920"/>
            <a:ext cx="0" cy="287640"/>
          </a:xfrm>
          <a:prstGeom prst="line">
            <a:avLst/>
          </a:prstGeom>
          <a:ln w="3816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8"/>
          <p:cNvSpPr/>
          <p:nvPr/>
        </p:nvSpPr>
        <p:spPr>
          <a:xfrm>
            <a:off x="3500280" y="-4417920"/>
            <a:ext cx="0" cy="287280"/>
          </a:xfrm>
          <a:prstGeom prst="line">
            <a:avLst/>
          </a:prstGeom>
          <a:ln w="3816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9"/>
          <p:cNvSpPr/>
          <p:nvPr/>
        </p:nvSpPr>
        <p:spPr>
          <a:xfrm>
            <a:off x="2411280" y="-4273560"/>
            <a:ext cx="0" cy="287280"/>
          </a:xfrm>
          <a:prstGeom prst="line">
            <a:avLst/>
          </a:prstGeom>
          <a:ln w="3816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0"/>
          <p:cNvSpPr/>
          <p:nvPr/>
        </p:nvSpPr>
        <p:spPr>
          <a:xfrm>
            <a:off x="2627280" y="-4057560"/>
            <a:ext cx="0" cy="287280"/>
          </a:xfrm>
          <a:prstGeom prst="line">
            <a:avLst/>
          </a:prstGeom>
          <a:ln w="3816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2"/>
          <p:cNvSpPr/>
          <p:nvPr/>
        </p:nvSpPr>
        <p:spPr>
          <a:xfrm>
            <a:off x="6143760" y="-4425840"/>
            <a:ext cx="0" cy="287280"/>
          </a:xfrm>
          <a:prstGeom prst="line">
            <a:avLst/>
          </a:prstGeom>
          <a:ln w="3816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8"/>
          <p:cNvSpPr/>
          <p:nvPr/>
        </p:nvSpPr>
        <p:spPr>
          <a:xfrm>
            <a:off x="6500880" y="-3854520"/>
            <a:ext cx="0" cy="287280"/>
          </a:xfrm>
          <a:prstGeom prst="line">
            <a:avLst/>
          </a:prstGeom>
          <a:ln w="3816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0"/>
          <p:cNvSpPr/>
          <p:nvPr/>
        </p:nvSpPr>
        <p:spPr>
          <a:xfrm>
            <a:off x="7429680" y="-3997440"/>
            <a:ext cx="0" cy="287280"/>
          </a:xfrm>
          <a:prstGeom prst="line">
            <a:avLst/>
          </a:prstGeom>
          <a:ln w="3816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4f4f4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06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42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4723 -0.02084 L 0.04723 2.1368 E">
                                      <p:cBhvr>
                                        <p:cTn id="316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42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40157 0.00834 L 0.40157 2.04818 E">
                                      <p:cBhvr>
                                        <p:cTn id="318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42" repeatCount="indefinite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3941 -0.13125 L -0.03941 2.25208 E">
                                      <p:cBhvr>
                                        <p:cTn id="320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2361 0.01667 L -0.02361 2.30047 E">
                                      <p:cBhvr>
                                        <p:cTn id="322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42" repeatCount="indefinite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4.72222E-006 -7.40741E-007 L 0.02361 2.0632 E">
                                      <p:cBhvr>
                                        <p:cTn id="324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42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08663 -0.1419 L -0.08663 2.01574 E">
                                      <p:cBhvr>
                                        <p:cTn id="326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42" repeatCount="indefinite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.22847 -0.00525 L 0.22847 1.90858 E">
                                      <p:cBhvr>
                                        <p:cTn id="328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42" repeatCount="indefinite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05521 0.025 L 0.05521 2.18287 E">
                                      <p:cBhvr>
                                        <p:cTn id="330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42" repeatCount="indefinite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.07881 0.01574 L 0.07881 1.95301 E">
                                      <p:cBhvr>
                                        <p:cTn id="332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42" repeatCount="indefinite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3.61111E-006 7.40741E-007 L 3.61111E-006 2.04213 E">
                                      <p:cBhvr>
                                        <p:cTn id="334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42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08663 -0.1419 L -0.08663 2.01574 E">
                                      <p:cBhvr>
                                        <p:cTn id="336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42" repeatCount="indefinite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05521 0.025 L 0.05521 2.18287 E">
                                      <p:cBhvr>
                                        <p:cTn id="338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nodeType="withEffect" fill="hold" presetClass="path" presetID="42" repeatCount="indefinite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3.61111E-006 7.40741E-007 L 3.61111E-006 2.04213 E">
                                      <p:cBhvr>
                                        <p:cTn id="340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189" name="椭圆 31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32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任意多边形 68"/>
          <p:cNvSpPr/>
          <p:nvPr/>
        </p:nvSpPr>
        <p:spPr>
          <a:xfrm rot="19702200">
            <a:off x="1934640" y="4055760"/>
            <a:ext cx="2145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任意多边形 70"/>
          <p:cNvSpPr/>
          <p:nvPr/>
        </p:nvSpPr>
        <p:spPr>
          <a:xfrm>
            <a:off x="4000680" y="2214720"/>
            <a:ext cx="5035320" cy="1271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75"/>
          <p:cNvSpPr/>
          <p:nvPr/>
        </p:nvSpPr>
        <p:spPr>
          <a:xfrm>
            <a:off x="5286240" y="2987640"/>
            <a:ext cx="36720" cy="158436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77"/>
          <p:cNvSpPr/>
          <p:nvPr/>
        </p:nvSpPr>
        <p:spPr>
          <a:xfrm flipV="1">
            <a:off x="4429080" y="4571640"/>
            <a:ext cx="857160" cy="83988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81"/>
          <p:cNvSpPr/>
          <p:nvPr/>
        </p:nvSpPr>
        <p:spPr>
          <a:xfrm>
            <a:off x="8358120" y="4572000"/>
            <a:ext cx="214560" cy="78588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35"/>
          <p:cNvSpPr/>
          <p:nvPr/>
        </p:nvSpPr>
        <p:spPr>
          <a:xfrm>
            <a:off x="5286240" y="4572000"/>
            <a:ext cx="307188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37"/>
          <p:cNvSpPr/>
          <p:nvPr/>
        </p:nvSpPr>
        <p:spPr>
          <a:xfrm flipV="1">
            <a:off x="8357400" y="3002040"/>
            <a:ext cx="1800" cy="16430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41"/>
          <p:cNvSpPr/>
          <p:nvPr/>
        </p:nvSpPr>
        <p:spPr>
          <a:xfrm>
            <a:off x="4429080" y="5429160"/>
            <a:ext cx="414360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44"/>
          <p:cNvSpPr/>
          <p:nvPr/>
        </p:nvSpPr>
        <p:spPr>
          <a:xfrm flipH="1">
            <a:off x="4357440" y="2999520"/>
            <a:ext cx="928440" cy="3574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46"/>
          <p:cNvSpPr/>
          <p:nvPr/>
        </p:nvSpPr>
        <p:spPr>
          <a:xfrm>
            <a:off x="4357800" y="3357720"/>
            <a:ext cx="71280" cy="207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48"/>
          <p:cNvSpPr/>
          <p:nvPr/>
        </p:nvSpPr>
        <p:spPr>
          <a:xfrm>
            <a:off x="5286240" y="3000240"/>
            <a:ext cx="3071880" cy="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52"/>
          <p:cNvSpPr/>
          <p:nvPr/>
        </p:nvSpPr>
        <p:spPr>
          <a:xfrm>
            <a:off x="8358120" y="3000240"/>
            <a:ext cx="214560" cy="3574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57"/>
          <p:cNvSpPr/>
          <p:nvPr/>
        </p:nvSpPr>
        <p:spPr>
          <a:xfrm>
            <a:off x="4357800" y="3355920"/>
            <a:ext cx="4214880" cy="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84"/>
          <p:cNvSpPr/>
          <p:nvPr/>
        </p:nvSpPr>
        <p:spPr>
          <a:xfrm flipV="1">
            <a:off x="8572680" y="3357720"/>
            <a:ext cx="1440" cy="20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87"/>
          <p:cNvSpPr/>
          <p:nvPr/>
        </p:nvSpPr>
        <p:spPr>
          <a:xfrm>
            <a:off x="6357960" y="3786120"/>
            <a:ext cx="1143000" cy="357120"/>
          </a:xfrm>
          <a:prstGeom prst="rect">
            <a:avLst/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90"/>
          <p:cNvSpPr/>
          <p:nvPr/>
        </p:nvSpPr>
        <p:spPr>
          <a:xfrm flipH="1">
            <a:off x="7143840" y="3787920"/>
            <a:ext cx="1440" cy="35712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91"/>
          <p:cNvSpPr/>
          <p:nvPr/>
        </p:nvSpPr>
        <p:spPr>
          <a:xfrm flipH="1">
            <a:off x="7071840" y="3787920"/>
            <a:ext cx="1800" cy="35712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92"/>
          <p:cNvSpPr/>
          <p:nvPr/>
        </p:nvSpPr>
        <p:spPr>
          <a:xfrm flipH="1">
            <a:off x="6786720" y="3787920"/>
            <a:ext cx="1440" cy="35712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93"/>
          <p:cNvSpPr/>
          <p:nvPr/>
        </p:nvSpPr>
        <p:spPr>
          <a:xfrm flipH="1">
            <a:off x="6714720" y="3786120"/>
            <a:ext cx="1800" cy="35712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05"/>
          <p:cNvSpPr/>
          <p:nvPr/>
        </p:nvSpPr>
        <p:spPr>
          <a:xfrm flipH="1">
            <a:off x="4714920" y="4357800"/>
            <a:ext cx="1440" cy="787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10"/>
          <p:cNvSpPr/>
          <p:nvPr/>
        </p:nvSpPr>
        <p:spPr>
          <a:xfrm>
            <a:off x="4929120" y="4214880"/>
            <a:ext cx="0" cy="71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13"/>
          <p:cNvSpPr/>
          <p:nvPr/>
        </p:nvSpPr>
        <p:spPr>
          <a:xfrm flipH="1">
            <a:off x="5000760" y="4572000"/>
            <a:ext cx="64296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14"/>
          <p:cNvSpPr/>
          <p:nvPr/>
        </p:nvSpPr>
        <p:spPr>
          <a:xfrm flipH="1">
            <a:off x="5286240" y="4572000"/>
            <a:ext cx="64296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15"/>
          <p:cNvSpPr/>
          <p:nvPr/>
        </p:nvSpPr>
        <p:spPr>
          <a:xfrm flipH="1">
            <a:off x="5500440" y="4572000"/>
            <a:ext cx="57132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16"/>
          <p:cNvSpPr/>
          <p:nvPr/>
        </p:nvSpPr>
        <p:spPr>
          <a:xfrm flipH="1">
            <a:off x="4714920" y="4572000"/>
            <a:ext cx="71424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118"/>
          <p:cNvSpPr/>
          <p:nvPr/>
        </p:nvSpPr>
        <p:spPr>
          <a:xfrm flipH="1">
            <a:off x="5785920" y="4572000"/>
            <a:ext cx="42876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120"/>
          <p:cNvSpPr/>
          <p:nvPr/>
        </p:nvSpPr>
        <p:spPr>
          <a:xfrm flipH="1">
            <a:off x="6072120" y="4572000"/>
            <a:ext cx="28584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122"/>
          <p:cNvSpPr/>
          <p:nvPr/>
        </p:nvSpPr>
        <p:spPr>
          <a:xfrm flipH="1">
            <a:off x="6286320" y="4572000"/>
            <a:ext cx="21420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124"/>
          <p:cNvSpPr/>
          <p:nvPr/>
        </p:nvSpPr>
        <p:spPr>
          <a:xfrm flipH="1">
            <a:off x="6500520" y="4572000"/>
            <a:ext cx="14292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126"/>
          <p:cNvSpPr/>
          <p:nvPr/>
        </p:nvSpPr>
        <p:spPr>
          <a:xfrm flipH="1">
            <a:off x="6643800" y="4572000"/>
            <a:ext cx="7128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128"/>
          <p:cNvSpPr/>
          <p:nvPr/>
        </p:nvSpPr>
        <p:spPr>
          <a:xfrm flipH="1">
            <a:off x="6858000" y="4573440"/>
            <a:ext cx="1440" cy="8575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130"/>
          <p:cNvSpPr/>
          <p:nvPr/>
        </p:nvSpPr>
        <p:spPr>
          <a:xfrm>
            <a:off x="6928560" y="4572000"/>
            <a:ext cx="7164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132"/>
          <p:cNvSpPr/>
          <p:nvPr/>
        </p:nvSpPr>
        <p:spPr>
          <a:xfrm>
            <a:off x="7071480" y="4572000"/>
            <a:ext cx="14292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134"/>
          <p:cNvSpPr/>
          <p:nvPr/>
        </p:nvSpPr>
        <p:spPr>
          <a:xfrm>
            <a:off x="7215120" y="4572000"/>
            <a:ext cx="21456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136"/>
          <p:cNvSpPr/>
          <p:nvPr/>
        </p:nvSpPr>
        <p:spPr>
          <a:xfrm>
            <a:off x="7358040" y="4572000"/>
            <a:ext cx="28584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138"/>
          <p:cNvSpPr/>
          <p:nvPr/>
        </p:nvSpPr>
        <p:spPr>
          <a:xfrm>
            <a:off x="7572240" y="4572000"/>
            <a:ext cx="28584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140"/>
          <p:cNvSpPr/>
          <p:nvPr/>
        </p:nvSpPr>
        <p:spPr>
          <a:xfrm>
            <a:off x="7786080" y="4572000"/>
            <a:ext cx="28548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142"/>
          <p:cNvSpPr/>
          <p:nvPr/>
        </p:nvSpPr>
        <p:spPr>
          <a:xfrm>
            <a:off x="8001000" y="4572000"/>
            <a:ext cx="28584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144"/>
          <p:cNvSpPr/>
          <p:nvPr/>
        </p:nvSpPr>
        <p:spPr>
          <a:xfrm>
            <a:off x="8215200" y="4572000"/>
            <a:ext cx="28584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147"/>
          <p:cNvSpPr/>
          <p:nvPr/>
        </p:nvSpPr>
        <p:spPr>
          <a:xfrm>
            <a:off x="4857840" y="4643280"/>
            <a:ext cx="46080" cy="4608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157"/>
          <p:cNvSpPr/>
          <p:nvPr/>
        </p:nvSpPr>
        <p:spPr>
          <a:xfrm flipV="1">
            <a:off x="5622840" y="4357440"/>
            <a:ext cx="623880" cy="1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161"/>
          <p:cNvSpPr/>
          <p:nvPr/>
        </p:nvSpPr>
        <p:spPr>
          <a:xfrm>
            <a:off x="6246720" y="4357800"/>
            <a:ext cx="331920" cy="41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163"/>
          <p:cNvSpPr/>
          <p:nvPr/>
        </p:nvSpPr>
        <p:spPr>
          <a:xfrm>
            <a:off x="5622840" y="4730760"/>
            <a:ext cx="374760" cy="8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64"/>
          <p:cNvSpPr/>
          <p:nvPr/>
        </p:nvSpPr>
        <p:spPr>
          <a:xfrm>
            <a:off x="6246720" y="4565520"/>
            <a:ext cx="331920" cy="414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165"/>
          <p:cNvSpPr/>
          <p:nvPr/>
        </p:nvSpPr>
        <p:spPr>
          <a:xfrm flipV="1">
            <a:off x="5954760" y="4606920"/>
            <a:ext cx="623880" cy="20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167"/>
          <p:cNvSpPr/>
          <p:nvPr/>
        </p:nvSpPr>
        <p:spPr>
          <a:xfrm>
            <a:off x="5622840" y="4524480"/>
            <a:ext cx="0" cy="207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168"/>
          <p:cNvSpPr/>
          <p:nvPr/>
        </p:nvSpPr>
        <p:spPr>
          <a:xfrm flipV="1">
            <a:off x="5622840" y="4565160"/>
            <a:ext cx="623880" cy="1652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170"/>
          <p:cNvSpPr/>
          <p:nvPr/>
        </p:nvSpPr>
        <p:spPr>
          <a:xfrm flipH="1">
            <a:off x="6245280" y="4357800"/>
            <a:ext cx="1440" cy="207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173"/>
          <p:cNvSpPr/>
          <p:nvPr/>
        </p:nvSpPr>
        <p:spPr>
          <a:xfrm flipH="1">
            <a:off x="6578640" y="4398840"/>
            <a:ext cx="1440" cy="20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562720" y="4707000"/>
            <a:ext cx="123840" cy="236520"/>
            <a:chOff x="5562720" y="4707000"/>
            <a:chExt cx="123840" cy="236520"/>
          </a:xfrm>
        </p:grpSpPr>
        <p:sp>
          <p:nvSpPr>
            <p:cNvPr id="241" name="直接连接符 181"/>
            <p:cNvSpPr/>
            <p:nvPr/>
          </p:nvSpPr>
          <p:spPr>
            <a:xfrm>
              <a:off x="5624640" y="4707000"/>
              <a:ext cx="0" cy="23652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等腰三角形 185"/>
            <p:cNvSpPr/>
            <p:nvPr/>
          </p:nvSpPr>
          <p:spPr>
            <a:xfrm>
              <a:off x="5562720" y="4861080"/>
              <a:ext cx="123840" cy="82440"/>
            </a:xfrm>
            <a:prstGeom prst="triangle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913360" y="4807080"/>
            <a:ext cx="125640" cy="244440"/>
            <a:chOff x="5913360" y="4807080"/>
            <a:chExt cx="125640" cy="244440"/>
          </a:xfrm>
        </p:grpSpPr>
        <p:sp>
          <p:nvSpPr>
            <p:cNvPr id="244" name="直接连接符 183"/>
            <p:cNvSpPr/>
            <p:nvPr/>
          </p:nvSpPr>
          <p:spPr>
            <a:xfrm>
              <a:off x="5972040" y="4807080"/>
              <a:ext cx="2880" cy="24444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等腰三角形 186"/>
            <p:cNvSpPr/>
            <p:nvPr/>
          </p:nvSpPr>
          <p:spPr>
            <a:xfrm>
              <a:off x="5913360" y="4969080"/>
              <a:ext cx="125640" cy="82440"/>
            </a:xfrm>
            <a:prstGeom prst="triangle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176880" y="4583160"/>
            <a:ext cx="123840" cy="272880"/>
            <a:chOff x="6176880" y="4583160"/>
            <a:chExt cx="123840" cy="272880"/>
          </a:xfrm>
        </p:grpSpPr>
        <p:sp>
          <p:nvSpPr>
            <p:cNvPr id="247" name="直接连接符 182"/>
            <p:cNvSpPr/>
            <p:nvPr/>
          </p:nvSpPr>
          <p:spPr>
            <a:xfrm flipH="1">
              <a:off x="6238800" y="4583160"/>
              <a:ext cx="7920" cy="27288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等腰三角形 187"/>
            <p:cNvSpPr/>
            <p:nvPr/>
          </p:nvSpPr>
          <p:spPr>
            <a:xfrm>
              <a:off x="6176880" y="4773600"/>
              <a:ext cx="123840" cy="82440"/>
            </a:xfrm>
            <a:prstGeom prst="triangle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508800" y="4611600"/>
            <a:ext cx="123840" cy="277920"/>
            <a:chOff x="6508800" y="4611600"/>
            <a:chExt cx="123840" cy="277920"/>
          </a:xfrm>
        </p:grpSpPr>
        <p:sp>
          <p:nvSpPr>
            <p:cNvPr id="250" name="直接连接符 184"/>
            <p:cNvSpPr/>
            <p:nvPr/>
          </p:nvSpPr>
          <p:spPr>
            <a:xfrm>
              <a:off x="6572160" y="4611600"/>
              <a:ext cx="1440" cy="27792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等腰三角形 188"/>
            <p:cNvSpPr/>
            <p:nvPr/>
          </p:nvSpPr>
          <p:spPr>
            <a:xfrm>
              <a:off x="6508800" y="4807080"/>
              <a:ext cx="123840" cy="82440"/>
            </a:xfrm>
            <a:prstGeom prst="triangle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858640" y="4241520"/>
            <a:ext cx="548280" cy="520200"/>
            <a:chOff x="5858640" y="4241520"/>
            <a:chExt cx="548280" cy="520200"/>
          </a:xfrm>
        </p:grpSpPr>
        <p:sp>
          <p:nvSpPr>
            <p:cNvPr id="253" name="椭圆 195"/>
            <p:cNvSpPr/>
            <p:nvPr/>
          </p:nvSpPr>
          <p:spPr>
            <a:xfrm rot="3125400">
              <a:off x="5982480" y="4270680"/>
              <a:ext cx="299880" cy="4615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196"/>
            <p:cNvSpPr/>
            <p:nvPr/>
          </p:nvSpPr>
          <p:spPr>
            <a:xfrm rot="3125400">
              <a:off x="6149880" y="4328280"/>
              <a:ext cx="185760" cy="16164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197"/>
            <p:cNvSpPr/>
            <p:nvPr/>
          </p:nvSpPr>
          <p:spPr>
            <a:xfrm rot="3125400">
              <a:off x="6180840" y="4291560"/>
              <a:ext cx="183960" cy="1710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198"/>
            <p:cNvSpPr/>
            <p:nvPr/>
          </p:nvSpPr>
          <p:spPr>
            <a:xfrm flipH="1">
              <a:off x="6001920" y="4393080"/>
              <a:ext cx="14904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椭圆 199"/>
            <p:cNvSpPr/>
            <p:nvPr/>
          </p:nvSpPr>
          <p:spPr>
            <a:xfrm rot="3125400">
              <a:off x="6185520" y="4326120"/>
              <a:ext cx="135000" cy="137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直接连接符 155"/>
          <p:cNvSpPr/>
          <p:nvPr/>
        </p:nvSpPr>
        <p:spPr>
          <a:xfrm flipV="1">
            <a:off x="5954760" y="4398840"/>
            <a:ext cx="623880" cy="20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179"/>
          <p:cNvSpPr/>
          <p:nvPr/>
        </p:nvSpPr>
        <p:spPr>
          <a:xfrm flipV="1">
            <a:off x="5954760" y="4416480"/>
            <a:ext cx="623880" cy="20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153"/>
          <p:cNvSpPr/>
          <p:nvPr/>
        </p:nvSpPr>
        <p:spPr>
          <a:xfrm>
            <a:off x="5622840" y="4524480"/>
            <a:ext cx="374760" cy="82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174"/>
          <p:cNvSpPr/>
          <p:nvPr/>
        </p:nvSpPr>
        <p:spPr>
          <a:xfrm>
            <a:off x="5622840" y="4545000"/>
            <a:ext cx="374760" cy="82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172"/>
          <p:cNvSpPr/>
          <p:nvPr/>
        </p:nvSpPr>
        <p:spPr>
          <a:xfrm>
            <a:off x="5973840" y="4606920"/>
            <a:ext cx="0" cy="20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201"/>
          <p:cNvSpPr/>
          <p:nvPr/>
        </p:nvSpPr>
        <p:spPr>
          <a:xfrm>
            <a:off x="5500800" y="4417920"/>
            <a:ext cx="817560" cy="46368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220"/>
          <p:cNvSpPr/>
          <p:nvPr/>
        </p:nvSpPr>
        <p:spPr>
          <a:xfrm flipV="1">
            <a:off x="4714920" y="4214520"/>
            <a:ext cx="2142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230"/>
          <p:cNvSpPr/>
          <p:nvPr/>
        </p:nvSpPr>
        <p:spPr>
          <a:xfrm rot="19312200">
            <a:off x="1919160" y="4067280"/>
            <a:ext cx="2145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231"/>
          <p:cNvSpPr/>
          <p:nvPr/>
        </p:nvSpPr>
        <p:spPr>
          <a:xfrm rot="17349600">
            <a:off x="6311160" y="215784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32"/>
          <p:cNvSpPr/>
          <p:nvPr/>
        </p:nvSpPr>
        <p:spPr>
          <a:xfrm>
            <a:off x="5286240" y="11430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亲的无私关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33"/>
          <p:cNvSpPr/>
          <p:nvPr/>
        </p:nvSpPr>
        <p:spPr>
          <a:xfrm>
            <a:off x="5357880" y="773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新生命的启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\\Sj1\本地磁盘 (d)\《w8.27》\常用图库\商务人\32.png"/>
          <p:cNvPicPr/>
          <p:nvPr/>
        </p:nvPicPr>
        <p:blipFill>
          <a:blip r:embed="rId1"/>
          <a:stretch/>
        </p:blipFill>
        <p:spPr>
          <a:xfrm>
            <a:off x="7143840" y="3786120"/>
            <a:ext cx="642960" cy="145404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1384200" y="3616200"/>
            <a:ext cx="795600" cy="2241720"/>
            <a:chOff x="1384200" y="3616200"/>
            <a:chExt cx="795600" cy="2241720"/>
          </a:xfrm>
        </p:grpSpPr>
        <p:sp>
          <p:nvSpPr>
            <p:cNvPr id="271" name="任意多边形 111"/>
            <p:cNvSpPr/>
            <p:nvPr/>
          </p:nvSpPr>
          <p:spPr>
            <a:xfrm rot="20572800">
              <a:off x="1488600" y="4065480"/>
              <a:ext cx="617760" cy="58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任意多边形 112"/>
            <p:cNvSpPr/>
            <p:nvPr/>
          </p:nvSpPr>
          <p:spPr>
            <a:xfrm rot="19362600">
              <a:off x="1928880" y="40712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117"/>
            <p:cNvSpPr/>
            <p:nvPr/>
          </p:nvSpPr>
          <p:spPr>
            <a:xfrm>
              <a:off x="1384200" y="3616200"/>
              <a:ext cx="451080" cy="224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任意多边形 119"/>
            <p:cNvSpPr/>
            <p:nvPr/>
          </p:nvSpPr>
          <p:spPr>
            <a:xfrm rot="20467800">
              <a:off x="1879560" y="429516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任意多边形 121"/>
            <p:cNvSpPr/>
            <p:nvPr/>
          </p:nvSpPr>
          <p:spPr>
            <a:xfrm rot="2148600">
              <a:off x="1769760" y="4097160"/>
              <a:ext cx="274680" cy="52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直接连接符 125"/>
          <p:cNvSpPr/>
          <p:nvPr/>
        </p:nvSpPr>
        <p:spPr>
          <a:xfrm flipV="1">
            <a:off x="0" y="5143320"/>
            <a:ext cx="471492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129"/>
          <p:cNvSpPr/>
          <p:nvPr/>
        </p:nvSpPr>
        <p:spPr>
          <a:xfrm flipV="1">
            <a:off x="0" y="3643200"/>
            <a:ext cx="4357800" cy="100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139"/>
          <p:cNvSpPr/>
          <p:nvPr/>
        </p:nvSpPr>
        <p:spPr>
          <a:xfrm flipV="1">
            <a:off x="0" y="3785760"/>
            <a:ext cx="4357800" cy="135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直接连接符 151"/>
          <p:cNvSpPr/>
          <p:nvPr/>
        </p:nvSpPr>
        <p:spPr>
          <a:xfrm>
            <a:off x="2143080" y="4500720"/>
            <a:ext cx="2786040" cy="35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158"/>
          <p:cNvSpPr/>
          <p:nvPr/>
        </p:nvSpPr>
        <p:spPr>
          <a:xfrm flipV="1">
            <a:off x="428760" y="4642920"/>
            <a:ext cx="4284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159"/>
          <p:cNvSpPr/>
          <p:nvPr/>
        </p:nvSpPr>
        <p:spPr>
          <a:xfrm flipV="1">
            <a:off x="1285920" y="4357440"/>
            <a:ext cx="42876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160"/>
          <p:cNvSpPr/>
          <p:nvPr/>
        </p:nvSpPr>
        <p:spPr>
          <a:xfrm flipV="1">
            <a:off x="2714760" y="4000680"/>
            <a:ext cx="42840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1"/>
          <p:cNvSpPr/>
          <p:nvPr/>
        </p:nvSpPr>
        <p:spPr>
          <a:xfrm>
            <a:off x="1979640" y="-4489560"/>
            <a:ext cx="0" cy="287280"/>
          </a:xfrm>
          <a:prstGeom prst="line">
            <a:avLst/>
          </a:prstGeom>
          <a:ln w="2844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2"/>
          <p:cNvSpPr/>
          <p:nvPr/>
        </p:nvSpPr>
        <p:spPr>
          <a:xfrm>
            <a:off x="2195640" y="-4417920"/>
            <a:ext cx="0" cy="287280"/>
          </a:xfrm>
          <a:prstGeom prst="line">
            <a:avLst/>
          </a:prstGeom>
          <a:ln w="2844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6"/>
          <p:cNvSpPr/>
          <p:nvPr/>
        </p:nvSpPr>
        <p:spPr>
          <a:xfrm>
            <a:off x="1979640" y="-4489560"/>
            <a:ext cx="0" cy="287280"/>
          </a:xfrm>
          <a:prstGeom prst="line">
            <a:avLst/>
          </a:prstGeom>
          <a:ln w="2844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7"/>
          <p:cNvSpPr/>
          <p:nvPr/>
        </p:nvSpPr>
        <p:spPr>
          <a:xfrm>
            <a:off x="2195640" y="-4417920"/>
            <a:ext cx="0" cy="287280"/>
          </a:xfrm>
          <a:prstGeom prst="line">
            <a:avLst/>
          </a:prstGeom>
          <a:ln w="2844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8"/>
          <p:cNvSpPr/>
          <p:nvPr/>
        </p:nvSpPr>
        <p:spPr>
          <a:xfrm>
            <a:off x="2411280" y="-3841920"/>
            <a:ext cx="0" cy="287640"/>
          </a:xfrm>
          <a:prstGeom prst="line">
            <a:avLst/>
          </a:prstGeom>
          <a:ln w="2844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52"/>
          <p:cNvSpPr/>
          <p:nvPr/>
        </p:nvSpPr>
        <p:spPr>
          <a:xfrm>
            <a:off x="1979640" y="-4489560"/>
            <a:ext cx="0" cy="287280"/>
          </a:xfrm>
          <a:prstGeom prst="line">
            <a:avLst/>
          </a:prstGeom>
          <a:ln w="2844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3"/>
          <p:cNvSpPr/>
          <p:nvPr/>
        </p:nvSpPr>
        <p:spPr>
          <a:xfrm>
            <a:off x="2195640" y="-4417920"/>
            <a:ext cx="0" cy="287280"/>
          </a:xfrm>
          <a:prstGeom prst="line">
            <a:avLst/>
          </a:prstGeom>
          <a:ln w="2844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54"/>
          <p:cNvSpPr/>
          <p:nvPr/>
        </p:nvSpPr>
        <p:spPr>
          <a:xfrm>
            <a:off x="2411280" y="-3841920"/>
            <a:ext cx="0" cy="287640"/>
          </a:xfrm>
          <a:prstGeom prst="line">
            <a:avLst/>
          </a:prstGeom>
          <a:ln w="2844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8"/>
          <p:cNvSpPr/>
          <p:nvPr/>
        </p:nvSpPr>
        <p:spPr>
          <a:xfrm>
            <a:off x="3500280" y="-4417920"/>
            <a:ext cx="0" cy="287280"/>
          </a:xfrm>
          <a:prstGeom prst="line">
            <a:avLst/>
          </a:prstGeom>
          <a:ln w="2844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9"/>
          <p:cNvSpPr/>
          <p:nvPr/>
        </p:nvSpPr>
        <p:spPr>
          <a:xfrm>
            <a:off x="2411280" y="-4273560"/>
            <a:ext cx="0" cy="287280"/>
          </a:xfrm>
          <a:prstGeom prst="line">
            <a:avLst/>
          </a:prstGeom>
          <a:ln w="2844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60"/>
          <p:cNvSpPr/>
          <p:nvPr/>
        </p:nvSpPr>
        <p:spPr>
          <a:xfrm>
            <a:off x="2627280" y="-4057560"/>
            <a:ext cx="0" cy="287280"/>
          </a:xfrm>
          <a:prstGeom prst="line">
            <a:avLst/>
          </a:prstGeom>
          <a:ln w="2844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6143760" y="-4425840"/>
            <a:ext cx="0" cy="287280"/>
          </a:xfrm>
          <a:prstGeom prst="line">
            <a:avLst/>
          </a:prstGeom>
          <a:ln w="2844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8"/>
          <p:cNvSpPr/>
          <p:nvPr/>
        </p:nvSpPr>
        <p:spPr>
          <a:xfrm>
            <a:off x="6500880" y="-3854520"/>
            <a:ext cx="0" cy="287280"/>
          </a:xfrm>
          <a:prstGeom prst="line">
            <a:avLst/>
          </a:prstGeom>
          <a:ln w="2844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60"/>
          <p:cNvSpPr/>
          <p:nvPr/>
        </p:nvSpPr>
        <p:spPr>
          <a:xfrm>
            <a:off x="7429680" y="-3997440"/>
            <a:ext cx="0" cy="287280"/>
          </a:xfrm>
          <a:prstGeom prst="line">
            <a:avLst/>
          </a:prstGeom>
          <a:ln w="28440">
            <a:solidFill>
              <a:srgbClr val="ffffff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3 -0.02084 L 0.04723 2.1368 E">
                                      <p:cBhvr>
                                        <p:cTn id="346" dur="5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42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40157 0.00834 L 0.40157 2.04818 E">
                                      <p:cBhvr>
                                        <p:cTn id="348" dur="5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3941 -0.13125 L -0.03941 2.25208 E">
                                      <p:cBhvr>
                                        <p:cTn id="350" dur="5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42" repeatCount="indefinite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2361 0.01667 L -0.02361 2.30047 E">
                                      <p:cBhvr>
                                        <p:cTn id="352" dur="5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4.72222E-006 -7.40741E-007 L 0.02361 2.0632 E">
                                      <p:cBhvr>
                                        <p:cTn id="354" dur="5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42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08663 -0.1419 L -0.08663 2.01574 E">
                                      <p:cBhvr>
                                        <p:cTn id="356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42" repeatCount="indefinite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22847 -0.00525 L 0.22847 1.90858 E">
                                      <p:cBhvr>
                                        <p:cTn id="358" dur="5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42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5521 0.025 L 0.05521 2.18287 E">
                                      <p:cBhvr>
                                        <p:cTn id="360" dur="5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42" repeatCount="indefinite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07881 0.01574 L 0.07881 1.95301 E">
                                      <p:cBhvr>
                                        <p:cTn id="362" dur="5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path" presetID="42" repeatCount="indefinite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3.61111E-006 7.40741E-007 L 3.61111E-006 2.04213 E">
                                      <p:cBhvr>
                                        <p:cTn id="364" dur="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path" presetID="42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08663 -0.1419 L -0.08663 2.01574 E">
                                      <p:cBhvr>
                                        <p:cTn id="366" dur="5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nodeType="withEffect" fill="hold" presetClass="path" presetID="42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5521 0.025 L 0.05521 2.18287 E">
                                      <p:cBhvr>
                                        <p:cTn id="368" dur="5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42" repeatCount="indefinite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3.61111E-006 7.40741E-007 L 3.61111E-006 2.04213 E">
                                      <p:cBhvr>
                                        <p:cTn id="370" dur="5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7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0.00138 0.00389 C 0.01025 -0.02111 0.04775 -0.07694 0.06893 -0.14611 C 0.09011 -0.21528 0.0875 -0.37583 0.12622 -0.41194 C 0.16494 -0.44805 0.24237 -0.37472 0.30122 -0.3625 C 0.36007 -0.35028 0.44202 -0.34389 0.479 -0.33889 E">
                                      <p:cBhvr>
                                        <p:cTn id="38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43200000">
                                      <p:cBhvr>
                                        <p:cTn id="38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2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2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82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92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200"/>
                            </p:stCondLst>
                            <p:childTnLst>
                              <p:par>
                                <p:cTn id="43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1200"/>
                            </p:stCondLst>
                            <p:childTnLst>
                              <p:par>
                                <p:cTn id="4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4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440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49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4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90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640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69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74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79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0139 0.00389 C 0.01146 0.00389 0.0408 0.00639 0.07569 0.00389 C 0.11059 0.00139 0.15434 -0.03527 0.20781 -0.01166 C 0.26128 0.01195 0.35694 0.11334 0.39618 0.14612 E">
                                      <p:cBhvr>
                                        <p:cTn id="535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43200000">
                                      <p:cBhvr>
                                        <p:cTn id="53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800"/>
                            </p:stCondLst>
                            <p:childTnLst>
                              <p:par>
                                <p:cTn id="539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18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23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2800"/>
                            </p:stCondLst>
                            <p:childTnLst>
                              <p:par>
                                <p:cTn id="5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33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38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43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48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58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63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6800"/>
                            </p:stCondLst>
                            <p:childTnLst>
                              <p:par>
                                <p:cTn id="6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7300"/>
                            </p:stCondLst>
                            <p:childTnLst>
                              <p:par>
                                <p:cTn id="6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78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830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0300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04113E-006 C -0.0007 0.01029 -0.00122 0.02085 -0.00782 0.05031 C -0.01441 0.07977 -0.04046 0.13647 -0.03924 0.17649 C -0.03802 0.21651 -0.0158 0.27071 3.88889E-006 0.28961 C 0.01579 0.30851 0.03854 0.27627 0.0552 0.28961 C 0.07187 0.30295 0.09027 0.35298 0.09948 0.36965 E">
                                      <p:cBhvr>
                                        <p:cTn id="643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50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299" name="椭圆 31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32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任意多边形 231"/>
          <p:cNvSpPr/>
          <p:nvPr/>
        </p:nvSpPr>
        <p:spPr>
          <a:xfrm rot="17349600">
            <a:off x="6311160" y="215784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32"/>
          <p:cNvSpPr/>
          <p:nvPr/>
        </p:nvSpPr>
        <p:spPr>
          <a:xfrm>
            <a:off x="5286240" y="11430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亲的无私关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33"/>
          <p:cNvSpPr/>
          <p:nvPr/>
        </p:nvSpPr>
        <p:spPr>
          <a:xfrm>
            <a:off x="5357880" y="773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新生命的启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305" name="椭圆 108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109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000680" y="2214720"/>
            <a:ext cx="5035320" cy="3230280"/>
            <a:chOff x="4000680" y="2214720"/>
            <a:chExt cx="5035320" cy="3230280"/>
          </a:xfrm>
        </p:grpSpPr>
        <p:grpSp>
          <p:nvGrpSpPr>
            <p:cNvPr id="308" name=""/>
            <p:cNvGrpSpPr/>
            <p:nvPr/>
          </p:nvGrpSpPr>
          <p:grpSpPr>
            <a:xfrm>
              <a:off x="4000680" y="2214720"/>
              <a:ext cx="5035320" cy="3230280"/>
              <a:chOff x="4000680" y="2214720"/>
              <a:chExt cx="5035320" cy="3230280"/>
            </a:xfrm>
          </p:grpSpPr>
          <p:sp>
            <p:nvSpPr>
              <p:cNvPr id="309" name="任意多边形 70"/>
              <p:cNvSpPr/>
              <p:nvPr/>
            </p:nvSpPr>
            <p:spPr>
              <a:xfrm>
                <a:off x="4000680" y="2214720"/>
                <a:ext cx="5035320" cy="127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接连接符 75"/>
              <p:cNvSpPr/>
              <p:nvPr/>
            </p:nvSpPr>
            <p:spPr>
              <a:xfrm>
                <a:off x="5286240" y="2987640"/>
                <a:ext cx="36360" cy="1584360"/>
              </a:xfrm>
              <a:prstGeom prst="line">
                <a:avLst/>
              </a:prstGeom>
              <a:ln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接连接符 77"/>
              <p:cNvSpPr/>
              <p:nvPr/>
            </p:nvSpPr>
            <p:spPr>
              <a:xfrm flipV="1">
                <a:off x="4429080" y="4572000"/>
                <a:ext cx="857160" cy="838080"/>
              </a:xfrm>
              <a:prstGeom prst="line">
                <a:avLst/>
              </a:prstGeom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直接连接符 81"/>
              <p:cNvSpPr/>
              <p:nvPr/>
            </p:nvSpPr>
            <p:spPr>
              <a:xfrm>
                <a:off x="8357400" y="4572000"/>
                <a:ext cx="214200" cy="785520"/>
              </a:xfrm>
              <a:prstGeom prst="line">
                <a:avLst/>
              </a:prstGeom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直接连接符 35"/>
              <p:cNvSpPr/>
              <p:nvPr/>
            </p:nvSpPr>
            <p:spPr>
              <a:xfrm>
                <a:off x="5286240" y="4572000"/>
                <a:ext cx="3071880" cy="1440"/>
              </a:xfrm>
              <a:prstGeom prst="line">
                <a:avLst/>
              </a:prstGeom>
              <a:ln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直接连接符 37"/>
              <p:cNvSpPr/>
              <p:nvPr/>
            </p:nvSpPr>
            <p:spPr>
              <a:xfrm flipV="1">
                <a:off x="8358120" y="3000240"/>
                <a:ext cx="1440" cy="1643040"/>
              </a:xfrm>
              <a:prstGeom prst="line">
                <a:avLst/>
              </a:prstGeom>
              <a:ln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直接连接符 41"/>
              <p:cNvSpPr/>
              <p:nvPr/>
            </p:nvSpPr>
            <p:spPr>
              <a:xfrm>
                <a:off x="4429080" y="5429160"/>
                <a:ext cx="414324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44"/>
              <p:cNvSpPr/>
              <p:nvPr/>
            </p:nvSpPr>
            <p:spPr>
              <a:xfrm flipH="1">
                <a:off x="4357440" y="3000240"/>
                <a:ext cx="928440" cy="357120"/>
              </a:xfrm>
              <a:prstGeom prst="line">
                <a:avLst/>
              </a:prstGeom>
              <a:ln w="1908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46"/>
              <p:cNvSpPr/>
              <p:nvPr/>
            </p:nvSpPr>
            <p:spPr>
              <a:xfrm>
                <a:off x="4357800" y="3357720"/>
                <a:ext cx="71280" cy="207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48"/>
              <p:cNvSpPr/>
              <p:nvPr/>
            </p:nvSpPr>
            <p:spPr>
              <a:xfrm>
                <a:off x="5286240" y="3000240"/>
                <a:ext cx="3071880" cy="1440"/>
              </a:xfrm>
              <a:prstGeom prst="line">
                <a:avLst/>
              </a:prstGeom>
              <a:ln w="1908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52"/>
              <p:cNvSpPr/>
              <p:nvPr/>
            </p:nvSpPr>
            <p:spPr>
              <a:xfrm>
                <a:off x="8357400" y="3000240"/>
                <a:ext cx="214200" cy="357120"/>
              </a:xfrm>
              <a:prstGeom prst="line">
                <a:avLst/>
              </a:prstGeom>
              <a:ln w="1908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57"/>
              <p:cNvSpPr/>
              <p:nvPr/>
            </p:nvSpPr>
            <p:spPr>
              <a:xfrm>
                <a:off x="4357800" y="3355920"/>
                <a:ext cx="4214880" cy="1440"/>
              </a:xfrm>
              <a:prstGeom prst="line">
                <a:avLst/>
              </a:prstGeom>
              <a:ln w="1908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84"/>
              <p:cNvSpPr/>
              <p:nvPr/>
            </p:nvSpPr>
            <p:spPr>
              <a:xfrm flipV="1">
                <a:off x="8572680" y="3357720"/>
                <a:ext cx="1440" cy="2087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矩形 87"/>
              <p:cNvSpPr/>
              <p:nvPr/>
            </p:nvSpPr>
            <p:spPr>
              <a:xfrm>
                <a:off x="6357960" y="3786120"/>
                <a:ext cx="1143000" cy="357120"/>
              </a:xfrm>
              <a:prstGeom prst="rect">
                <a:avLst/>
              </a:prstGeom>
              <a:noFill/>
              <a:ln w="1260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接连接符 90"/>
              <p:cNvSpPr/>
              <p:nvPr/>
            </p:nvSpPr>
            <p:spPr>
              <a:xfrm flipH="1">
                <a:off x="7143840" y="3786120"/>
                <a:ext cx="1440" cy="357120"/>
              </a:xfrm>
              <a:prstGeom prst="line">
                <a:avLst/>
              </a:prstGeom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接连接符 91"/>
              <p:cNvSpPr/>
              <p:nvPr/>
            </p:nvSpPr>
            <p:spPr>
              <a:xfrm flipH="1">
                <a:off x="7072560" y="3786120"/>
                <a:ext cx="1440" cy="357120"/>
              </a:xfrm>
              <a:prstGeom prst="line">
                <a:avLst/>
              </a:prstGeom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接连接符 92"/>
              <p:cNvSpPr/>
              <p:nvPr/>
            </p:nvSpPr>
            <p:spPr>
              <a:xfrm flipH="1">
                <a:off x="6786720" y="3786120"/>
                <a:ext cx="1440" cy="357120"/>
              </a:xfrm>
              <a:prstGeom prst="line">
                <a:avLst/>
              </a:prstGeom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直接连接符 93"/>
              <p:cNvSpPr/>
              <p:nvPr/>
            </p:nvSpPr>
            <p:spPr>
              <a:xfrm flipH="1">
                <a:off x="6715080" y="3786120"/>
                <a:ext cx="1440" cy="357120"/>
              </a:xfrm>
              <a:prstGeom prst="line">
                <a:avLst/>
              </a:prstGeom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直接连接符 105"/>
              <p:cNvSpPr/>
              <p:nvPr/>
            </p:nvSpPr>
            <p:spPr>
              <a:xfrm flipH="1">
                <a:off x="4714920" y="4357800"/>
                <a:ext cx="1440" cy="78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直接连接符 110"/>
              <p:cNvSpPr/>
              <p:nvPr/>
            </p:nvSpPr>
            <p:spPr>
              <a:xfrm>
                <a:off x="4929120" y="4214880"/>
                <a:ext cx="0" cy="714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直接连接符 113"/>
              <p:cNvSpPr/>
              <p:nvPr/>
            </p:nvSpPr>
            <p:spPr>
              <a:xfrm flipH="1">
                <a:off x="5000400" y="4572000"/>
                <a:ext cx="64260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直接连接符 114"/>
              <p:cNvSpPr/>
              <p:nvPr/>
            </p:nvSpPr>
            <p:spPr>
              <a:xfrm flipH="1">
                <a:off x="5285880" y="4572000"/>
                <a:ext cx="64260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直接连接符 115"/>
              <p:cNvSpPr/>
              <p:nvPr/>
            </p:nvSpPr>
            <p:spPr>
              <a:xfrm flipH="1">
                <a:off x="5500440" y="4572000"/>
                <a:ext cx="57132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直接连接符 116"/>
              <p:cNvSpPr/>
              <p:nvPr/>
            </p:nvSpPr>
            <p:spPr>
              <a:xfrm flipH="1">
                <a:off x="4714920" y="4572000"/>
                <a:ext cx="71424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直接连接符 118"/>
              <p:cNvSpPr/>
              <p:nvPr/>
            </p:nvSpPr>
            <p:spPr>
              <a:xfrm flipH="1">
                <a:off x="5786640" y="4572000"/>
                <a:ext cx="42840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直接连接符 120"/>
              <p:cNvSpPr/>
              <p:nvPr/>
            </p:nvSpPr>
            <p:spPr>
              <a:xfrm flipH="1">
                <a:off x="6071760" y="4572000"/>
                <a:ext cx="2854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直接连接符 122"/>
              <p:cNvSpPr/>
              <p:nvPr/>
            </p:nvSpPr>
            <p:spPr>
              <a:xfrm flipH="1">
                <a:off x="6286320" y="4572000"/>
                <a:ext cx="21420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直接连接符 124"/>
              <p:cNvSpPr/>
              <p:nvPr/>
            </p:nvSpPr>
            <p:spPr>
              <a:xfrm flipH="1">
                <a:off x="6500880" y="4572000"/>
                <a:ext cx="14256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直接连接符 126"/>
              <p:cNvSpPr/>
              <p:nvPr/>
            </p:nvSpPr>
            <p:spPr>
              <a:xfrm flipH="1">
                <a:off x="6643800" y="4572000"/>
                <a:ext cx="712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直接连接符 128"/>
              <p:cNvSpPr/>
              <p:nvPr/>
            </p:nvSpPr>
            <p:spPr>
              <a:xfrm flipH="1">
                <a:off x="6858000" y="4572000"/>
                <a:ext cx="144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直接连接符 130"/>
              <p:cNvSpPr/>
              <p:nvPr/>
            </p:nvSpPr>
            <p:spPr>
              <a:xfrm>
                <a:off x="6929640" y="4572000"/>
                <a:ext cx="712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直接连接符 132"/>
              <p:cNvSpPr/>
              <p:nvPr/>
            </p:nvSpPr>
            <p:spPr>
              <a:xfrm>
                <a:off x="7072560" y="4572000"/>
                <a:ext cx="14256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直接连接符 134"/>
              <p:cNvSpPr/>
              <p:nvPr/>
            </p:nvSpPr>
            <p:spPr>
              <a:xfrm>
                <a:off x="7214400" y="4572000"/>
                <a:ext cx="21420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直接连接符 136"/>
              <p:cNvSpPr/>
              <p:nvPr/>
            </p:nvSpPr>
            <p:spPr>
              <a:xfrm>
                <a:off x="7357320" y="4572000"/>
                <a:ext cx="2854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直接连接符 138"/>
              <p:cNvSpPr/>
              <p:nvPr/>
            </p:nvSpPr>
            <p:spPr>
              <a:xfrm>
                <a:off x="7571880" y="4572000"/>
                <a:ext cx="2854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直接连接符 140"/>
              <p:cNvSpPr/>
              <p:nvPr/>
            </p:nvSpPr>
            <p:spPr>
              <a:xfrm>
                <a:off x="7786080" y="4572000"/>
                <a:ext cx="2854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直接连接符 142"/>
              <p:cNvSpPr/>
              <p:nvPr/>
            </p:nvSpPr>
            <p:spPr>
              <a:xfrm>
                <a:off x="8000280" y="4572000"/>
                <a:ext cx="2854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直接连接符 144"/>
              <p:cNvSpPr/>
              <p:nvPr/>
            </p:nvSpPr>
            <p:spPr>
              <a:xfrm>
                <a:off x="8214840" y="4572000"/>
                <a:ext cx="2854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椭圆 147"/>
              <p:cNvSpPr/>
              <p:nvPr/>
            </p:nvSpPr>
            <p:spPr>
              <a:xfrm>
                <a:off x="4857840" y="4643640"/>
                <a:ext cx="45720" cy="45720"/>
              </a:xfrm>
              <a:prstGeom prst="ellipse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直接连接符 157"/>
              <p:cNvSpPr/>
              <p:nvPr/>
            </p:nvSpPr>
            <p:spPr>
              <a:xfrm flipV="1">
                <a:off x="5622840" y="4357800"/>
                <a:ext cx="623880" cy="164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直接连接符 161"/>
              <p:cNvSpPr/>
              <p:nvPr/>
            </p:nvSpPr>
            <p:spPr>
              <a:xfrm>
                <a:off x="6246720" y="4357800"/>
                <a:ext cx="331560" cy="41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直接连接符 163"/>
              <p:cNvSpPr/>
              <p:nvPr/>
            </p:nvSpPr>
            <p:spPr>
              <a:xfrm>
                <a:off x="5622840" y="4730760"/>
                <a:ext cx="374400" cy="83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直接连接符 164"/>
              <p:cNvSpPr/>
              <p:nvPr/>
            </p:nvSpPr>
            <p:spPr>
              <a:xfrm>
                <a:off x="6246720" y="4565520"/>
                <a:ext cx="331560" cy="41040"/>
              </a:xfrm>
              <a:prstGeom prst="line">
                <a:avLst/>
              </a:prstGeom>
              <a:ln w="93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直接连接符 165"/>
              <p:cNvSpPr/>
              <p:nvPr/>
            </p:nvSpPr>
            <p:spPr>
              <a:xfrm flipV="1">
                <a:off x="5956200" y="4606560"/>
                <a:ext cx="622080" cy="20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直接连接符 167"/>
              <p:cNvSpPr/>
              <p:nvPr/>
            </p:nvSpPr>
            <p:spPr>
              <a:xfrm flipH="1">
                <a:off x="5622840" y="4524480"/>
                <a:ext cx="1440" cy="20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直接连接符 168"/>
              <p:cNvSpPr/>
              <p:nvPr/>
            </p:nvSpPr>
            <p:spPr>
              <a:xfrm flipV="1">
                <a:off x="5622840" y="4565520"/>
                <a:ext cx="623880" cy="164880"/>
              </a:xfrm>
              <a:prstGeom prst="line">
                <a:avLst/>
              </a:prstGeom>
              <a:ln w="93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直接连接符 170"/>
              <p:cNvSpPr/>
              <p:nvPr/>
            </p:nvSpPr>
            <p:spPr>
              <a:xfrm>
                <a:off x="6246720" y="4357800"/>
                <a:ext cx="0" cy="207720"/>
              </a:xfrm>
              <a:prstGeom prst="line">
                <a:avLst/>
              </a:prstGeom>
              <a:ln w="93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直接连接符 173"/>
              <p:cNvSpPr/>
              <p:nvPr/>
            </p:nvSpPr>
            <p:spPr>
              <a:xfrm flipH="1">
                <a:off x="6578640" y="4398840"/>
                <a:ext cx="1440" cy="20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5562720" y="4707000"/>
                <a:ext cx="124560" cy="235800"/>
                <a:chOff x="5562720" y="4707000"/>
                <a:chExt cx="124560" cy="235800"/>
              </a:xfrm>
            </p:grpSpPr>
            <p:sp>
              <p:nvSpPr>
                <p:cNvPr id="358" name="直接连接符 181"/>
                <p:cNvSpPr/>
                <p:nvPr/>
              </p:nvSpPr>
              <p:spPr>
                <a:xfrm>
                  <a:off x="5624280" y="4707000"/>
                  <a:ext cx="1440" cy="235800"/>
                </a:xfrm>
                <a:prstGeom prst="line">
                  <a:avLst/>
                </a:prstGeom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等腰三角形 185"/>
                <p:cNvSpPr/>
                <p:nvPr/>
              </p:nvSpPr>
              <p:spPr>
                <a:xfrm>
                  <a:off x="5562720" y="4860720"/>
                  <a:ext cx="124560" cy="82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5914440" y="4806000"/>
                <a:ext cx="124560" cy="244800"/>
                <a:chOff x="5914440" y="4806000"/>
                <a:chExt cx="124560" cy="244800"/>
              </a:xfrm>
            </p:grpSpPr>
            <p:sp>
              <p:nvSpPr>
                <p:cNvPr id="361" name="直接连接符 183"/>
                <p:cNvSpPr/>
                <p:nvPr/>
              </p:nvSpPr>
              <p:spPr>
                <a:xfrm>
                  <a:off x="5973480" y="4806000"/>
                  <a:ext cx="2880" cy="244800"/>
                </a:xfrm>
                <a:prstGeom prst="line">
                  <a:avLst/>
                </a:prstGeom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等腰三角形 186"/>
                <p:cNvSpPr/>
                <p:nvPr/>
              </p:nvSpPr>
              <p:spPr>
                <a:xfrm>
                  <a:off x="5914440" y="4967280"/>
                  <a:ext cx="124560" cy="83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6176880" y="4582440"/>
                <a:ext cx="124560" cy="272880"/>
                <a:chOff x="6176880" y="4582440"/>
                <a:chExt cx="124560" cy="272880"/>
              </a:xfrm>
            </p:grpSpPr>
            <p:sp>
              <p:nvSpPr>
                <p:cNvPr id="364" name="直接连接符 182"/>
                <p:cNvSpPr/>
                <p:nvPr/>
              </p:nvSpPr>
              <p:spPr>
                <a:xfrm flipH="1">
                  <a:off x="6239160" y="4582440"/>
                  <a:ext cx="7920" cy="272880"/>
                </a:xfrm>
                <a:prstGeom prst="line">
                  <a:avLst/>
                </a:prstGeom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等腰三角形 187"/>
                <p:cNvSpPr/>
                <p:nvPr/>
              </p:nvSpPr>
              <p:spPr>
                <a:xfrm>
                  <a:off x="6176880" y="4772880"/>
                  <a:ext cx="124560" cy="82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6509160" y="4611960"/>
                <a:ext cx="124560" cy="277560"/>
                <a:chOff x="6509160" y="4611960"/>
                <a:chExt cx="124560" cy="277560"/>
              </a:xfrm>
            </p:grpSpPr>
            <p:sp>
              <p:nvSpPr>
                <p:cNvPr id="367" name="直接连接符 184"/>
                <p:cNvSpPr/>
                <p:nvPr/>
              </p:nvSpPr>
              <p:spPr>
                <a:xfrm>
                  <a:off x="6572160" y="4611960"/>
                  <a:ext cx="2880" cy="277560"/>
                </a:xfrm>
                <a:prstGeom prst="line">
                  <a:avLst/>
                </a:prstGeom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等腰三角形 188"/>
                <p:cNvSpPr/>
                <p:nvPr/>
              </p:nvSpPr>
              <p:spPr>
                <a:xfrm>
                  <a:off x="6509160" y="4807080"/>
                  <a:ext cx="124560" cy="82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5858640" y="4241160"/>
                <a:ext cx="547920" cy="520200"/>
                <a:chOff x="5858640" y="4241160"/>
                <a:chExt cx="547920" cy="520200"/>
              </a:xfrm>
            </p:grpSpPr>
            <p:sp>
              <p:nvSpPr>
                <p:cNvPr id="370" name="椭圆 195"/>
                <p:cNvSpPr/>
                <p:nvPr/>
              </p:nvSpPr>
              <p:spPr>
                <a:xfrm rot="3125400">
                  <a:off x="5982120" y="4270680"/>
                  <a:ext cx="300600" cy="460440"/>
                </a:xfrm>
                <a:prstGeom prst="ellipse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椭圆 196"/>
                <p:cNvSpPr/>
                <p:nvPr/>
              </p:nvSpPr>
              <p:spPr>
                <a:xfrm rot="3125400">
                  <a:off x="6148440" y="4330440"/>
                  <a:ext cx="184320" cy="161280"/>
                </a:xfrm>
                <a:prstGeom prst="ellipse">
                  <a:avLst/>
                </a:prstGeom>
                <a:solidFill>
                  <a:srgbClr val="bfbfb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椭圆 197"/>
                <p:cNvSpPr/>
                <p:nvPr/>
              </p:nvSpPr>
              <p:spPr>
                <a:xfrm rot="3125400">
                  <a:off x="6181560" y="4290840"/>
                  <a:ext cx="184320" cy="170640"/>
                </a:xfrm>
                <a:prstGeom prst="ellipse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直接连接符 198"/>
                <p:cNvSpPr/>
                <p:nvPr/>
              </p:nvSpPr>
              <p:spPr>
                <a:xfrm flipH="1">
                  <a:off x="6003720" y="4395600"/>
                  <a:ext cx="149400" cy="27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椭圆 199"/>
                <p:cNvSpPr/>
                <p:nvPr/>
              </p:nvSpPr>
              <p:spPr>
                <a:xfrm rot="3125400">
                  <a:off x="6183360" y="4328640"/>
                  <a:ext cx="135360" cy="137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" name="直接连接符 155"/>
              <p:cNvSpPr/>
              <p:nvPr/>
            </p:nvSpPr>
            <p:spPr>
              <a:xfrm flipV="1">
                <a:off x="5956200" y="4398480"/>
                <a:ext cx="622080" cy="20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直接连接符 179"/>
              <p:cNvSpPr/>
              <p:nvPr/>
            </p:nvSpPr>
            <p:spPr>
              <a:xfrm flipV="1">
                <a:off x="5956200" y="4416120"/>
                <a:ext cx="622080" cy="20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直接连接符 153"/>
              <p:cNvSpPr/>
              <p:nvPr/>
            </p:nvSpPr>
            <p:spPr>
              <a:xfrm>
                <a:off x="5622840" y="4522680"/>
                <a:ext cx="374400" cy="83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直接连接符 174"/>
              <p:cNvSpPr/>
              <p:nvPr/>
            </p:nvSpPr>
            <p:spPr>
              <a:xfrm>
                <a:off x="5622840" y="4543560"/>
                <a:ext cx="374400" cy="83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直接连接符 172"/>
              <p:cNvSpPr/>
              <p:nvPr/>
            </p:nvSpPr>
            <p:spPr>
              <a:xfrm>
                <a:off x="5973840" y="4606920"/>
                <a:ext cx="0" cy="20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任意多边形 201"/>
              <p:cNvSpPr/>
              <p:nvPr/>
            </p:nvSpPr>
            <p:spPr>
              <a:xfrm>
                <a:off x="5500800" y="4417920"/>
                <a:ext cx="819000" cy="4633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直接连接符 220"/>
              <p:cNvSpPr/>
              <p:nvPr/>
            </p:nvSpPr>
            <p:spPr>
              <a:xfrm flipV="1">
                <a:off x="4714920" y="4214880"/>
                <a:ext cx="214200" cy="142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2" name="Picture 2" descr="\\Sj1\本地磁盘 (d)\《w8.27》\常用图库\商务人\32.png"/>
            <p:cNvPicPr/>
            <p:nvPr/>
          </p:nvPicPr>
          <p:blipFill>
            <a:blip r:embed="rId1"/>
            <a:stretch/>
          </p:blipFill>
          <p:spPr>
            <a:xfrm>
              <a:off x="7144200" y="3786120"/>
              <a:ext cx="642960" cy="145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3" name=""/>
          <p:cNvGrpSpPr/>
          <p:nvPr/>
        </p:nvGrpSpPr>
        <p:grpSpPr>
          <a:xfrm>
            <a:off x="6086520" y="1653480"/>
            <a:ext cx="3057480" cy="4061520"/>
            <a:chOff x="6086520" y="1653480"/>
            <a:chExt cx="3057480" cy="4061520"/>
          </a:xfrm>
        </p:grpSpPr>
        <p:grpSp>
          <p:nvGrpSpPr>
            <p:cNvPr id="384" name=""/>
            <p:cNvGrpSpPr/>
            <p:nvPr/>
          </p:nvGrpSpPr>
          <p:grpSpPr>
            <a:xfrm>
              <a:off x="6086520" y="1653480"/>
              <a:ext cx="3057480" cy="4061520"/>
              <a:chOff x="6086520" y="1653480"/>
              <a:chExt cx="3057480" cy="4061520"/>
            </a:xfrm>
          </p:grpSpPr>
          <p:sp>
            <p:nvSpPr>
              <p:cNvPr id="385" name="任意多边形 2"/>
              <p:cNvSpPr/>
              <p:nvPr/>
            </p:nvSpPr>
            <p:spPr>
              <a:xfrm>
                <a:off x="6086520" y="1663560"/>
                <a:ext cx="3057480" cy="40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任意多边形 141"/>
              <p:cNvSpPr/>
              <p:nvPr/>
            </p:nvSpPr>
            <p:spPr>
              <a:xfrm rot="2584800">
                <a:off x="7949880" y="1730160"/>
                <a:ext cx="357120" cy="334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任意多边形 143"/>
              <p:cNvSpPr/>
              <p:nvPr/>
            </p:nvSpPr>
            <p:spPr>
              <a:xfrm rot="2584800">
                <a:off x="8450280" y="2002680"/>
                <a:ext cx="357120" cy="33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任意多边形 145"/>
              <p:cNvSpPr/>
              <p:nvPr/>
            </p:nvSpPr>
            <p:spPr>
              <a:xfrm rot="2584800">
                <a:off x="8010720" y="2085480"/>
                <a:ext cx="357120" cy="33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任意多边形 146"/>
              <p:cNvSpPr/>
              <p:nvPr/>
            </p:nvSpPr>
            <p:spPr>
              <a:xfrm>
                <a:off x="7364520" y="2296800"/>
                <a:ext cx="1438200" cy="46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任意多边形 148"/>
              <p:cNvSpPr/>
              <p:nvPr/>
            </p:nvSpPr>
            <p:spPr>
              <a:xfrm>
                <a:off x="8515440" y="237780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任意多边形 123"/>
            <p:cNvSpPr/>
            <p:nvPr/>
          </p:nvSpPr>
          <p:spPr>
            <a:xfrm rot="18890400">
              <a:off x="8282880" y="283536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任意多边形 125"/>
            <p:cNvSpPr/>
            <p:nvPr/>
          </p:nvSpPr>
          <p:spPr>
            <a:xfrm rot="18993000">
              <a:off x="7335720" y="3103200"/>
              <a:ext cx="1438200" cy="46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任意多边形 127"/>
            <p:cNvSpPr/>
            <p:nvPr/>
          </p:nvSpPr>
          <p:spPr>
            <a:xfrm rot="519000">
              <a:off x="8209080" y="2469960"/>
              <a:ext cx="2635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129"/>
            <p:cNvSpPr/>
            <p:nvPr/>
          </p:nvSpPr>
          <p:spPr>
            <a:xfrm rot="17349600">
              <a:off x="8404200" y="2567880"/>
              <a:ext cx="2124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131"/>
            <p:cNvSpPr/>
            <p:nvPr/>
          </p:nvSpPr>
          <p:spPr>
            <a:xfrm rot="19486800">
              <a:off x="7951680" y="29030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任意多边形 133"/>
            <p:cNvSpPr/>
            <p:nvPr/>
          </p:nvSpPr>
          <p:spPr>
            <a:xfrm>
              <a:off x="7837560" y="2863800"/>
              <a:ext cx="102960" cy="70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135"/>
            <p:cNvSpPr/>
            <p:nvPr/>
          </p:nvSpPr>
          <p:spPr>
            <a:xfrm rot="17349600">
              <a:off x="8433720" y="254160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任意多边形 137"/>
            <p:cNvSpPr/>
            <p:nvPr/>
          </p:nvSpPr>
          <p:spPr>
            <a:xfrm rot="17349600">
              <a:off x="8433720" y="254160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1384200" y="3616200"/>
            <a:ext cx="794880" cy="2241720"/>
            <a:chOff x="1384200" y="3616200"/>
            <a:chExt cx="794880" cy="2241720"/>
          </a:xfrm>
        </p:grpSpPr>
        <p:sp>
          <p:nvSpPr>
            <p:cNvPr id="400" name="任意多边形 150"/>
            <p:cNvSpPr/>
            <p:nvPr/>
          </p:nvSpPr>
          <p:spPr>
            <a:xfrm rot="19312200">
              <a:off x="1919520" y="406836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1384200" y="3616200"/>
              <a:ext cx="794880" cy="2241720"/>
              <a:chOff x="1384200" y="3616200"/>
              <a:chExt cx="794880" cy="2241720"/>
            </a:xfrm>
          </p:grpSpPr>
          <p:sp>
            <p:nvSpPr>
              <p:cNvPr id="402" name="任意多边形 152"/>
              <p:cNvSpPr/>
              <p:nvPr/>
            </p:nvSpPr>
            <p:spPr>
              <a:xfrm rot="20572800">
                <a:off x="1488600" y="4065480"/>
                <a:ext cx="617040" cy="588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任意多边形 156"/>
              <p:cNvSpPr/>
              <p:nvPr/>
            </p:nvSpPr>
            <p:spPr>
              <a:xfrm>
                <a:off x="1384200" y="3616200"/>
                <a:ext cx="451440" cy="2241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任意多边形 158"/>
              <p:cNvSpPr/>
              <p:nvPr/>
            </p:nvSpPr>
            <p:spPr>
              <a:xfrm rot="20467800">
                <a:off x="1880280" y="4295520"/>
                <a:ext cx="21312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任意多边形 159"/>
              <p:cNvSpPr/>
              <p:nvPr/>
            </p:nvSpPr>
            <p:spPr>
              <a:xfrm rot="2148600">
                <a:off x="1768680" y="4096800"/>
                <a:ext cx="275040" cy="520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6" name=""/>
          <p:cNvGrpSpPr/>
          <p:nvPr/>
        </p:nvGrpSpPr>
        <p:grpSpPr>
          <a:xfrm>
            <a:off x="0" y="4142880"/>
            <a:ext cx="9144000" cy="1572120"/>
            <a:chOff x="0" y="4142880"/>
            <a:chExt cx="9144000" cy="1572120"/>
          </a:xfrm>
        </p:grpSpPr>
        <p:sp>
          <p:nvSpPr>
            <p:cNvPr id="407" name="直接连接符 175"/>
            <p:cNvSpPr/>
            <p:nvPr/>
          </p:nvSpPr>
          <p:spPr>
            <a:xfrm>
              <a:off x="0" y="4786200"/>
              <a:ext cx="4214880" cy="9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直接连接符 180"/>
            <p:cNvSpPr/>
            <p:nvPr/>
          </p:nvSpPr>
          <p:spPr>
            <a:xfrm flipV="1">
              <a:off x="2428920" y="4142880"/>
              <a:ext cx="6715080" cy="107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直接连接符 190"/>
            <p:cNvSpPr/>
            <p:nvPr/>
          </p:nvSpPr>
          <p:spPr>
            <a:xfrm flipV="1">
              <a:off x="3643200" y="4857840"/>
              <a:ext cx="5500800" cy="64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直接连接符 203"/>
            <p:cNvSpPr/>
            <p:nvPr/>
          </p:nvSpPr>
          <p:spPr>
            <a:xfrm>
              <a:off x="0" y="4643280"/>
              <a:ext cx="4357800" cy="107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7072200" y="3473280"/>
            <a:ext cx="794880" cy="2241720"/>
            <a:chOff x="7072200" y="3473280"/>
            <a:chExt cx="794880" cy="2241720"/>
          </a:xfrm>
        </p:grpSpPr>
        <p:sp>
          <p:nvSpPr>
            <p:cNvPr id="412" name="任意多边形 211"/>
            <p:cNvSpPr/>
            <p:nvPr/>
          </p:nvSpPr>
          <p:spPr>
            <a:xfrm rot="19312200">
              <a:off x="7607520" y="39254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7072200" y="3473280"/>
              <a:ext cx="794880" cy="2241720"/>
              <a:chOff x="7072200" y="3473280"/>
              <a:chExt cx="794880" cy="2241720"/>
            </a:xfrm>
          </p:grpSpPr>
          <p:sp>
            <p:nvSpPr>
              <p:cNvPr id="414" name="任意多边形 213"/>
              <p:cNvSpPr/>
              <p:nvPr/>
            </p:nvSpPr>
            <p:spPr>
              <a:xfrm rot="20572800">
                <a:off x="7176600" y="3922560"/>
                <a:ext cx="617040" cy="588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任意多边形 214"/>
              <p:cNvSpPr/>
              <p:nvPr/>
            </p:nvSpPr>
            <p:spPr>
              <a:xfrm>
                <a:off x="7072200" y="3473280"/>
                <a:ext cx="451440" cy="2241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任意多边形 215"/>
              <p:cNvSpPr/>
              <p:nvPr/>
            </p:nvSpPr>
            <p:spPr>
              <a:xfrm rot="20467800">
                <a:off x="7568280" y="4152600"/>
                <a:ext cx="21312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任意多边形 216"/>
              <p:cNvSpPr/>
              <p:nvPr/>
            </p:nvSpPr>
            <p:spPr>
              <a:xfrm rot="2148600">
                <a:off x="7456680" y="3953880"/>
                <a:ext cx="275040" cy="520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9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1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41">
                                  <p:stCondLst>
                                    <p:cond delay="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71801E-006 C 0.00121 -0.01693 0.0026 -0.03358 0.02361 -0.03775 C 0.04461 -0.04191 0.09583 -0.05246 0.12604 -0.02526 C 0.15625 0.00194 0.18264 0.03386 0.20468 0.12573 C 0.22673 0.21759 0.24722 0.44241 0.25833 0.52567 E">
                                      <p:cBhvr>
                                        <p:cTn id="675" dur="5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77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50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4" dur="14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14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8" dur="4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4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2" dur="51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1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50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2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2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2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mph" presetID="6">
                                  <p:stCondLst>
                                    <p:cond delay="7200"/>
                                  </p:stCondLst>
                                  <p:childTnLst>
                                    <p:animScale>
                                      <p:cBhvr>
                                        <p:cTn id="708" dur="2000" fill="hold"/>
                                        <p:tgtEl>
                                          <p:spTgt spid="41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10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0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419" name="椭圆 127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Box 129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086520" y="1653480"/>
            <a:ext cx="3057480" cy="4061520"/>
            <a:chOff x="6086520" y="1653480"/>
            <a:chExt cx="3057480" cy="4061520"/>
          </a:xfrm>
        </p:grpSpPr>
        <p:grpSp>
          <p:nvGrpSpPr>
            <p:cNvPr id="423" name=""/>
            <p:cNvGrpSpPr/>
            <p:nvPr/>
          </p:nvGrpSpPr>
          <p:grpSpPr>
            <a:xfrm>
              <a:off x="6086520" y="1653480"/>
              <a:ext cx="3057480" cy="4061520"/>
              <a:chOff x="6086520" y="1653480"/>
              <a:chExt cx="3057480" cy="4061520"/>
            </a:xfrm>
          </p:grpSpPr>
          <p:sp>
            <p:nvSpPr>
              <p:cNvPr id="424" name="任意多边形 2"/>
              <p:cNvSpPr/>
              <p:nvPr/>
            </p:nvSpPr>
            <p:spPr>
              <a:xfrm>
                <a:off x="6086520" y="1663560"/>
                <a:ext cx="3057480" cy="40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任意多边形 4"/>
              <p:cNvSpPr/>
              <p:nvPr/>
            </p:nvSpPr>
            <p:spPr>
              <a:xfrm rot="2584800">
                <a:off x="7949880" y="1730160"/>
                <a:ext cx="357120" cy="334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任意多边形 5"/>
              <p:cNvSpPr/>
              <p:nvPr/>
            </p:nvSpPr>
            <p:spPr>
              <a:xfrm rot="2584800">
                <a:off x="8450280" y="2002680"/>
                <a:ext cx="357120" cy="33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任意多边形 6"/>
              <p:cNvSpPr/>
              <p:nvPr/>
            </p:nvSpPr>
            <p:spPr>
              <a:xfrm rot="2584800">
                <a:off x="8010720" y="2085480"/>
                <a:ext cx="357120" cy="33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任意多边形 7"/>
              <p:cNvSpPr/>
              <p:nvPr/>
            </p:nvSpPr>
            <p:spPr>
              <a:xfrm>
                <a:off x="7364520" y="2296800"/>
                <a:ext cx="1438200" cy="46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任意多边形 10"/>
              <p:cNvSpPr/>
              <p:nvPr/>
            </p:nvSpPr>
            <p:spPr>
              <a:xfrm>
                <a:off x="8515440" y="237780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任意多边形 61"/>
            <p:cNvSpPr/>
            <p:nvPr/>
          </p:nvSpPr>
          <p:spPr>
            <a:xfrm rot="18890400">
              <a:off x="8282880" y="283536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任意多边形 62"/>
            <p:cNvSpPr/>
            <p:nvPr/>
          </p:nvSpPr>
          <p:spPr>
            <a:xfrm rot="18993000">
              <a:off x="7335720" y="3103200"/>
              <a:ext cx="1438200" cy="46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任意多边形 63"/>
            <p:cNvSpPr/>
            <p:nvPr/>
          </p:nvSpPr>
          <p:spPr>
            <a:xfrm rot="519000">
              <a:off x="8209080" y="2469960"/>
              <a:ext cx="2635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任意多边形 64"/>
            <p:cNvSpPr/>
            <p:nvPr/>
          </p:nvSpPr>
          <p:spPr>
            <a:xfrm rot="17349600">
              <a:off x="8404200" y="2567880"/>
              <a:ext cx="2124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任意多边形 65"/>
            <p:cNvSpPr/>
            <p:nvPr/>
          </p:nvSpPr>
          <p:spPr>
            <a:xfrm rot="19486800">
              <a:off x="7951680" y="29030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任意多边形 67"/>
            <p:cNvSpPr/>
            <p:nvPr/>
          </p:nvSpPr>
          <p:spPr>
            <a:xfrm>
              <a:off x="7837560" y="2863800"/>
              <a:ext cx="102960" cy="70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任意多边形 68"/>
            <p:cNvSpPr/>
            <p:nvPr/>
          </p:nvSpPr>
          <p:spPr>
            <a:xfrm rot="17349600">
              <a:off x="8433720" y="254160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任意多边形 230"/>
            <p:cNvSpPr/>
            <p:nvPr/>
          </p:nvSpPr>
          <p:spPr>
            <a:xfrm rot="17349600">
              <a:off x="8433720" y="254160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图片 121" descr="261.png"/>
          <p:cNvPicPr/>
          <p:nvPr/>
        </p:nvPicPr>
        <p:blipFill>
          <a:blip r:embed="rId1"/>
          <a:stretch/>
        </p:blipFill>
        <p:spPr>
          <a:xfrm>
            <a:off x="5500800" y="3929040"/>
            <a:ext cx="1071360" cy="138276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123" descr="57.png"/>
          <p:cNvPicPr/>
          <p:nvPr/>
        </p:nvPicPr>
        <p:blipFill>
          <a:blip r:embed="rId2"/>
          <a:stretch/>
        </p:blipFill>
        <p:spPr>
          <a:xfrm>
            <a:off x="6143760" y="3429000"/>
            <a:ext cx="769680" cy="1785960"/>
          </a:xfrm>
          <a:prstGeom prst="rect">
            <a:avLst/>
          </a:prstGeom>
          <a:ln w="0">
            <a:noFill/>
          </a:ln>
        </p:spPr>
      </p:pic>
      <p:sp>
        <p:nvSpPr>
          <p:cNvPr id="440" name="任意多边形 131"/>
          <p:cNvSpPr/>
          <p:nvPr/>
        </p:nvSpPr>
        <p:spPr>
          <a:xfrm>
            <a:off x="5880240" y="1876320"/>
            <a:ext cx="1252440" cy="9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任意多边形 133"/>
          <p:cNvSpPr/>
          <p:nvPr/>
        </p:nvSpPr>
        <p:spPr>
          <a:xfrm rot="916200">
            <a:off x="5433840" y="2842920"/>
            <a:ext cx="155736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任意多边形 135"/>
          <p:cNvSpPr/>
          <p:nvPr/>
        </p:nvSpPr>
        <p:spPr>
          <a:xfrm rot="1231800">
            <a:off x="5649840" y="2698920"/>
            <a:ext cx="92556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任意多边形 137"/>
          <p:cNvSpPr/>
          <p:nvPr/>
        </p:nvSpPr>
        <p:spPr>
          <a:xfrm rot="20353200">
            <a:off x="5948280" y="2187360"/>
            <a:ext cx="78588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任意多边形 139"/>
          <p:cNvSpPr/>
          <p:nvPr/>
        </p:nvSpPr>
        <p:spPr>
          <a:xfrm rot="5400000">
            <a:off x="5645520" y="279648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任意多边形 141"/>
          <p:cNvSpPr/>
          <p:nvPr/>
        </p:nvSpPr>
        <p:spPr>
          <a:xfrm rot="327000">
            <a:off x="5703480" y="1609560"/>
            <a:ext cx="357120" cy="335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任意多边形 143"/>
          <p:cNvSpPr/>
          <p:nvPr/>
        </p:nvSpPr>
        <p:spPr>
          <a:xfrm rot="6948600">
            <a:off x="5623200" y="257220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任意多边形 145"/>
          <p:cNvSpPr/>
          <p:nvPr/>
        </p:nvSpPr>
        <p:spPr>
          <a:xfrm rot="2910000">
            <a:off x="5947200" y="251496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任意多边形 146"/>
          <p:cNvSpPr/>
          <p:nvPr/>
        </p:nvSpPr>
        <p:spPr>
          <a:xfrm rot="17688000">
            <a:off x="5832360" y="2234880"/>
            <a:ext cx="27144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任意多边形 148"/>
          <p:cNvSpPr/>
          <p:nvPr/>
        </p:nvSpPr>
        <p:spPr>
          <a:xfrm rot="10241400">
            <a:off x="5984280" y="212220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任意多边形 149"/>
          <p:cNvSpPr/>
          <p:nvPr/>
        </p:nvSpPr>
        <p:spPr>
          <a:xfrm rot="1342200">
            <a:off x="6092640" y="2390400"/>
            <a:ext cx="242640" cy="22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任意多边形 150"/>
          <p:cNvSpPr/>
          <p:nvPr/>
        </p:nvSpPr>
        <p:spPr>
          <a:xfrm rot="5649000">
            <a:off x="5845320" y="1958040"/>
            <a:ext cx="2145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任意多边形 151"/>
          <p:cNvSpPr/>
          <p:nvPr/>
        </p:nvSpPr>
        <p:spPr>
          <a:xfrm rot="2511600">
            <a:off x="6068520" y="2014200"/>
            <a:ext cx="92556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任意多边形 152"/>
          <p:cNvSpPr/>
          <p:nvPr/>
        </p:nvSpPr>
        <p:spPr>
          <a:xfrm rot="8227200">
            <a:off x="6030360" y="169200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154"/>
          <p:cNvSpPr/>
          <p:nvPr/>
        </p:nvSpPr>
        <p:spPr>
          <a:xfrm rot="4189200">
            <a:off x="6415560" y="178200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直接连接符 159"/>
          <p:cNvSpPr/>
          <p:nvPr/>
        </p:nvSpPr>
        <p:spPr>
          <a:xfrm>
            <a:off x="357120" y="2643120"/>
            <a:ext cx="2286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162"/>
          <p:cNvSpPr/>
          <p:nvPr/>
        </p:nvSpPr>
        <p:spPr>
          <a:xfrm flipH="1">
            <a:off x="2428560" y="2643120"/>
            <a:ext cx="21420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169"/>
          <p:cNvSpPr/>
          <p:nvPr/>
        </p:nvSpPr>
        <p:spPr>
          <a:xfrm>
            <a:off x="2642400" y="2643120"/>
            <a:ext cx="500040" cy="5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175"/>
          <p:cNvSpPr/>
          <p:nvPr/>
        </p:nvSpPr>
        <p:spPr>
          <a:xfrm flipH="1">
            <a:off x="0" y="2643120"/>
            <a:ext cx="35712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直接连接符 177"/>
          <p:cNvSpPr/>
          <p:nvPr/>
        </p:nvSpPr>
        <p:spPr>
          <a:xfrm>
            <a:off x="0" y="3429000"/>
            <a:ext cx="2428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180"/>
          <p:cNvSpPr/>
          <p:nvPr/>
        </p:nvSpPr>
        <p:spPr>
          <a:xfrm flipV="1">
            <a:off x="2451240" y="3071880"/>
            <a:ext cx="54900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直接连接符 193"/>
          <p:cNvSpPr/>
          <p:nvPr/>
        </p:nvSpPr>
        <p:spPr>
          <a:xfrm flipH="1">
            <a:off x="2498760" y="3357720"/>
            <a:ext cx="1440" cy="200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直接连接符 200"/>
          <p:cNvSpPr/>
          <p:nvPr/>
        </p:nvSpPr>
        <p:spPr>
          <a:xfrm>
            <a:off x="214200" y="3430440"/>
            <a:ext cx="0" cy="192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203"/>
          <p:cNvSpPr/>
          <p:nvPr/>
        </p:nvSpPr>
        <p:spPr>
          <a:xfrm>
            <a:off x="214200" y="5357880"/>
            <a:ext cx="2286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206"/>
          <p:cNvSpPr/>
          <p:nvPr/>
        </p:nvSpPr>
        <p:spPr>
          <a:xfrm flipV="1">
            <a:off x="2500200" y="4919400"/>
            <a:ext cx="500040" cy="43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208"/>
          <p:cNvSpPr/>
          <p:nvPr/>
        </p:nvSpPr>
        <p:spPr>
          <a:xfrm flipH="1">
            <a:off x="2998800" y="3073320"/>
            <a:ext cx="1440" cy="185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213"/>
          <p:cNvSpPr/>
          <p:nvPr/>
        </p:nvSpPr>
        <p:spPr>
          <a:xfrm flipH="1" flipV="1">
            <a:off x="714240" y="4928760"/>
            <a:ext cx="228600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215"/>
          <p:cNvSpPr/>
          <p:nvPr/>
        </p:nvSpPr>
        <p:spPr>
          <a:xfrm>
            <a:off x="714240" y="3070080"/>
            <a:ext cx="0" cy="18590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218"/>
          <p:cNvSpPr/>
          <p:nvPr/>
        </p:nvSpPr>
        <p:spPr>
          <a:xfrm flipH="1">
            <a:off x="213840" y="4928400"/>
            <a:ext cx="500040" cy="428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222"/>
          <p:cNvSpPr/>
          <p:nvPr/>
        </p:nvSpPr>
        <p:spPr>
          <a:xfrm flipH="1" flipV="1">
            <a:off x="714240" y="3071880"/>
            <a:ext cx="228600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235"/>
          <p:cNvSpPr/>
          <p:nvPr/>
        </p:nvSpPr>
        <p:spPr>
          <a:xfrm flipH="1">
            <a:off x="213840" y="3071880"/>
            <a:ext cx="500040" cy="3571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239"/>
          <p:cNvSpPr/>
          <p:nvPr/>
        </p:nvSpPr>
        <p:spPr>
          <a:xfrm>
            <a:off x="285840" y="4214880"/>
            <a:ext cx="2214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241"/>
          <p:cNvSpPr/>
          <p:nvPr/>
        </p:nvSpPr>
        <p:spPr>
          <a:xfrm flipH="1">
            <a:off x="2499840" y="392904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243"/>
          <p:cNvSpPr/>
          <p:nvPr/>
        </p:nvSpPr>
        <p:spPr>
          <a:xfrm>
            <a:off x="285840" y="4286160"/>
            <a:ext cx="22143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直接连接符 245"/>
          <p:cNvSpPr/>
          <p:nvPr/>
        </p:nvSpPr>
        <p:spPr>
          <a:xfrm flipH="1">
            <a:off x="2499840" y="3999960"/>
            <a:ext cx="500040" cy="28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直接连接符 247"/>
          <p:cNvSpPr/>
          <p:nvPr/>
        </p:nvSpPr>
        <p:spPr>
          <a:xfrm flipH="1" flipV="1">
            <a:off x="714240" y="3929040"/>
            <a:ext cx="228600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直接连接符 249"/>
          <p:cNvSpPr/>
          <p:nvPr/>
        </p:nvSpPr>
        <p:spPr>
          <a:xfrm flipH="1">
            <a:off x="285840" y="3929040"/>
            <a:ext cx="428400" cy="2858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直接连接符 251"/>
          <p:cNvSpPr/>
          <p:nvPr/>
        </p:nvSpPr>
        <p:spPr>
          <a:xfrm flipH="1">
            <a:off x="3355560" y="2571840"/>
            <a:ext cx="1800" cy="271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任意多边形 252"/>
          <p:cNvSpPr/>
          <p:nvPr/>
        </p:nvSpPr>
        <p:spPr>
          <a:xfrm>
            <a:off x="3352680" y="2496960"/>
            <a:ext cx="1065240" cy="855720"/>
          </a:xfrm>
          <a:prstGeom prst="pi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直接连接符 254"/>
          <p:cNvSpPr/>
          <p:nvPr/>
        </p:nvSpPr>
        <p:spPr>
          <a:xfrm flipH="1">
            <a:off x="642960" y="3929040"/>
            <a:ext cx="357120" cy="2858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直接连接符 255"/>
          <p:cNvSpPr/>
          <p:nvPr/>
        </p:nvSpPr>
        <p:spPr>
          <a:xfrm flipH="1">
            <a:off x="1143000" y="3929040"/>
            <a:ext cx="357120" cy="2858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直接连接符 256"/>
          <p:cNvSpPr/>
          <p:nvPr/>
        </p:nvSpPr>
        <p:spPr>
          <a:xfrm flipH="1">
            <a:off x="1571760" y="3929040"/>
            <a:ext cx="357120" cy="2858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直接连接符 257"/>
          <p:cNvSpPr/>
          <p:nvPr/>
        </p:nvSpPr>
        <p:spPr>
          <a:xfrm flipH="1">
            <a:off x="1928880" y="3929040"/>
            <a:ext cx="357120" cy="2858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直接连接符 258"/>
          <p:cNvSpPr/>
          <p:nvPr/>
        </p:nvSpPr>
        <p:spPr>
          <a:xfrm flipH="1">
            <a:off x="2286000" y="3929040"/>
            <a:ext cx="357120" cy="2858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直接连接符 260"/>
          <p:cNvSpPr/>
          <p:nvPr/>
        </p:nvSpPr>
        <p:spPr>
          <a:xfrm>
            <a:off x="571680" y="4000680"/>
            <a:ext cx="2286000" cy="14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直接连接符 261"/>
          <p:cNvSpPr/>
          <p:nvPr/>
        </p:nvSpPr>
        <p:spPr>
          <a:xfrm>
            <a:off x="403200" y="4114800"/>
            <a:ext cx="2286000" cy="14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267"/>
          <p:cNvSpPr/>
          <p:nvPr/>
        </p:nvSpPr>
        <p:spPr>
          <a:xfrm flipH="1">
            <a:off x="1356840" y="3071880"/>
            <a:ext cx="500040" cy="3571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273"/>
          <p:cNvSpPr/>
          <p:nvPr/>
        </p:nvSpPr>
        <p:spPr>
          <a:xfrm flipH="1">
            <a:off x="1285560" y="3071880"/>
            <a:ext cx="500040" cy="3571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 275"/>
          <p:cNvSpPr/>
          <p:nvPr/>
        </p:nvSpPr>
        <p:spPr>
          <a:xfrm flipH="1">
            <a:off x="1355760" y="3430440"/>
            <a:ext cx="1440" cy="1928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直接连接符 277"/>
          <p:cNvSpPr/>
          <p:nvPr/>
        </p:nvSpPr>
        <p:spPr>
          <a:xfrm>
            <a:off x="1285920" y="3430440"/>
            <a:ext cx="0" cy="192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直接连接符 279"/>
          <p:cNvSpPr/>
          <p:nvPr/>
        </p:nvSpPr>
        <p:spPr>
          <a:xfrm flipH="1">
            <a:off x="1856880" y="3071880"/>
            <a:ext cx="1800" cy="18572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直接连接符 281"/>
          <p:cNvSpPr/>
          <p:nvPr/>
        </p:nvSpPr>
        <p:spPr>
          <a:xfrm flipH="1">
            <a:off x="1356840" y="4928400"/>
            <a:ext cx="500040" cy="4287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直接连接符 283"/>
          <p:cNvSpPr/>
          <p:nvPr/>
        </p:nvSpPr>
        <p:spPr>
          <a:xfrm flipH="1">
            <a:off x="1285560" y="4928400"/>
            <a:ext cx="500040" cy="4287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直接连接符 285"/>
          <p:cNvSpPr/>
          <p:nvPr/>
        </p:nvSpPr>
        <p:spPr>
          <a:xfrm flipH="1">
            <a:off x="1785960" y="3071880"/>
            <a:ext cx="1440" cy="18572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直接连接符 288"/>
          <p:cNvSpPr/>
          <p:nvPr/>
        </p:nvSpPr>
        <p:spPr>
          <a:xfrm flipH="1">
            <a:off x="357120" y="3500280"/>
            <a:ext cx="28584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直接连接符 290"/>
          <p:cNvSpPr/>
          <p:nvPr/>
        </p:nvSpPr>
        <p:spPr>
          <a:xfrm>
            <a:off x="357120" y="3714840"/>
            <a:ext cx="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直接连接符 292"/>
          <p:cNvSpPr/>
          <p:nvPr/>
        </p:nvSpPr>
        <p:spPr>
          <a:xfrm flipH="1">
            <a:off x="642960" y="3500280"/>
            <a:ext cx="144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直接连接符 294"/>
          <p:cNvSpPr/>
          <p:nvPr/>
        </p:nvSpPr>
        <p:spPr>
          <a:xfrm flipV="1">
            <a:off x="357120" y="3714480"/>
            <a:ext cx="2858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直接连接符 299"/>
          <p:cNvSpPr/>
          <p:nvPr/>
        </p:nvSpPr>
        <p:spPr>
          <a:xfrm flipH="1">
            <a:off x="357120" y="4428360"/>
            <a:ext cx="2858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直接连接符 300"/>
          <p:cNvSpPr/>
          <p:nvPr/>
        </p:nvSpPr>
        <p:spPr>
          <a:xfrm>
            <a:off x="357120" y="4643280"/>
            <a:ext cx="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301"/>
          <p:cNvSpPr/>
          <p:nvPr/>
        </p:nvSpPr>
        <p:spPr>
          <a:xfrm flipH="1">
            <a:off x="642960" y="4429080"/>
            <a:ext cx="14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直接连接符 302"/>
          <p:cNvSpPr/>
          <p:nvPr/>
        </p:nvSpPr>
        <p:spPr>
          <a:xfrm flipV="1">
            <a:off x="357120" y="4643280"/>
            <a:ext cx="28584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直接连接符 322"/>
          <p:cNvSpPr/>
          <p:nvPr/>
        </p:nvSpPr>
        <p:spPr>
          <a:xfrm flipH="1">
            <a:off x="1428840" y="4428360"/>
            <a:ext cx="2858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323"/>
          <p:cNvSpPr/>
          <p:nvPr/>
        </p:nvSpPr>
        <p:spPr>
          <a:xfrm>
            <a:off x="1428840" y="4643280"/>
            <a:ext cx="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直接连接符 324"/>
          <p:cNvSpPr/>
          <p:nvPr/>
        </p:nvSpPr>
        <p:spPr>
          <a:xfrm flipH="1">
            <a:off x="1714680" y="4429080"/>
            <a:ext cx="14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直接连接符 325"/>
          <p:cNvSpPr/>
          <p:nvPr/>
        </p:nvSpPr>
        <p:spPr>
          <a:xfrm flipV="1">
            <a:off x="1428840" y="4643280"/>
            <a:ext cx="28584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直接连接符 326"/>
          <p:cNvSpPr/>
          <p:nvPr/>
        </p:nvSpPr>
        <p:spPr>
          <a:xfrm flipH="1">
            <a:off x="1428840" y="3500280"/>
            <a:ext cx="28584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327"/>
          <p:cNvSpPr/>
          <p:nvPr/>
        </p:nvSpPr>
        <p:spPr>
          <a:xfrm>
            <a:off x="1428840" y="3714840"/>
            <a:ext cx="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直接连接符 328"/>
          <p:cNvSpPr/>
          <p:nvPr/>
        </p:nvSpPr>
        <p:spPr>
          <a:xfrm flipH="1">
            <a:off x="1714680" y="3500280"/>
            <a:ext cx="144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直接连接符 329"/>
          <p:cNvSpPr/>
          <p:nvPr/>
        </p:nvSpPr>
        <p:spPr>
          <a:xfrm flipV="1">
            <a:off x="1428840" y="3714480"/>
            <a:ext cx="2858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直接连接符 337"/>
          <p:cNvSpPr/>
          <p:nvPr/>
        </p:nvSpPr>
        <p:spPr>
          <a:xfrm flipH="1">
            <a:off x="571320" y="4928400"/>
            <a:ext cx="500040" cy="4287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直接连接符 338"/>
          <p:cNvSpPr/>
          <p:nvPr/>
        </p:nvSpPr>
        <p:spPr>
          <a:xfrm flipH="1">
            <a:off x="928440" y="4928400"/>
            <a:ext cx="500040" cy="4287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直接连接符 340"/>
          <p:cNvSpPr/>
          <p:nvPr/>
        </p:nvSpPr>
        <p:spPr>
          <a:xfrm flipH="1">
            <a:off x="1642680" y="4928400"/>
            <a:ext cx="500040" cy="4287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341"/>
          <p:cNvSpPr/>
          <p:nvPr/>
        </p:nvSpPr>
        <p:spPr>
          <a:xfrm flipH="1">
            <a:off x="1999800" y="4929120"/>
            <a:ext cx="428760" cy="4287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直接连接符 365"/>
          <p:cNvSpPr/>
          <p:nvPr/>
        </p:nvSpPr>
        <p:spPr>
          <a:xfrm>
            <a:off x="356400" y="2643120"/>
            <a:ext cx="428760" cy="5000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直接连接符 368"/>
          <p:cNvSpPr/>
          <p:nvPr/>
        </p:nvSpPr>
        <p:spPr>
          <a:xfrm flipH="1" flipV="1">
            <a:off x="785880" y="3142800"/>
            <a:ext cx="2357280" cy="180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377"/>
          <p:cNvSpPr/>
          <p:nvPr/>
        </p:nvSpPr>
        <p:spPr>
          <a:xfrm>
            <a:off x="5286240" y="11430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亲的无私呵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378"/>
          <p:cNvSpPr/>
          <p:nvPr/>
        </p:nvSpPr>
        <p:spPr>
          <a:xfrm>
            <a:off x="5357880" y="773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人生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0" y="4142880"/>
            <a:ext cx="9144000" cy="1572120"/>
            <a:chOff x="0" y="4142880"/>
            <a:chExt cx="9144000" cy="1572120"/>
          </a:xfrm>
        </p:grpSpPr>
        <p:sp>
          <p:nvSpPr>
            <p:cNvPr id="519" name="直接连接符 381"/>
            <p:cNvSpPr/>
            <p:nvPr/>
          </p:nvSpPr>
          <p:spPr>
            <a:xfrm>
              <a:off x="0" y="4786200"/>
              <a:ext cx="4214880" cy="9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直接连接符 382"/>
            <p:cNvSpPr/>
            <p:nvPr/>
          </p:nvSpPr>
          <p:spPr>
            <a:xfrm flipV="1">
              <a:off x="2428920" y="4142880"/>
              <a:ext cx="6715080" cy="107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直接连接符 383"/>
            <p:cNvSpPr/>
            <p:nvPr/>
          </p:nvSpPr>
          <p:spPr>
            <a:xfrm flipV="1">
              <a:off x="3643200" y="4857840"/>
              <a:ext cx="5500800" cy="64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直接连接符 384"/>
            <p:cNvSpPr/>
            <p:nvPr/>
          </p:nvSpPr>
          <p:spPr>
            <a:xfrm>
              <a:off x="0" y="4643280"/>
              <a:ext cx="4357800" cy="107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3" name="图片 385" descr="0.png"/>
          <p:cNvPicPr/>
          <p:nvPr/>
        </p:nvPicPr>
        <p:blipFill>
          <a:blip r:embed="rId3"/>
          <a:stretch/>
        </p:blipFill>
        <p:spPr>
          <a:xfrm>
            <a:off x="-722160" y="714240"/>
            <a:ext cx="465120" cy="63828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386" descr="0.png"/>
          <p:cNvPicPr/>
          <p:nvPr/>
        </p:nvPicPr>
        <p:blipFill>
          <a:blip r:embed="rId4"/>
          <a:stretch/>
        </p:blipFill>
        <p:spPr>
          <a:xfrm>
            <a:off x="-639720" y="933480"/>
            <a:ext cx="465120" cy="638280"/>
          </a:xfrm>
          <a:prstGeom prst="rect">
            <a:avLst/>
          </a:prstGeom>
          <a:ln w="0">
            <a:noFill/>
          </a:ln>
        </p:spPr>
      </p:pic>
      <p:pic>
        <p:nvPicPr>
          <p:cNvPr id="525" name="图片 387" descr="0.png"/>
          <p:cNvPicPr/>
          <p:nvPr/>
        </p:nvPicPr>
        <p:blipFill>
          <a:blip r:embed="rId5"/>
          <a:stretch/>
        </p:blipFill>
        <p:spPr>
          <a:xfrm>
            <a:off x="-487440" y="571680"/>
            <a:ext cx="465120" cy="637920"/>
          </a:xfrm>
          <a:prstGeom prst="rect">
            <a:avLst/>
          </a:prstGeom>
          <a:ln w="0">
            <a:noFill/>
          </a:ln>
        </p:spPr>
      </p:pic>
      <p:pic>
        <p:nvPicPr>
          <p:cNvPr id="526" name="图片 388" descr="0.png"/>
          <p:cNvPicPr/>
          <p:nvPr/>
        </p:nvPicPr>
        <p:blipFill>
          <a:blip r:embed="rId6"/>
          <a:stretch/>
        </p:blipFill>
        <p:spPr>
          <a:xfrm>
            <a:off x="-496800" y="861840"/>
            <a:ext cx="465120" cy="638280"/>
          </a:xfrm>
          <a:prstGeom prst="rect">
            <a:avLst/>
          </a:prstGeom>
          <a:ln w="0">
            <a:noFill/>
          </a:ln>
        </p:spPr>
      </p:pic>
      <p:sp>
        <p:nvSpPr>
          <p:cNvPr id="527" name="任意多边形 389"/>
          <p:cNvSpPr/>
          <p:nvPr/>
        </p:nvSpPr>
        <p:spPr>
          <a:xfrm rot="1342200">
            <a:off x="6092640" y="2387160"/>
            <a:ext cx="241200" cy="22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任意多边形 390"/>
          <p:cNvSpPr/>
          <p:nvPr/>
        </p:nvSpPr>
        <p:spPr>
          <a:xfrm rot="2910000">
            <a:off x="5952600" y="2489400"/>
            <a:ext cx="2124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720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03 0.14762 C -0.01597 0.13985 0.0224 0.09712 0.05382 0.0985 C 0.08524 0.09989 0.12083 0.17814 0.15885 0.15566 C 0.19688 0.13319 0.23073 -0.03385 0.28212 -0.03579 C 0.33333 -0.03773 0.40799 0.14484 0.46736 0.14345 C 0.52674 0.14207 0.52934 -0.00305 0.63889 -0.04467 C 0.74826 -0.08629 1.02222 -0.09378 1.12309 -0.10682 E">
                                      <p:cBhvr>
                                        <p:cTn id="724" dur="5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4028 0.02303 C -0.02483 0.03552 0.02066 0.07631 0.05382 0.09851 C 0.08698 0.1207 0.11545 0.17065 0.15885 0.15566 C 0.20208 0.14068 0.26996 0.00444 0.31354 0.00777 C 0.35746 0.0111 0.3651 0.1651 0.4217 0.1762 C 0.4783 0.1873 0.53923 0.0727 0.65347 0.07381 C 0.76788 0.07492 1.01389 0.15983 1.10868 0.18258 E">
                                      <p:cBhvr>
                                        <p:cTn id="728" dur="5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5435 0.13374 C -0.03612 0.11848 0.02223 0.07325 0.05521 0.04523 C 0.0882 0.0172 0.10365 -0.053 0.14306 -0.03468 C 0.1823 -0.01637 0.23386 0.14678 0.29011 0.15538 C 0.34636 0.16398 0.33994 0.0444 0.48091 0.0172 C 0.62188 -0.00999 0.99931 -0.00277 1.13577 -0.00805 E">
                                      <p:cBhvr>
                                        <p:cTn id="732" dur="5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path" presetID="0" repeatCount="indefinite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0.02899 -0.08324 C -0.01024 -0.06743 0.0467 -0.03524 0.08316 0.01165 C 0.11962 0.05854 0.13282 0.18313 0.18993 0.19756 C 0.24705 0.21198 0.36875 0.15011 0.42639 0.09822 C 0.48403 0.04633 0.48542 -0.08907 0.53594 -0.11349 C 0.58646 -0.13791 0.6342 -0.08241 0.72917 -0.04884 C 0.82414 -0.01526 1.02743 0.05993 1.10591 0.08851 E">
                                      <p:cBhvr>
                                        <p:cTn id="736" dur="5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2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2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4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4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2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1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2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4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4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4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4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4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4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2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112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4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6" presetSubtype="21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4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6" presetSubtype="21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6" presetSubtype="21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6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6" presetSubtype="2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9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4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4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4">
                                  <p:stCondLst>
                                    <p:cond delay="154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1">
                                  <p:stCondLst>
                                    <p:cond delay="159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1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171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4">
                                  <p:stCondLst>
                                    <p:cond delay="177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1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1">
                                  <p:stCondLst>
                                    <p:cond delay="192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8">
                                  <p:stCondLst>
                                    <p:cond delay="197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4">
                                  <p:stCondLst>
                                    <p:cond delay="204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2">
                                  <p:stCondLst>
                                    <p:cond delay="211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1">
                                  <p:stCondLst>
                                    <p:cond delay="215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191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4">
                                  <p:stCondLst>
                                    <p:cond delay="206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2600"/>
                            </p:stCondLst>
                            <p:childTnLst>
                              <p:par>
                                <p:cTn id="8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4700"/>
                            </p:stCondLst>
                            <p:childTnLst>
                              <p:par>
                                <p:cTn id="8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4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5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2" presetSubtype="4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0400"/>
                            </p:stCondLst>
                            <p:childTnLst>
                              <p:par>
                                <p:cTn id="9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41">
                                  <p:stCondLst>
                                    <p:cond delay="1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41">
                                  <p:stCondLst>
                                    <p:cond delay="22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88889E-006 1.49403E-006 C -0.00399 0.01277 -0.01562 0.05665 -0.02378 0.0772 C -0.03194 0.09775 -0.0434 0.09858 -0.04913 0.12413 C -0.05486 0.14968 -0.06215 0.18717 -0.05833 0.22966 C -0.05451 0.27215 -0.03298 0.34851 -0.02638 0.37962 E">
                                      <p:cBhvr>
                                        <p:cTn id="985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6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43200000">
                                      <p:cBhvr>
                                        <p:cTn id="98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50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9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43200000">
                                      <p:cBhvr>
                                        <p:cTn id="999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0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C 0.01459 0.02194 0.02934 0.04388 0.02848 0.06526 C 0.02761 0.08665 -0.00312 0.09859 -0.00503 0.12802 C -0.00694 0.15746 0.00625 0.21022 0.01702 0.2416 C 0.02778 0.27298 0.04375 0.29464 0.0599 0.31658 E">
                                      <p:cBhvr>
                                        <p:cTn id="1001" dur="2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2" nodeType="withEffect" fill="hold" presetClass="exit" presetID="50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3" dur="1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5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530" name="椭圆 127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129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377"/>
          <p:cNvSpPr/>
          <p:nvPr/>
        </p:nvSpPr>
        <p:spPr>
          <a:xfrm>
            <a:off x="5286240" y="11430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亲的无私呵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378"/>
          <p:cNvSpPr/>
          <p:nvPr/>
        </p:nvSpPr>
        <p:spPr>
          <a:xfrm>
            <a:off x="5357880" y="773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人生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536" name="椭圆 112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113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0" y="1593360"/>
            <a:ext cx="9144000" cy="4121640"/>
            <a:chOff x="0" y="1593360"/>
            <a:chExt cx="9144000" cy="4121640"/>
          </a:xfrm>
        </p:grpSpPr>
        <p:grpSp>
          <p:nvGrpSpPr>
            <p:cNvPr id="539" name=""/>
            <p:cNvGrpSpPr/>
            <p:nvPr/>
          </p:nvGrpSpPr>
          <p:grpSpPr>
            <a:xfrm>
              <a:off x="0" y="1593360"/>
              <a:ext cx="9144000" cy="4121640"/>
              <a:chOff x="0" y="1593360"/>
              <a:chExt cx="9144000" cy="4121640"/>
            </a:xfrm>
          </p:grpSpPr>
          <p:pic>
            <p:nvPicPr>
              <p:cNvPr id="540" name="图片 121" descr="261.png"/>
              <p:cNvPicPr/>
              <p:nvPr/>
            </p:nvPicPr>
            <p:blipFill>
              <a:blip r:embed="rId1"/>
              <a:stretch/>
            </p:blipFill>
            <p:spPr>
              <a:xfrm flipH="1">
                <a:off x="5500800" y="3970800"/>
                <a:ext cx="1071360" cy="138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1" name="图片 123" descr="57.png"/>
              <p:cNvPicPr/>
              <p:nvPr/>
            </p:nvPicPr>
            <p:blipFill>
              <a:blip r:embed="rId2"/>
              <a:stretch/>
            </p:blipFill>
            <p:spPr>
              <a:xfrm flipH="1">
                <a:off x="6143760" y="3429360"/>
                <a:ext cx="769680" cy="1785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2" name=""/>
              <p:cNvGrpSpPr/>
              <p:nvPr/>
            </p:nvGrpSpPr>
            <p:grpSpPr>
              <a:xfrm>
                <a:off x="5429160" y="1593360"/>
                <a:ext cx="3714840" cy="4121640"/>
                <a:chOff x="5429160" y="1593360"/>
                <a:chExt cx="3714840" cy="4121640"/>
              </a:xfrm>
            </p:grpSpPr>
            <p:grpSp>
              <p:nvGrpSpPr>
                <p:cNvPr id="543" name=""/>
                <p:cNvGrpSpPr/>
                <p:nvPr/>
              </p:nvGrpSpPr>
              <p:grpSpPr>
                <a:xfrm>
                  <a:off x="6086520" y="1654560"/>
                  <a:ext cx="3057480" cy="4060440"/>
                  <a:chOff x="6086520" y="1654560"/>
                  <a:chExt cx="3057480" cy="4060440"/>
                </a:xfrm>
              </p:grpSpPr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6086520" y="1654560"/>
                    <a:ext cx="3057480" cy="4060440"/>
                    <a:chOff x="6086520" y="1654560"/>
                    <a:chExt cx="3057480" cy="4060440"/>
                  </a:xfrm>
                </p:grpSpPr>
                <p:sp>
                  <p:nvSpPr>
                    <p:cNvPr id="545" name="任意多边形 2"/>
                    <p:cNvSpPr/>
                    <p:nvPr/>
                  </p:nvSpPr>
                  <p:spPr>
                    <a:xfrm>
                      <a:off x="6086520" y="1664640"/>
                      <a:ext cx="3057480" cy="40503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任意多边形 4"/>
                    <p:cNvSpPr/>
                    <p:nvPr/>
                  </p:nvSpPr>
                  <p:spPr>
                    <a:xfrm rot="2584800">
                      <a:off x="7949880" y="1731240"/>
                      <a:ext cx="357120" cy="3348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任意多边形 5"/>
                    <p:cNvSpPr/>
                    <p:nvPr/>
                  </p:nvSpPr>
                  <p:spPr>
                    <a:xfrm rot="2584800">
                      <a:off x="8449920" y="2003760"/>
                      <a:ext cx="357120" cy="336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任意多边形 6"/>
                    <p:cNvSpPr/>
                    <p:nvPr/>
                  </p:nvSpPr>
                  <p:spPr>
                    <a:xfrm rot="2584800">
                      <a:off x="8010360" y="2086560"/>
                      <a:ext cx="357120" cy="336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任意多边形 7"/>
                    <p:cNvSpPr/>
                    <p:nvPr/>
                  </p:nvSpPr>
                  <p:spPr>
                    <a:xfrm>
                      <a:off x="7364520" y="2296440"/>
                      <a:ext cx="1438200" cy="466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任意多边形 10"/>
                    <p:cNvSpPr/>
                    <p:nvPr/>
                  </p:nvSpPr>
                  <p:spPr>
                    <a:xfrm>
                      <a:off x="8515440" y="2378880"/>
                      <a:ext cx="214200" cy="174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1" name="任意多边形 61"/>
                  <p:cNvSpPr/>
                  <p:nvPr/>
                </p:nvSpPr>
                <p:spPr>
                  <a:xfrm rot="18890400">
                    <a:off x="8282880" y="2837160"/>
                    <a:ext cx="214200" cy="1746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任意多边形 62"/>
                  <p:cNvSpPr/>
                  <p:nvPr/>
                </p:nvSpPr>
                <p:spPr>
                  <a:xfrm rot="18993000">
                    <a:off x="7335360" y="3104640"/>
                    <a:ext cx="1438200" cy="4651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任意多边形 63"/>
                  <p:cNvSpPr/>
                  <p:nvPr/>
                </p:nvSpPr>
                <p:spPr>
                  <a:xfrm rot="519000">
                    <a:off x="8209080" y="2471400"/>
                    <a:ext cx="263520" cy="24768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任意多边形 64"/>
                  <p:cNvSpPr/>
                  <p:nvPr/>
                </p:nvSpPr>
                <p:spPr>
                  <a:xfrm rot="17349600">
                    <a:off x="8403480" y="2568600"/>
                    <a:ext cx="214200" cy="1746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任意多边形 65"/>
                  <p:cNvSpPr/>
                  <p:nvPr/>
                </p:nvSpPr>
                <p:spPr>
                  <a:xfrm rot="19486800">
                    <a:off x="7951680" y="2903040"/>
                    <a:ext cx="214200" cy="1746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任意多边形 67"/>
                  <p:cNvSpPr/>
                  <p:nvPr/>
                </p:nvSpPr>
                <p:spPr>
                  <a:xfrm>
                    <a:off x="7837560" y="2865240"/>
                    <a:ext cx="102960" cy="7063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任意多边形 68"/>
                  <p:cNvSpPr/>
                  <p:nvPr/>
                </p:nvSpPr>
                <p:spPr>
                  <a:xfrm rot="17349600">
                    <a:off x="8433720" y="2543400"/>
                    <a:ext cx="214200" cy="1746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任意多边形 230"/>
                  <p:cNvSpPr/>
                  <p:nvPr/>
                </p:nvSpPr>
                <p:spPr>
                  <a:xfrm rot="17349600">
                    <a:off x="8433720" y="2543400"/>
                    <a:ext cx="214200" cy="1746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9" name="任意多边形 131"/>
                <p:cNvSpPr/>
                <p:nvPr/>
              </p:nvSpPr>
              <p:spPr>
                <a:xfrm>
                  <a:off x="5879880" y="1877760"/>
                  <a:ext cx="1252440" cy="973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任意多边形 133"/>
                <p:cNvSpPr/>
                <p:nvPr/>
              </p:nvSpPr>
              <p:spPr>
                <a:xfrm rot="916200">
                  <a:off x="5433480" y="2844360"/>
                  <a:ext cx="1557360" cy="242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任意多边形 135"/>
                <p:cNvSpPr/>
                <p:nvPr/>
              </p:nvSpPr>
              <p:spPr>
                <a:xfrm rot="1231800">
                  <a:off x="5649480" y="2700000"/>
                  <a:ext cx="925560" cy="152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 137"/>
                <p:cNvSpPr/>
                <p:nvPr/>
              </p:nvSpPr>
              <p:spPr>
                <a:xfrm rot="20353200">
                  <a:off x="5947920" y="2187000"/>
                  <a:ext cx="785880" cy="253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任意多边形 139"/>
                <p:cNvSpPr/>
                <p:nvPr/>
              </p:nvSpPr>
              <p:spPr>
                <a:xfrm rot="5400000">
                  <a:off x="5645880" y="2796480"/>
                  <a:ext cx="2124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任意多边形 141"/>
                <p:cNvSpPr/>
                <p:nvPr/>
              </p:nvSpPr>
              <p:spPr>
                <a:xfrm rot="327000">
                  <a:off x="5703480" y="1609200"/>
                  <a:ext cx="357120" cy="336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任意多边形 143"/>
                <p:cNvSpPr/>
                <p:nvPr/>
              </p:nvSpPr>
              <p:spPr>
                <a:xfrm rot="6948600">
                  <a:off x="5622840" y="2571840"/>
                  <a:ext cx="2142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任意多边形 145"/>
                <p:cNvSpPr/>
                <p:nvPr/>
              </p:nvSpPr>
              <p:spPr>
                <a:xfrm rot="2910000">
                  <a:off x="5946840" y="2514600"/>
                  <a:ext cx="2142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任意多边形 146"/>
                <p:cNvSpPr/>
                <p:nvPr/>
              </p:nvSpPr>
              <p:spPr>
                <a:xfrm rot="17688000">
                  <a:off x="5833080" y="2235240"/>
                  <a:ext cx="269640" cy="255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任意多边形 148"/>
                <p:cNvSpPr/>
                <p:nvPr/>
              </p:nvSpPr>
              <p:spPr>
                <a:xfrm rot="10241400">
                  <a:off x="5983920" y="2121840"/>
                  <a:ext cx="2142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任意多边形 149"/>
                <p:cNvSpPr/>
                <p:nvPr/>
              </p:nvSpPr>
              <p:spPr>
                <a:xfrm rot="1342200">
                  <a:off x="6092280" y="2390400"/>
                  <a:ext cx="242640" cy="228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 150"/>
                <p:cNvSpPr/>
                <p:nvPr/>
              </p:nvSpPr>
              <p:spPr>
                <a:xfrm rot="5649000">
                  <a:off x="5845320" y="1957320"/>
                  <a:ext cx="2142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任意多边形 151"/>
                <p:cNvSpPr/>
                <p:nvPr/>
              </p:nvSpPr>
              <p:spPr>
                <a:xfrm rot="2511600">
                  <a:off x="6068520" y="2016000"/>
                  <a:ext cx="925560" cy="150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任意多边形 152"/>
                <p:cNvSpPr/>
                <p:nvPr/>
              </p:nvSpPr>
              <p:spPr>
                <a:xfrm rot="8227200">
                  <a:off x="6031800" y="1693080"/>
                  <a:ext cx="2124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任意多边形 154"/>
                <p:cNvSpPr/>
                <p:nvPr/>
              </p:nvSpPr>
              <p:spPr>
                <a:xfrm rot="4189200">
                  <a:off x="6415200" y="1783080"/>
                  <a:ext cx="2142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任意多边形 156"/>
                <p:cNvSpPr/>
                <p:nvPr/>
              </p:nvSpPr>
              <p:spPr>
                <a:xfrm rot="327000">
                  <a:off x="5700240" y="1610640"/>
                  <a:ext cx="357120" cy="336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3352680" y="2496600"/>
                <a:ext cx="1064880" cy="2790360"/>
                <a:chOff x="3352680" y="2496600"/>
                <a:chExt cx="1064880" cy="2790360"/>
              </a:xfrm>
            </p:grpSpPr>
            <p:sp>
              <p:nvSpPr>
                <p:cNvPr id="576" name="直接连接符 251"/>
                <p:cNvSpPr/>
                <p:nvPr/>
              </p:nvSpPr>
              <p:spPr>
                <a:xfrm flipH="1">
                  <a:off x="3355560" y="2572560"/>
                  <a:ext cx="1440" cy="2714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任意多边形 252"/>
                <p:cNvSpPr/>
                <p:nvPr/>
              </p:nvSpPr>
              <p:spPr>
                <a:xfrm>
                  <a:off x="3352680" y="2496600"/>
                  <a:ext cx="1064880" cy="855360"/>
                </a:xfrm>
                <a:prstGeom prst="pie">
                  <a:avLst/>
                </a:prstGeom>
                <a:noFill/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0" y="2643480"/>
                <a:ext cx="3143160" cy="2715840"/>
                <a:chOff x="0" y="2643480"/>
                <a:chExt cx="3143160" cy="2715840"/>
              </a:xfrm>
            </p:grpSpPr>
            <p:sp>
              <p:nvSpPr>
                <p:cNvPr id="579" name="直接连接符 159"/>
                <p:cNvSpPr/>
                <p:nvPr/>
              </p:nvSpPr>
              <p:spPr>
                <a:xfrm>
                  <a:off x="357120" y="2643480"/>
                  <a:ext cx="22860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直接连接符 162"/>
                <p:cNvSpPr/>
                <p:nvPr/>
              </p:nvSpPr>
              <p:spPr>
                <a:xfrm flipH="1">
                  <a:off x="2428560" y="2643480"/>
                  <a:ext cx="214200" cy="78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直接连接符 169"/>
                <p:cNvSpPr/>
                <p:nvPr/>
              </p:nvSpPr>
              <p:spPr>
                <a:xfrm>
                  <a:off x="2642400" y="2643480"/>
                  <a:ext cx="500040" cy="50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直接连接符 175"/>
                <p:cNvSpPr/>
                <p:nvPr/>
              </p:nvSpPr>
              <p:spPr>
                <a:xfrm flipH="1">
                  <a:off x="0" y="2643480"/>
                  <a:ext cx="357120" cy="78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直接连接符 177"/>
                <p:cNvSpPr/>
                <p:nvPr/>
              </p:nvSpPr>
              <p:spPr>
                <a:xfrm>
                  <a:off x="0" y="3429000"/>
                  <a:ext cx="242892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直接连接符 180"/>
                <p:cNvSpPr/>
                <p:nvPr/>
              </p:nvSpPr>
              <p:spPr>
                <a:xfrm flipV="1">
                  <a:off x="2451240" y="3071520"/>
                  <a:ext cx="549000" cy="28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直接连接符 193"/>
                <p:cNvSpPr/>
                <p:nvPr/>
              </p:nvSpPr>
              <p:spPr>
                <a:xfrm flipH="1">
                  <a:off x="2498760" y="3357720"/>
                  <a:ext cx="1440" cy="2000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直接连接符 200"/>
                <p:cNvSpPr/>
                <p:nvPr/>
              </p:nvSpPr>
              <p:spPr>
                <a:xfrm>
                  <a:off x="214200" y="3430800"/>
                  <a:ext cx="0" cy="1927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直接连接符 203"/>
                <p:cNvSpPr/>
                <p:nvPr/>
              </p:nvSpPr>
              <p:spPr>
                <a:xfrm>
                  <a:off x="214200" y="5357880"/>
                  <a:ext cx="22860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直接连接符 206"/>
                <p:cNvSpPr/>
                <p:nvPr/>
              </p:nvSpPr>
              <p:spPr>
                <a:xfrm flipV="1">
                  <a:off x="2500200" y="4919400"/>
                  <a:ext cx="500040" cy="438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直接连接符 208"/>
                <p:cNvSpPr/>
                <p:nvPr/>
              </p:nvSpPr>
              <p:spPr>
                <a:xfrm flipH="1">
                  <a:off x="2998800" y="3073680"/>
                  <a:ext cx="1440" cy="1855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直接连接符 213"/>
                <p:cNvSpPr/>
                <p:nvPr/>
              </p:nvSpPr>
              <p:spPr>
                <a:xfrm flipH="1" flipV="1">
                  <a:off x="714240" y="4929120"/>
                  <a:ext cx="2286000" cy="144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直接连接符 215"/>
                <p:cNvSpPr/>
                <p:nvPr/>
              </p:nvSpPr>
              <p:spPr>
                <a:xfrm>
                  <a:off x="714240" y="3071880"/>
                  <a:ext cx="0" cy="185724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直接连接符 218"/>
                <p:cNvSpPr/>
                <p:nvPr/>
              </p:nvSpPr>
              <p:spPr>
                <a:xfrm flipH="1">
                  <a:off x="213840" y="4929120"/>
                  <a:ext cx="500040" cy="428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直接连接符 222"/>
                <p:cNvSpPr/>
                <p:nvPr/>
              </p:nvSpPr>
              <p:spPr>
                <a:xfrm flipH="1" flipV="1">
                  <a:off x="714240" y="3071880"/>
                  <a:ext cx="2286000" cy="144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直接连接符 235"/>
                <p:cNvSpPr/>
                <p:nvPr/>
              </p:nvSpPr>
              <p:spPr>
                <a:xfrm flipH="1">
                  <a:off x="213840" y="3071880"/>
                  <a:ext cx="500040" cy="35712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直接连接符 239"/>
                <p:cNvSpPr/>
                <p:nvPr/>
              </p:nvSpPr>
              <p:spPr>
                <a:xfrm>
                  <a:off x="285480" y="4214880"/>
                  <a:ext cx="221472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直接连接符 241"/>
                <p:cNvSpPr/>
                <p:nvPr/>
              </p:nvSpPr>
              <p:spPr>
                <a:xfrm flipH="1">
                  <a:off x="2499840" y="3928320"/>
                  <a:ext cx="500040" cy="28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直接连接符 243"/>
                <p:cNvSpPr/>
                <p:nvPr/>
              </p:nvSpPr>
              <p:spPr>
                <a:xfrm>
                  <a:off x="285480" y="4286520"/>
                  <a:ext cx="221472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直接连接符 245"/>
                <p:cNvSpPr/>
                <p:nvPr/>
              </p:nvSpPr>
              <p:spPr>
                <a:xfrm flipH="1">
                  <a:off x="2499840" y="3999960"/>
                  <a:ext cx="500040" cy="28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直接连接符 247"/>
                <p:cNvSpPr/>
                <p:nvPr/>
              </p:nvSpPr>
              <p:spPr>
                <a:xfrm flipH="1" flipV="1">
                  <a:off x="714240" y="3929040"/>
                  <a:ext cx="2286000" cy="144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直接连接符 249"/>
                <p:cNvSpPr/>
                <p:nvPr/>
              </p:nvSpPr>
              <p:spPr>
                <a:xfrm flipH="1">
                  <a:off x="285480" y="3928320"/>
                  <a:ext cx="428400" cy="28548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直接连接符 254"/>
                <p:cNvSpPr/>
                <p:nvPr/>
              </p:nvSpPr>
              <p:spPr>
                <a:xfrm flipH="1">
                  <a:off x="642960" y="3928320"/>
                  <a:ext cx="357120" cy="28548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直接连接符 255"/>
                <p:cNvSpPr/>
                <p:nvPr/>
              </p:nvSpPr>
              <p:spPr>
                <a:xfrm flipH="1">
                  <a:off x="1143000" y="3928320"/>
                  <a:ext cx="357120" cy="28548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直接连接符 256"/>
                <p:cNvSpPr/>
                <p:nvPr/>
              </p:nvSpPr>
              <p:spPr>
                <a:xfrm flipH="1">
                  <a:off x="1571760" y="3928320"/>
                  <a:ext cx="357120" cy="28548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直接连接符 257"/>
                <p:cNvSpPr/>
                <p:nvPr/>
              </p:nvSpPr>
              <p:spPr>
                <a:xfrm flipH="1">
                  <a:off x="1928880" y="3928320"/>
                  <a:ext cx="357120" cy="28548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直接连接符 258"/>
                <p:cNvSpPr/>
                <p:nvPr/>
              </p:nvSpPr>
              <p:spPr>
                <a:xfrm flipH="1">
                  <a:off x="2286000" y="3928320"/>
                  <a:ext cx="357120" cy="28548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直接连接符 260"/>
                <p:cNvSpPr/>
                <p:nvPr/>
              </p:nvSpPr>
              <p:spPr>
                <a:xfrm>
                  <a:off x="571320" y="4000680"/>
                  <a:ext cx="2286000" cy="144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直接连接符 261"/>
                <p:cNvSpPr/>
                <p:nvPr/>
              </p:nvSpPr>
              <p:spPr>
                <a:xfrm>
                  <a:off x="403200" y="4114800"/>
                  <a:ext cx="2286000" cy="144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直接连接符 267"/>
                <p:cNvSpPr/>
                <p:nvPr/>
              </p:nvSpPr>
              <p:spPr>
                <a:xfrm flipH="1">
                  <a:off x="1356840" y="3071880"/>
                  <a:ext cx="500040" cy="35712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直接连接符 273"/>
                <p:cNvSpPr/>
                <p:nvPr/>
              </p:nvSpPr>
              <p:spPr>
                <a:xfrm flipH="1">
                  <a:off x="1285560" y="3071880"/>
                  <a:ext cx="500040" cy="35712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直接连接符 275"/>
                <p:cNvSpPr/>
                <p:nvPr/>
              </p:nvSpPr>
              <p:spPr>
                <a:xfrm flipH="1">
                  <a:off x="1355760" y="3430800"/>
                  <a:ext cx="1440" cy="1927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直接连接符 277"/>
                <p:cNvSpPr/>
                <p:nvPr/>
              </p:nvSpPr>
              <p:spPr>
                <a:xfrm>
                  <a:off x="1285920" y="3430800"/>
                  <a:ext cx="0" cy="1927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直接连接符 279"/>
                <p:cNvSpPr/>
                <p:nvPr/>
              </p:nvSpPr>
              <p:spPr>
                <a:xfrm flipH="1">
                  <a:off x="1857240" y="3071880"/>
                  <a:ext cx="1440" cy="185724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直接连接符 281"/>
                <p:cNvSpPr/>
                <p:nvPr/>
              </p:nvSpPr>
              <p:spPr>
                <a:xfrm flipH="1">
                  <a:off x="1356840" y="4929120"/>
                  <a:ext cx="500040" cy="42840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直接连接符 283"/>
                <p:cNvSpPr/>
                <p:nvPr/>
              </p:nvSpPr>
              <p:spPr>
                <a:xfrm flipH="1">
                  <a:off x="1285560" y="4929120"/>
                  <a:ext cx="500040" cy="42840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直接连接符 285"/>
                <p:cNvSpPr/>
                <p:nvPr/>
              </p:nvSpPr>
              <p:spPr>
                <a:xfrm flipH="1">
                  <a:off x="1785960" y="3071880"/>
                  <a:ext cx="1440" cy="185724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直接连接符 288"/>
                <p:cNvSpPr/>
                <p:nvPr/>
              </p:nvSpPr>
              <p:spPr>
                <a:xfrm flipH="1">
                  <a:off x="356760" y="349992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直接连接符 290"/>
                <p:cNvSpPr/>
                <p:nvPr/>
              </p:nvSpPr>
              <p:spPr>
                <a:xfrm>
                  <a:off x="357120" y="3714840"/>
                  <a:ext cx="0" cy="212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直接连接符 292"/>
                <p:cNvSpPr/>
                <p:nvPr/>
              </p:nvSpPr>
              <p:spPr>
                <a:xfrm flipH="1">
                  <a:off x="642960" y="3500640"/>
                  <a:ext cx="144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直接连接符 294"/>
                <p:cNvSpPr/>
                <p:nvPr/>
              </p:nvSpPr>
              <p:spPr>
                <a:xfrm flipV="1">
                  <a:off x="357120" y="371448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直接连接符 299"/>
                <p:cNvSpPr/>
                <p:nvPr/>
              </p:nvSpPr>
              <p:spPr>
                <a:xfrm flipH="1">
                  <a:off x="356760" y="442836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直接连接符 300"/>
                <p:cNvSpPr/>
                <p:nvPr/>
              </p:nvSpPr>
              <p:spPr>
                <a:xfrm>
                  <a:off x="357120" y="4643640"/>
                  <a:ext cx="0" cy="212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直接连接符 301"/>
                <p:cNvSpPr/>
                <p:nvPr/>
              </p:nvSpPr>
              <p:spPr>
                <a:xfrm flipH="1">
                  <a:off x="642960" y="4429080"/>
                  <a:ext cx="144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直接连接符 302"/>
                <p:cNvSpPr/>
                <p:nvPr/>
              </p:nvSpPr>
              <p:spPr>
                <a:xfrm flipV="1">
                  <a:off x="357120" y="464328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直接连接符 322"/>
                <p:cNvSpPr/>
                <p:nvPr/>
              </p:nvSpPr>
              <p:spPr>
                <a:xfrm flipH="1">
                  <a:off x="1428480" y="442836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直接连接符 323"/>
                <p:cNvSpPr/>
                <p:nvPr/>
              </p:nvSpPr>
              <p:spPr>
                <a:xfrm>
                  <a:off x="1428840" y="4643640"/>
                  <a:ext cx="0" cy="212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直接连接符 324"/>
                <p:cNvSpPr/>
                <p:nvPr/>
              </p:nvSpPr>
              <p:spPr>
                <a:xfrm flipH="1">
                  <a:off x="1714320" y="4429080"/>
                  <a:ext cx="144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直接连接符 325"/>
                <p:cNvSpPr/>
                <p:nvPr/>
              </p:nvSpPr>
              <p:spPr>
                <a:xfrm flipV="1">
                  <a:off x="1428840" y="464328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直接连接符 326"/>
                <p:cNvSpPr/>
                <p:nvPr/>
              </p:nvSpPr>
              <p:spPr>
                <a:xfrm flipH="1">
                  <a:off x="1428480" y="349992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直接连接符 327"/>
                <p:cNvSpPr/>
                <p:nvPr/>
              </p:nvSpPr>
              <p:spPr>
                <a:xfrm>
                  <a:off x="1428840" y="3714840"/>
                  <a:ext cx="0" cy="212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直接连接符 328"/>
                <p:cNvSpPr/>
                <p:nvPr/>
              </p:nvSpPr>
              <p:spPr>
                <a:xfrm flipH="1">
                  <a:off x="1714320" y="3500640"/>
                  <a:ext cx="144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直接连接符 329"/>
                <p:cNvSpPr/>
                <p:nvPr/>
              </p:nvSpPr>
              <p:spPr>
                <a:xfrm flipV="1">
                  <a:off x="1428840" y="371448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直接连接符 337"/>
                <p:cNvSpPr/>
                <p:nvPr/>
              </p:nvSpPr>
              <p:spPr>
                <a:xfrm flipH="1">
                  <a:off x="570960" y="4929120"/>
                  <a:ext cx="500040" cy="42840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直接连接符 338"/>
                <p:cNvSpPr/>
                <p:nvPr/>
              </p:nvSpPr>
              <p:spPr>
                <a:xfrm flipH="1">
                  <a:off x="928080" y="4929120"/>
                  <a:ext cx="500040" cy="42840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直接连接符 340"/>
                <p:cNvSpPr/>
                <p:nvPr/>
              </p:nvSpPr>
              <p:spPr>
                <a:xfrm flipH="1">
                  <a:off x="1642680" y="4929120"/>
                  <a:ext cx="500040" cy="42840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直接连接符 341"/>
                <p:cNvSpPr/>
                <p:nvPr/>
              </p:nvSpPr>
              <p:spPr>
                <a:xfrm flipH="1">
                  <a:off x="2000160" y="4929120"/>
                  <a:ext cx="428400" cy="42840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直接连接符 365"/>
                <p:cNvSpPr/>
                <p:nvPr/>
              </p:nvSpPr>
              <p:spPr>
                <a:xfrm>
                  <a:off x="357120" y="2643480"/>
                  <a:ext cx="428400" cy="50004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直接连接符 368"/>
                <p:cNvSpPr/>
                <p:nvPr/>
              </p:nvSpPr>
              <p:spPr>
                <a:xfrm flipH="1" flipV="1">
                  <a:off x="785880" y="3143520"/>
                  <a:ext cx="2357280" cy="144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8" name=""/>
            <p:cNvGrpSpPr/>
            <p:nvPr/>
          </p:nvGrpSpPr>
          <p:grpSpPr>
            <a:xfrm>
              <a:off x="0" y="4143600"/>
              <a:ext cx="9144000" cy="1571400"/>
              <a:chOff x="0" y="4143600"/>
              <a:chExt cx="9144000" cy="1571400"/>
            </a:xfrm>
          </p:grpSpPr>
          <p:sp>
            <p:nvSpPr>
              <p:cNvPr id="639" name="直接连接符 115"/>
              <p:cNvSpPr/>
              <p:nvPr/>
            </p:nvSpPr>
            <p:spPr>
              <a:xfrm>
                <a:off x="0" y="4786560"/>
                <a:ext cx="4214880" cy="928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直接连接符 116"/>
              <p:cNvSpPr/>
              <p:nvPr/>
            </p:nvSpPr>
            <p:spPr>
              <a:xfrm flipV="1">
                <a:off x="2428920" y="4143600"/>
                <a:ext cx="6715080" cy="1071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直接连接符 117"/>
              <p:cNvSpPr/>
              <p:nvPr/>
            </p:nvSpPr>
            <p:spPr>
              <a:xfrm flipV="1">
                <a:off x="3643200" y="4857840"/>
                <a:ext cx="550080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直接连接符 118"/>
              <p:cNvSpPr/>
              <p:nvPr/>
            </p:nvSpPr>
            <p:spPr>
              <a:xfrm>
                <a:off x="0" y="4643640"/>
                <a:ext cx="4357800" cy="1071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3" name="图片 120" descr="0.png"/>
          <p:cNvPicPr/>
          <p:nvPr/>
        </p:nvPicPr>
        <p:blipFill>
          <a:blip r:embed="rId3"/>
          <a:stretch/>
        </p:blipFill>
        <p:spPr>
          <a:xfrm>
            <a:off x="-496800" y="861840"/>
            <a:ext cx="465120" cy="638280"/>
          </a:xfrm>
          <a:prstGeom prst="rect">
            <a:avLst/>
          </a:prstGeom>
          <a:ln w="0">
            <a:noFill/>
          </a:ln>
        </p:spPr>
      </p:pic>
      <p:grpSp>
        <p:nvGrpSpPr>
          <p:cNvPr id="644" name=""/>
          <p:cNvGrpSpPr/>
          <p:nvPr/>
        </p:nvGrpSpPr>
        <p:grpSpPr>
          <a:xfrm>
            <a:off x="5429160" y="1593360"/>
            <a:ext cx="3773520" cy="4121640"/>
            <a:chOff x="5429160" y="1593360"/>
            <a:chExt cx="3773520" cy="4121640"/>
          </a:xfrm>
        </p:grpSpPr>
        <p:grpSp>
          <p:nvGrpSpPr>
            <p:cNvPr id="645" name=""/>
            <p:cNvGrpSpPr/>
            <p:nvPr/>
          </p:nvGrpSpPr>
          <p:grpSpPr>
            <a:xfrm>
              <a:off x="6086520" y="1618200"/>
              <a:ext cx="3116160" cy="4096800"/>
              <a:chOff x="6086520" y="1618200"/>
              <a:chExt cx="3116160" cy="409680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6086520" y="1618200"/>
                <a:ext cx="3116160" cy="4096800"/>
                <a:chOff x="6086520" y="1618200"/>
                <a:chExt cx="3116160" cy="4096800"/>
              </a:xfrm>
            </p:grpSpPr>
            <p:sp>
              <p:nvSpPr>
                <p:cNvPr id="647" name="任意多边形 2"/>
                <p:cNvSpPr/>
                <p:nvPr/>
              </p:nvSpPr>
              <p:spPr>
                <a:xfrm>
                  <a:off x="6086520" y="1618200"/>
                  <a:ext cx="3116160" cy="4096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任意多边形 276"/>
                <p:cNvSpPr/>
                <p:nvPr/>
              </p:nvSpPr>
              <p:spPr>
                <a:xfrm rot="2584800">
                  <a:off x="7949880" y="1730880"/>
                  <a:ext cx="357120" cy="334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任意多边形 278"/>
                <p:cNvSpPr/>
                <p:nvPr/>
              </p:nvSpPr>
              <p:spPr>
                <a:xfrm rot="2584800">
                  <a:off x="8449920" y="2003400"/>
                  <a:ext cx="357120" cy="33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任意多边形 280"/>
                <p:cNvSpPr/>
                <p:nvPr/>
              </p:nvSpPr>
              <p:spPr>
                <a:xfrm rot="2584800">
                  <a:off x="8010360" y="2086200"/>
                  <a:ext cx="357120" cy="33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任意多边形 282"/>
                <p:cNvSpPr/>
                <p:nvPr/>
              </p:nvSpPr>
              <p:spPr>
                <a:xfrm>
                  <a:off x="7364520" y="2296080"/>
                  <a:ext cx="1438200" cy="466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任意多边形 10"/>
                <p:cNvSpPr/>
                <p:nvPr/>
              </p:nvSpPr>
              <p:spPr>
                <a:xfrm>
                  <a:off x="8515440" y="2378520"/>
                  <a:ext cx="2142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任意多边形 264"/>
              <p:cNvSpPr/>
              <p:nvPr/>
            </p:nvSpPr>
            <p:spPr>
              <a:xfrm rot="18890400">
                <a:off x="8282880" y="283680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任意多边形 265"/>
              <p:cNvSpPr/>
              <p:nvPr/>
            </p:nvSpPr>
            <p:spPr>
              <a:xfrm rot="18993000">
                <a:off x="7335360" y="3104280"/>
                <a:ext cx="1438200" cy="46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任意多边形 266"/>
              <p:cNvSpPr/>
              <p:nvPr/>
            </p:nvSpPr>
            <p:spPr>
              <a:xfrm rot="519000">
                <a:off x="8208720" y="2471400"/>
                <a:ext cx="263520" cy="24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268"/>
              <p:cNvSpPr/>
              <p:nvPr/>
            </p:nvSpPr>
            <p:spPr>
              <a:xfrm rot="17349600">
                <a:off x="8403480" y="256860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269"/>
              <p:cNvSpPr/>
              <p:nvPr/>
            </p:nvSpPr>
            <p:spPr>
              <a:xfrm rot="19486800">
                <a:off x="7951680" y="290268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任意多边形 270"/>
              <p:cNvSpPr/>
              <p:nvPr/>
            </p:nvSpPr>
            <p:spPr>
              <a:xfrm>
                <a:off x="7837200" y="2864880"/>
                <a:ext cx="104760" cy="70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任意多边形 271"/>
              <p:cNvSpPr/>
              <p:nvPr/>
            </p:nvSpPr>
            <p:spPr>
              <a:xfrm rot="17349600">
                <a:off x="8433720" y="254304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任意多边形 272"/>
              <p:cNvSpPr/>
              <p:nvPr/>
            </p:nvSpPr>
            <p:spPr>
              <a:xfrm rot="17349600">
                <a:off x="8433720" y="254304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任意多边形 231"/>
            <p:cNvSpPr/>
            <p:nvPr/>
          </p:nvSpPr>
          <p:spPr>
            <a:xfrm>
              <a:off x="5879880" y="1877760"/>
              <a:ext cx="1252440" cy="9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232"/>
            <p:cNvSpPr/>
            <p:nvPr/>
          </p:nvSpPr>
          <p:spPr>
            <a:xfrm rot="916200">
              <a:off x="5433480" y="2844360"/>
              <a:ext cx="1557360" cy="24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任意多边形 233"/>
            <p:cNvSpPr/>
            <p:nvPr/>
          </p:nvSpPr>
          <p:spPr>
            <a:xfrm rot="1231800">
              <a:off x="5649480" y="2700000"/>
              <a:ext cx="925560" cy="15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任意多边形 234"/>
            <p:cNvSpPr/>
            <p:nvPr/>
          </p:nvSpPr>
          <p:spPr>
            <a:xfrm rot="20353200">
              <a:off x="5947920" y="2187000"/>
              <a:ext cx="78588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任意多边形 236"/>
            <p:cNvSpPr/>
            <p:nvPr/>
          </p:nvSpPr>
          <p:spPr>
            <a:xfrm rot="5400000">
              <a:off x="5645880" y="2796480"/>
              <a:ext cx="2124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237"/>
            <p:cNvSpPr/>
            <p:nvPr/>
          </p:nvSpPr>
          <p:spPr>
            <a:xfrm rot="327000">
              <a:off x="5703480" y="1609200"/>
              <a:ext cx="357120" cy="33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238"/>
            <p:cNvSpPr/>
            <p:nvPr/>
          </p:nvSpPr>
          <p:spPr>
            <a:xfrm rot="6948600">
              <a:off x="5622840" y="25718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240"/>
            <p:cNvSpPr/>
            <p:nvPr/>
          </p:nvSpPr>
          <p:spPr>
            <a:xfrm rot="2910000">
              <a:off x="5946840" y="251460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242"/>
            <p:cNvSpPr/>
            <p:nvPr/>
          </p:nvSpPr>
          <p:spPr>
            <a:xfrm rot="17688000">
              <a:off x="5833080" y="2235240"/>
              <a:ext cx="269640" cy="25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244"/>
            <p:cNvSpPr/>
            <p:nvPr/>
          </p:nvSpPr>
          <p:spPr>
            <a:xfrm rot="10241400">
              <a:off x="5983920" y="21218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任意多边形 246"/>
            <p:cNvSpPr/>
            <p:nvPr/>
          </p:nvSpPr>
          <p:spPr>
            <a:xfrm rot="1342200">
              <a:off x="6092280" y="2390400"/>
              <a:ext cx="2426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任意多边形 248"/>
            <p:cNvSpPr/>
            <p:nvPr/>
          </p:nvSpPr>
          <p:spPr>
            <a:xfrm rot="5649000">
              <a:off x="5845320" y="195732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任意多边形 250"/>
            <p:cNvSpPr/>
            <p:nvPr/>
          </p:nvSpPr>
          <p:spPr>
            <a:xfrm rot="2511600">
              <a:off x="6068520" y="2016000"/>
              <a:ext cx="925560" cy="15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任意多边形 253"/>
            <p:cNvSpPr/>
            <p:nvPr/>
          </p:nvSpPr>
          <p:spPr>
            <a:xfrm rot="8227200">
              <a:off x="6031800" y="1693080"/>
              <a:ext cx="2124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任意多边形 259"/>
            <p:cNvSpPr/>
            <p:nvPr/>
          </p:nvSpPr>
          <p:spPr>
            <a:xfrm rot="4189200">
              <a:off x="6415200" y="178308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任意多边形 262"/>
            <p:cNvSpPr/>
            <p:nvPr/>
          </p:nvSpPr>
          <p:spPr>
            <a:xfrm rot="327000">
              <a:off x="5700240" y="1610640"/>
              <a:ext cx="357120" cy="33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15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7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24" dur="1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2" presetSubtype="8">
                                  <p:stCondLst>
                                    <p:cond delay="4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1" dur="1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1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" presetSubtype="2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2" presetSubtype="8">
                                  <p:stCondLst>
                                    <p:cond delay="4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9" dur="10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10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99 -0.08324 C -0.01024 -0.06743 0.0467 -0.03524 0.08316 0.01165 C 0.11962 0.05854 0.13282 0.18313 0.18993 0.19756 C 0.24705 0.21198 0.36875 0.15011 0.42639 0.09822 C 0.48403 0.04633 0.48542 -0.08907 0.53594 -0.11349 C 0.58646 -0.13791 0.6342 -0.08241 0.72917 -0.04884 C 0.82414 -0.01526 1.02743 0.05993 1.10591 0.08851 E">
                                      <p:cBhvr>
                                        <p:cTn id="1045" dur="50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" presetSubtype="2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3:09:0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1:56Z</dcterms:modified>
  <cp:revision>1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