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E637-C1B8-4DFA-85E1-6F5BEEFD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201-FA9D-4DAD-9320-6D6DA0B1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C155-A5A3-4E29-8F4F-B49A8E9B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87B4-07DD-4225-A7DA-2A974E69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082-A8B8-44CB-AF83-BE7C2946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7D6-3EA1-47C9-A841-FECBF7AB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CC3-A04B-4B06-83CE-445F78F0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96D5-2312-46D8-82F0-A49EA3BD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F77-2AE9-4697-B15F-25627DA3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EE5-88E5-40E1-B797-ADE05215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02A-2F59-4191-9DB0-96C0B8F3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554-1F32-4F4A-AB65-DC1792EF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BE3B-F2A6-4355-96C2-62C946F1D5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F:\work\第二\元旦2009\未标题-10副本.png"/>
          <p:cNvPicPr/>
          <p:nvPr/>
        </p:nvPicPr>
        <p:blipFill>
          <a:blip r:embed="rId1"/>
          <a:stretch/>
        </p:blipFill>
        <p:spPr>
          <a:xfrm>
            <a:off x="-144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F:\work\第二\元旦2009\未标题-1副本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F:\work\第二\元旦2009\未标题-5副本.png"/>
          <p:cNvPicPr/>
          <p:nvPr/>
        </p:nvPicPr>
        <p:blipFill>
          <a:blip r:embed="rId3"/>
          <a:srcRect l="36384" t="68326" r="30671" b="27199"/>
          <a:stretch/>
        </p:blipFill>
        <p:spPr>
          <a:xfrm>
            <a:off x="3321000" y="4011480"/>
            <a:ext cx="3013200" cy="257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F:\work\第二\元旦2009\未标题-6副本.png"/>
          <p:cNvPicPr/>
          <p:nvPr/>
        </p:nvPicPr>
        <p:blipFill>
          <a:blip r:embed="rId4"/>
          <a:srcRect l="71892" t="0" r="0" b="54986"/>
          <a:stretch/>
        </p:blipFill>
        <p:spPr>
          <a:xfrm>
            <a:off x="6572160" y="0"/>
            <a:ext cx="2570400" cy="257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F:\work\第二\元旦2009\未标题-8副本.png"/>
          <p:cNvPicPr/>
          <p:nvPr/>
        </p:nvPicPr>
        <p:blipFill>
          <a:blip r:embed="rId5"/>
          <a:srcRect l="0" t="30005" r="64060" b="0"/>
          <a:stretch/>
        </p:blipFill>
        <p:spPr>
          <a:xfrm>
            <a:off x="0" y="1714680"/>
            <a:ext cx="3286080" cy="399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F:\work\第二\元旦2009\未标题-2副本.png"/>
          <p:cNvPicPr/>
          <p:nvPr/>
        </p:nvPicPr>
        <p:blipFill>
          <a:blip r:embed="rId6"/>
          <a:srcRect l="28556" t="29416" r="34277" b="8829"/>
          <a:stretch/>
        </p:blipFill>
        <p:spPr>
          <a:xfrm>
            <a:off x="3032280" y="374760"/>
            <a:ext cx="3404880" cy="353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F:\work\第二\元旦2009\未标题-5副本.png"/>
          <p:cNvPicPr/>
          <p:nvPr/>
        </p:nvPicPr>
        <p:blipFill>
          <a:blip r:embed="rId7"/>
          <a:srcRect l="36384" t="72322" r="30671" b="22515"/>
          <a:stretch/>
        </p:blipFill>
        <p:spPr>
          <a:xfrm>
            <a:off x="3321000" y="4294080"/>
            <a:ext cx="3013200" cy="297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F:\work\第二\元旦2009\未标题-4副本.png"/>
          <p:cNvPicPr/>
          <p:nvPr/>
        </p:nvPicPr>
        <p:blipFill>
          <a:blip r:embed="rId8"/>
          <a:srcRect l="26358" t="22487" r="37117" b="40844"/>
          <a:stretch/>
        </p:blipFill>
        <p:spPr>
          <a:xfrm>
            <a:off x="1143000" y="1238400"/>
            <a:ext cx="3340080" cy="2095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F:\work\第二\元旦2009\未标题-7副本.png"/>
          <p:cNvPicPr/>
          <p:nvPr/>
        </p:nvPicPr>
        <p:blipFill>
          <a:blip r:embed="rId9"/>
          <a:srcRect l="72913" t="0" r="0" b="56892"/>
          <a:stretch/>
        </p:blipFill>
        <p:spPr>
          <a:xfrm>
            <a:off x="9142560" y="0"/>
            <a:ext cx="2476440" cy="246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F:\work\第二\元旦2009\未标题-9副本.png"/>
          <p:cNvPicPr/>
          <p:nvPr/>
        </p:nvPicPr>
        <p:blipFill>
          <a:blip r:embed="rId10"/>
          <a:srcRect l="0" t="39678" r="66485" b="0"/>
          <a:stretch/>
        </p:blipFill>
        <p:spPr>
          <a:xfrm>
            <a:off x="-3065400" y="2266920"/>
            <a:ext cx="3065400" cy="344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5234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26960" y="4809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恭贺新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7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4.41421E-006 L 0.33507 4.41421E-006 E">
                                      <p:cBhvr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225 4.13104E-006 L -0.27066 4.13104E-006 E">
                                      <p:cBhvr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9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799880">
                                      <p:cBhvr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9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0 L 0.12917 0 E">
                                      <p:cBhvr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9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7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4A9A-B4CF-4FF9-BB99-C10E9A25CF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F:\work\第二\元旦2009\未标题-1副本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work\第二\元旦2009\未标题-6副本.png"/>
          <p:cNvPicPr/>
          <p:nvPr/>
        </p:nvPicPr>
        <p:blipFill>
          <a:blip r:embed="rId2"/>
          <a:srcRect l="71892" t="0" r="0" b="54986"/>
          <a:stretch/>
        </p:blipFill>
        <p:spPr>
          <a:xfrm>
            <a:off x="6572160" y="0"/>
            <a:ext cx="2570400" cy="257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F:\work\第二\元旦2009\未标题-8副本.png"/>
          <p:cNvPicPr/>
          <p:nvPr/>
        </p:nvPicPr>
        <p:blipFill>
          <a:blip r:embed="rId3"/>
          <a:srcRect l="0" t="30005" r="64060" b="0"/>
          <a:stretch/>
        </p:blipFill>
        <p:spPr>
          <a:xfrm>
            <a:off x="0" y="1714680"/>
            <a:ext cx="3286080" cy="3998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work\第二\元旦2009\未标题-5副本.png"/>
          <p:cNvPicPr/>
          <p:nvPr/>
        </p:nvPicPr>
        <p:blipFill>
          <a:blip r:embed="rId4"/>
          <a:srcRect l="36384" t="68326" r="30671" b="27199"/>
          <a:stretch/>
        </p:blipFill>
        <p:spPr>
          <a:xfrm>
            <a:off x="3321000" y="4011480"/>
            <a:ext cx="3013200" cy="2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F:\work\第二\元旦2009\未标题-2副本.png"/>
          <p:cNvPicPr/>
          <p:nvPr/>
        </p:nvPicPr>
        <p:blipFill>
          <a:blip r:embed="rId5"/>
          <a:srcRect l="34277" t="8829" r="28556" b="29416"/>
          <a:stretch/>
        </p:blipFill>
        <p:spPr>
          <a:xfrm>
            <a:off x="3032280" y="374760"/>
            <a:ext cx="3404880" cy="353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work\第二\元旦2009\未标题-5副本.png"/>
          <p:cNvPicPr/>
          <p:nvPr/>
        </p:nvPicPr>
        <p:blipFill>
          <a:blip r:embed="rId6"/>
          <a:srcRect l="36384" t="72322" r="30671" b="22515"/>
          <a:stretch/>
        </p:blipFill>
        <p:spPr>
          <a:xfrm>
            <a:off x="3321000" y="4294080"/>
            <a:ext cx="3013200" cy="29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F:\work\第二\元旦2009\未标题-4副本.png"/>
          <p:cNvPicPr/>
          <p:nvPr/>
        </p:nvPicPr>
        <p:blipFill>
          <a:blip r:embed="rId7"/>
          <a:srcRect l="26358" t="22487" r="37117" b="40844"/>
          <a:stretch/>
        </p:blipFill>
        <p:spPr>
          <a:xfrm>
            <a:off x="2357280" y="1238400"/>
            <a:ext cx="3340080" cy="2095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1662120" y="156996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尊敬的朋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684440" y="2160720"/>
            <a:ext cx="66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在这快乐分享的时刻</a:t>
            </a:r>
            <a:r>
              <a:rPr b="0" lang="en-US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,</a:t>
            </a:r>
            <a:r>
              <a:rPr b="0" lang="zh-CN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思念好友的时刻</a:t>
            </a:r>
            <a:r>
              <a:rPr b="0" lang="en-US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,</a:t>
            </a:r>
            <a:r>
              <a:rPr b="0" lang="zh-CN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美梦成真的时刻</a:t>
            </a:r>
            <a:r>
              <a:rPr b="0" lang="en-US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.</a:t>
            </a:r>
            <a:r>
              <a:rPr b="0" lang="zh-CN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祝你元旦快乐</a:t>
            </a:r>
            <a:r>
              <a:rPr b="0" lang="en-US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,</a:t>
            </a:r>
            <a:r>
              <a:rPr b="0" lang="zh-CN" sz="18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佳节如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662120" y="3130560"/>
            <a:ext cx="246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        </a:t>
            </a:r>
            <a:r>
              <a:rPr b="0" lang="zh-CN" sz="16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此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敬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6448320" y="3773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9bb89"/>
                </a:solidFill>
                <a:latin typeface="方正隶变简体"/>
                <a:ea typeface="方正隶变简体"/>
              </a:rPr>
              <a:t>你最好的朋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1:45:30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jccook</cp:lastModifiedBy>
  <dcterms:modified xsi:type="dcterms:W3CDTF">2015-08-14T12:51:51Z</dcterms:modified>
  <cp:revision>59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