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0.jpeg" ContentType="image/jpeg"/>
  <Override PartName="/ppt/media/image27.jpeg" ContentType="image/jpeg"/>
  <Override PartName="/ppt/media/image6.jpeg" ContentType="image/jpeg"/>
  <Override PartName="/ppt/media/image60.png" ContentType="image/png"/>
  <Override PartName="/ppt/media/image8.jpeg" ContentType="image/jpeg"/>
  <Override PartName="/ppt/media/image32.jpeg" ContentType="image/jpeg"/>
  <Override PartName="/ppt/media/image35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29.jpeg" ContentType="image/jpeg"/>
  <Override PartName="/ppt/media/image56.jpeg" ContentType="image/jpeg"/>
  <Override PartName="/ppt/media/image25.jpeg" ContentType="image/jpeg"/>
  <Override PartName="/ppt/media/image3.png" ContentType="image/png"/>
  <Override PartName="/ppt/media/image15.png" ContentType="image/png"/>
  <Override PartName="/ppt/media/image24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42.png" ContentType="image/png"/>
  <Override PartName="/ppt/media/image26.jpeg" ContentType="image/jpeg"/>
  <Override PartName="/ppt/media/image21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10.png" ContentType="image/png"/>
  <Override PartName="/ppt/media/image36.jpeg" ContentType="image/jpeg"/>
  <Override PartName="/ppt/media/image40.jpeg" ContentType="image/jpeg"/>
  <Override PartName="/ppt/media/image41.png" ContentType="image/png"/>
  <Override PartName="/ppt/media/image57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43.png" ContentType="image/png"/>
  <Override PartName="/ppt/media/image55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99D-D357-4AC8-BEA2-726A508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CF3-87C4-493A-8053-8D939484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7C2-8E6A-44EA-AF9B-B797A31C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3CD-C4D6-459D-ABD7-F27BFDAF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658-B260-485B-96B4-AD94C1C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20C-C456-4281-A4CA-6102B15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03D-402B-4D27-963E-3B559A11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767-2ED6-464D-8274-557C577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EBD-F8A2-4825-9FD9-CBAE8E4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A40-916D-4248-9678-BFC79B3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1CA-FE52-4B4B-8258-58D36BD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445-5790-4556-9E30-91D9BA1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>
              <a:buClr>
                <a:srgbClr val="000000"/>
              </a:buClr>
              <a:buSzPct val="25000"/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898-05DA-4231-995E-F6332CA6EF9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678-D046-44FA-9395-705812DCBB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4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内容占位符 2"/>
          <p:cNvSpPr/>
          <p:nvPr/>
        </p:nvSpPr>
        <p:spPr>
          <a:xfrm>
            <a:off x="1000080" y="4786200"/>
            <a:ext cx="714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汇报人：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011-01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41436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104292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1741320" y="259704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384280" y="259704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2900520" y="2571840"/>
            <a:ext cx="309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355752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5"/>
          <p:cNvSpPr/>
          <p:nvPr/>
        </p:nvSpPr>
        <p:spPr>
          <a:xfrm>
            <a:off x="477216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6"/>
          <p:cNvSpPr/>
          <p:nvPr/>
        </p:nvSpPr>
        <p:spPr>
          <a:xfrm>
            <a:off x="5415120" y="2571840"/>
            <a:ext cx="799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7"/>
          <p:cNvSpPr/>
          <p:nvPr/>
        </p:nvSpPr>
        <p:spPr>
          <a:xfrm>
            <a:off x="6099120" y="259704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8"/>
          <p:cNvSpPr/>
          <p:nvPr/>
        </p:nvSpPr>
        <p:spPr>
          <a:xfrm>
            <a:off x="6742080" y="259704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9"/>
          <p:cNvSpPr/>
          <p:nvPr/>
        </p:nvSpPr>
        <p:spPr>
          <a:xfrm>
            <a:off x="732960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7986600" y="25718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3960" y="256536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管理工作年终总结汇报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32" descr="手型"/>
          <p:cNvPicPr/>
          <p:nvPr/>
        </p:nvPicPr>
        <p:blipFill>
          <a:blip r:embed="rId2"/>
          <a:stretch/>
        </p:blipFill>
        <p:spPr>
          <a:xfrm>
            <a:off x="6427800" y="2552760"/>
            <a:ext cx="2430360" cy="430524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7"/>
          <p:cNvGrpSpPr/>
          <p:nvPr/>
        </p:nvGrpSpPr>
        <p:grpSpPr>
          <a:xfrm>
            <a:off x="1214280" y="2354400"/>
            <a:ext cx="5604840" cy="703440"/>
            <a:chOff x="1214280" y="2354400"/>
            <a:chExt cx="5604840" cy="703440"/>
          </a:xfrm>
        </p:grpSpPr>
        <p:pic>
          <p:nvPicPr>
            <p:cNvPr id="110" name="Picture 1027" descr="下方向箭頭"/>
            <p:cNvPicPr/>
            <p:nvPr/>
          </p:nvPicPr>
          <p:blipFill>
            <a:blip r:embed="rId3"/>
            <a:stretch/>
          </p:blipFill>
          <p:spPr>
            <a:xfrm>
              <a:off x="1214280" y="2533320"/>
              <a:ext cx="2664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6"/>
            <p:cNvSpPr/>
            <p:nvPr/>
          </p:nvSpPr>
          <p:spPr>
            <a:xfrm>
              <a:off x="1670040" y="2354400"/>
              <a:ext cx="51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二．</a:t>
              </a:r>
              <a:r>
                <a:rPr b="1" lang="zh-CN" sz="4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精细管理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是我们立足之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laptop with a stethoscope for good maintenance (selective focus)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个人资源组织化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3643200"/>
            <a:ext cx="59292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种类,金属,齿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个人资源组织化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680" y="1285920"/>
            <a:ext cx="7800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，我们的信息系统里已经有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214800" y="47401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共执行了</a:t>
            </a:r>
            <a:r>
              <a:rPr b="1" lang="en-US" sz="4800" spc="-1" strike="noStrike">
                <a:solidFill>
                  <a:srgbClr val="e36c09"/>
                </a:solidFill>
                <a:latin typeface="微软雅黑"/>
                <a:ea typeface="微软雅黑"/>
              </a:rPr>
              <a:t>42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订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071960" y="5715000"/>
            <a:ext cx="235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569520" y="3000240"/>
            <a:ext cx="448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4061"/>
                </a:solidFill>
                <a:latin typeface="微软雅黑"/>
                <a:ea typeface="微软雅黑"/>
              </a:rPr>
              <a:t>58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成交客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2615760" y="1955880"/>
            <a:ext cx="448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微软雅黑"/>
                <a:ea typeface="微软雅黑"/>
              </a:rPr>
              <a:t>953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客户记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4799880" y="3311640"/>
            <a:ext cx="44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74806"/>
                </a:solidFill>
                <a:latin typeface="微软雅黑"/>
                <a:ea typeface="微软雅黑"/>
              </a:rPr>
              <a:t>3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成交供应商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409-FE22-49F6-9BEF-330C464EF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网络,图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.2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小企业精神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57200" y="2286000"/>
            <a:ext cx="80726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farm5.staticflickr.com/4065/4568971227_7c9b5bf6bb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71680" y="1214280"/>
            <a:ext cx="7572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4457880" y="2714760"/>
            <a:ext cx="46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天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78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Picture 2" descr="Sunset viewed through an hourglass, Miami Beach, Florida, US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86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" descr="Sunset viewed through an hourglass, Miami Beach, Florida, USA"/>
            <p:cNvPicPr/>
            <p:nvPr/>
          </p:nvPicPr>
          <p:blipFill>
            <a:blip r:embed="rId2"/>
            <a:stretch/>
          </p:blipFill>
          <p:spPr>
            <a:xfrm>
              <a:off x="3714840" y="0"/>
              <a:ext cx="5429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透明，做阳光下的事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642840" y="2000160"/>
            <a:ext cx="5286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3857760" y="4216320"/>
            <a:ext cx="501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透明化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成本控制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步。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7DB-3E01-4884-BA63-1F214D7F4D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阳光,叶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透明，做阳光下的事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9680" y="2071800"/>
            <a:ext cx="53578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微软雅黑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红色浆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4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透明，做阳光下的事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28800" y="3429000"/>
            <a:ext cx="7286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出口订单的毛利润率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年的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</a:rPr>
              <a:t>XX%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增长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年的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</a:rPr>
              <a:t>XXX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增长了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</a:rPr>
              <a:t>XXX%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500040" y="142884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0" y="0"/>
            <a:ext cx="9144000" cy="5708520"/>
            <a:chOff x="0" y="0"/>
            <a:chExt cx="9144000" cy="5708520"/>
          </a:xfrm>
        </p:grpSpPr>
        <p:pic>
          <p:nvPicPr>
            <p:cNvPr id="145" name="Picture 4" descr="红色,青苹果"/>
            <p:cNvPicPr/>
            <p:nvPr/>
          </p:nvPicPr>
          <p:blipFill>
            <a:blip r:embed="rId1"/>
            <a:stretch/>
          </p:blipFill>
          <p:spPr>
            <a:xfrm flipH="1">
              <a:off x="0" y="1214280"/>
              <a:ext cx="9144000" cy="44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" descr="红色,青苹果"/>
            <p:cNvPicPr/>
            <p:nvPr/>
          </p:nvPicPr>
          <p:blipFill>
            <a:blip r:embed="rId2"/>
            <a:stretch/>
          </p:blipFill>
          <p:spPr>
            <a:xfrm flipH="1">
              <a:off x="0" y="0"/>
              <a:ext cx="9144000" cy="257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把尺子与苹果理论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99680" y="1285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2714760" y="554688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-129240" y="2500200"/>
            <a:ext cx="261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好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苹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 rot="298800">
            <a:off x="7125120" y="2916360"/>
            <a:ext cx="261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38953"/>
                </a:solidFill>
                <a:latin typeface="微软雅黑"/>
                <a:ea typeface="微软雅黑"/>
              </a:rPr>
              <a:t>坏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苹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 rot="624000">
            <a:off x="1876320" y="4262400"/>
            <a:ext cx="258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在</a:t>
            </a:r>
            <a:r>
              <a:rPr b="1" lang="zh-CN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变好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苹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1"/>
          <p:cNvSpPr/>
          <p:nvPr/>
        </p:nvSpPr>
        <p:spPr>
          <a:xfrm rot="232200">
            <a:off x="5019120" y="4187880"/>
            <a:ext cx="3426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在</a:t>
            </a:r>
            <a:r>
              <a:rPr b="1" lang="zh-CN" sz="2800" spc="-1" strike="noStrike">
                <a:solidFill>
                  <a:srgbClr val="494429"/>
                </a:solidFill>
                <a:latin typeface="微软雅黑"/>
                <a:ea typeface="微软雅黑"/>
              </a:rPr>
              <a:t>变坏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苹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 rot="21444600">
            <a:off x="3093120" y="2773080"/>
            <a:ext cx="34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859b"/>
                </a:solidFill>
                <a:latin typeface="微软雅黑"/>
                <a:ea typeface="微软雅黑"/>
              </a:rPr>
              <a:t>状态不明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苹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0E8-24CD-416D-950E-73E8CFDA9A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Apples on ruler"/>
          <p:cNvPicPr/>
          <p:nvPr/>
        </p:nvPicPr>
        <p:blipFill>
          <a:blip r:embed="rId1"/>
          <a:stretch/>
        </p:blipFill>
        <p:spPr>
          <a:xfrm>
            <a:off x="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把尺子与苹果理论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5786280" y="0"/>
            <a:ext cx="335772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857920" y="1402920"/>
            <a:ext cx="32860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6FB-859A-41AE-B8EB-4EE0668A0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99800"/>
            <a:ext cx="822960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一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业绩介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．精细管理是我们立足之本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三．创新战略推动业绩腾飞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的未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卷尺,苹果,节食,概念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把尺子与苹果理论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1320" y="2000160"/>
            <a:ext cx="5429160" cy="3143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3" name="Picture 2" descr="Apples with tape measure"/>
            <p:cNvPicPr/>
            <p:nvPr/>
          </p:nvPicPr>
          <p:blipFill>
            <a:blip r:embed="rId1"/>
            <a:stretch/>
          </p:blipFill>
          <p:spPr>
            <a:xfrm>
              <a:off x="1928520" y="0"/>
              <a:ext cx="7215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Apples with tape measure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14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把尺子与苹果理论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内容占位符 2"/>
          <p:cNvSpPr/>
          <p:nvPr/>
        </p:nvSpPr>
        <p:spPr>
          <a:xfrm>
            <a:off x="642960" y="2000160"/>
            <a:ext cx="5143320" cy="3214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B36-A51E-4E1E-BD03-E6E05E83E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8" name="Picture 2" descr="苹果,卷尺"/>
            <p:cNvPicPr/>
            <p:nvPr/>
          </p:nvPicPr>
          <p:blipFill>
            <a:blip r:embed="rId1"/>
            <a:stretch/>
          </p:blipFill>
          <p:spPr>
            <a:xfrm>
              <a:off x="4401720" y="0"/>
              <a:ext cx="474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" descr="苹果,卷尺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007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把尺子与苹果理论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0040" y="1714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BC-6890-4344-BA2B-1E410EDC5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6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规模产生效益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9680" y="1856880"/>
            <a:ext cx="8286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4" name="Picture 20" descr="http://www.gettyicons.com/free-icons/214/container/png/256/loading_container_256.png"/>
          <p:cNvPicPr/>
          <p:nvPr/>
        </p:nvPicPr>
        <p:blipFill>
          <a:blip r:embed="rId1"/>
          <a:stretch/>
        </p:blipFill>
        <p:spPr>
          <a:xfrm>
            <a:off x="5500800" y="335772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6" name="Picture 8" descr="一堆,货物集装箱"/>
            <p:cNvPicPr/>
            <p:nvPr/>
          </p:nvPicPr>
          <p:blipFill>
            <a:blip r:embed="rId1"/>
            <a:stretch/>
          </p:blipFill>
          <p:spPr>
            <a:xfrm>
              <a:off x="0" y="1000080"/>
              <a:ext cx="9144000" cy="58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一堆,货物集装箱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规模产生效益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356840"/>
            <a:ext cx="85010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01A-6A1A-4398-A080-57D74D825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集装箱,一堆,鹿特丹,荷兰南部,荷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规模产生效益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5800" y="2428920"/>
            <a:ext cx="4443480" cy="2286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9"/>
          <p:cNvGrpSpPr/>
          <p:nvPr/>
        </p:nvGrpSpPr>
        <p:grpSpPr>
          <a:xfrm>
            <a:off x="0" y="1714680"/>
            <a:ext cx="9144000" cy="3571560"/>
            <a:chOff x="0" y="1714680"/>
            <a:chExt cx="9144000" cy="3571560"/>
          </a:xfrm>
        </p:grpSpPr>
        <p:pic>
          <p:nvPicPr>
            <p:cNvPr id="184" name="Picture 4" descr="http://brianostrander.net/ESW/Images/RiskAnalysis.png"/>
            <p:cNvPicPr/>
            <p:nvPr/>
          </p:nvPicPr>
          <p:blipFill>
            <a:blip r:embed="rId1"/>
            <a:stretch/>
          </p:blipFill>
          <p:spPr>
            <a:xfrm>
              <a:off x="0" y="1714680"/>
              <a:ext cx="4259160" cy="35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http://brianostrander.net/ESW/Images/RiskAnalysis.png"/>
            <p:cNvPicPr/>
            <p:nvPr/>
          </p:nvPicPr>
          <p:blipFill>
            <a:blip r:embed="rId2"/>
            <a:stretch/>
          </p:blipFill>
          <p:spPr>
            <a:xfrm>
              <a:off x="3857760" y="1714680"/>
              <a:ext cx="5286240" cy="357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7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健全风控机制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71560" y="1856880"/>
            <a:ext cx="542916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32" descr="手型"/>
          <p:cNvPicPr/>
          <p:nvPr/>
        </p:nvPicPr>
        <p:blipFill>
          <a:blip r:embed="rId2"/>
          <a:stretch/>
        </p:blipFill>
        <p:spPr>
          <a:xfrm>
            <a:off x="6427800" y="2552760"/>
            <a:ext cx="2430360" cy="430524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7"/>
          <p:cNvGrpSpPr/>
          <p:nvPr/>
        </p:nvGrpSpPr>
        <p:grpSpPr>
          <a:xfrm>
            <a:off x="1689120" y="2286000"/>
            <a:ext cx="5073480" cy="703440"/>
            <a:chOff x="1689120" y="2286000"/>
            <a:chExt cx="5073480" cy="703440"/>
          </a:xfrm>
        </p:grpSpPr>
        <p:pic>
          <p:nvPicPr>
            <p:cNvPr id="191" name="Picture 1027" descr="下方向箭頭"/>
            <p:cNvPicPr/>
            <p:nvPr/>
          </p:nvPicPr>
          <p:blipFill>
            <a:blip r:embed="rId3"/>
            <a:stretch/>
          </p:blipFill>
          <p:spPr>
            <a:xfrm>
              <a:off x="1689120" y="2464920"/>
              <a:ext cx="2664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6"/>
            <p:cNvSpPr/>
            <p:nvPr/>
          </p:nvSpPr>
          <p:spPr>
            <a:xfrm>
              <a:off x="2009880" y="2286000"/>
              <a:ext cx="47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三．创新战略推动业绩</a:t>
              </a:r>
              <a:r>
                <a:rPr b="1" lang="zh-CN" sz="4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腾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FD7-35B9-4EA6-84A5-9BF16A472843}" type="slidenum">
              <a:t>27</a:t>
            </a:fld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http://www.caelusgreenroom.com/wp-content/uploads/2011/01/solar_power_wallpaper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1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大力拓展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XX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业务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856880" y="2857680"/>
            <a:ext cx="7286760" cy="1714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世界地图,轮廓,清单,股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3.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新大陆，新天地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3786120"/>
            <a:ext cx="864396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2" descr="手型"/>
          <p:cNvPicPr/>
          <p:nvPr/>
        </p:nvPicPr>
        <p:blipFill>
          <a:blip r:embed="rId2"/>
          <a:stretch/>
        </p:blipFill>
        <p:spPr>
          <a:xfrm>
            <a:off x="6427800" y="2552760"/>
            <a:ext cx="2430360" cy="430524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7"/>
          <p:cNvGrpSpPr/>
          <p:nvPr/>
        </p:nvGrpSpPr>
        <p:grpSpPr>
          <a:xfrm>
            <a:off x="1404000" y="2354400"/>
            <a:ext cx="5697360" cy="703440"/>
            <a:chOff x="1404000" y="2354400"/>
            <a:chExt cx="5697360" cy="703440"/>
          </a:xfrm>
        </p:grpSpPr>
        <p:pic>
          <p:nvPicPr>
            <p:cNvPr id="63" name="Picture 1027" descr="下方向箭頭"/>
            <p:cNvPicPr/>
            <p:nvPr/>
          </p:nvPicPr>
          <p:blipFill>
            <a:blip r:embed="rId3"/>
            <a:stretch/>
          </p:blipFill>
          <p:spPr>
            <a:xfrm>
              <a:off x="1500120" y="2571840"/>
              <a:ext cx="2664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6"/>
            <p:cNvSpPr/>
            <p:nvPr/>
          </p:nvSpPr>
          <p:spPr>
            <a:xfrm>
              <a:off x="1404000" y="2354400"/>
              <a:ext cx="56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一．</a:t>
              </a: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XXXXXXXXX</a:t>
              </a:r>
              <a:r>
                <a:rPr b="1" lang="zh-CN" sz="4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业绩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1" name="Picture 2" descr="电脑合成,地球仪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857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电脑合成,地球仪"/>
            <p:cNvPicPr/>
            <p:nvPr/>
          </p:nvPicPr>
          <p:blipFill>
            <a:blip r:embed="rId2"/>
            <a:stretch/>
          </p:blipFill>
          <p:spPr>
            <a:xfrm>
              <a:off x="3714840" y="0"/>
              <a:ext cx="5429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3.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布局全球网点，深耕本土化市场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500040" y="4143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439-0010-41D1-ACE9-44EF62710A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3D render of interlocking gears"/>
          <p:cNvPicPr/>
          <p:nvPr/>
        </p:nvPicPr>
        <p:blipFill>
          <a:blip r:embed="rId1"/>
          <a:stretch/>
        </p:blipFill>
        <p:spPr>
          <a:xfrm>
            <a:off x="1643040" y="2286000"/>
            <a:ext cx="5715000" cy="3929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4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结盟名企，打造国际化联合舰队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56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594040" y="2500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徐工集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-120960" y="421488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中联重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687720" y="369108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三一重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8"/>
          <p:cNvSpPr/>
          <p:nvPr/>
        </p:nvSpPr>
        <p:spPr>
          <a:xfrm flipV="1">
            <a:off x="5429160" y="2714760"/>
            <a:ext cx="357120" cy="452160"/>
          </a:xfrm>
          <a:prstGeom prst="line">
            <a:avLst/>
          </a:prstGeom>
          <a:ln cap="rnd" w="3816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直接箭头连接符 10"/>
          <p:cNvCxnSpPr/>
          <p:nvPr/>
        </p:nvCxnSpPr>
        <p:spPr>
          <a:xfrm>
            <a:off x="5786280" y="2714760"/>
            <a:ext cx="286560" cy="2160"/>
          </a:xfrm>
          <a:prstGeom prst="straightConnector1">
            <a:avLst/>
          </a:prstGeom>
          <a:ln cap="rnd" w="38160">
            <a:solidFill>
              <a:srgbClr val="974806"/>
            </a:solidFill>
            <a:miter/>
            <a:tailEnd len="med" type="oval" w="med"/>
          </a:ln>
        </p:spPr>
      </p:cxnSp>
      <p:sp>
        <p:nvSpPr>
          <p:cNvPr id="213" name="直接连接符 12"/>
          <p:cNvSpPr/>
          <p:nvPr/>
        </p:nvSpPr>
        <p:spPr>
          <a:xfrm flipV="1">
            <a:off x="6641280" y="3974760"/>
            <a:ext cx="358920" cy="453960"/>
          </a:xfrm>
          <a:prstGeom prst="line">
            <a:avLst/>
          </a:prstGeom>
          <a:ln cap="rnd" w="3816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直接箭头连接符 13"/>
          <p:cNvCxnSpPr/>
          <p:nvPr/>
        </p:nvCxnSpPr>
        <p:spPr>
          <a:xfrm>
            <a:off x="7000920" y="3976200"/>
            <a:ext cx="286560" cy="2520"/>
          </a:xfrm>
          <a:prstGeom prst="straightConnector1">
            <a:avLst/>
          </a:prstGeom>
          <a:ln cap="rnd" w="38160">
            <a:solidFill>
              <a:srgbClr val="974806"/>
            </a:solidFill>
            <a:miter/>
            <a:tailEnd len="med" type="oval" w="med"/>
          </a:ln>
        </p:spPr>
      </p:cxnSp>
      <p:sp>
        <p:nvSpPr>
          <p:cNvPr id="215" name="直接连接符 14"/>
          <p:cNvSpPr/>
          <p:nvPr/>
        </p:nvSpPr>
        <p:spPr>
          <a:xfrm flipV="1">
            <a:off x="2428200" y="3929040"/>
            <a:ext cx="571320" cy="595440"/>
          </a:xfrm>
          <a:prstGeom prst="line">
            <a:avLst/>
          </a:prstGeom>
          <a:ln cap="rnd" w="3816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箭头连接符 15"/>
          <p:cNvCxnSpPr/>
          <p:nvPr/>
        </p:nvCxnSpPr>
        <p:spPr>
          <a:xfrm flipH="1" flipV="1">
            <a:off x="2142720" y="4521960"/>
            <a:ext cx="286560" cy="2520"/>
          </a:xfrm>
          <a:prstGeom prst="straightConnector1">
            <a:avLst/>
          </a:prstGeom>
          <a:ln cap="rnd" w="38160">
            <a:solidFill>
              <a:srgbClr val="974806"/>
            </a:solidFill>
            <a:miter/>
            <a:tailEnd len="med" type="oval" w="med"/>
          </a:ln>
        </p:spPr>
      </p:cxnSp>
      <p:sp>
        <p:nvSpPr>
          <p:cNvPr id="217" name="矩形 18"/>
          <p:cNvSpPr/>
          <p:nvPr/>
        </p:nvSpPr>
        <p:spPr>
          <a:xfrm>
            <a:off x="3857760" y="600084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92A-C0DB-4A0A-A3CD-317E24B13F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模式创新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6760" y="1571400"/>
            <a:ext cx="582948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20" name="Picture 5" descr="http://www.clker.com/cliparts/4/1/1/5/11949897002086291916lightbulb_jon_phillips_01.svg.hi.png"/>
          <p:cNvPicPr/>
          <p:nvPr/>
        </p:nvPicPr>
        <p:blipFill>
          <a:blip r:embed="rId1"/>
          <a:stretch/>
        </p:blipFill>
        <p:spPr>
          <a:xfrm>
            <a:off x="6072120" y="1071720"/>
            <a:ext cx="2928960" cy="5014800"/>
          </a:xfrm>
          <a:prstGeom prst="rect">
            <a:avLst/>
          </a:prstGeom>
          <a:ln w="0">
            <a:noFill/>
          </a:ln>
        </p:spPr>
      </p:pic>
      <p:sp>
        <p:nvSpPr>
          <p:cNvPr id="221" name="任意多边形 6"/>
          <p:cNvSpPr/>
          <p:nvPr/>
        </p:nvSpPr>
        <p:spPr>
          <a:xfrm>
            <a:off x="0" y="4041720"/>
            <a:ext cx="9129600" cy="2156040"/>
          </a:xfrm>
          <a:prstGeom prst="pie">
            <a:avLst/>
          </a:prstGeom>
          <a:noFill/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49E-7DF9-4C9F-8FCE-0D6A0072E4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模式创新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3840" y="1285920"/>
            <a:ext cx="892980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任意多边形 8"/>
          <p:cNvSpPr/>
          <p:nvPr/>
        </p:nvSpPr>
        <p:spPr>
          <a:xfrm>
            <a:off x="0" y="4000680"/>
            <a:ext cx="9144000" cy="2857320"/>
          </a:xfrm>
          <a:prstGeom prst="pie">
            <a:avLst/>
          </a:pr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clker.com/cliparts/0/R/o/X/7/g/world-globe-b-w-hi.png"/>
          <p:cNvPicPr/>
          <p:nvPr/>
        </p:nvPicPr>
        <p:blipFill>
          <a:blip r:embed="rId1"/>
          <a:stretch/>
        </p:blipFill>
        <p:spPr>
          <a:xfrm>
            <a:off x="6437160" y="1857240"/>
            <a:ext cx="2706840" cy="26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-0.60382 0.30741 E">
                                      <p:cBhvr>
                                        <p:cTn id="58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58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模式创新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6760" y="1642680"/>
            <a:ext cx="72867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直接连接符 8"/>
          <p:cNvSpPr/>
          <p:nvPr/>
        </p:nvSpPr>
        <p:spPr>
          <a:xfrm>
            <a:off x="0" y="4000680"/>
            <a:ext cx="2500200" cy="2071440"/>
          </a:xfrm>
          <a:prstGeom prst="line">
            <a:avLst/>
          </a:prstGeom>
          <a:ln cap="rnd" w="127080">
            <a:solidFill>
              <a:srgbClr val="262626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0"/>
          <p:cNvSpPr/>
          <p:nvPr/>
        </p:nvSpPr>
        <p:spPr>
          <a:xfrm flipV="1">
            <a:off x="2500200" y="4714920"/>
            <a:ext cx="2214720" cy="1357200"/>
          </a:xfrm>
          <a:prstGeom prst="line">
            <a:avLst/>
          </a:prstGeom>
          <a:ln cap="rnd" w="127080">
            <a:solidFill>
              <a:srgbClr val="262626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2"/>
          <p:cNvSpPr/>
          <p:nvPr/>
        </p:nvSpPr>
        <p:spPr>
          <a:xfrm>
            <a:off x="4714920" y="4714920"/>
            <a:ext cx="1500120" cy="928800"/>
          </a:xfrm>
          <a:prstGeom prst="line">
            <a:avLst/>
          </a:prstGeom>
          <a:ln cap="rnd" w="127080">
            <a:solidFill>
              <a:srgbClr val="262626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直接箭头连接符 14"/>
          <p:cNvCxnSpPr/>
          <p:nvPr/>
        </p:nvCxnSpPr>
        <p:spPr>
          <a:xfrm flipV="1">
            <a:off x="6215040" y="1999440"/>
            <a:ext cx="2643840" cy="3644280"/>
          </a:xfrm>
          <a:prstGeom prst="straightConnector1">
            <a:avLst/>
          </a:prstGeom>
          <a:ln cap="rnd" w="127080">
            <a:solidFill>
              <a:srgbClr val="262626">
                <a:alpha val="67000"/>
              </a:srgbClr>
            </a:solidFill>
            <a:miter/>
            <a:tailEnd len="med" type="triangle" w="med"/>
          </a:ln>
        </p:spPr>
      </p:cxnSp>
      <p:sp>
        <p:nvSpPr>
          <p:cNvPr id="232" name="矩形 26"/>
          <p:cNvSpPr/>
          <p:nvPr/>
        </p:nvSpPr>
        <p:spPr>
          <a:xfrm>
            <a:off x="8929800" y="6143760"/>
            <a:ext cx="214200" cy="2142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.5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模式创新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642680"/>
            <a:ext cx="50004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129280" y="2266920"/>
            <a:ext cx="41670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5567400" y="3470400"/>
            <a:ext cx="352440" cy="22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6164280" y="2662200"/>
            <a:ext cx="277920" cy="336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5799240" y="3016080"/>
            <a:ext cx="336600" cy="290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1"/>
          <p:cNvSpPr/>
          <p:nvPr/>
        </p:nvSpPr>
        <p:spPr>
          <a:xfrm>
            <a:off x="6875640" y="2876400"/>
            <a:ext cx="1339560" cy="12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905520" y="3129120"/>
            <a:ext cx="58680" cy="11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6500880" y="4249800"/>
            <a:ext cx="868320" cy="22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"/>
          <p:cNvSpPr/>
          <p:nvPr/>
        </p:nvSpPr>
        <p:spPr>
          <a:xfrm>
            <a:off x="5276880" y="4384800"/>
            <a:ext cx="2719440" cy="195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7873920" y="3841920"/>
            <a:ext cx="1233720" cy="1434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0"/>
          <p:cNvSpPr/>
          <p:nvPr/>
        </p:nvSpPr>
        <p:spPr>
          <a:xfrm>
            <a:off x="6765840" y="2705040"/>
            <a:ext cx="2341800" cy="307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5743440" y="5697360"/>
            <a:ext cx="147600" cy="20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6311880" y="5305320"/>
            <a:ext cx="1476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6900840" y="5680080"/>
            <a:ext cx="1429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0" y="6143760"/>
            <a:ext cx="8358120" cy="2142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1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2" descr="手型"/>
          <p:cNvPicPr/>
          <p:nvPr/>
        </p:nvPicPr>
        <p:blipFill>
          <a:blip r:embed="rId2"/>
          <a:stretch/>
        </p:blipFill>
        <p:spPr>
          <a:xfrm>
            <a:off x="6284880" y="2552760"/>
            <a:ext cx="2430360" cy="430524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7"/>
          <p:cNvGrpSpPr/>
          <p:nvPr/>
        </p:nvGrpSpPr>
        <p:grpSpPr>
          <a:xfrm>
            <a:off x="1469160" y="2286000"/>
            <a:ext cx="5792040" cy="703440"/>
            <a:chOff x="1469160" y="2286000"/>
            <a:chExt cx="5792040" cy="703440"/>
          </a:xfrm>
        </p:grpSpPr>
        <p:pic>
          <p:nvPicPr>
            <p:cNvPr id="252" name="Picture 1027" descr="下方向箭頭"/>
            <p:cNvPicPr/>
            <p:nvPr/>
          </p:nvPicPr>
          <p:blipFill>
            <a:blip r:embed="rId3"/>
            <a:stretch/>
          </p:blipFill>
          <p:spPr>
            <a:xfrm>
              <a:off x="1665360" y="2464920"/>
              <a:ext cx="2664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矩形 6"/>
            <p:cNvSpPr/>
            <p:nvPr/>
          </p:nvSpPr>
          <p:spPr>
            <a:xfrm>
              <a:off x="1469160" y="2286000"/>
              <a:ext cx="579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四．</a:t>
              </a: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XXXXXXXXXX</a:t>
              </a: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的</a:t>
              </a:r>
              <a:r>
                <a:rPr b="1" lang="zh-CN" sz="4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未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6B3-F675-4F5E-98D7-A251B5C2C44A}" type="slidenum">
              <a:t>36</a:t>
            </a:fld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5" name="Picture 2" descr="Illustrated version of the moon with craters and an outer glow at a lunar eclips"/>
            <p:cNvPicPr/>
            <p:nvPr/>
          </p:nvPicPr>
          <p:blipFill>
            <a:blip r:embed="rId1"/>
            <a:stretch/>
          </p:blipFill>
          <p:spPr>
            <a:xfrm>
              <a:off x="1214280" y="0"/>
              <a:ext cx="7143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" descr="Illustrated version of the moon with craters and an outer glow at a lunar eclips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71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" descr="Illustrated version of the moon with craters and an outer glow at a lunar eclips"/>
            <p:cNvPicPr/>
            <p:nvPr/>
          </p:nvPicPr>
          <p:blipFill>
            <a:blip r:embed="rId3"/>
            <a:stretch/>
          </p:blipFill>
          <p:spPr>
            <a:xfrm>
              <a:off x="7929720" y="0"/>
              <a:ext cx="1214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椭圆 7"/>
          <p:cNvSpPr/>
          <p:nvPr/>
        </p:nvSpPr>
        <p:spPr>
          <a:xfrm>
            <a:off x="2071800" y="571680"/>
            <a:ext cx="5500440" cy="5500440"/>
          </a:xfrm>
          <a:prstGeom prst="ellipse">
            <a:avLst/>
          </a:pr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8"/>
          <p:cNvSpPr/>
          <p:nvPr/>
        </p:nvSpPr>
        <p:spPr>
          <a:xfrm>
            <a:off x="2357280" y="235728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删除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卷起,欧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矩形 3"/>
          <p:cNvSpPr/>
          <p:nvPr/>
        </p:nvSpPr>
        <p:spPr>
          <a:xfrm>
            <a:off x="-194760" y="23572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"/>
          <p:cNvSpPr/>
          <p:nvPr/>
        </p:nvSpPr>
        <p:spPr>
          <a:xfrm>
            <a:off x="1019520" y="314316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"/>
          <p:cNvSpPr/>
          <p:nvPr/>
        </p:nvSpPr>
        <p:spPr>
          <a:xfrm>
            <a:off x="2162520" y="23572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3305520" y="25718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7305120" y="428616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仓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1126440" y="371484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外物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5305680" y="492912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-337680" y="30718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3259440" y="471492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4663080" y="407196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2522160" y="39290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汇管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5760000" y="27860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>
            <a:off x="-120960" y="53341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率利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>
            <a:off x="2171520" y="478620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948240" y="25718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8"/>
          <p:cNvSpPr/>
          <p:nvPr/>
        </p:nvSpPr>
        <p:spPr>
          <a:xfrm>
            <a:off x="3766680" y="5286240"/>
            <a:ext cx="27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国际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9"/>
          <p:cNvSpPr/>
          <p:nvPr/>
        </p:nvSpPr>
        <p:spPr>
          <a:xfrm>
            <a:off x="6451200" y="557208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商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0"/>
          <p:cNvSpPr/>
          <p:nvPr/>
        </p:nvSpPr>
        <p:spPr>
          <a:xfrm>
            <a:off x="6377400" y="450072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1"/>
          <p:cNvSpPr/>
          <p:nvPr/>
        </p:nvSpPr>
        <p:spPr>
          <a:xfrm>
            <a:off x="7233840" y="221472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2"/>
          <p:cNvSpPr/>
          <p:nvPr/>
        </p:nvSpPr>
        <p:spPr>
          <a:xfrm>
            <a:off x="5207760" y="214308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套期保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3"/>
          <p:cNvSpPr/>
          <p:nvPr/>
        </p:nvSpPr>
        <p:spPr>
          <a:xfrm>
            <a:off x="5924880" y="3429000"/>
            <a:ext cx="34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济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-49320" y="37861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"/>
          <p:cNvSpPr/>
          <p:nvPr/>
        </p:nvSpPr>
        <p:spPr>
          <a:xfrm>
            <a:off x="2539440" y="314316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6092"/>
                </a:solidFill>
                <a:latin typeface="微软雅黑"/>
                <a:ea typeface="微软雅黑"/>
              </a:rPr>
              <a:t>互联网和电子商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-222480" y="447660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世界经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1593720" y="578628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治风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725"/>
                            </p:stCondLst>
                            <p:childTnLst>
                              <p:par>
                                <p:cTn id="7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225"/>
                            </p:stCondLst>
                            <p:childTnLst>
                              <p:par>
                                <p:cTn id="7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725"/>
                            </p:stCondLst>
                            <p:childTnLst>
                              <p:par>
                                <p:cTn id="7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225"/>
                            </p:stCondLst>
                            <p:childTnLst>
                              <p:par>
                                <p:cTn id="7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25"/>
                            </p:stCondLst>
                            <p:childTnLst>
                              <p:par>
                                <p:cTn id="7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225"/>
                            </p:stCondLst>
                            <p:childTnLst>
                              <p:par>
                                <p:cTn id="7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725"/>
                            </p:stCondLst>
                            <p:childTnLst>
                              <p:par>
                                <p:cTn id="7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225"/>
                            </p:stCondLst>
                            <p:childTnLst>
                              <p:par>
                                <p:cTn id="7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725"/>
                            </p:stCondLst>
                            <p:childTnLst>
                              <p:par>
                                <p:cTn id="7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225"/>
                            </p:stCondLst>
                            <p:childTnLst>
                              <p:par>
                                <p:cTn id="7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725"/>
                            </p:stCondLst>
                            <p:childTnLst>
                              <p:par>
                                <p:cTn id="7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225"/>
                            </p:stCondLst>
                            <p:childTnLst>
                              <p:par>
                                <p:cTn id="7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7725"/>
                            </p:stCondLst>
                            <p:childTnLst>
                              <p:par>
                                <p:cTn id="7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225"/>
                            </p:stCondLst>
                            <p:childTnLst>
                              <p:par>
                                <p:cTn id="8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725"/>
                            </p:stCondLst>
                            <p:childTnLst>
                              <p:par>
                                <p:cTn id="8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素材库\商业图片示例 (7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3857400" y="2000160"/>
            <a:ext cx="4214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此次文字已删除。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3857760" y="28576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www.fumcuvalde.com/clientimages/33994/tgttree.png"/>
          <p:cNvPicPr/>
          <p:nvPr/>
        </p:nvPicPr>
        <p:blipFill>
          <a:blip r:embed="rId1"/>
          <a:srcRect l="0" t="0" r="4499" b="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13840" y="3314520"/>
            <a:ext cx="592956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在集团各级领导的大力支持和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全体员工艰苦卓绝的努力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我们的经营业绩获得了大幅增长，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年成长为</a:t>
            </a:r>
            <a:r>
              <a:rPr b="1" lang="en-US" sz="6000" spc="-1" strike="noStrike">
                <a:solidFill>
                  <a:srgbClr val="c00000"/>
                </a:solidFill>
                <a:latin typeface="微软雅黑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企业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城市,悉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85840" y="3357720"/>
            <a:ext cx="850104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阳光,树林,桦树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4" name="矩形 9"/>
          <p:cNvSpPr/>
          <p:nvPr/>
        </p:nvSpPr>
        <p:spPr>
          <a:xfrm>
            <a:off x="285840" y="34290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971-8388-472F-8E9A-567FE26F00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道路,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53"/>
          <p:cNvGrpSpPr/>
          <p:nvPr/>
        </p:nvGrpSpPr>
        <p:grpSpPr>
          <a:xfrm>
            <a:off x="-357120" y="-1071720"/>
            <a:ext cx="7632720" cy="7632720"/>
            <a:chOff x="-357120" y="-1071720"/>
            <a:chExt cx="7632720" cy="7632720"/>
          </a:xfrm>
        </p:grpSpPr>
        <p:sp>
          <p:nvSpPr>
            <p:cNvPr id="297" name="Oval 11"/>
            <p:cNvSpPr/>
            <p:nvPr/>
          </p:nvSpPr>
          <p:spPr>
            <a:xfrm>
              <a:off x="-357120" y="-1071720"/>
              <a:ext cx="7632720" cy="763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1730520" y="1357200"/>
              <a:ext cx="3063960" cy="306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4"/>
          <p:cNvSpPr/>
          <p:nvPr/>
        </p:nvSpPr>
        <p:spPr>
          <a:xfrm>
            <a:off x="214200" y="57168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未来，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D27-D5FA-44A4-9B15-FEE35581E5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dur="indefinite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66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2.5E-006 -0.19954 E">
                                      <p:cBhvr>
                                        <p:cTn id="86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2D0-797C-46A1-89CC-10E32E3EB6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E:\矢量图素材\中国风\墨素材\b_1244883045243.jpg"/>
          <p:cNvPicPr/>
          <p:nvPr/>
        </p:nvPicPr>
        <p:blipFill>
          <a:blip r:embed="rId1"/>
          <a:stretch/>
        </p:blipFill>
        <p:spPr>
          <a:xfrm>
            <a:off x="-1440" y="0"/>
            <a:ext cx="12195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Documents and Settings\Administrator\桌面\2008911103753659 [转换].png"/>
          <p:cNvPicPr/>
          <p:nvPr/>
        </p:nvPicPr>
        <p:blipFill>
          <a:blip r:embed="rId2"/>
          <a:stretch/>
        </p:blipFill>
        <p:spPr>
          <a:xfrm>
            <a:off x="357120" y="500040"/>
            <a:ext cx="4141800" cy="5857920"/>
          </a:xfrm>
          <a:prstGeom prst="rect">
            <a:avLst/>
          </a:prstGeom>
          <a:ln w="0">
            <a:noFill/>
          </a:ln>
        </p:spPr>
      </p:pic>
      <p:sp>
        <p:nvSpPr>
          <p:cNvPr id="305" name="椭圆 5"/>
          <p:cNvSpPr/>
          <p:nvPr/>
        </p:nvSpPr>
        <p:spPr>
          <a:xfrm rot="5400000">
            <a:off x="5784480" y="1449360"/>
            <a:ext cx="762120" cy="762120"/>
          </a:xfrm>
          <a:prstGeom prst="ellipse">
            <a:avLst/>
          </a:prstGeom>
          <a:noFill/>
          <a:ln cap="rnd"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"/>
          <p:cNvSpPr/>
          <p:nvPr/>
        </p:nvSpPr>
        <p:spPr>
          <a:xfrm rot="5400000">
            <a:off x="5784480" y="2220840"/>
            <a:ext cx="762120" cy="762120"/>
          </a:xfrm>
          <a:prstGeom prst="ellipse">
            <a:avLst/>
          </a:prstGeom>
          <a:noFill/>
          <a:ln cap="rnd"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7"/>
          <p:cNvSpPr/>
          <p:nvPr/>
        </p:nvSpPr>
        <p:spPr>
          <a:xfrm rot="5400000">
            <a:off x="5783760" y="2993040"/>
            <a:ext cx="763560" cy="762120"/>
          </a:xfrm>
          <a:prstGeom prst="ellipse">
            <a:avLst/>
          </a:prstGeom>
          <a:noFill/>
          <a:ln cap="rnd"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8"/>
          <p:cNvSpPr/>
          <p:nvPr/>
        </p:nvSpPr>
        <p:spPr>
          <a:xfrm rot="5400000">
            <a:off x="5783400" y="3764520"/>
            <a:ext cx="763920" cy="762120"/>
          </a:xfrm>
          <a:prstGeom prst="ellipse">
            <a:avLst/>
          </a:prstGeom>
          <a:noFill/>
          <a:ln cap="rnd"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0"/>
          <p:cNvGrpSpPr/>
          <p:nvPr/>
        </p:nvGrpSpPr>
        <p:grpSpPr>
          <a:xfrm>
            <a:off x="6541920" y="2871720"/>
            <a:ext cx="817560" cy="260280"/>
            <a:chOff x="6541920" y="2871720"/>
            <a:chExt cx="817560" cy="260280"/>
          </a:xfrm>
        </p:grpSpPr>
        <p:pic>
          <p:nvPicPr>
            <p:cNvPr id="310" name="Picture 2" descr="C:\Documents and Settings\Administrator\桌面\Nipic_7193556_20111024140640832000.png"/>
            <p:cNvPicPr/>
            <p:nvPr/>
          </p:nvPicPr>
          <p:blipFill>
            <a:blip r:embed="rId3"/>
            <a:stretch/>
          </p:blipFill>
          <p:spPr>
            <a:xfrm>
              <a:off x="6541920" y="2878560"/>
              <a:ext cx="81756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矩形 2"/>
            <p:cNvSpPr/>
            <p:nvPr/>
          </p:nvSpPr>
          <p:spPr>
            <a:xfrm>
              <a:off x="6981840" y="2871720"/>
              <a:ext cx="3776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矩形 15"/>
          <p:cNvSpPr/>
          <p:nvPr/>
        </p:nvSpPr>
        <p:spPr>
          <a:xfrm>
            <a:off x="4998960" y="2214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6"/>
          <p:cNvSpPr/>
          <p:nvPr/>
        </p:nvSpPr>
        <p:spPr>
          <a:xfrm>
            <a:off x="4998960" y="14288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7"/>
          <p:cNvSpPr/>
          <p:nvPr/>
        </p:nvSpPr>
        <p:spPr>
          <a:xfrm>
            <a:off x="4998960" y="2955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8"/>
          <p:cNvSpPr/>
          <p:nvPr/>
        </p:nvSpPr>
        <p:spPr>
          <a:xfrm>
            <a:off x="4998960" y="37400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50"/>
                            </p:stCondLst>
                            <p:childTnLst>
                              <p:par>
                                <p:cTn id="88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250"/>
                            </p:stCondLst>
                            <p:childTnLst>
                              <p:par>
                                <p:cTn id="89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7"/>
          <p:cNvSpPr/>
          <p:nvPr/>
        </p:nvSpPr>
        <p:spPr>
          <a:xfrm>
            <a:off x="0" y="5813280"/>
            <a:ext cx="9144000" cy="1044720"/>
          </a:xfrm>
          <a:prstGeom prst="rect">
            <a:avLst/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．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XXXXXX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业绩介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69" name="图表 16" descr=""/>
          <p:cNvPicPr/>
          <p:nvPr/>
        </p:nvPicPr>
        <p:blipFill>
          <a:blip r:embed="rId1"/>
          <a:stretch/>
        </p:blipFill>
        <p:spPr>
          <a:xfrm>
            <a:off x="571680" y="2714760"/>
            <a:ext cx="7643520" cy="378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357200"/>
            <a:ext cx="647208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72" name="Picture 4" descr="http://www.stechseo.com/images/professional-seo.jpg"/>
            <p:cNvPicPr/>
            <p:nvPr/>
          </p:nvPicPr>
          <p:blipFill>
            <a:blip r:embed="rId1"/>
            <a:stretch/>
          </p:blipFill>
          <p:spPr>
            <a:xfrm>
              <a:off x="4286160" y="1576440"/>
              <a:ext cx="4857840" cy="52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http://www.stechseo.com/images/professional-seo.jpg"/>
            <p:cNvPicPr/>
            <p:nvPr/>
          </p:nvPicPr>
          <p:blipFill>
            <a:blip r:embed="rId2"/>
            <a:stretch/>
          </p:blipFill>
          <p:spPr>
            <a:xfrm>
              <a:off x="0" y="1576440"/>
              <a:ext cx="4929120" cy="528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．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XXXXXX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业绩介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457200" y="30718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stampdla.com/media/blog-images/2008/09/number1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7" descr="efftxt02-6"/>
          <p:cNvPicPr/>
          <p:nvPr/>
        </p:nvPicPr>
        <p:blipFill>
          <a:blip r:embed="rId2"/>
          <a:stretch/>
        </p:blipFill>
        <p:spPr>
          <a:xfrm>
            <a:off x="9509040" y="2881440"/>
            <a:ext cx="725400" cy="480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3" descr="eff01-2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14408280" y="1644480"/>
            <a:ext cx="6183360" cy="162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4" descr="eff01-3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3411080" y="2279520"/>
            <a:ext cx="4310280" cy="114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5" descr="eff01-1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4393880" y="1508040"/>
            <a:ext cx="5695920" cy="65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6" descr="eff01-2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12492000" y="3244680"/>
            <a:ext cx="6648480" cy="87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7" descr="eff01-3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12700080" y="5073480"/>
            <a:ext cx="7148520" cy="55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8" descr="eff01-1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14525640" y="4197240"/>
            <a:ext cx="6060960" cy="7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9" descr="eff01-2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14408280" y="2616120"/>
            <a:ext cx="6183360" cy="162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0" descr="eff01-3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13411080" y="4525920"/>
            <a:ext cx="4310280" cy="114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1" descr="eff01-1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14393880" y="4937040"/>
            <a:ext cx="5695920" cy="65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7" descr="PPECLOGO-eff2-1-4"/>
          <p:cNvPicPr/>
          <p:nvPr/>
        </p:nvPicPr>
        <p:blipFill>
          <a:blip r:embed="rId12">
            <a:lum bright="-70000"/>
          </a:blip>
          <a:stretch/>
        </p:blipFill>
        <p:spPr>
          <a:xfrm>
            <a:off x="5006880" y="2987640"/>
            <a:ext cx="368280" cy="55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8" descr="PPECLOGO-eff2-1-3"/>
          <p:cNvPicPr/>
          <p:nvPr/>
        </p:nvPicPr>
        <p:blipFill>
          <a:blip r:embed="rId13">
            <a:lum bright="-70000"/>
          </a:blip>
          <a:stretch/>
        </p:blipFill>
        <p:spPr>
          <a:xfrm>
            <a:off x="6000840" y="3108240"/>
            <a:ext cx="149040" cy="22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9" descr="PPECLOGO-eff2-1-4"/>
          <p:cNvPicPr/>
          <p:nvPr/>
        </p:nvPicPr>
        <p:blipFill>
          <a:blip r:embed="rId14">
            <a:lum bright="-70000"/>
          </a:blip>
          <a:stretch/>
        </p:blipFill>
        <p:spPr>
          <a:xfrm>
            <a:off x="3956040" y="3057480"/>
            <a:ext cx="458640" cy="68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1" descr="PPECLOGO-eff2-1-4"/>
          <p:cNvPicPr/>
          <p:nvPr/>
        </p:nvPicPr>
        <p:blipFill>
          <a:blip r:embed="rId15">
            <a:lum bright="-70000"/>
          </a:blip>
          <a:stretch/>
        </p:blipFill>
        <p:spPr>
          <a:xfrm>
            <a:off x="2651040" y="3021120"/>
            <a:ext cx="36684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8" descr="PPECLOGO-eff2-1-4"/>
          <p:cNvPicPr/>
          <p:nvPr/>
        </p:nvPicPr>
        <p:blipFill>
          <a:blip r:embed="rId16">
            <a:lum bright="-70000"/>
          </a:blip>
          <a:stretch/>
        </p:blipFill>
        <p:spPr>
          <a:xfrm>
            <a:off x="2901960" y="3127320"/>
            <a:ext cx="227160" cy="338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9" descr="PPECLOGO-eff2-1-3"/>
          <p:cNvPicPr/>
          <p:nvPr/>
        </p:nvPicPr>
        <p:blipFill>
          <a:blip r:embed="rId17">
            <a:lum bright="-70000"/>
          </a:blip>
          <a:stretch/>
        </p:blipFill>
        <p:spPr>
          <a:xfrm>
            <a:off x="3728880" y="3286080"/>
            <a:ext cx="93960" cy="13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6" descr="PPECLOGO-eff2-1-4"/>
          <p:cNvPicPr/>
          <p:nvPr/>
        </p:nvPicPr>
        <p:blipFill>
          <a:blip r:embed="rId18">
            <a:lum bright="-70000"/>
          </a:blip>
          <a:stretch/>
        </p:blipFill>
        <p:spPr>
          <a:xfrm>
            <a:off x="3699000" y="3127320"/>
            <a:ext cx="225360" cy="33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7" descr="PPECLOGO-eff2-1-3"/>
          <p:cNvPicPr/>
          <p:nvPr/>
        </p:nvPicPr>
        <p:blipFill>
          <a:blip r:embed="rId19">
            <a:lum bright="-70000"/>
          </a:blip>
          <a:stretch/>
        </p:blipFill>
        <p:spPr>
          <a:xfrm>
            <a:off x="4525920" y="3286080"/>
            <a:ext cx="92160" cy="1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214800" y="3429000"/>
            <a:ext cx="56433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此次文字已删除。此次文字已删除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此次文字已删除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35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7.05467E-007 1.05263E-006 L -3.26367 1.05263E-006 E">
                                      <p:cBhvr>
                                        <p:cTn id="130" dur="3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52381E-007 4.91228E-006 L -2.76234 4.91228E-006 E">
                                      <p:cBhvr>
                                        <p:cTn id="132" dur="7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35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01058E-006 5.26316E-007 L -2.80555 5.26316E-007 E">
                                      <p:cBhvr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09171E-006 1.40351E-006 L -2.56989 1.40351E-006 E">
                                      <p:cBhvr>
                                        <p:cTn id="136" dur="7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35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90476E-006 2.80702E-006 L -2.99978 2.80702E-006 E">
                                      <p:cBhvr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35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54497E-006 0.3057 L -2.97001 0.3057 E">
                                      <p:cBhvr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35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7.05467E-007 1.05263E-006 L -3.26367 1.05263E-006 E">
                                      <p:cBhvr>
                                        <p:cTn id="142" dur="8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9.52381E-007 4.91228E-006 L -2.76234 4.91228E-006 E">
                                      <p:cBhvr>
                                        <p:cTn id="144" dur="7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35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01058E-006 5.26316E-007 L -2.80555 5.26316E-007 E">
                                      <p:cBhvr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7.76014E-007 0.02293 C 0.01984 -0.01411 0.04012 -0.05114 0.05864 -0.02998 C 0.07716 -0.00882 0.09855 0.04542 0.11067 0.15212 C 0.1228 0.25882 0.12743 0.53351 0.13095 0.61023 E">
                                      <p:cBhvr>
                                        <p:cTn id="164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2.08113E-006 0.02161 C 0.00441 -0.01499 0.00926 -0.05115 0.01345 -0.03042 C 0.01764 -0.0097 0.02249 0.04365 0.02535 0.14815 C 0.02822 0.2522 0.02932 0.52161 0.0302 0.59656 E">
                                      <p:cBhvr>
                                        <p:cTn id="171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1.95767E-006 0.02292 C -0.02932 -0.01411 -0.0582 -0.05115 -0.08465 -0.02999 C -0.11155 -0.00882 -0.14175 0.04541 -0.15917 0.15211 C -0.17659 0.25837 -0.1832 0.53306 -0.18761 0.60978 E">
                                      <p:cBhvr>
                                        <p:cTn id="17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4.72663E-006 0.02249 C -0.01388 -0.01455 -0.02777 -0.05114 -0.04056 -0.03042 C -0.05335 -0.00926 -0.0679 0.04498 -0.07627 0.1508 C -0.08465 0.25662 -0.08796 0.5291 -0.08994 0.60538 E">
                                      <p:cBhvr>
                                        <p:cTn id="18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4.00353E-006 0.02249 C -0.01389 -0.01455 -0.02778 -0.05114 -0.04035 -0.03042 C -0.05313 -0.00926 -0.06791 0.04498 -0.07606 0.1508 C -0.08444 0.25662 -0.08775 0.5291 -0.08973 0.60538 E">
                                      <p:cBhvr>
                                        <p:cTn id="19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1.38889E-006 2.96296E-006 C -0.0125 -0.0375 -0.02622 -0.075 -0.03733 -0.05394 C -0.04913 -0.03218 -0.06215 0.02245 -0.07014 0.13009 C -0.0783 0.23773 -0.08142 0.51551 -0.08281 0.59259 E">
                                      <p:cBhvr>
                                        <p:cTn id="199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3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2.87478E-006 5.29101E-008 C -0.00573 -0.03704 -0.01147 -0.07363 -0.01676 -0.05291 C -0.02183 -0.03175 -0.028 0.02249 -0.03131 0.12831 C -0.03484 0.23413 -0.03616 0.50661 -0.03682 0.58289 E">
                                      <p:cBhvr>
                                        <p:cTn id="20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0 -1.04056E-006 C 0.0075 -0.03748 0.01565 -0.07495 0.02249 -0.05379 C 0.02954 -0.03219 0.03748 0.02249 0.04211 0.13007 C 0.04718 0.23766 0.04894 0.51543 0.05004 0.59259 E">
                                      <p:cBhvr>
                                        <p:cTn id="213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xit" presetID="53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858160" cy="535788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1038240" y="500040"/>
            <a:ext cx="409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年，是非常不平凡的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018120" y="278604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尚未从次贷危机恢复过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85840" y="2643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年爆发的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欧债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，又把整个欧美市场拖入低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85840" y="41432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我们传统的优势市场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东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阿拉伯之春引发的动荡，此次文字已删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3143160" y="43308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EC2-97FA-4B26-A0AE-3243754CB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750"/>
                            </p:stCondLst>
                            <p:childTnLst>
                              <p:par>
                                <p:cTn id="2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" name="Picture 2" descr="http://cooldesktopbackgroundsx.com/wp-content/uploads/2010/08/Long-Road-Ahe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Content Placeholder 2"/>
          <p:cNvSpPr/>
          <p:nvPr/>
        </p:nvSpPr>
        <p:spPr>
          <a:xfrm>
            <a:off x="214200" y="2714760"/>
            <a:ext cx="707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这些成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在如此艰难的外部环境下取得的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实是来之不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进的道路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高歌猛进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也有</a:t>
            </a:r>
            <a:r>
              <a:rPr b="1" lang="zh-CN" sz="4800" spc="-1" strike="noStrike">
                <a:solidFill>
                  <a:srgbClr val="31859b"/>
                </a:solidFill>
                <a:latin typeface="微软雅黑"/>
                <a:ea typeface="微软雅黑"/>
              </a:rPr>
              <a:t>挫折失败</a:t>
            </a:r>
            <a:r>
              <a:rPr b="1" lang="zh-CN" sz="2800" spc="-1" strike="noStrike">
                <a:solidFill>
                  <a:srgbClr val="31859b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次文字已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6:44:00Z</dcterms:created>
  <dc:creator>幻灯片之家：www.eeppt.com</dc:creator>
  <dc:description>幻灯片之家：www.eeppt.com</dc:description>
  <cp:keywords>幻灯片之家：www.eeppt.com</cp:keywords>
  <dc:language>en-US</dc:language>
  <cp:lastModifiedBy>ppt宝藏 www.pptbz.com提供漂亮ppt模板下载</cp:lastModifiedBy>
  <dcterms:modified xsi:type="dcterms:W3CDTF">2015-08-12T14:36:04Z</dcterms:modified>
  <cp:revision>2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