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4BB2-8571-4299-A97A-59E7E2617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F970-B8FB-4B60-938F-46894F5D6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CD78-276B-4D30-88CC-5F96FA96D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9350-6D90-495E-8DE3-0338E7E64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42920" y="33300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A627-0335-490B-9DA0-788C28C73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2DB5-2A63-4267-9910-FB96B2FD9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69ED-0ACA-42A7-83C2-0C7913A87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2E91-3AB9-4718-B5ED-A7403F0F5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42920" y="33300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034F-09E2-4D58-9105-F20BAEA16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22A4-6A61-4725-B793-236FF8C21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4AED-E973-4BBE-8429-F1D3DDADF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285B-7C82-4C77-B1B0-6F546F1A3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5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62BA140-C590-44FE-B662-F774E803DD44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63086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3" descr="bg1"/>
          <p:cNvPicPr/>
          <p:nvPr/>
        </p:nvPicPr>
        <p:blipFill>
          <a:blip r:embed="rId2"/>
          <a:stretch/>
        </p:blipFill>
        <p:spPr>
          <a:xfrm>
            <a:off x="0" y="-23760"/>
            <a:ext cx="918036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7164360" y="33336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2340000" y="32126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12920" y="6093000"/>
            <a:ext cx="2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2349360"/>
            <a:ext cx="481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2662200"/>
            <a:ext cx="69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个人简历幻灯片在线下载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c1c1c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468360" y="628812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4892518-A963-46A3-9259-0F7B582678D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7600-6137-4B7D-860B-F708CBE259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1" descr="bg3"/>
          <p:cNvPicPr/>
          <p:nvPr/>
        </p:nvPicPr>
        <p:blipFill>
          <a:blip r:embed="rId1"/>
          <a:stretch/>
        </p:blipFill>
        <p:spPr>
          <a:xfrm>
            <a:off x="0" y="-23760"/>
            <a:ext cx="9180360" cy="6881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4548240" y="3919680"/>
            <a:ext cx="2903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4836960" y="2695680"/>
            <a:ext cx="2465640" cy="6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谢谢观赏</a:t>
            </a:r>
            <a:endParaRPr b="1" i="1" lang="en-US" sz="2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8-12T14:33:48Z</dcterms:modified>
  <cp:revision>2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