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E61-33E3-4B24-AA82-2B70C896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67280" y="533628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E66-F252-4FB8-AD95-3DD81583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5452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06E-57A5-4DEB-A782-5776605F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91488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96212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86728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691488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96212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123-9655-484A-9458-BE3B410E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867280" y="5084640"/>
            <a:ext cx="30974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30974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58920" y="1022040"/>
            <a:ext cx="53974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867280" y="5084640"/>
            <a:ext cx="30974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D3E-1B5C-4AC4-B26B-302CBA5B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5452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867280" y="533628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5452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1488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62120" y="508464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86728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691488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62120" y="5336280"/>
            <a:ext cx="99720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30974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32A-EDBB-4722-98CA-882FB7F8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6D6-6D68-4A3F-AE10-88251F63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F5D-347F-4A73-A570-88C5C82C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58920" y="1022040"/>
            <a:ext cx="53974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7A7-4CEF-4B33-9D59-2F87914D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BA2-E200-4345-8ECE-B5112ED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54520" y="533628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9CF-AE3A-442A-9BB2-A88803BE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6728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54520" y="5084640"/>
            <a:ext cx="151128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67280" y="5336280"/>
            <a:ext cx="30974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FF3-B6DA-4297-BD7F-3B6ABCA2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921280"/>
            <a:ext cx="3348000" cy="963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56000" y="5516640"/>
            <a:ext cx="863640" cy="134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260280"/>
            <a:ext cx="9144000" cy="289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404640"/>
            <a:ext cx="9144000" cy="28908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98C7-3468-4CA9-9100-2E45D3360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393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8920" y="1022040"/>
            <a:ext cx="539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16360" y="3168720"/>
            <a:ext cx="2835000" cy="36892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3168720"/>
            <a:ext cx="9144000" cy="765000"/>
            <a:chOff x="0" y="3168720"/>
            <a:chExt cx="9144000" cy="765000"/>
          </a:xfrm>
        </p:grpSpPr>
        <p:sp>
          <p:nvSpPr>
            <p:cNvPr id="50" name=""/>
            <p:cNvSpPr/>
            <p:nvPr/>
          </p:nvSpPr>
          <p:spPr>
            <a:xfrm>
              <a:off x="0" y="3168720"/>
              <a:ext cx="9144000" cy="76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29000"/>
              <a:ext cx="9144000" cy="289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573360"/>
              <a:ext cx="9144000" cy="289080"/>
            </a:xfrm>
            <a:prstGeom prst="rect">
              <a:avLst/>
            </a:prstGeom>
            <a:solidFill>
              <a:srgbClr val="ffffff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3933720"/>
            <a:ext cx="2916360" cy="2924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image" Target="../media/image2.jpeg"/><Relationship Id="rId6" Type="http://schemas.openxmlformats.org/officeDocument/2006/relationships/image" Target="../media/image8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57200" y="1127160"/>
            <a:ext cx="73202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867280" y="5084640"/>
            <a:ext cx="29052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Q:9545705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87280" y="1127160"/>
            <a:ext cx="7561440" cy="1150920"/>
            <a:chOff x="1187280" y="1127160"/>
            <a:chExt cx="7561440" cy="1150920"/>
          </a:xfrm>
        </p:grpSpPr>
        <p:grpSp>
          <p:nvGrpSpPr>
            <p:cNvPr id="262" name=""/>
            <p:cNvGrpSpPr/>
            <p:nvPr/>
          </p:nvGrpSpPr>
          <p:grpSpPr>
            <a:xfrm>
              <a:off x="1187280" y="1127160"/>
              <a:ext cx="1152360" cy="1150920"/>
              <a:chOff x="1187280" y="1127160"/>
              <a:chExt cx="1152360" cy="115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1187280" y="1127160"/>
                <a:ext cx="1152360" cy="1150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31640" y="1270080"/>
                <a:ext cx="863640" cy="863640"/>
              </a:xfrm>
              <a:prstGeom prst="ellipse">
                <a:avLst/>
              </a:prstGeom>
              <a:blipFill rotWithShape="0">
                <a:blip r:embed="rId1">
                  <a:alphaModFix amt="52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404360" y="1414440"/>
              <a:ext cx="73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11280" y="1630440"/>
              <a:ext cx="57636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58920" y="1343160"/>
              <a:ext cx="56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87280" y="2422440"/>
            <a:ext cx="7561440" cy="1150920"/>
            <a:chOff x="1187280" y="2422440"/>
            <a:chExt cx="7561440" cy="1150920"/>
          </a:xfrm>
        </p:grpSpPr>
        <p:grpSp>
          <p:nvGrpSpPr>
            <p:cNvPr id="269" name=""/>
            <p:cNvGrpSpPr/>
            <p:nvPr/>
          </p:nvGrpSpPr>
          <p:grpSpPr>
            <a:xfrm>
              <a:off x="1187280" y="2422440"/>
              <a:ext cx="1152360" cy="1150920"/>
              <a:chOff x="1187280" y="2422440"/>
              <a:chExt cx="1152360" cy="1150920"/>
            </a:xfrm>
          </p:grpSpPr>
          <p:sp>
            <p:nvSpPr>
              <p:cNvPr id="270" name=""/>
              <p:cNvSpPr/>
              <p:nvPr/>
            </p:nvSpPr>
            <p:spPr>
              <a:xfrm>
                <a:off x="1187280" y="2422440"/>
                <a:ext cx="1152360" cy="1150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331640" y="2565360"/>
                <a:ext cx="863640" cy="863640"/>
              </a:xfrm>
              <a:prstGeom prst="ellipse">
                <a:avLst/>
              </a:prstGeom>
              <a:blipFill rotWithShape="0">
                <a:blip r:embed="rId2">
                  <a:alphaModFix amt="52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404360" y="2709720"/>
              <a:ext cx="73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11280" y="2925720"/>
              <a:ext cx="57636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58920" y="2638440"/>
              <a:ext cx="56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87280" y="3790800"/>
            <a:ext cx="7561440" cy="1150920"/>
            <a:chOff x="1187280" y="3790800"/>
            <a:chExt cx="7561440" cy="1150920"/>
          </a:xfrm>
        </p:grpSpPr>
        <p:grpSp>
          <p:nvGrpSpPr>
            <p:cNvPr id="276" name=""/>
            <p:cNvGrpSpPr/>
            <p:nvPr/>
          </p:nvGrpSpPr>
          <p:grpSpPr>
            <a:xfrm>
              <a:off x="1187280" y="3790800"/>
              <a:ext cx="1152360" cy="1150920"/>
              <a:chOff x="1187280" y="3790800"/>
              <a:chExt cx="1152360" cy="11509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87280" y="3790800"/>
                <a:ext cx="1152360" cy="1150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331640" y="3933720"/>
                <a:ext cx="863640" cy="863640"/>
              </a:xfrm>
              <a:prstGeom prst="ellipse">
                <a:avLst/>
              </a:prstGeom>
              <a:blipFill rotWithShape="0">
                <a:blip r:embed="rId3">
                  <a:alphaModFix amt="52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404360" y="4078080"/>
              <a:ext cx="73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1280" y="4294080"/>
              <a:ext cx="57636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58920" y="4006800"/>
              <a:ext cx="56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17800" y="2852640"/>
            <a:ext cx="1152720" cy="1017720"/>
          </a:xfrm>
          <a:prstGeom prst="pentagon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bbe0e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052240" y="3074760"/>
            <a:ext cx="412560" cy="133920"/>
          </a:xfrm>
          <a:prstGeom prst="line">
            <a:avLst/>
          </a:prstGeom>
          <a:ln cap="rnd" w="5724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70000" y="3900600"/>
            <a:ext cx="254880" cy="350640"/>
          </a:xfrm>
          <a:prstGeom prst="line">
            <a:avLst/>
          </a:prstGeom>
          <a:ln cap="rnd" w="5724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762000" y="3902040"/>
            <a:ext cx="254880" cy="350640"/>
          </a:xfrm>
          <a:prstGeom prst="line">
            <a:avLst/>
          </a:prstGeom>
          <a:ln cap="rnd" w="5724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3324960" y="3074760"/>
            <a:ext cx="412200" cy="133920"/>
          </a:xfrm>
          <a:prstGeom prst="line">
            <a:avLst/>
          </a:prstGeom>
          <a:ln cap="rnd" w="5724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9D7-9824-4141-8FEC-1562957E5B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59280" y="1125360"/>
            <a:ext cx="5468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　　　谢　　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97080" y="1413000"/>
            <a:ext cx="4896000" cy="503280"/>
            <a:chOff x="2197080" y="1413000"/>
            <a:chExt cx="4896000" cy="503280"/>
          </a:xfrm>
        </p:grpSpPr>
        <p:pic>
          <p:nvPicPr>
            <p:cNvPr id="96" name="" descr=""/>
            <p:cNvPicPr/>
            <p:nvPr/>
          </p:nvPicPr>
          <p:blipFill>
            <a:blip r:embed="rId1"/>
            <a:srcRect l="89955" t="17639" r="2528" b="63861"/>
            <a:stretch/>
          </p:blipFill>
          <p:spPr>
            <a:xfrm>
              <a:off x="2262240" y="1413000"/>
              <a:ext cx="28584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197080" y="1860840"/>
              <a:ext cx="4896000" cy="55440"/>
            </a:xfrm>
            <a:prstGeom prst="ellipse">
              <a:avLst/>
            </a:prstGeom>
            <a:gradFill rotWithShape="0">
              <a:gsLst>
                <a:gs pos="0">
                  <a:srgbClr val="79a400"/>
                </a:gs>
                <a:gs pos="100000">
                  <a:srgbClr val="374b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7320" y="1413000"/>
              <a:ext cx="322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97080" y="2133720"/>
            <a:ext cx="4896000" cy="503280"/>
            <a:chOff x="2197080" y="2133720"/>
            <a:chExt cx="4896000" cy="5032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rcRect l="89955" t="17639" r="2528" b="63861"/>
            <a:stretch/>
          </p:blipFill>
          <p:spPr>
            <a:xfrm>
              <a:off x="2262240" y="2133720"/>
              <a:ext cx="28584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197080" y="2581560"/>
              <a:ext cx="4896000" cy="55440"/>
            </a:xfrm>
            <a:prstGeom prst="ellipse">
              <a:avLst/>
            </a:prstGeom>
            <a:gradFill rotWithShape="0">
              <a:gsLst>
                <a:gs pos="0">
                  <a:srgbClr val="79a400"/>
                </a:gs>
                <a:gs pos="100000">
                  <a:srgbClr val="374b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57320" y="2133720"/>
              <a:ext cx="322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97080" y="2925720"/>
            <a:ext cx="4896000" cy="503280"/>
            <a:chOff x="2197080" y="2925720"/>
            <a:chExt cx="4896000" cy="50328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rcRect l="89955" t="17639" r="2528" b="63861"/>
            <a:stretch/>
          </p:blipFill>
          <p:spPr>
            <a:xfrm>
              <a:off x="2262240" y="2925720"/>
              <a:ext cx="28584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97080" y="3373560"/>
              <a:ext cx="4896000" cy="55440"/>
            </a:xfrm>
            <a:prstGeom prst="ellipse">
              <a:avLst/>
            </a:prstGeom>
            <a:gradFill rotWithShape="0">
              <a:gsLst>
                <a:gs pos="0">
                  <a:srgbClr val="79a400"/>
                </a:gs>
                <a:gs pos="100000">
                  <a:srgbClr val="374b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57320" y="2925720"/>
              <a:ext cx="322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97080" y="3860640"/>
            <a:ext cx="4896000" cy="503280"/>
            <a:chOff x="2197080" y="3860640"/>
            <a:chExt cx="4896000" cy="50328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rcRect l="89955" t="17639" r="2528" b="63861"/>
            <a:stretch/>
          </p:blipFill>
          <p:spPr>
            <a:xfrm>
              <a:off x="2262240" y="3860640"/>
              <a:ext cx="28584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197080" y="4308480"/>
              <a:ext cx="4896000" cy="55440"/>
            </a:xfrm>
            <a:prstGeom prst="ellipse">
              <a:avLst/>
            </a:prstGeom>
            <a:gradFill rotWithShape="0">
              <a:gsLst>
                <a:gs pos="0">
                  <a:srgbClr val="79a400"/>
                </a:gs>
                <a:gs pos="100000">
                  <a:srgbClr val="374b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57320" y="3860640"/>
              <a:ext cx="322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31640" y="1114560"/>
            <a:ext cx="6769440" cy="1368360"/>
            <a:chOff x="1331640" y="1114560"/>
            <a:chExt cx="6769440" cy="1368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rcRect l="2374" t="0" r="0" b="0"/>
            <a:stretch/>
          </p:blipFill>
          <p:spPr>
            <a:xfrm>
              <a:off x="2343240" y="1121040"/>
              <a:ext cx="3571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flipH="1">
              <a:off x="1331640" y="1265400"/>
              <a:ext cx="9349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427640" y="1265400"/>
              <a:ext cx="36734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38480" y="125568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32000" y="2470320"/>
              <a:ext cx="6769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01080" y="125892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02880" y="111456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74920" y="1624320"/>
              <a:ext cx="65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306080" y="2765520"/>
            <a:ext cx="6769440" cy="1368360"/>
            <a:chOff x="1306080" y="2765520"/>
            <a:chExt cx="6769440" cy="136836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rcRect l="2374" t="0" r="0" b="0"/>
            <a:stretch/>
          </p:blipFill>
          <p:spPr>
            <a:xfrm>
              <a:off x="2317680" y="2772000"/>
              <a:ext cx="3571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 flipH="1">
              <a:off x="1306080" y="2916360"/>
              <a:ext cx="9349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402080" y="2916360"/>
              <a:ext cx="36734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12920" y="290664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06440" y="4121280"/>
              <a:ext cx="6769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5520" y="290988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7320" y="2765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9360" y="3275280"/>
              <a:ext cx="65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306080" y="4441680"/>
            <a:ext cx="6769440" cy="1368360"/>
            <a:chOff x="1306080" y="4441680"/>
            <a:chExt cx="6769440" cy="1368360"/>
          </a:xfrm>
        </p:grpSpPr>
        <p:pic>
          <p:nvPicPr>
            <p:cNvPr id="131" name="" descr=""/>
            <p:cNvPicPr/>
            <p:nvPr/>
          </p:nvPicPr>
          <p:blipFill>
            <a:blip r:embed="rId3"/>
            <a:srcRect l="2374" t="0" r="0" b="0"/>
            <a:stretch/>
          </p:blipFill>
          <p:spPr>
            <a:xfrm>
              <a:off x="2317680" y="4448160"/>
              <a:ext cx="3571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H="1">
              <a:off x="1306080" y="4592520"/>
              <a:ext cx="9349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402080" y="4592520"/>
              <a:ext cx="36734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2920" y="458280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06440" y="5797440"/>
              <a:ext cx="6769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75520" y="4586040"/>
              <a:ext cx="0" cy="1224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77320" y="444168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9360" y="4951440"/>
              <a:ext cx="65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1104840" cy="84312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1104840" cy="84312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87520" y="2997360"/>
            <a:ext cx="1104840" cy="8427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803160" y="3789360"/>
            <a:ext cx="1104840" cy="84312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2266920" y="2349360"/>
            <a:ext cx="612144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6920" y="3068640"/>
            <a:ext cx="612144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789360"/>
            <a:ext cx="64800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8200" y="4653000"/>
            <a:ext cx="648144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176544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255744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32068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40053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9080" y="1197000"/>
            <a:ext cx="8424000" cy="806760"/>
            <a:chOff x="469080" y="1197000"/>
            <a:chExt cx="8424000" cy="806760"/>
          </a:xfrm>
        </p:grpSpPr>
        <p:sp>
          <p:nvSpPr>
            <p:cNvPr id="154" name=""/>
            <p:cNvSpPr/>
            <p:nvPr/>
          </p:nvSpPr>
          <p:spPr>
            <a:xfrm>
              <a:off x="2844720" y="1197000"/>
              <a:ext cx="60483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 flipH="1" rot="665400">
              <a:off x="2021040" y="1413000"/>
              <a:ext cx="82368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69080" y="1413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69080" y="2205000"/>
            <a:ext cx="8424000" cy="806760"/>
            <a:chOff x="469080" y="2205000"/>
            <a:chExt cx="8424000" cy="806760"/>
          </a:xfrm>
        </p:grpSpPr>
        <p:sp>
          <p:nvSpPr>
            <p:cNvPr id="158" name=""/>
            <p:cNvSpPr/>
            <p:nvPr/>
          </p:nvSpPr>
          <p:spPr>
            <a:xfrm>
              <a:off x="2844720" y="2205000"/>
              <a:ext cx="60483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 flipH="1" rot="665400">
              <a:off x="2021040" y="2421000"/>
              <a:ext cx="82368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69080" y="2421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69080" y="3213000"/>
            <a:ext cx="8424000" cy="806760"/>
            <a:chOff x="469080" y="3213000"/>
            <a:chExt cx="8424000" cy="806760"/>
          </a:xfrm>
        </p:grpSpPr>
        <p:sp>
          <p:nvSpPr>
            <p:cNvPr id="162" name=""/>
            <p:cNvSpPr/>
            <p:nvPr/>
          </p:nvSpPr>
          <p:spPr>
            <a:xfrm>
              <a:off x="2844720" y="3213000"/>
              <a:ext cx="60483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 flipH="1" rot="665400">
              <a:off x="2021040" y="3429000"/>
              <a:ext cx="82368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69080" y="3429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69080" y="4206960"/>
            <a:ext cx="8424000" cy="806760"/>
            <a:chOff x="469080" y="4206960"/>
            <a:chExt cx="8424000" cy="806760"/>
          </a:xfrm>
        </p:grpSpPr>
        <p:sp>
          <p:nvSpPr>
            <p:cNvPr id="166" name=""/>
            <p:cNvSpPr/>
            <p:nvPr/>
          </p:nvSpPr>
          <p:spPr>
            <a:xfrm>
              <a:off x="2844720" y="4206960"/>
              <a:ext cx="60483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 flipH="1" rot="665400">
              <a:off x="2021040" y="4422960"/>
              <a:ext cx="82368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69080" y="442296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15880" y="8478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55640" y="1052640"/>
            <a:ext cx="3384720" cy="4104720"/>
            <a:chOff x="755640" y="1052640"/>
            <a:chExt cx="3384720" cy="4104720"/>
          </a:xfrm>
        </p:grpSpPr>
        <p:grpSp>
          <p:nvGrpSpPr>
            <p:cNvPr id="172" name=""/>
            <p:cNvGrpSpPr/>
            <p:nvPr/>
          </p:nvGrpSpPr>
          <p:grpSpPr>
            <a:xfrm>
              <a:off x="755640" y="1052640"/>
              <a:ext cx="1297080" cy="1152000"/>
              <a:chOff x="755640" y="1052640"/>
              <a:chExt cx="1297080" cy="115200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1195200"/>
                <a:ext cx="1114560" cy="81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755640" y="1052640"/>
                <a:ext cx="1297080" cy="1152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258920" y="2062080"/>
              <a:ext cx="0" cy="3023640"/>
            </a:xfrm>
            <a:prstGeom prst="line">
              <a:avLst/>
            </a:prstGeom>
            <a:ln w="1908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87280" y="1989000"/>
              <a:ext cx="0" cy="302364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8000" y="1628640"/>
              <a:ext cx="2159280" cy="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8000" y="1557000"/>
              <a:ext cx="1943280" cy="0"/>
            </a:xfrm>
            <a:prstGeom prst="line">
              <a:avLst/>
            </a:prstGeom>
            <a:ln w="1908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32000" y="1699920"/>
              <a:ext cx="2808360" cy="34574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76360" y="1989000"/>
              <a:ext cx="2303640" cy="18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788000" y="1052640"/>
            <a:ext cx="3384000" cy="4104720"/>
            <a:chOff x="4788000" y="1052640"/>
            <a:chExt cx="3384000" cy="4104720"/>
          </a:xfrm>
        </p:grpSpPr>
        <p:grpSp>
          <p:nvGrpSpPr>
            <p:cNvPr id="182" name=""/>
            <p:cNvGrpSpPr/>
            <p:nvPr/>
          </p:nvGrpSpPr>
          <p:grpSpPr>
            <a:xfrm>
              <a:off x="4788000" y="1052640"/>
              <a:ext cx="1296720" cy="1152000"/>
              <a:chOff x="4788000" y="1052640"/>
              <a:chExt cx="1296720" cy="115200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8920" y="1195200"/>
                <a:ext cx="1114200" cy="81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4788000" y="1052640"/>
                <a:ext cx="1296720" cy="11520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290920" y="2062080"/>
              <a:ext cx="0" cy="3023640"/>
            </a:xfrm>
            <a:prstGeom prst="line">
              <a:avLst/>
            </a:prstGeom>
            <a:ln w="1908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19280" y="1989000"/>
              <a:ext cx="0" cy="302364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40000" y="1628640"/>
              <a:ext cx="2158920" cy="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40000" y="1557000"/>
              <a:ext cx="1942920" cy="0"/>
            </a:xfrm>
            <a:prstGeom prst="line">
              <a:avLst/>
            </a:prstGeom>
            <a:ln w="1908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4000" y="1699920"/>
              <a:ext cx="2808000" cy="34574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08360" y="1989000"/>
              <a:ext cx="2303280" cy="18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79280" y="1052640"/>
            <a:ext cx="3024360" cy="3240000"/>
            <a:chOff x="179280" y="1052640"/>
            <a:chExt cx="3024360" cy="324000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79280" y="1052640"/>
              <a:ext cx="1104840" cy="843120"/>
            </a:xfrm>
            <a:prstGeom prst="rect">
              <a:avLst/>
            </a:prstGeom>
            <a:ln w="12600">
              <a:solidFill>
                <a:srgbClr val="99cc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322200" y="1916280"/>
              <a:ext cx="0" cy="23763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6560" y="1916280"/>
              <a:ext cx="0" cy="4316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9640" y="1844640"/>
              <a:ext cx="26640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9280" y="13399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32000" y="1484280"/>
            <a:ext cx="3024360" cy="3240000"/>
            <a:chOff x="3132000" y="1484280"/>
            <a:chExt cx="3024360" cy="32400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3132000" y="1484280"/>
              <a:ext cx="1104840" cy="843120"/>
            </a:xfrm>
            <a:prstGeom prst="rect">
              <a:avLst/>
            </a:prstGeom>
            <a:ln w="12600">
              <a:solidFill>
                <a:srgbClr val="99cc00"/>
              </a:solidFill>
              <a:miter/>
            </a:ln>
          </p:spPr>
        </p:pic>
        <p:sp>
          <p:nvSpPr>
            <p:cNvPr id="200" name=""/>
            <p:cNvSpPr/>
            <p:nvPr/>
          </p:nvSpPr>
          <p:spPr>
            <a:xfrm>
              <a:off x="3274920" y="2347920"/>
              <a:ext cx="0" cy="23763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280" y="2347920"/>
              <a:ext cx="0" cy="4316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2360" y="2276280"/>
              <a:ext cx="26640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12000" y="177156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19640" y="2060640"/>
            <a:ext cx="3024360" cy="3240000"/>
            <a:chOff x="6119640" y="2060640"/>
            <a:chExt cx="3024360" cy="324000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6119640" y="2060640"/>
              <a:ext cx="1104840" cy="843120"/>
            </a:xfrm>
            <a:prstGeom prst="rect">
              <a:avLst/>
            </a:prstGeom>
            <a:ln w="12600">
              <a:solidFill>
                <a:srgbClr val="99cc00"/>
              </a:solidFill>
              <a:miter/>
            </a:ln>
          </p:spPr>
        </p:pic>
        <p:sp>
          <p:nvSpPr>
            <p:cNvPr id="206" name=""/>
            <p:cNvSpPr/>
            <p:nvPr/>
          </p:nvSpPr>
          <p:spPr>
            <a:xfrm>
              <a:off x="6262560" y="2924280"/>
              <a:ext cx="0" cy="23763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2924280"/>
              <a:ext cx="0" cy="4316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80000" y="2852640"/>
              <a:ext cx="26640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99640" y="23479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8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32000" y="1268280"/>
            <a:ext cx="3024360" cy="2881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1486080"/>
            <a:ext cx="2592360" cy="2447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1484280"/>
            <a:ext cx="2592360" cy="2448000"/>
          </a:xfrm>
          <a:prstGeom prst="ellipse">
            <a:avLst/>
          </a:prstGeom>
          <a:solidFill>
            <a:srgbClr val="ffffff">
              <a:alpha val="64000"/>
            </a:srgbClr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10520" y="2492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050920" y="2492280"/>
            <a:ext cx="1008000" cy="144360"/>
            <a:chOff x="2050920" y="2492280"/>
            <a:chExt cx="1008000" cy="144360"/>
          </a:xfrm>
        </p:grpSpPr>
        <p:sp>
          <p:nvSpPr>
            <p:cNvPr id="216" name=""/>
            <p:cNvSpPr/>
            <p:nvPr/>
          </p:nvSpPr>
          <p:spPr>
            <a:xfrm flipH="1">
              <a:off x="2050920" y="2492280"/>
              <a:ext cx="1008000" cy="0"/>
            </a:xfrm>
            <a:prstGeom prst="line">
              <a:avLst/>
            </a:prstGeom>
            <a:ln w="2844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268360" y="2636640"/>
              <a:ext cx="79056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3"/>
          <a:srcRect l="2374" t="0" r="0" b="0"/>
          <a:stretch/>
        </p:blipFill>
        <p:spPr>
          <a:xfrm>
            <a:off x="108000" y="235584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7640" y="234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652480" y="3598560"/>
            <a:ext cx="814680" cy="712800"/>
            <a:chOff x="2652480" y="3598560"/>
            <a:chExt cx="814680" cy="712800"/>
          </a:xfrm>
        </p:grpSpPr>
        <p:sp>
          <p:nvSpPr>
            <p:cNvPr id="221" name=""/>
            <p:cNvSpPr/>
            <p:nvPr/>
          </p:nvSpPr>
          <p:spPr>
            <a:xfrm flipH="1">
              <a:off x="2652480" y="3598560"/>
              <a:ext cx="712800" cy="712800"/>
            </a:xfrm>
            <a:prstGeom prst="line">
              <a:avLst/>
            </a:prstGeom>
            <a:ln w="2844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908440" y="3700440"/>
              <a:ext cx="558720" cy="55908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4"/>
          <a:srcRect l="2374" t="0" r="0" b="0"/>
          <a:stretch/>
        </p:blipFill>
        <p:spPr>
          <a:xfrm>
            <a:off x="685800" y="422748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045440" y="42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643280" y="4221000"/>
            <a:ext cx="144360" cy="1008000"/>
            <a:chOff x="4643280" y="4221000"/>
            <a:chExt cx="144360" cy="1008000"/>
          </a:xfrm>
        </p:grpSpPr>
        <p:sp>
          <p:nvSpPr>
            <p:cNvPr id="226" name=""/>
            <p:cNvSpPr/>
            <p:nvPr/>
          </p:nvSpPr>
          <p:spPr>
            <a:xfrm>
              <a:off x="4643280" y="4221000"/>
              <a:ext cx="0" cy="1008000"/>
            </a:xfrm>
            <a:prstGeom prst="line">
              <a:avLst/>
            </a:prstGeom>
            <a:ln w="2844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7640" y="4221000"/>
              <a:ext cx="0" cy="79056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5"/>
          <a:srcRect l="2374" t="0" r="0" b="0"/>
          <a:stretch/>
        </p:blipFill>
        <p:spPr>
          <a:xfrm>
            <a:off x="3635280" y="538020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9492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964120" y="3454200"/>
            <a:ext cx="712800" cy="814680"/>
            <a:chOff x="5964120" y="3454200"/>
            <a:chExt cx="712800" cy="814680"/>
          </a:xfrm>
        </p:grpSpPr>
        <p:sp>
          <p:nvSpPr>
            <p:cNvPr id="231" name=""/>
            <p:cNvSpPr/>
            <p:nvPr/>
          </p:nvSpPr>
          <p:spPr>
            <a:xfrm>
              <a:off x="5964120" y="3556080"/>
              <a:ext cx="712800" cy="712800"/>
            </a:xfrm>
            <a:prstGeom prst="line">
              <a:avLst/>
            </a:prstGeom>
            <a:ln w="2844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66000" y="3454200"/>
              <a:ext cx="559080" cy="55908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6"/>
          <a:srcRect l="2374" t="0" r="0" b="0"/>
          <a:stretch/>
        </p:blipFill>
        <p:spPr>
          <a:xfrm>
            <a:off x="6662880" y="437184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022160" y="4365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227640" y="2492640"/>
            <a:ext cx="1008000" cy="144360"/>
            <a:chOff x="6227640" y="2492640"/>
            <a:chExt cx="1008000" cy="144360"/>
          </a:xfrm>
        </p:grpSpPr>
        <p:sp>
          <p:nvSpPr>
            <p:cNvPr id="236" name=""/>
            <p:cNvSpPr/>
            <p:nvPr/>
          </p:nvSpPr>
          <p:spPr>
            <a:xfrm>
              <a:off x="6227640" y="2637000"/>
              <a:ext cx="1008000" cy="0"/>
            </a:xfrm>
            <a:prstGeom prst="line">
              <a:avLst/>
            </a:prstGeom>
            <a:ln w="28440">
              <a:solidFill>
                <a:srgbClr val="79a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27640" y="2492640"/>
              <a:ext cx="79056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7"/>
          <a:srcRect l="2374" t="0" r="0" b="0"/>
          <a:stretch/>
        </p:blipFill>
        <p:spPr>
          <a:xfrm>
            <a:off x="7305840" y="235584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665120" y="234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042920" y="907920"/>
            <a:ext cx="6985080" cy="1728720"/>
            <a:chOff x="1042920" y="907920"/>
            <a:chExt cx="6985080" cy="172872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1332000" y="1268280"/>
              <a:ext cx="78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042920" y="907920"/>
              <a:ext cx="6985080" cy="1728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68360" y="1268280"/>
              <a:ext cx="5543640" cy="100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40000" y="155556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05080" y="15555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042920" y="2637000"/>
            <a:ext cx="6985080" cy="1728720"/>
            <a:chOff x="1042920" y="2637000"/>
            <a:chExt cx="6985080" cy="1728720"/>
          </a:xfrm>
        </p:grpSpPr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1332000" y="2997360"/>
              <a:ext cx="78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042920" y="2637000"/>
              <a:ext cx="6985080" cy="1728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68360" y="2997360"/>
              <a:ext cx="5543640" cy="100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40000" y="32864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5080" y="328644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042920" y="4363920"/>
            <a:ext cx="6985080" cy="1728720"/>
            <a:chOff x="1042920" y="4363920"/>
            <a:chExt cx="6985080" cy="1728720"/>
          </a:xfrm>
        </p:grpSpPr>
        <p:pic>
          <p:nvPicPr>
            <p:cNvPr id="254" name="" descr=""/>
            <p:cNvPicPr/>
            <p:nvPr/>
          </p:nvPicPr>
          <p:blipFill>
            <a:blip r:embed="rId5"/>
            <a:stretch/>
          </p:blipFill>
          <p:spPr>
            <a:xfrm>
              <a:off x="1332000" y="4724280"/>
              <a:ext cx="78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042920" y="4363920"/>
              <a:ext cx="6985080" cy="1728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6"/>
              <a:srcRect/>
              <a:stretch/>
            </a:blip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8360" y="4724280"/>
              <a:ext cx="5543640" cy="100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40000" y="501156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5080" y="50115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835200" y="754200"/>
            <a:ext cx="443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01:21:1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31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