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880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368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392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880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368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880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3680" y="102384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1392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880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3680" y="3301920"/>
            <a:ext cx="272808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118800"/>
            <a:ext cx="554040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5520" y="330192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5520" y="1023840"/>
            <a:ext cx="4134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3920" y="3301920"/>
            <a:ext cx="8472600" cy="208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099C1FD-980D-434C-A9C0-98314F1B79F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2a79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2a79d0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2a79d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350B08C-EE6E-4EF3-8F98-56E0E49546D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95200" y="647640"/>
            <a:ext cx="552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92240" indent="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82680" algn="ctr">
              <a:spcBef>
                <a:spcPts val="601"/>
              </a:spcBef>
              <a:buClr>
                <a:srgbClr val="2a79d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563400" algn="ctr">
              <a:spcBef>
                <a:spcPts val="601"/>
              </a:spcBef>
              <a:buClr>
                <a:srgbClr val="2a79d0"/>
              </a:buClr>
              <a:buFont typeface="Wingdings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882720" algn="ctr">
              <a:spcBef>
                <a:spcPts val="1001"/>
              </a:spcBef>
              <a:buClr>
                <a:srgbClr val="2a79d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827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8272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5200" y="647640"/>
            <a:ext cx="552312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600"/>
            </a:br>
            <a:r>
              <a:rPr b="1" sz="36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94840" y="1866960"/>
            <a:ext cx="554220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35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eafa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280" y="118800"/>
            <a:ext cx="55404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3920" y="1023840"/>
            <a:ext cx="847260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e text demonstrates how your own text wil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look</a:t>
            </a:r>
            <a:br>
              <a:rPr sz="2000"/>
            </a:br>
            <a:r>
              <a:rPr b="1" sz="20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fffff"/>
                </a:solidFill>
                <a:latin typeface="Arial"/>
              </a:rPr>
              <a:t>you replace the placeholder with your own tex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is is a placeholder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This text can be replaced with your own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9191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Arial"/>
              </a:rPr>
              <a:t>If you don’t want to use the style and size of the fonts as used </a:t>
            </a:r>
            <a:br>
              <a:rPr sz="2000"/>
            </a:br>
            <a:r>
              <a:rPr b="1" sz="2000" spc="-1" strike="noStrike">
                <a:solidFill>
                  <a:srgbClr val="ffffff"/>
                </a:solidFill>
                <a:latin typeface="Arial"/>
              </a:rPr>
              <a:t>in this placeholder it is possible to replace it by selecting different op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For replacing the placeholder text you need to click on the placeholder text </a:t>
            </a:r>
            <a:br>
              <a:rPr sz="1800"/>
            </a:br>
            <a:r>
              <a:rPr b="0" sz="1800" spc="-1" strike="noStrike">
                <a:solidFill>
                  <a:srgbClr val="ffffff"/>
                </a:solidFill>
                <a:latin typeface="Arial"/>
              </a:rPr>
              <a:t>and insert your own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675"/>
              </a:spcBef>
              <a:buClr>
                <a:srgbClr val="919191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Arial"/>
              </a:rPr>
              <a:t>The text that you insert will retain the same style and format as the </a:t>
            </a:r>
            <a:br>
              <a:rPr sz="1800"/>
            </a:br>
            <a:r>
              <a:rPr b="0" sz="1800" spc="-1" strike="noStrike">
                <a:solidFill>
                  <a:srgbClr val="ffffff"/>
                </a:solidFill>
                <a:latin typeface="Arial"/>
              </a:rPr>
              <a:t>placeholder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280" y="59752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aeafae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33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