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45B-0657-4788-8C58-4702B92B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AD9-2985-49AC-8E34-469D95E8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DEF-1177-4063-BAF0-84078337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527-0073-40D0-8B54-5BD6EE05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1EE-C874-41A9-99C3-D2BCB76E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A22-8620-4AAF-A6C8-8F706B2B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46E-2CCD-4727-9D28-8209D89E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E3C-D145-4137-A15E-F531135F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013-8B3E-412C-8777-18921772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808-852D-4044-B2F2-69EB5E01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3F4-52FC-48D2-83A2-F255344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69D-6BB3-4AC9-8750-6A10439D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257C-1D92-43AE-BDB8-FDB853CA6F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4056120" y="192564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人简历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68520" y="127476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人爱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558800" y="307008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联系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574640" y="2470320"/>
            <a:ext cx="18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自我评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573200" y="185436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219320" y="1438200"/>
            <a:ext cx="241200" cy="2541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216080" y="2003400"/>
            <a:ext cx="239760" cy="25416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216080" y="2587680"/>
            <a:ext cx="239760" cy="25380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16080" y="3171960"/>
            <a:ext cx="239760" cy="25380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555920" y="3649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获奖情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565280" y="424512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性特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210680" y="3824280"/>
            <a:ext cx="239400" cy="25560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225440" y="4394160"/>
            <a:ext cx="239760" cy="254160"/>
          </a:xfrm>
          <a:prstGeom prst="diamond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43240" y="88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过渡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7280" y="390600"/>
            <a:ext cx="9115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人爱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2127240" y="1409760"/>
            <a:ext cx="45720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355840" y="2611440"/>
            <a:ext cx="4572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019320" y="1486080"/>
            <a:ext cx="8043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4d4d4d"/>
                </a:solidFill>
                <a:latin typeface="Calibri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4d4d4d"/>
                </a:solidFill>
                <a:latin typeface="Calibri"/>
                <a:ea typeface="微软雅黑"/>
              </a:rPr>
              <a:t>我性格活泼开朗，微笑是我的招牌。我爱唱歌、弹吉他、跳舞。幼年时曾作过许多色彩斑斓的梦，当个播音员、或者当一名电视节目主持人是我最大的梦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C05-CAA9-4159-8DF3-A0CCA9B9AC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3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