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7770-5EC5-4BC5-9774-4D43222C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024E-3FCD-46E8-A343-0C281582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CD39-9997-4CF7-AB86-3CD36A354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D643-6E3D-4E58-BA21-1DA614D7D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63F6-CA72-4534-B4B9-0078EA1AE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F2CB-268B-4264-9F67-B24957D5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620C-8A40-4B3A-B553-708C10BE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BBAF-61AA-401C-870B-308B5A6B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BEAC-8AC4-499A-9A2F-08F960D5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75B0-5AEA-405F-8405-43B84974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A406-6205-4C76-8BB9-AF9A962C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315D-A9D4-4372-A508-CFA79F06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5A1F-C084-4776-A60F-E47D179A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7F8E-A0DD-4581-9237-952139FA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CF20-F3F7-4310-9A59-7E4A9E44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225F-DEA5-4710-9F6F-DEE9FBF24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7D77-79F8-451F-AD6E-9025A8120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AA8E-2C32-4936-8709-78A14AC5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6EFA-B7A5-4251-9687-2A5E9267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3015-B198-4315-9A5F-AF5CBBDA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0771-4336-4F17-B06C-25189A2F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888C-49A2-4FD8-BF47-112E5A88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E59A-095D-4228-BCAF-79A97C57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F04B-AEB4-4B16-82BC-BF2F5027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356B-EDA3-49AC-B807-BAA68480414B}" type="slidenum"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D4A2-0F53-434D-8E39-1A454718E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60720" y="3076560"/>
            <a:ext cx="21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输入公司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演讲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41040" y="18900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公司会议流程方案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700360" y="2276640"/>
            <a:ext cx="454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输入目录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51400" y="3718080"/>
            <a:ext cx="45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输入目录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5229360"/>
            <a:ext cx="455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输入目录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52720" y="350208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输入目录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19280" y="350208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输入目录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00720" y="35020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输入目录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213372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44720" y="2637000"/>
            <a:ext cx="34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输入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16200" y="105264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输入目录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D7D2-EE13-4F00-9744-91F31F028C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0:52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