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77A-FD53-4D39-9E22-3D5E83FC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104-D693-4A24-B57A-23A02566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208-9A63-4EA2-9771-F6ACE72B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82B-3B6F-4A8D-847C-D7B5A598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564-1B7D-44E7-A803-AA32B13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284-1243-4A92-B428-2042507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D6B-9094-4DF2-9B2F-F8B79D6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BD7-AEA4-4F5B-8DEE-A862C7F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B0B-C39C-414C-A004-3A9AFFA8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2E7-A533-46E9-931B-941D33A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9E9-6AD1-4776-9F8D-45F248A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B7E-B803-4810-9490-5A0FA5E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DC9B-01C8-43B4-9340-1DA3222EFA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4576-3F1A-469A-A958-1F4C3C0A6E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11160" y="-353160"/>
            <a:ext cx="4275000" cy="4074480"/>
            <a:chOff x="-911160" y="-353160"/>
            <a:chExt cx="4275000" cy="4074480"/>
          </a:xfrm>
        </p:grpSpPr>
        <p:sp>
          <p:nvSpPr>
            <p:cNvPr id="42" name="矩形 1"/>
            <p:cNvSpPr/>
            <p:nvPr/>
          </p:nvSpPr>
          <p:spPr>
            <a:xfrm rot="19048800">
              <a:off x="-1071360" y="1027440"/>
              <a:ext cx="4596120" cy="1313280"/>
            </a:xfrm>
            <a:custGeom>
              <a:avLst/>
              <a:gdLst>
                <a:gd name="textAreaLeft" fmla="*/ 0 w 4596120"/>
                <a:gd name="textAreaRight" fmla="*/ 4596480 w 4596120"/>
                <a:gd name="textAreaTop" fmla="*/ 0 h 1313280"/>
                <a:gd name="textAreaBottom" fmla="*/ 1313640 h 1313280"/>
              </a:gdLst>
              <a:ahLst/>
              <a:rect l="textAreaLeft" t="textAreaTop" r="textAreaRight" b="textAreaBottom"/>
              <a:pathLst>
                <a:path w="4575639" h="1315256">
                  <a:moveTo>
                    <a:pt x="912914" y="333676"/>
                  </a:moveTo>
                  <a:lnTo>
                    <a:pt x="4055848" y="0"/>
                  </a:lnTo>
                  <a:lnTo>
                    <a:pt x="4575639" y="474374"/>
                  </a:lnTo>
                  <a:lnTo>
                    <a:pt x="0" y="1315256"/>
                  </a:lnTo>
                  <a:lnTo>
                    <a:pt x="912914" y="33367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1"/>
            <p:cNvSpPr/>
            <p:nvPr/>
          </p:nvSpPr>
          <p:spPr>
            <a:xfrm rot="18660000">
              <a:off x="-537840" y="108108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22"/>
            <p:cNvSpPr/>
            <p:nvPr/>
          </p:nvSpPr>
          <p:spPr>
            <a:xfrm rot="18480000">
              <a:off x="360" y="1204200"/>
              <a:ext cx="347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1"/>
          <p:cNvSpPr/>
          <p:nvPr/>
        </p:nvSpPr>
        <p:spPr>
          <a:xfrm rot="19048800">
            <a:off x="-950760" y="1090080"/>
            <a:ext cx="4348080" cy="1016280"/>
          </a:xfrm>
          <a:custGeom>
            <a:avLst/>
            <a:gdLst>
              <a:gd name="textAreaLeft" fmla="*/ 0 w 4348080"/>
              <a:gd name="textAreaRight" fmla="*/ 4348440 w 434808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4328737" h="1017343">
                <a:moveTo>
                  <a:pt x="516707" y="487219"/>
                </a:moveTo>
                <a:lnTo>
                  <a:pt x="3987195" y="0"/>
                </a:lnTo>
                <a:lnTo>
                  <a:pt x="4328737" y="310105"/>
                </a:lnTo>
                <a:lnTo>
                  <a:pt x="0" y="1017343"/>
                </a:lnTo>
                <a:lnTo>
                  <a:pt x="516707" y="487219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82080" y="2413080"/>
            <a:ext cx="9299160" cy="3515400"/>
            <a:chOff x="-82080" y="2413080"/>
            <a:chExt cx="9299160" cy="3515400"/>
          </a:xfrm>
        </p:grpSpPr>
        <p:sp>
          <p:nvSpPr>
            <p:cNvPr id="47" name="梯形 2"/>
            <p:cNvSpPr/>
            <p:nvPr/>
          </p:nvSpPr>
          <p:spPr>
            <a:xfrm>
              <a:off x="-33120" y="2413080"/>
              <a:ext cx="9179280" cy="3301920"/>
            </a:xfrm>
            <a:custGeom>
              <a:avLst/>
              <a:gdLst>
                <a:gd name="textAreaLeft" fmla="*/ 0 w 9179280"/>
                <a:gd name="textAreaRight" fmla="*/ 9179640 w 917928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9144032" h="3302003">
                  <a:moveTo>
                    <a:pt x="0" y="0"/>
                  </a:moveTo>
                  <a:lnTo>
                    <a:pt x="9141099" y="2140865"/>
                  </a:lnTo>
                  <a:cubicBezTo>
                    <a:pt x="9142077" y="2453324"/>
                    <a:pt x="9143054" y="2980117"/>
                    <a:pt x="9144032" y="3292576"/>
                  </a:cubicBezTo>
                  <a:lnTo>
                    <a:pt x="4180569" y="3302003"/>
                  </a:lnTo>
                  <a:lnTo>
                    <a:pt x="11018" y="1354753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0"/>
            <p:cNvSpPr/>
            <p:nvPr/>
          </p:nvSpPr>
          <p:spPr>
            <a:xfrm rot="780000">
              <a:off x="-60480" y="3488760"/>
              <a:ext cx="937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5"/>
            <p:cNvSpPr/>
            <p:nvPr/>
          </p:nvSpPr>
          <p:spPr>
            <a:xfrm rot="1500000">
              <a:off x="-272880" y="4597920"/>
              <a:ext cx="51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梯形 2"/>
          <p:cNvSpPr/>
          <p:nvPr/>
        </p:nvSpPr>
        <p:spPr>
          <a:xfrm>
            <a:off x="-41400" y="2644920"/>
            <a:ext cx="9164880" cy="3092400"/>
          </a:xfrm>
          <a:custGeom>
            <a:avLst/>
            <a:gdLst>
              <a:gd name="textAreaLeft" fmla="*/ 0 w 9164880"/>
              <a:gd name="textAreaRight" fmla="*/ 9165240 w 916488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9168966" h="3093163">
                <a:moveTo>
                  <a:pt x="4705601" y="3093163"/>
                </a:moveTo>
                <a:lnTo>
                  <a:pt x="8468" y="879224"/>
                </a:lnTo>
                <a:cubicBezTo>
                  <a:pt x="5645" y="586149"/>
                  <a:pt x="2823" y="293075"/>
                  <a:pt x="0" y="0"/>
                </a:cubicBezTo>
                <a:lnTo>
                  <a:pt x="0" y="0"/>
                </a:lnTo>
                <a:lnTo>
                  <a:pt x="9166033" y="2146359"/>
                </a:lnTo>
                <a:cubicBezTo>
                  <a:pt x="9167011" y="2458818"/>
                  <a:pt x="9167988" y="2771277"/>
                  <a:pt x="9168966" y="3083736"/>
                </a:cubicBezTo>
                <a:lnTo>
                  <a:pt x="4705601" y="309316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6680" y="660240"/>
            <a:ext cx="6156360" cy="2675880"/>
            <a:chOff x="1066680" y="660240"/>
            <a:chExt cx="6156360" cy="2675880"/>
          </a:xfrm>
        </p:grpSpPr>
        <p:sp>
          <p:nvSpPr>
            <p:cNvPr id="52" name="矩形 18"/>
            <p:cNvSpPr/>
            <p:nvPr/>
          </p:nvSpPr>
          <p:spPr>
            <a:xfrm>
              <a:off x="2987640" y="17568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公司名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9"/>
            <p:cNvSpPr/>
            <p:nvPr/>
          </p:nvSpPr>
          <p:spPr>
            <a:xfrm>
              <a:off x="5012280" y="299880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Times New Roman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7"/>
            <p:cNvSpPr/>
            <p:nvPr/>
          </p:nvSpPr>
          <p:spPr>
            <a:xfrm>
              <a:off x="5207400" y="2374560"/>
              <a:ext cx="18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汇报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066680" y="660240"/>
              <a:ext cx="6156360" cy="910080"/>
              <a:chOff x="1066680" y="660240"/>
              <a:chExt cx="6156360" cy="910080"/>
            </a:xfrm>
          </p:grpSpPr>
          <p:pic>
            <p:nvPicPr>
              <p:cNvPr id="5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764640"/>
                <a:ext cx="2163960" cy="79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标题 1"/>
              <p:cNvSpPr/>
              <p:nvPr/>
            </p:nvSpPr>
            <p:spPr>
              <a:xfrm>
                <a:off x="2320920" y="660240"/>
                <a:ext cx="489240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公司述职报告幻灯片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26"/>
              <p:cNvSpPr/>
              <p:nvPr/>
            </p:nvSpPr>
            <p:spPr>
              <a:xfrm>
                <a:off x="3192480" y="1570320"/>
                <a:ext cx="403056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矩形 38"/>
          <p:cNvSpPr/>
          <p:nvPr/>
        </p:nvSpPr>
        <p:spPr>
          <a:xfrm rot="18639000">
            <a:off x="-225360" y="40464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Impact"/>
                <a:ea typeface="SimSun-ExtB"/>
              </a:rPr>
              <a:t>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40200" y="2730960"/>
            <a:ext cx="4982040" cy="3564000"/>
            <a:chOff x="1240200" y="2730960"/>
            <a:chExt cx="4982040" cy="3564000"/>
          </a:xfrm>
        </p:grpSpPr>
        <p:sp>
          <p:nvSpPr>
            <p:cNvPr id="61" name="矩形 41"/>
            <p:cNvSpPr/>
            <p:nvPr/>
          </p:nvSpPr>
          <p:spPr>
            <a:xfrm rot="1468800">
              <a:off x="1576800" y="2858400"/>
              <a:ext cx="10159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42"/>
            <p:cNvSpPr/>
            <p:nvPr/>
          </p:nvSpPr>
          <p:spPr>
            <a:xfrm rot="1468800">
              <a:off x="2570040" y="3099960"/>
              <a:ext cx="112392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0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43"/>
            <p:cNvSpPr/>
            <p:nvPr/>
          </p:nvSpPr>
          <p:spPr>
            <a:xfrm rot="1468800">
              <a:off x="3479400" y="3337200"/>
              <a:ext cx="123372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5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1</a:t>
              </a:r>
              <a:endParaRPr b="0" lang="en-US" sz="1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4"/>
            <p:cNvSpPr/>
            <p:nvPr/>
          </p:nvSpPr>
          <p:spPr>
            <a:xfrm rot="1468800">
              <a:off x="4415760" y="3598560"/>
              <a:ext cx="1342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2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9200" y="53499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3203640" y="336600"/>
            <a:ext cx="31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微软雅黑"/>
              </a:rPr>
              <a:t>汇 报 内 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11520" y="1140840"/>
            <a:ext cx="4054680" cy="3744000"/>
            <a:chOff x="2711520" y="1140840"/>
            <a:chExt cx="4054680" cy="3744000"/>
          </a:xfrm>
        </p:grpSpPr>
        <p:grpSp>
          <p:nvGrpSpPr>
            <p:cNvPr id="68" name=""/>
            <p:cNvGrpSpPr/>
            <p:nvPr/>
          </p:nvGrpSpPr>
          <p:grpSpPr>
            <a:xfrm>
              <a:off x="2711520" y="1140840"/>
              <a:ext cx="4054680" cy="3744000"/>
              <a:chOff x="2711520" y="1140840"/>
              <a:chExt cx="4054680" cy="37440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782800" y="1140840"/>
                <a:ext cx="3983400" cy="3744000"/>
                <a:chOff x="2782800" y="1140840"/>
                <a:chExt cx="3983400" cy="3744000"/>
              </a:xfrm>
            </p:grpSpPr>
            <p:sp>
              <p:nvSpPr>
                <p:cNvPr id="70" name="泪滴形 109"/>
                <p:cNvSpPr/>
                <p:nvPr/>
              </p:nvSpPr>
              <p:spPr>
                <a:xfrm>
                  <a:off x="3020760" y="3149640"/>
                  <a:ext cx="1519200" cy="1519200"/>
                </a:xfrm>
                <a:custGeom>
                  <a:avLst/>
                  <a:gdLst>
                    <a:gd name="textAreaLeft" fmla="*/ 0 w 1519200"/>
                    <a:gd name="textAreaRight" fmla="*/ 1519560 w 1519200"/>
                    <a:gd name="textAreaTop" fmla="*/ 0 h 1519200"/>
                    <a:gd name="textAreaBottom" fmla="*/ 1519560 h 1519200"/>
                  </a:gdLst>
                  <a:ahLst/>
                  <a:rect l="textAreaLeft" t="textAreaTop" r="textAreaRight" b="textAreaBottom"/>
                  <a:pathLst>
                    <a:path w="1519313" h="1519463">
                      <a:moveTo>
                        <a:pt x="0" y="759731"/>
                      </a:moveTo>
                      <a:lnTo>
                        <a:pt x="0" y="759731"/>
                      </a:lnTo>
                      <a:arcTo wR="759656" hR="759731" stAng="10800000" swAng="5400000"/>
                      <a:lnTo>
                        <a:pt x="1329399" y="0"/>
                      </a:lnTo>
                      <a:arcTo wR="189915" hR="0" stAng="0" swAng="0"/>
                      <a:lnTo>
                        <a:pt x="1519313" y="759731"/>
                      </a:lnTo>
                      <a:arcTo wR="759656" hR="759731" stAng="0" swAng="5400000"/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泪滴形 107"/>
                <p:cNvSpPr/>
                <p:nvPr/>
              </p:nvSpPr>
              <p:spPr>
                <a:xfrm flipH="1">
                  <a:off x="4635720" y="3149640"/>
                  <a:ext cx="1735200" cy="1735200"/>
                </a:xfrm>
                <a:custGeom>
                  <a:avLst/>
                  <a:gdLst>
                    <a:gd name="textAreaLeft" fmla="*/ 360 w 1735200"/>
                    <a:gd name="textAreaRight" fmla="*/ 1735920 w 1735200"/>
                    <a:gd name="textAreaTop" fmla="*/ 0 h 1735200"/>
                    <a:gd name="textAreaBottom" fmla="*/ 1735560 h 1735200"/>
                  </a:gdLst>
                  <a:ahLst/>
                  <a:rect l="textAreaLeft" t="textAreaTop" r="textAreaRight" b="textAreaBottom"/>
                  <a:pathLst>
                    <a:path w="1735225" h="1735395">
                      <a:moveTo>
                        <a:pt x="0" y="867697"/>
                      </a:moveTo>
                      <a:lnTo>
                        <a:pt x="0" y="867697"/>
                      </a:lnTo>
                      <a:arcTo wR="867612" hR="867697" stAng="10800000" swAng="5400000"/>
                      <a:lnTo>
                        <a:pt x="1518322" y="0"/>
                      </a:lnTo>
                      <a:arcTo wR="216904" hR="0" stAng="0" swAng="0"/>
                      <a:lnTo>
                        <a:pt x="1735225" y="867697"/>
                      </a:lnTo>
                      <a:arcTo wR="867612" hR="867697" stAng="0" swAng="5400000"/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泪滴形 95"/>
                <p:cNvSpPr/>
                <p:nvPr/>
              </p:nvSpPr>
              <p:spPr>
                <a:xfrm flipH="1" rot="10800000">
                  <a:off x="3156480" y="1734840"/>
                  <a:ext cx="1359000" cy="1357200"/>
                </a:xfrm>
                <a:custGeom>
                  <a:avLst/>
                  <a:gdLst>
                    <a:gd name="textAreaLeft" fmla="*/ -360 w 1359000"/>
                    <a:gd name="textAreaRight" fmla="*/ 1359000 w 1359000"/>
                    <a:gd name="textAreaTop" fmla="*/ 0 h 1357200"/>
                    <a:gd name="textAreaBottom" fmla="*/ 1357200 h 1357200"/>
                  </a:gdLst>
                  <a:ahLst/>
                  <a:rect l="textAreaLeft" t="textAreaTop" r="textAreaRight" b="textAreaBottom"/>
                  <a:pathLst>
                    <a:path w="1358968" h="1357513">
                      <a:moveTo>
                        <a:pt x="0" y="678756"/>
                      </a:moveTo>
                      <a:lnTo>
                        <a:pt x="0" y="678756"/>
                      </a:lnTo>
                      <a:arcTo wR="679484" hR="678756" stAng="10800000" swAng="5400000"/>
                      <a:lnTo>
                        <a:pt x="1189097" y="0"/>
                      </a:lnTo>
                      <a:arcTo wR="169871" hR="0" stAng="0" swAng="0"/>
                      <a:lnTo>
                        <a:pt x="1358968" y="678756"/>
                      </a:lnTo>
                      <a:arcTo wR="679484" hR="678756" stAng="0" swAng="5400000"/>
                      <a:close/>
                    </a:path>
                  </a:pathLst>
                </a:cu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泪滴形 105"/>
                <p:cNvSpPr/>
                <p:nvPr/>
              </p:nvSpPr>
              <p:spPr>
                <a:xfrm flipH="1" rot="16200000">
                  <a:off x="4625640" y="1488960"/>
                  <a:ext cx="1575000" cy="1574640"/>
                </a:xfrm>
                <a:custGeom>
                  <a:avLst/>
                  <a:gdLst>
                    <a:gd name="textAreaLeft" fmla="*/ -360 w 1575000"/>
                    <a:gd name="textAreaRight" fmla="*/ 1575000 w 1575000"/>
                    <a:gd name="textAreaTop" fmla="*/ 0 h 1574640"/>
                    <a:gd name="textAreaBottom" fmla="*/ 1575000 h 1574640"/>
                  </a:gdLst>
                  <a:ahLst/>
                  <a:rect l="textAreaLeft" t="textAreaTop" r="textAreaRight" b="textAreaBottom"/>
                  <a:pathLst>
                    <a:path w="1575033" h="1574879">
                      <a:moveTo>
                        <a:pt x="0" y="787439"/>
                      </a:moveTo>
                      <a:lnTo>
                        <a:pt x="0" y="787439"/>
                      </a:lnTo>
                      <a:arcTo wR="787516" hR="787439" stAng="10800000" swAng="5400000"/>
                      <a:lnTo>
                        <a:pt x="1378154" y="0"/>
                      </a:lnTo>
                      <a:arcTo wR="196880" hR="0" stAng="0" swAng="0"/>
                      <a:lnTo>
                        <a:pt x="1575033" y="787439"/>
                      </a:lnTo>
                      <a:arcTo wR="787516" hR="787439" stAng="0" swAng="5400000"/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新月形 100"/>
                <p:cNvSpPr/>
                <p:nvPr/>
              </p:nvSpPr>
              <p:spPr>
                <a:xfrm rot="3501600">
                  <a:off x="3341880" y="1287000"/>
                  <a:ext cx="716400" cy="171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767" y="1065"/>
                        <a:pt x="5934" y="5080"/>
                        <a:pt x="5934" y="10800"/>
                      </a:cubicBezTo>
                      <a:cubicBezTo>
                        <a:pt x="5934" y="16520"/>
                        <a:pt x="13767" y="2053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新月形 103"/>
                <p:cNvSpPr/>
                <p:nvPr/>
              </p:nvSpPr>
              <p:spPr>
                <a:xfrm rot="3501600">
                  <a:off x="4760280" y="1043280"/>
                  <a:ext cx="716400" cy="169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767" y="1065"/>
                        <a:pt x="5934" y="5080"/>
                        <a:pt x="5934" y="10800"/>
                      </a:cubicBezTo>
                      <a:cubicBezTo>
                        <a:pt x="5934" y="16520"/>
                        <a:pt x="13767" y="2053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新月形 104"/>
                <p:cNvSpPr/>
                <p:nvPr/>
              </p:nvSpPr>
              <p:spPr>
                <a:xfrm rot="8052600">
                  <a:off x="5551200" y="2827800"/>
                  <a:ext cx="716400" cy="169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767" y="1065"/>
                        <a:pt x="5934" y="5080"/>
                        <a:pt x="5934" y="10800"/>
                      </a:cubicBezTo>
                      <a:cubicBezTo>
                        <a:pt x="5934" y="16520"/>
                        <a:pt x="13767" y="2053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新月形 92"/>
              <p:cNvSpPr/>
              <p:nvPr/>
            </p:nvSpPr>
            <p:spPr>
              <a:xfrm rot="2512200">
                <a:off x="3124800" y="2873160"/>
                <a:ext cx="716400" cy="151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矩形 1"/>
            <p:cNvSpPr/>
            <p:nvPr/>
          </p:nvSpPr>
          <p:spPr>
            <a:xfrm>
              <a:off x="4150800" y="261468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​​ 43"/>
            <p:cNvSpPr/>
            <p:nvPr/>
          </p:nvSpPr>
          <p:spPr>
            <a:xfrm>
              <a:off x="3407400" y="2090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​​ 44"/>
            <p:cNvSpPr/>
            <p:nvPr/>
          </p:nvSpPr>
          <p:spPr>
            <a:xfrm>
              <a:off x="4955400" y="209232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​​ 46"/>
            <p:cNvSpPr/>
            <p:nvPr/>
          </p:nvSpPr>
          <p:spPr>
            <a:xfrm>
              <a:off x="4955400" y="360324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​​ 45"/>
            <p:cNvSpPr/>
            <p:nvPr/>
          </p:nvSpPr>
          <p:spPr>
            <a:xfrm>
              <a:off x="3407400" y="360324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15"/>
            <p:cNvSpPr/>
            <p:nvPr/>
          </p:nvSpPr>
          <p:spPr>
            <a:xfrm>
              <a:off x="4150800" y="309888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16"/>
            <p:cNvSpPr/>
            <p:nvPr/>
          </p:nvSpPr>
          <p:spPr>
            <a:xfrm>
              <a:off x="4583160" y="259560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17"/>
            <p:cNvSpPr/>
            <p:nvPr/>
          </p:nvSpPr>
          <p:spPr>
            <a:xfrm>
              <a:off x="4583160" y="309888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22"/>
          <p:cNvSpPr/>
          <p:nvPr/>
        </p:nvSpPr>
        <p:spPr>
          <a:xfrm>
            <a:off x="3000240" y="1071720"/>
            <a:ext cx="3357720" cy="1440"/>
          </a:xfrm>
          <a:prstGeom prst="line">
            <a:avLst/>
          </a:prstGeom>
          <a:ln w="93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755640" y="120600"/>
            <a:ext cx="6048360" cy="789120"/>
            <a:chOff x="755640" y="120600"/>
            <a:chExt cx="6048360" cy="789120"/>
          </a:xfrm>
        </p:grpSpPr>
        <p:sp>
          <p:nvSpPr>
            <p:cNvPr id="89" name="矩形 8"/>
            <p:cNvSpPr/>
            <p:nvPr/>
          </p:nvSpPr>
          <p:spPr>
            <a:xfrm>
              <a:off x="5304240" y="326520"/>
              <a:ext cx="149976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3793680" y="326520"/>
              <a:ext cx="149976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9"/>
            <p:cNvSpPr/>
            <p:nvPr/>
          </p:nvSpPr>
          <p:spPr>
            <a:xfrm>
              <a:off x="2281680" y="326520"/>
              <a:ext cx="149976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0"/>
            <p:cNvSpPr/>
            <p:nvPr/>
          </p:nvSpPr>
          <p:spPr>
            <a:xfrm>
              <a:off x="755640" y="120600"/>
              <a:ext cx="1500840" cy="777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6"/>
            <p:cNvSpPr/>
            <p:nvPr/>
          </p:nvSpPr>
          <p:spPr>
            <a:xfrm>
              <a:off x="5302440" y="398520"/>
              <a:ext cx="14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8"/>
            <p:cNvSpPr/>
            <p:nvPr/>
          </p:nvSpPr>
          <p:spPr>
            <a:xfrm>
              <a:off x="3814920" y="398520"/>
              <a:ext cx="14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20"/>
            <p:cNvSpPr/>
            <p:nvPr/>
          </p:nvSpPr>
          <p:spPr>
            <a:xfrm>
              <a:off x="2506320" y="3985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1042920" y="3985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55640" y="120600"/>
            <a:ext cx="6048360" cy="789120"/>
            <a:chOff x="755640" y="120600"/>
            <a:chExt cx="6048360" cy="789120"/>
          </a:xfrm>
        </p:grpSpPr>
        <p:sp>
          <p:nvSpPr>
            <p:cNvPr id="98" name="矩形 8"/>
            <p:cNvSpPr/>
            <p:nvPr/>
          </p:nvSpPr>
          <p:spPr>
            <a:xfrm>
              <a:off x="5303880" y="326520"/>
              <a:ext cx="150012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7"/>
            <p:cNvSpPr/>
            <p:nvPr/>
          </p:nvSpPr>
          <p:spPr>
            <a:xfrm>
              <a:off x="3793320" y="326520"/>
              <a:ext cx="150012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9"/>
            <p:cNvSpPr/>
            <p:nvPr/>
          </p:nvSpPr>
          <p:spPr>
            <a:xfrm>
              <a:off x="755640" y="326520"/>
              <a:ext cx="1500120" cy="58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2267640" y="120600"/>
              <a:ext cx="1501200" cy="777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5302080" y="39852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3814560" y="398520"/>
              <a:ext cx="14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20"/>
            <p:cNvSpPr/>
            <p:nvPr/>
          </p:nvSpPr>
          <p:spPr>
            <a:xfrm>
              <a:off x="2600280" y="3985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1"/>
            <p:cNvSpPr/>
            <p:nvPr/>
          </p:nvSpPr>
          <p:spPr>
            <a:xfrm>
              <a:off x="1042200" y="3985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A2A-EB3C-42E3-8A7E-DA5CA3021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-911160" y="-353160"/>
            <a:ext cx="4275000" cy="4074480"/>
            <a:chOff x="-911160" y="-353160"/>
            <a:chExt cx="4275000" cy="4074480"/>
          </a:xfrm>
        </p:grpSpPr>
        <p:sp>
          <p:nvSpPr>
            <p:cNvPr id="110" name="矩形 1"/>
            <p:cNvSpPr/>
            <p:nvPr/>
          </p:nvSpPr>
          <p:spPr>
            <a:xfrm rot="19048800">
              <a:off x="-1071360" y="1027440"/>
              <a:ext cx="4596120" cy="1313280"/>
            </a:xfrm>
            <a:custGeom>
              <a:avLst/>
              <a:gdLst>
                <a:gd name="textAreaLeft" fmla="*/ 0 w 4596120"/>
                <a:gd name="textAreaRight" fmla="*/ 4596480 w 4596120"/>
                <a:gd name="textAreaTop" fmla="*/ 0 h 1313280"/>
                <a:gd name="textAreaBottom" fmla="*/ 1313640 h 1313280"/>
              </a:gdLst>
              <a:ahLst/>
              <a:rect l="textAreaLeft" t="textAreaTop" r="textAreaRight" b="textAreaBottom"/>
              <a:pathLst>
                <a:path w="4575639" h="1315256">
                  <a:moveTo>
                    <a:pt x="912914" y="333676"/>
                  </a:moveTo>
                  <a:lnTo>
                    <a:pt x="4055848" y="0"/>
                  </a:lnTo>
                  <a:lnTo>
                    <a:pt x="4575639" y="474374"/>
                  </a:lnTo>
                  <a:lnTo>
                    <a:pt x="0" y="1315256"/>
                  </a:lnTo>
                  <a:lnTo>
                    <a:pt x="912914" y="33367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1"/>
            <p:cNvSpPr/>
            <p:nvPr/>
          </p:nvSpPr>
          <p:spPr>
            <a:xfrm rot="18660000">
              <a:off x="-537840" y="108108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2"/>
            <p:cNvSpPr/>
            <p:nvPr/>
          </p:nvSpPr>
          <p:spPr>
            <a:xfrm rot="18480000">
              <a:off x="360" y="1204200"/>
              <a:ext cx="347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"/>
          <p:cNvSpPr/>
          <p:nvPr/>
        </p:nvSpPr>
        <p:spPr>
          <a:xfrm rot="19048800">
            <a:off x="-950760" y="1090080"/>
            <a:ext cx="4348080" cy="1016280"/>
          </a:xfrm>
          <a:custGeom>
            <a:avLst/>
            <a:gdLst>
              <a:gd name="textAreaLeft" fmla="*/ 0 w 4348080"/>
              <a:gd name="textAreaRight" fmla="*/ 4348440 w 434808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4328737" h="1017343">
                <a:moveTo>
                  <a:pt x="516707" y="487219"/>
                </a:moveTo>
                <a:lnTo>
                  <a:pt x="3987195" y="0"/>
                </a:lnTo>
                <a:lnTo>
                  <a:pt x="4328737" y="310105"/>
                </a:lnTo>
                <a:lnTo>
                  <a:pt x="0" y="1017343"/>
                </a:lnTo>
                <a:lnTo>
                  <a:pt x="516707" y="487219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82080" y="2413080"/>
            <a:ext cx="9299160" cy="3515400"/>
            <a:chOff x="-82080" y="2413080"/>
            <a:chExt cx="9299160" cy="3515400"/>
          </a:xfrm>
        </p:grpSpPr>
        <p:sp>
          <p:nvSpPr>
            <p:cNvPr id="115" name="梯形 2"/>
            <p:cNvSpPr/>
            <p:nvPr/>
          </p:nvSpPr>
          <p:spPr>
            <a:xfrm>
              <a:off x="-33120" y="2413080"/>
              <a:ext cx="9179280" cy="3301920"/>
            </a:xfrm>
            <a:custGeom>
              <a:avLst/>
              <a:gdLst>
                <a:gd name="textAreaLeft" fmla="*/ 0 w 9179280"/>
                <a:gd name="textAreaRight" fmla="*/ 9179640 w 917928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9144032" h="3302003">
                  <a:moveTo>
                    <a:pt x="0" y="0"/>
                  </a:moveTo>
                  <a:lnTo>
                    <a:pt x="9141099" y="2140865"/>
                  </a:lnTo>
                  <a:cubicBezTo>
                    <a:pt x="9142077" y="2453324"/>
                    <a:pt x="9143054" y="2980117"/>
                    <a:pt x="9144032" y="3292576"/>
                  </a:cubicBezTo>
                  <a:lnTo>
                    <a:pt x="4180569" y="3302003"/>
                  </a:lnTo>
                  <a:lnTo>
                    <a:pt x="11018" y="1354753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30"/>
            <p:cNvSpPr/>
            <p:nvPr/>
          </p:nvSpPr>
          <p:spPr>
            <a:xfrm rot="780000">
              <a:off x="-60480" y="3488760"/>
              <a:ext cx="937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35"/>
            <p:cNvSpPr/>
            <p:nvPr/>
          </p:nvSpPr>
          <p:spPr>
            <a:xfrm rot="1500000">
              <a:off x="-272880" y="4597920"/>
              <a:ext cx="51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ort Department Export Management Export Department Export Management</a:t>
              </a: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Ex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梯形 2"/>
          <p:cNvSpPr/>
          <p:nvPr/>
        </p:nvSpPr>
        <p:spPr>
          <a:xfrm>
            <a:off x="-12600" y="2633760"/>
            <a:ext cx="9164520" cy="3092400"/>
          </a:xfrm>
          <a:custGeom>
            <a:avLst/>
            <a:gdLst>
              <a:gd name="textAreaLeft" fmla="*/ 0 w 9164520"/>
              <a:gd name="textAreaRight" fmla="*/ 9164880 w 916452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9168966" h="3093163">
                <a:moveTo>
                  <a:pt x="4705601" y="3093163"/>
                </a:moveTo>
                <a:lnTo>
                  <a:pt x="8468" y="879224"/>
                </a:lnTo>
                <a:cubicBezTo>
                  <a:pt x="5645" y="586149"/>
                  <a:pt x="2823" y="293075"/>
                  <a:pt x="0" y="0"/>
                </a:cubicBezTo>
                <a:lnTo>
                  <a:pt x="0" y="0"/>
                </a:lnTo>
                <a:lnTo>
                  <a:pt x="9166033" y="2146359"/>
                </a:lnTo>
                <a:cubicBezTo>
                  <a:pt x="9167011" y="2458818"/>
                  <a:pt x="9167988" y="2771277"/>
                  <a:pt x="9168966" y="3083736"/>
                </a:cubicBezTo>
                <a:lnTo>
                  <a:pt x="4705601" y="309316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8"/>
          <p:cNvSpPr/>
          <p:nvPr/>
        </p:nvSpPr>
        <p:spPr>
          <a:xfrm rot="18639000">
            <a:off x="-225360" y="40464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Impact"/>
                <a:ea typeface="SimSun-ExtB"/>
              </a:rPr>
              <a:t>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63960" y="2730960"/>
            <a:ext cx="4982040" cy="3564000"/>
            <a:chOff x="1263960" y="2730960"/>
            <a:chExt cx="4982040" cy="3564000"/>
          </a:xfrm>
        </p:grpSpPr>
        <p:sp>
          <p:nvSpPr>
            <p:cNvPr id="121" name="矩形 41"/>
            <p:cNvSpPr/>
            <p:nvPr/>
          </p:nvSpPr>
          <p:spPr>
            <a:xfrm rot="1468800">
              <a:off x="1600560" y="2858400"/>
              <a:ext cx="10159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42"/>
            <p:cNvSpPr/>
            <p:nvPr/>
          </p:nvSpPr>
          <p:spPr>
            <a:xfrm rot="1468800">
              <a:off x="2593800" y="3099960"/>
              <a:ext cx="112392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0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43"/>
            <p:cNvSpPr/>
            <p:nvPr/>
          </p:nvSpPr>
          <p:spPr>
            <a:xfrm rot="1468800">
              <a:off x="3503160" y="3337200"/>
              <a:ext cx="123372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5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1</a:t>
              </a:r>
              <a:endParaRPr b="0" lang="en-US" sz="1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44"/>
            <p:cNvSpPr/>
            <p:nvPr/>
          </p:nvSpPr>
          <p:spPr>
            <a:xfrm rot="1468800">
              <a:off x="4439520" y="3598560"/>
              <a:ext cx="1342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0" spc="-1" strike="noStrike">
                  <a:solidFill>
                    <a:srgbClr val="ffffff"/>
                  </a:solidFill>
                  <a:latin typeface="Impact"/>
                  <a:ea typeface="SimSun-ExtB"/>
                </a:rPr>
                <a:t>2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标题 1"/>
          <p:cNvSpPr/>
          <p:nvPr/>
        </p:nvSpPr>
        <p:spPr>
          <a:xfrm>
            <a:off x="1835280" y="1500120"/>
            <a:ext cx="6879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 谢 大 家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50"/>
                            </p:stCondLst>
                            <p:childTnLst>
                              <p:par>
                                <p:cTn id="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6:40:00Z</dcterms:created>
  <dc:creator>幻灯片之家：www.eeppt.com</dc:creator>
  <dc:description>幻灯片之家：www.eeppt.com</dc:description>
  <cp:keywords>幻灯片之家：www.eeppt.com</cp:keywords>
  <dc:language>en-US</dc:language>
  <cp:lastModifiedBy>Liukunfa</cp:lastModifiedBy>
  <dcterms:modified xsi:type="dcterms:W3CDTF">2015-08-12T14:34:0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