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10691813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B2CC-E079-468A-AF8C-25755369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1EDD-DF08-402B-9F60-E0DAD1D93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36AF-F69A-4276-9B35-12028C85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EACE-32B4-4D4E-984C-C41D7E53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A3FC-4A6D-4908-8874-BE34EE82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9F1A-39C1-40D4-9F96-9A4CAE0A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0DBD-B42C-4872-9807-C53F411D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165E9-EAED-4AAF-B9DF-1CCF3E067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8A76-6379-4C7F-9438-65B0BD1CA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6306-1C2F-4BF9-AC1E-C55946AD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5FA8-2431-428C-9318-00AD43FE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4E3A-F2CE-4301-9CDA-1D6025F2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E8B3D-41E8-48CB-B46E-C7F73B8B5B08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4454-233A-4344-9F03-802E94D6945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cc70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887760" y="2413080"/>
            <a:ext cx="657828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HAPPYMELLY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144000" y="3594240"/>
            <a:ext cx="101581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VIDEOINSTRUCTION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920" y="7056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00160" y="50328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国外的卡通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"/>
          <p:cNvSpPr/>
          <p:nvPr/>
        </p:nvSpPr>
        <p:spPr>
          <a:xfrm>
            <a:off x="3699720" y="2425680"/>
            <a:ext cx="3170520" cy="26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899"/>
              </a:lnSpc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VIDEO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400"/>
              </a:lnSpc>
              <a:tabLst>
                <a:tab algn="l" pos="0"/>
                <a:tab algn="l" pos="88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KG Skinny Latte"/>
              </a:rPr>
              <a:t>	</a:t>
            </a: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LIGH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reeform 3"/>
          <p:cNvSpPr/>
          <p:nvPr/>
        </p:nvSpPr>
        <p:spPr>
          <a:xfrm>
            <a:off x="2155680" y="3784680"/>
            <a:ext cx="4016520" cy="1299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1071720" y="2438280"/>
            <a:ext cx="59749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4.DAYLIGH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"/>
          <p:cNvSpPr/>
          <p:nvPr/>
        </p:nvSpPr>
        <p:spPr>
          <a:xfrm>
            <a:off x="2162160" y="4457880"/>
            <a:ext cx="42969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lways check whether you have en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light. Film preferably during the day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ptimal light condi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reeform 3"/>
          <p:cNvSpPr/>
          <p:nvPr/>
        </p:nvSpPr>
        <p:spPr>
          <a:xfrm>
            <a:off x="0" y="0"/>
            <a:ext cx="10691640" cy="754056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3987720" y="3279600"/>
            <a:ext cx="2714760" cy="34308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4848120" y="2239920"/>
            <a:ext cx="9939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-15840" y="66200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649440" y="423720"/>
            <a:ext cx="1479240" cy="136872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8694720" y="0"/>
            <a:ext cx="1996920" cy="3944880"/>
          </a:xfrm>
          <a:prstGeom prst="pie">
            <a:avLst/>
          </a:prstGeom>
          <a:solidFill>
            <a:srgbClr val="fbd11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9118440" y="406440"/>
            <a:ext cx="1573200" cy="3124080"/>
          </a:xfrm>
          <a:prstGeom prst="rect">
            <a:avLst/>
          </a:prstGeom>
          <a:ln w="0">
            <a:noFill/>
          </a:ln>
        </p:spPr>
      </p:pic>
      <p:sp>
        <p:nvSpPr>
          <p:cNvPr id="116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reeform 3"/>
          <p:cNvSpPr/>
          <p:nvPr/>
        </p:nvSpPr>
        <p:spPr>
          <a:xfrm>
            <a:off x="2098800" y="3773520"/>
            <a:ext cx="5887800" cy="1220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1"/>
          <p:cNvSpPr/>
          <p:nvPr/>
        </p:nvSpPr>
        <p:spPr>
          <a:xfrm>
            <a:off x="303840" y="2438280"/>
            <a:ext cx="963864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5.ARTIFICIAL LIGH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"/>
          <p:cNvSpPr/>
          <p:nvPr/>
        </p:nvSpPr>
        <p:spPr>
          <a:xfrm>
            <a:off x="2171160" y="4457880"/>
            <a:ext cx="48348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pply the right camera settings when fil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inside using artificial light so that your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doesn’t appear dark or yel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3"/>
          <p:cNvSpPr/>
          <p:nvPr/>
        </p:nvSpPr>
        <p:spPr>
          <a:xfrm>
            <a:off x="650880" y="414360"/>
            <a:ext cx="1763640" cy="136836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3"/>
          <p:cNvSpPr/>
          <p:nvPr/>
        </p:nvSpPr>
        <p:spPr>
          <a:xfrm>
            <a:off x="9820440" y="3621240"/>
            <a:ext cx="320400" cy="320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3"/>
          <p:cNvSpPr/>
          <p:nvPr/>
        </p:nvSpPr>
        <p:spPr>
          <a:xfrm>
            <a:off x="8064360" y="6475320"/>
            <a:ext cx="1366920" cy="2476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3"/>
          <p:cNvSpPr/>
          <p:nvPr/>
        </p:nvSpPr>
        <p:spPr>
          <a:xfrm>
            <a:off x="8690040" y="4638600"/>
            <a:ext cx="114120" cy="18385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3"/>
          <p:cNvSpPr/>
          <p:nvPr/>
        </p:nvSpPr>
        <p:spPr>
          <a:xfrm>
            <a:off x="8567640" y="4443480"/>
            <a:ext cx="357120" cy="3571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9363240" y="2746440"/>
            <a:ext cx="644400" cy="105084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3"/>
          <p:cNvSpPr/>
          <p:nvPr/>
        </p:nvSpPr>
        <p:spPr>
          <a:xfrm>
            <a:off x="8705880" y="2289240"/>
            <a:ext cx="974520" cy="8413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3"/>
          <p:cNvSpPr/>
          <p:nvPr/>
        </p:nvSpPr>
        <p:spPr>
          <a:xfrm>
            <a:off x="7764480" y="2297160"/>
            <a:ext cx="1539720" cy="17272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reeform 3"/>
          <p:cNvSpPr/>
          <p:nvPr/>
        </p:nvSpPr>
        <p:spPr>
          <a:xfrm>
            <a:off x="8677440" y="3724200"/>
            <a:ext cx="1360440" cy="955800"/>
          </a:xfrm>
          <a:prstGeom prst="pie">
            <a:avLst/>
          </a:prstGeom>
          <a:noFill/>
          <a:ln w="114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reeform 3"/>
          <p:cNvSpPr/>
          <p:nvPr/>
        </p:nvSpPr>
        <p:spPr>
          <a:xfrm>
            <a:off x="2330280" y="2597040"/>
            <a:ext cx="6293160" cy="4092840"/>
          </a:xfrm>
          <a:prstGeom prst="pie">
            <a:avLst/>
          </a:prstGeom>
          <a:solidFill>
            <a:srgbClr val="fbd11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reeform 3"/>
          <p:cNvSpPr/>
          <p:nvPr/>
        </p:nvSpPr>
        <p:spPr>
          <a:xfrm>
            <a:off x="3987720" y="3279600"/>
            <a:ext cx="2714760" cy="34308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Freeform 3"/>
          <p:cNvSpPr/>
          <p:nvPr/>
        </p:nvSpPr>
        <p:spPr>
          <a:xfrm>
            <a:off x="4848120" y="2239920"/>
            <a:ext cx="9939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3"/>
          <p:cNvSpPr/>
          <p:nvPr/>
        </p:nvSpPr>
        <p:spPr>
          <a:xfrm>
            <a:off x="2147760" y="3794040"/>
            <a:ext cx="4254480" cy="986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1011600" y="2438280"/>
            <a:ext cx="661176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6.BACKLIGHT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2168640" y="4457880"/>
            <a:ext cx="47127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void the backlight! The light source ha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be behind the camera at all times 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 resulting picture will be too da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reeform 3"/>
          <p:cNvSpPr/>
          <p:nvPr/>
        </p:nvSpPr>
        <p:spPr>
          <a:xfrm>
            <a:off x="12600" y="4680"/>
            <a:ext cx="10679040" cy="754560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3"/>
          <p:cNvSpPr/>
          <p:nvPr/>
        </p:nvSpPr>
        <p:spPr>
          <a:xfrm>
            <a:off x="3352680" y="355680"/>
            <a:ext cx="3986280" cy="3944880"/>
          </a:xfrm>
          <a:prstGeom prst="pie">
            <a:avLst/>
          </a:prstGeom>
          <a:solidFill>
            <a:srgbClr val="fbd11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3"/>
          <p:cNvSpPr/>
          <p:nvPr/>
        </p:nvSpPr>
        <p:spPr>
          <a:xfrm>
            <a:off x="3892680" y="874800"/>
            <a:ext cx="2906640" cy="2906640"/>
          </a:xfrm>
          <a:prstGeom prst="pie">
            <a:avLst/>
          </a:prstGeom>
          <a:solidFill>
            <a:srgbClr val="fbd11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reeform 3"/>
          <p:cNvSpPr/>
          <p:nvPr/>
        </p:nvSpPr>
        <p:spPr>
          <a:xfrm>
            <a:off x="649440" y="395280"/>
            <a:ext cx="1763640" cy="136836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3"/>
          <p:cNvSpPr/>
          <p:nvPr/>
        </p:nvSpPr>
        <p:spPr>
          <a:xfrm>
            <a:off x="3987720" y="3262320"/>
            <a:ext cx="2712960" cy="34290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3"/>
          <p:cNvSpPr/>
          <p:nvPr/>
        </p:nvSpPr>
        <p:spPr>
          <a:xfrm>
            <a:off x="4848120" y="2222640"/>
            <a:ext cx="992160" cy="9921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3"/>
          <p:cNvSpPr/>
          <p:nvPr/>
        </p:nvSpPr>
        <p:spPr>
          <a:xfrm>
            <a:off x="-15840" y="6607080"/>
            <a:ext cx="10712520" cy="13032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3784680" y="762120"/>
            <a:ext cx="3124080" cy="3136680"/>
          </a:xfrm>
          <a:prstGeom prst="rect">
            <a:avLst/>
          </a:prstGeom>
          <a:ln w="0">
            <a:noFill/>
          </a:ln>
        </p:spPr>
      </p:pic>
      <p:sp>
        <p:nvSpPr>
          <p:cNvPr id="145" name="TextBox 1"/>
          <p:cNvSpPr/>
          <p:nvPr/>
        </p:nvSpPr>
        <p:spPr>
          <a:xfrm>
            <a:off x="513000" y="4446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cc70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1805760" y="2400480"/>
            <a:ext cx="717876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POSITIONING: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FIGUR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reeform 3"/>
          <p:cNvSpPr/>
          <p:nvPr/>
        </p:nvSpPr>
        <p:spPr>
          <a:xfrm>
            <a:off x="2127240" y="3801960"/>
            <a:ext cx="6383520" cy="12240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171720" y="2438280"/>
            <a:ext cx="103410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7.CAMERA POSITION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"/>
          <p:cNvSpPr/>
          <p:nvPr/>
        </p:nvSpPr>
        <p:spPr>
          <a:xfrm>
            <a:off x="2172600" y="4457880"/>
            <a:ext cx="417816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ll the shots should be filmed from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ront. Avoid profile sh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1"/>
          <p:cNvSpPr/>
          <p:nvPr/>
        </p:nvSpPr>
        <p:spPr>
          <a:xfrm>
            <a:off x="2221200" y="5257800"/>
            <a:ext cx="441864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Use either the whole figure in the 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rame or a half figure. Don’t use extr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close-ups and don’t zoom-out too f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2427120" y="2413080"/>
            <a:ext cx="31705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VIDEO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1757520" y="3594240"/>
            <a:ext cx="72673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BACKGROUND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4113360" y="612720"/>
            <a:ext cx="2465280" cy="246528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674640" y="414360"/>
            <a:ext cx="147960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3" descr=""/>
          <p:cNvPicPr/>
          <p:nvPr/>
        </p:nvPicPr>
        <p:blipFill>
          <a:blip r:embed="rId1"/>
          <a:stretch/>
        </p:blipFill>
        <p:spPr>
          <a:xfrm>
            <a:off x="1968480" y="3187800"/>
            <a:ext cx="6756480" cy="4371840"/>
          </a:xfrm>
          <a:prstGeom prst="rect">
            <a:avLst/>
          </a:prstGeom>
          <a:ln w="0">
            <a:noFill/>
          </a:ln>
        </p:spPr>
      </p:pic>
      <p:sp>
        <p:nvSpPr>
          <p:cNvPr id="158" name="TextBox 1"/>
          <p:cNvSpPr/>
          <p:nvPr/>
        </p:nvSpPr>
        <p:spPr>
          <a:xfrm>
            <a:off x="71712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650880" y="414360"/>
            <a:ext cx="17636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933640" y="0"/>
            <a:ext cx="4826160" cy="3556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"/>
          <p:cNvPicPr/>
          <p:nvPr/>
        </p:nvPicPr>
        <p:blipFill>
          <a:blip r:embed="rId2"/>
          <a:stretch/>
        </p:blipFill>
        <p:spPr>
          <a:xfrm>
            <a:off x="266760" y="3759120"/>
            <a:ext cx="10172520" cy="380052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8da6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4932360" y="4917960"/>
            <a:ext cx="826920" cy="10461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5194440" y="4599000"/>
            <a:ext cx="303120" cy="30312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-14400" y="5892840"/>
            <a:ext cx="1071252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650880" y="414360"/>
            <a:ext cx="17636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3"/>
          <p:cNvSpPr/>
          <p:nvPr/>
        </p:nvSpPr>
        <p:spPr>
          <a:xfrm>
            <a:off x="2066760" y="3803760"/>
            <a:ext cx="2697480" cy="11412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1356120" y="2438280"/>
            <a:ext cx="40302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8.SPAC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"/>
          <p:cNvSpPr/>
          <p:nvPr/>
        </p:nvSpPr>
        <p:spPr>
          <a:xfrm>
            <a:off x="2153880" y="4457880"/>
            <a:ext cx="495828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Make sure there is enough space around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igure and that it does not appear offscreen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ny part of the sho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Freeform 3"/>
          <p:cNvSpPr/>
          <p:nvPr/>
        </p:nvSpPr>
        <p:spPr>
          <a:xfrm>
            <a:off x="3429000" y="984240"/>
            <a:ext cx="3957480" cy="50022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reeform 3"/>
          <p:cNvSpPr/>
          <p:nvPr/>
        </p:nvSpPr>
        <p:spPr>
          <a:xfrm>
            <a:off x="636480" y="396720"/>
            <a:ext cx="1764000" cy="136872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673520" y="0"/>
            <a:ext cx="1473120" cy="9270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1"/>
          <p:cNvSpPr/>
          <p:nvPr/>
        </p:nvSpPr>
        <p:spPr>
          <a:xfrm>
            <a:off x="500040" y="4572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reeform 3"/>
          <p:cNvSpPr/>
          <p:nvPr/>
        </p:nvSpPr>
        <p:spPr>
          <a:xfrm>
            <a:off x="2141640" y="3790800"/>
            <a:ext cx="5925960" cy="1209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223200" y="2438280"/>
            <a:ext cx="954108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9.FIGUREPOSITION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2138400" y="4457880"/>
            <a:ext cx="47160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Positioning can be either central or clea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in the left area of the screen or right area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reeform 3"/>
          <p:cNvSpPr/>
          <p:nvPr/>
        </p:nvSpPr>
        <p:spPr>
          <a:xfrm>
            <a:off x="0" y="0"/>
            <a:ext cx="534672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3"/>
          <p:cNvSpPr/>
          <p:nvPr/>
        </p:nvSpPr>
        <p:spPr>
          <a:xfrm>
            <a:off x="5346720" y="0"/>
            <a:ext cx="5344920" cy="755964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3"/>
          <p:cNvSpPr/>
          <p:nvPr/>
        </p:nvSpPr>
        <p:spPr>
          <a:xfrm>
            <a:off x="3987720" y="2552760"/>
            <a:ext cx="2714760" cy="343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reeform 3"/>
          <p:cNvSpPr/>
          <p:nvPr/>
        </p:nvSpPr>
        <p:spPr>
          <a:xfrm>
            <a:off x="4848120" y="1512720"/>
            <a:ext cx="9939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649440" y="414360"/>
            <a:ext cx="14792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reeform 3"/>
          <p:cNvSpPr/>
          <p:nvPr/>
        </p:nvSpPr>
        <p:spPr>
          <a:xfrm>
            <a:off x="0" y="0"/>
            <a:ext cx="534672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reeform 3"/>
          <p:cNvSpPr/>
          <p:nvPr/>
        </p:nvSpPr>
        <p:spPr>
          <a:xfrm>
            <a:off x="5346720" y="0"/>
            <a:ext cx="5344920" cy="755964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reeform 3"/>
          <p:cNvSpPr/>
          <p:nvPr/>
        </p:nvSpPr>
        <p:spPr>
          <a:xfrm>
            <a:off x="6662880" y="2552760"/>
            <a:ext cx="2712960" cy="343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3"/>
          <p:cNvSpPr/>
          <p:nvPr/>
        </p:nvSpPr>
        <p:spPr>
          <a:xfrm>
            <a:off x="7523280" y="1512720"/>
            <a:ext cx="9921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reeform 3"/>
          <p:cNvSpPr/>
          <p:nvPr/>
        </p:nvSpPr>
        <p:spPr>
          <a:xfrm>
            <a:off x="649440" y="414360"/>
            <a:ext cx="14792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reeform 3"/>
          <p:cNvSpPr/>
          <p:nvPr/>
        </p:nvSpPr>
        <p:spPr>
          <a:xfrm>
            <a:off x="0" y="0"/>
            <a:ext cx="5346720" cy="755964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5346720" y="0"/>
            <a:ext cx="5344920" cy="755964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9301320" y="1512720"/>
            <a:ext cx="9921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"/>
          <p:cNvSpPr/>
          <p:nvPr/>
        </p:nvSpPr>
        <p:spPr>
          <a:xfrm>
            <a:off x="649440" y="414360"/>
            <a:ext cx="17636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3" descr=""/>
          <p:cNvPicPr/>
          <p:nvPr/>
        </p:nvPicPr>
        <p:blipFill>
          <a:blip r:embed="rId1"/>
          <a:stretch/>
        </p:blipFill>
        <p:spPr>
          <a:xfrm>
            <a:off x="8432640" y="2540160"/>
            <a:ext cx="2259000" cy="34542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"/>
          <p:cNvSpPr/>
          <p:nvPr/>
        </p:nvSpPr>
        <p:spPr>
          <a:xfrm>
            <a:off x="1805760" y="2400480"/>
            <a:ext cx="7178760" cy="28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POSITIONING: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FAC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reeform 3"/>
          <p:cNvSpPr/>
          <p:nvPr/>
        </p:nvSpPr>
        <p:spPr>
          <a:xfrm>
            <a:off x="2063880" y="3767040"/>
            <a:ext cx="3619440" cy="14940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"/>
          <p:cNvSpPr/>
          <p:nvPr/>
        </p:nvSpPr>
        <p:spPr>
          <a:xfrm>
            <a:off x="897120" y="2438280"/>
            <a:ext cx="56959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.INDOORS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167920" y="4457880"/>
            <a:ext cx="4214520" cy="10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Whe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ilming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indoors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backgr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plain.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No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prominent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shoul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b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positioned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within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pi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7785000" y="71899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转自锐普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www.rapidbbs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reeform 3"/>
          <p:cNvSpPr/>
          <p:nvPr/>
        </p:nvSpPr>
        <p:spPr>
          <a:xfrm>
            <a:off x="2077920" y="3819600"/>
            <a:ext cx="4172040" cy="730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"/>
          <p:cNvSpPr/>
          <p:nvPr/>
        </p:nvSpPr>
        <p:spPr>
          <a:xfrm>
            <a:off x="764280" y="2438280"/>
            <a:ext cx="655236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0.FACEAREA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"/>
          <p:cNvSpPr/>
          <p:nvPr/>
        </p:nvSpPr>
        <p:spPr>
          <a:xfrm>
            <a:off x="2160000" y="4457880"/>
            <a:ext cx="438696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void obstructing the face (do not t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 face, drink or put any objects in fr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f the fac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"/>
          <p:cNvSpPr/>
          <p:nvPr/>
        </p:nvSpPr>
        <p:spPr>
          <a:xfrm>
            <a:off x="2296800" y="5524560"/>
            <a:ext cx="405180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ake in account that the Happy Me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“</a:t>
            </a: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mask” will be added as an extra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n top of your vid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10" name="TextBox 1"/>
          <p:cNvSpPr/>
          <p:nvPr/>
        </p:nvSpPr>
        <p:spPr>
          <a:xfrm>
            <a:off x="626400" y="457200"/>
            <a:ext cx="138132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1"/>
          <p:cNvSpPr/>
          <p:nvPr/>
        </p:nvSpPr>
        <p:spPr>
          <a:xfrm>
            <a:off x="500040" y="4572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reeform 3"/>
          <p:cNvSpPr/>
          <p:nvPr/>
        </p:nvSpPr>
        <p:spPr>
          <a:xfrm>
            <a:off x="2075040" y="3830760"/>
            <a:ext cx="2641320" cy="1094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"/>
          <p:cNvSpPr/>
          <p:nvPr/>
        </p:nvSpPr>
        <p:spPr>
          <a:xfrm>
            <a:off x="1006920" y="2438280"/>
            <a:ext cx="463356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1.SPAC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2240640" y="4457880"/>
            <a:ext cx="463536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Verify that there is sufficient space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 head and that it does not nearly t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he picture fame. The Happy Melly “mask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would then be cropped by the video fram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17" name="TextBox 1"/>
          <p:cNvSpPr/>
          <p:nvPr/>
        </p:nvSpPr>
        <p:spPr>
          <a:xfrm>
            <a:off x="525600" y="4572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cc70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3354480" y="2425680"/>
            <a:ext cx="31705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VIDEO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3162600" y="3606840"/>
            <a:ext cx="43639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QUALITY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reeform 3"/>
          <p:cNvSpPr/>
          <p:nvPr/>
        </p:nvSpPr>
        <p:spPr>
          <a:xfrm>
            <a:off x="2100240" y="3809880"/>
            <a:ext cx="2171880" cy="842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1314000" y="2438280"/>
            <a:ext cx="361728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2.SIZ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"/>
          <p:cNvSpPr/>
          <p:nvPr/>
        </p:nvSpPr>
        <p:spPr>
          <a:xfrm>
            <a:off x="2151720" y="4457880"/>
            <a:ext cx="374688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Make sure your video has the r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2154240" y="4724280"/>
            <a:ext cx="433512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resolution and will not appear pixel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lway film using the highest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f your device. Minimum size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raw material should be 1024x576 p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reeform 3"/>
          <p:cNvSpPr/>
          <p:nvPr/>
        </p:nvSpPr>
        <p:spPr>
          <a:xfrm>
            <a:off x="636480" y="352440"/>
            <a:ext cx="1764000" cy="137808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640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"/>
          <p:cNvSpPr/>
          <p:nvPr/>
        </p:nvSpPr>
        <p:spPr>
          <a:xfrm>
            <a:off x="485640" y="406440"/>
            <a:ext cx="207504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KG Skinny Latte"/>
              </a:rPr>
              <a:t>NOPE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reeform 3"/>
          <p:cNvSpPr/>
          <p:nvPr/>
        </p:nvSpPr>
        <p:spPr>
          <a:xfrm>
            <a:off x="2095560" y="3805200"/>
            <a:ext cx="2898720" cy="8892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"/>
          <p:cNvSpPr/>
          <p:nvPr/>
        </p:nvSpPr>
        <p:spPr>
          <a:xfrm>
            <a:off x="1091880" y="2438280"/>
            <a:ext cx="487584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3.FOCUS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"/>
          <p:cNvSpPr/>
          <p:nvPr/>
        </p:nvSpPr>
        <p:spPr>
          <a:xfrm>
            <a:off x="2175480" y="4457880"/>
            <a:ext cx="428004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Double-check if the shot is sharp 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filming. The figure has to be in focus 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all ti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reeform 3"/>
          <p:cNvSpPr/>
          <p:nvPr/>
        </p:nvSpPr>
        <p:spPr>
          <a:xfrm>
            <a:off x="636480" y="352440"/>
            <a:ext cx="1764000" cy="137808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6400"/>
          </a:xfrm>
          <a:prstGeom prst="rect">
            <a:avLst/>
          </a:prstGeom>
          <a:ln w="0">
            <a:noFill/>
          </a:ln>
        </p:spPr>
      </p:pic>
      <p:sp>
        <p:nvSpPr>
          <p:cNvPr id="233" name="TextBox 1"/>
          <p:cNvSpPr/>
          <p:nvPr/>
        </p:nvSpPr>
        <p:spPr>
          <a:xfrm>
            <a:off x="485640" y="406440"/>
            <a:ext cx="207504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KG Skinny Latte"/>
              </a:rPr>
              <a:t>NOPE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3"/>
          <p:cNvSpPr/>
          <p:nvPr/>
        </p:nvSpPr>
        <p:spPr>
          <a:xfrm>
            <a:off x="7448400" y="1324080"/>
            <a:ext cx="1978200" cy="1278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3"/>
          <p:cNvSpPr/>
          <p:nvPr/>
        </p:nvSpPr>
        <p:spPr>
          <a:xfrm>
            <a:off x="1590840" y="2654280"/>
            <a:ext cx="1638000" cy="2700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3"/>
          <p:cNvSpPr/>
          <p:nvPr/>
        </p:nvSpPr>
        <p:spPr>
          <a:xfrm>
            <a:off x="1622520" y="2703600"/>
            <a:ext cx="1592280" cy="4809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reeform 3"/>
          <p:cNvSpPr/>
          <p:nvPr/>
        </p:nvSpPr>
        <p:spPr>
          <a:xfrm>
            <a:off x="1809720" y="3911760"/>
            <a:ext cx="1257480" cy="20574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reeform 3"/>
          <p:cNvSpPr/>
          <p:nvPr/>
        </p:nvSpPr>
        <p:spPr>
          <a:xfrm>
            <a:off x="3989520" y="2552760"/>
            <a:ext cx="2712960" cy="343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4849920" y="1512720"/>
            <a:ext cx="9921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-14400" y="5892840"/>
            <a:ext cx="1071252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3"/>
          <p:cNvSpPr/>
          <p:nvPr/>
        </p:nvSpPr>
        <p:spPr>
          <a:xfrm>
            <a:off x="650880" y="414360"/>
            <a:ext cx="17636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1"/>
          <a:stretch/>
        </p:blipFill>
        <p:spPr>
          <a:xfrm>
            <a:off x="1574640" y="2730600"/>
            <a:ext cx="1663920" cy="1206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7404120" y="762120"/>
            <a:ext cx="2171520" cy="196848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78da6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3"/>
          <p:cNvSpPr/>
          <p:nvPr/>
        </p:nvSpPr>
        <p:spPr>
          <a:xfrm>
            <a:off x="7785000" y="71899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转自锐普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www.rapidbbs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3290760" y="2425680"/>
            <a:ext cx="31705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VIDEO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3040200" y="3606840"/>
            <a:ext cx="46260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ffffff"/>
                </a:solidFill>
                <a:latin typeface="KG Skinny Latte"/>
              </a:rPr>
              <a:t>GENERAL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reeform 3"/>
          <p:cNvSpPr/>
          <p:nvPr/>
        </p:nvSpPr>
        <p:spPr>
          <a:xfrm>
            <a:off x="2128680" y="3789360"/>
            <a:ext cx="4243680" cy="1252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687240" y="2438280"/>
            <a:ext cx="70524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4.VARIATION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"/>
          <p:cNvSpPr/>
          <p:nvPr/>
        </p:nvSpPr>
        <p:spPr>
          <a:xfrm>
            <a:off x="2173320" y="4457880"/>
            <a:ext cx="48164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If you want to create multiple shots alw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vary in background and/or camera 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o emphasize that you are filming a new 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f the scrip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bd11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reeform 3"/>
          <p:cNvSpPr/>
          <p:nvPr/>
        </p:nvSpPr>
        <p:spPr>
          <a:xfrm>
            <a:off x="3987720" y="2522520"/>
            <a:ext cx="2714760" cy="345132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3"/>
          <p:cNvSpPr/>
          <p:nvPr/>
        </p:nvSpPr>
        <p:spPr>
          <a:xfrm>
            <a:off x="4848120" y="1474920"/>
            <a:ext cx="993960" cy="100008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reeform 3"/>
          <p:cNvSpPr/>
          <p:nvPr/>
        </p:nvSpPr>
        <p:spPr>
          <a:xfrm>
            <a:off x="-15840" y="5883120"/>
            <a:ext cx="10713960" cy="131760"/>
          </a:xfrm>
          <a:prstGeom prst="pie">
            <a:avLst/>
          </a:prstGeom>
          <a:noFill/>
          <a:ln w="381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reeform 3"/>
          <p:cNvSpPr/>
          <p:nvPr/>
        </p:nvSpPr>
        <p:spPr>
          <a:xfrm>
            <a:off x="649440" y="368280"/>
            <a:ext cx="1479240" cy="1378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683640" y="444600"/>
            <a:ext cx="135396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bd11f"/>
                </a:solidFill>
                <a:latin typeface="KG Skinny Latte"/>
              </a:rPr>
              <a:t>YES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691640" cy="755964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"/>
          <p:cNvSpPr/>
          <p:nvPr/>
        </p:nvSpPr>
        <p:spPr>
          <a:xfrm>
            <a:off x="683640" y="444600"/>
            <a:ext cx="135396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reeform 3"/>
          <p:cNvSpPr/>
          <p:nvPr/>
        </p:nvSpPr>
        <p:spPr>
          <a:xfrm>
            <a:off x="2111400" y="3807000"/>
            <a:ext cx="5877000" cy="1108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277560" y="2438280"/>
            <a:ext cx="937800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15.GESTURESONLY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2160720" y="4457880"/>
            <a:ext cx="4638240" cy="8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Do not use objects, drawing or writing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emphasize or illustrate the script. Act u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gestures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f78ca7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3"/>
          <p:cNvSpPr/>
          <p:nvPr/>
        </p:nvSpPr>
        <p:spPr>
          <a:xfrm>
            <a:off x="-15840" y="5883120"/>
            <a:ext cx="10748880" cy="131760"/>
          </a:xfrm>
          <a:prstGeom prst="pie">
            <a:avLst/>
          </a:prstGeom>
          <a:noFill/>
          <a:ln w="381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3"/>
          <p:cNvSpPr/>
          <p:nvPr/>
        </p:nvSpPr>
        <p:spPr>
          <a:xfrm>
            <a:off x="650880" y="368280"/>
            <a:ext cx="1763640" cy="137808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3"/>
          <p:cNvSpPr/>
          <p:nvPr/>
        </p:nvSpPr>
        <p:spPr>
          <a:xfrm>
            <a:off x="3987720" y="2522520"/>
            <a:ext cx="2714760" cy="345132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reeform 3"/>
          <p:cNvSpPr/>
          <p:nvPr/>
        </p:nvSpPr>
        <p:spPr>
          <a:xfrm>
            <a:off x="4848120" y="1474920"/>
            <a:ext cx="993960" cy="100008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3"/>
          <p:cNvSpPr/>
          <p:nvPr/>
        </p:nvSpPr>
        <p:spPr>
          <a:xfrm>
            <a:off x="4181400" y="2952720"/>
            <a:ext cx="2328840" cy="244620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3"/>
          <p:cNvSpPr/>
          <p:nvPr/>
        </p:nvSpPr>
        <p:spPr>
          <a:xfrm>
            <a:off x="4815000" y="3720960"/>
            <a:ext cx="1022400" cy="1209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3"/>
          <p:cNvSpPr/>
          <p:nvPr/>
        </p:nvSpPr>
        <p:spPr>
          <a:xfrm>
            <a:off x="4808520" y="3714840"/>
            <a:ext cx="1035000" cy="1222200"/>
          </a:xfrm>
          <a:prstGeom prst="pie">
            <a:avLst/>
          </a:prstGeom>
          <a:noFill/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Freeform 3"/>
          <p:cNvSpPr/>
          <p:nvPr/>
        </p:nvSpPr>
        <p:spPr>
          <a:xfrm>
            <a:off x="5067360" y="4821120"/>
            <a:ext cx="523800" cy="41292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reeform 3"/>
          <p:cNvSpPr/>
          <p:nvPr/>
        </p:nvSpPr>
        <p:spPr>
          <a:xfrm>
            <a:off x="5060880" y="4815000"/>
            <a:ext cx="536760" cy="425160"/>
          </a:xfrm>
          <a:prstGeom prst="pie">
            <a:avLst/>
          </a:prstGeom>
          <a:noFill/>
          <a:ln w="1260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reeform 3"/>
          <p:cNvSpPr/>
          <p:nvPr/>
        </p:nvSpPr>
        <p:spPr>
          <a:xfrm>
            <a:off x="5087880" y="4948200"/>
            <a:ext cx="487440" cy="55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reeform 3"/>
          <p:cNvSpPr/>
          <p:nvPr/>
        </p:nvSpPr>
        <p:spPr>
          <a:xfrm>
            <a:off x="5075280" y="4935600"/>
            <a:ext cx="512640" cy="824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3"/>
          <p:cNvSpPr/>
          <p:nvPr/>
        </p:nvSpPr>
        <p:spPr>
          <a:xfrm>
            <a:off x="5094360" y="5059440"/>
            <a:ext cx="465120" cy="5868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reeform 3"/>
          <p:cNvSpPr/>
          <p:nvPr/>
        </p:nvSpPr>
        <p:spPr>
          <a:xfrm>
            <a:off x="5081760" y="5046840"/>
            <a:ext cx="490320" cy="838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reeform 3"/>
          <p:cNvSpPr/>
          <p:nvPr/>
        </p:nvSpPr>
        <p:spPr>
          <a:xfrm>
            <a:off x="5037120" y="4168800"/>
            <a:ext cx="561960" cy="7016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5978520" y="4425840"/>
            <a:ext cx="330120" cy="1335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"/>
          <p:cNvSpPr/>
          <p:nvPr/>
        </p:nvSpPr>
        <p:spPr>
          <a:xfrm>
            <a:off x="5965920" y="4413240"/>
            <a:ext cx="355680" cy="158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3"/>
          <p:cNvSpPr/>
          <p:nvPr/>
        </p:nvSpPr>
        <p:spPr>
          <a:xfrm>
            <a:off x="6045120" y="3855960"/>
            <a:ext cx="399960" cy="936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3"/>
          <p:cNvSpPr/>
          <p:nvPr/>
        </p:nvSpPr>
        <p:spPr>
          <a:xfrm>
            <a:off x="6032520" y="3843360"/>
            <a:ext cx="425520" cy="1191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3"/>
          <p:cNvSpPr/>
          <p:nvPr/>
        </p:nvSpPr>
        <p:spPr>
          <a:xfrm>
            <a:off x="5780160" y="3355920"/>
            <a:ext cx="276120" cy="271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3"/>
          <p:cNvSpPr/>
          <p:nvPr/>
        </p:nvSpPr>
        <p:spPr>
          <a:xfrm>
            <a:off x="5767560" y="3343320"/>
            <a:ext cx="301320" cy="29664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reeform 3"/>
          <p:cNvSpPr/>
          <p:nvPr/>
        </p:nvSpPr>
        <p:spPr>
          <a:xfrm>
            <a:off x="5280120" y="3127320"/>
            <a:ext cx="95040" cy="34452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3"/>
          <p:cNvSpPr/>
          <p:nvPr/>
        </p:nvSpPr>
        <p:spPr>
          <a:xfrm>
            <a:off x="5267160" y="3114720"/>
            <a:ext cx="120960" cy="36972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3"/>
          <p:cNvSpPr/>
          <p:nvPr/>
        </p:nvSpPr>
        <p:spPr>
          <a:xfrm>
            <a:off x="4608360" y="3349800"/>
            <a:ext cx="293760" cy="2505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4595760" y="3336840"/>
            <a:ext cx="319320" cy="2764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4317840" y="3925800"/>
            <a:ext cx="325440" cy="12708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3"/>
          <p:cNvSpPr/>
          <p:nvPr/>
        </p:nvSpPr>
        <p:spPr>
          <a:xfrm>
            <a:off x="4305240" y="3911760"/>
            <a:ext cx="351000" cy="1522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"/>
          <p:cNvSpPr/>
          <p:nvPr/>
        </p:nvSpPr>
        <p:spPr>
          <a:xfrm>
            <a:off x="4410000" y="4484520"/>
            <a:ext cx="298440" cy="1256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"/>
          <p:cNvSpPr/>
          <p:nvPr/>
        </p:nvSpPr>
        <p:spPr>
          <a:xfrm>
            <a:off x="4384800" y="4459320"/>
            <a:ext cx="349200" cy="176040"/>
          </a:xfrm>
          <a:prstGeom prst="pie">
            <a:avLst/>
          </a:prstGeom>
          <a:noFill/>
          <a:ln w="507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"/>
          <p:cNvSpPr/>
          <p:nvPr/>
        </p:nvSpPr>
        <p:spPr>
          <a:xfrm>
            <a:off x="498600" y="419040"/>
            <a:ext cx="2075040" cy="9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68ca7"/>
                </a:solidFill>
                <a:latin typeface="KG Skinny Latte"/>
              </a:rPr>
              <a:t>NOPE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47560" y="207720"/>
            <a:ext cx="95983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7080" y="1399680"/>
            <a:ext cx="10439280" cy="57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8520120" y="368280"/>
            <a:ext cx="16257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F550-1D10-458A-A493-EE4ABCF0D6EA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"/>
          <p:cNvSpPr/>
          <p:nvPr/>
        </p:nvSpPr>
        <p:spPr>
          <a:xfrm>
            <a:off x="3013200" y="2374920"/>
            <a:ext cx="390816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KG Skinny Latte"/>
              </a:rPr>
              <a:t>ENJOY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"/>
          <p:cNvSpPr/>
          <p:nvPr/>
        </p:nvSpPr>
        <p:spPr>
          <a:xfrm>
            <a:off x="2628360" y="4140360"/>
            <a:ext cx="50130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G Skinny Latte"/>
              </a:rPr>
              <a:t>FOR MO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KG Skinny Latte"/>
              </a:rPr>
              <a:t>CONTACT HAPPY ME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reeform 3"/>
          <p:cNvSpPr/>
          <p:nvPr/>
        </p:nvSpPr>
        <p:spPr>
          <a:xfrm>
            <a:off x="2075040" y="3809880"/>
            <a:ext cx="3062160" cy="856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"/>
          <p:cNvSpPr/>
          <p:nvPr/>
        </p:nvSpPr>
        <p:spPr>
          <a:xfrm>
            <a:off x="1403640" y="2438280"/>
            <a:ext cx="418104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2.WHITE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2140920" y="4457880"/>
            <a:ext cx="4638240" cy="5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Try to avoid white backgrounds. Off-wh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or color backgrounds are more interest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文本框 4"/>
          <p:cNvSpPr/>
          <p:nvPr/>
        </p:nvSpPr>
        <p:spPr>
          <a:xfrm>
            <a:off x="7785000" y="71899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转自锐普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www.rapidbbs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"/>
          <p:cNvSpPr/>
          <p:nvPr/>
        </p:nvSpPr>
        <p:spPr>
          <a:xfrm>
            <a:off x="649440" y="414360"/>
            <a:ext cx="1763640" cy="1368360"/>
          </a:xfrm>
          <a:prstGeom prst="pie">
            <a:avLst/>
          </a:prstGeom>
          <a:solidFill>
            <a:srgbClr val="f78da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"/>
          <p:cNvSpPr/>
          <p:nvPr/>
        </p:nvSpPr>
        <p:spPr>
          <a:xfrm>
            <a:off x="3987720" y="2552760"/>
            <a:ext cx="2714760" cy="343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"/>
          <p:cNvSpPr/>
          <p:nvPr/>
        </p:nvSpPr>
        <p:spPr>
          <a:xfrm>
            <a:off x="4848120" y="1512720"/>
            <a:ext cx="9939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"/>
          <p:cNvSpPr/>
          <p:nvPr/>
        </p:nvSpPr>
        <p:spPr>
          <a:xfrm>
            <a:off x="513000" y="469800"/>
            <a:ext cx="20368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G Skinny Latte"/>
              </a:rPr>
              <a:t>NOPE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6"/>
          <p:cNvSpPr/>
          <p:nvPr/>
        </p:nvSpPr>
        <p:spPr>
          <a:xfrm>
            <a:off x="7785000" y="71899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转自锐普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www.rapidbbs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3987720" y="2552760"/>
            <a:ext cx="2714760" cy="343044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4848120" y="1512720"/>
            <a:ext cx="993960" cy="99396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-15840" y="5892840"/>
            <a:ext cx="10713960" cy="1317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649440" y="414360"/>
            <a:ext cx="1479240" cy="1368360"/>
          </a:xfrm>
          <a:prstGeom prst="pie">
            <a:avLst/>
          </a:pr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dbf70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2440" y="20271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reeform 3"/>
          <p:cNvSpPr/>
          <p:nvPr/>
        </p:nvSpPr>
        <p:spPr>
          <a:xfrm>
            <a:off x="2048040" y="3801960"/>
            <a:ext cx="2563560" cy="10188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1634040" y="2438280"/>
            <a:ext cx="309456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0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300" spc="-1" strike="noStrike">
                <a:solidFill>
                  <a:srgbClr val="231f20"/>
                </a:solidFill>
                <a:latin typeface="KG Skinny Latte"/>
              </a:rPr>
              <a:t>3.CITY</a:t>
            </a:r>
            <a:endParaRPr b="0" lang="en-US" sz="8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2162880" y="4457880"/>
            <a:ext cx="48866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If you decide to film outdoors make sure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shot is not too busy. Choose an inter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backdrop. If you are filming in a metropolit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31f20"/>
                </a:solidFill>
                <a:latin typeface="微软雅黑"/>
                <a:ea typeface="微软雅黑"/>
              </a:rPr>
              <a:t>city make it recognizable in the vide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4"/>
          <p:cNvSpPr/>
          <p:nvPr/>
        </p:nvSpPr>
        <p:spPr>
          <a:xfrm>
            <a:off x="7785000" y="71899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转自锐普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Calibri"/>
              </a:rPr>
              <a:t>www.rapidbbs.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3"/>
          <p:cNvSpPr/>
          <p:nvPr/>
        </p:nvSpPr>
        <p:spPr>
          <a:xfrm>
            <a:off x="0" y="0"/>
            <a:ext cx="10691640" cy="7559640"/>
          </a:xfrm>
          <a:prstGeom prst="pie">
            <a:avLst/>
          </a:prstGeom>
          <a:solidFill>
            <a:srgbClr val="e8e8e6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6502320" y="492120"/>
            <a:ext cx="550800" cy="73188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6442200" y="762120"/>
            <a:ext cx="674640" cy="22536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6137280" y="3225960"/>
            <a:ext cx="1316160" cy="13968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6126120" y="3406680"/>
            <a:ext cx="1305000" cy="13680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5541840" y="5329080"/>
            <a:ext cx="2452680" cy="11304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5541840" y="5486400"/>
            <a:ext cx="2430720" cy="18108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6727680" y="109440"/>
            <a:ext cx="100080" cy="43812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3"/>
          <p:cNvSpPr/>
          <p:nvPr/>
        </p:nvSpPr>
        <p:spPr>
          <a:xfrm>
            <a:off x="6329520" y="1054080"/>
            <a:ext cx="453960" cy="219060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6777000" y="1054080"/>
            <a:ext cx="453960" cy="219060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3"/>
          <p:cNvSpPr/>
          <p:nvPr/>
        </p:nvSpPr>
        <p:spPr>
          <a:xfrm>
            <a:off x="5808600" y="3583080"/>
            <a:ext cx="1941480" cy="170496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3"/>
          <p:cNvSpPr/>
          <p:nvPr/>
        </p:nvSpPr>
        <p:spPr>
          <a:xfrm>
            <a:off x="5288040" y="5711760"/>
            <a:ext cx="2963880" cy="96516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3"/>
          <p:cNvSpPr/>
          <p:nvPr/>
        </p:nvSpPr>
        <p:spPr>
          <a:xfrm>
            <a:off x="3987720" y="3271680"/>
            <a:ext cx="2714760" cy="34290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3"/>
          <p:cNvSpPr/>
          <p:nvPr/>
        </p:nvSpPr>
        <p:spPr>
          <a:xfrm>
            <a:off x="4848120" y="2230560"/>
            <a:ext cx="993960" cy="993600"/>
          </a:xfrm>
          <a:prstGeom prst="pie">
            <a:avLst/>
          </a:pr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3"/>
          <p:cNvSpPr/>
          <p:nvPr/>
        </p:nvSpPr>
        <p:spPr>
          <a:xfrm>
            <a:off x="-15840" y="6610320"/>
            <a:ext cx="10713960" cy="133560"/>
          </a:xfrm>
          <a:prstGeom prst="pie">
            <a:avLst/>
          </a:prstGeom>
          <a:noFill/>
          <a:ln w="25560">
            <a:solidFill>
              <a:srgbClr val="231f2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reeform 3"/>
          <p:cNvSpPr/>
          <p:nvPr/>
        </p:nvSpPr>
        <p:spPr>
          <a:xfrm>
            <a:off x="649440" y="414360"/>
            <a:ext cx="1479240" cy="1368360"/>
          </a:xfrm>
          <a:prstGeom prst="pie">
            <a:avLst/>
          </a:prstGeom>
          <a:solidFill>
            <a:srgbClr val="4cc070"/>
          </a:solidFill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"/>
          <p:cNvSpPr/>
          <p:nvPr/>
        </p:nvSpPr>
        <p:spPr>
          <a:xfrm>
            <a:off x="691560" y="495360"/>
            <a:ext cx="1331280" cy="9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G Skinny Latte"/>
              </a:rPr>
              <a:t>YES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幻灯片之家：www.eeppt.com</dc:creator>
  <dc:description>幻灯片之家：www.eeppt.com</dc:description>
  <cp:keywords>幻灯片之家：www.eeppt.com</cp:keywords>
  <dc:language>en-US</dc:language>
  <cp:lastModifiedBy>杨光</cp:lastModifiedBy>
  <dcterms:modified xsi:type="dcterms:W3CDTF">2015-08-17T06:40:00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