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-8892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192960" indent="-7416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297000" indent="-59400" algn="ctr">
              <a:buClr>
                <a:srgbClr val="000000"/>
              </a:buClr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415800" indent="-59400" algn="ctr">
              <a:buClr>
                <a:srgbClr val="000000"/>
              </a:buClr>
              <a:buFont typeface="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534600" indent="-594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534600" indent="-594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534600" indent="-59400" algn="ctr">
              <a:buClr>
                <a:srgbClr val="000000"/>
              </a:buClr>
              <a:buFont typeface="Gill San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-50760" y="-38160"/>
            <a:ext cx="13122360" cy="9842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30120" y="91440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165240" y="120600"/>
            <a:ext cx="12672720" cy="950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-228600" y="-177840"/>
            <a:ext cx="13461840" cy="1009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54000" y="38160"/>
            <a:ext cx="12887280" cy="966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66360" y="270000"/>
            <a:ext cx="11673000" cy="815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400" spc="-1" strike="noStrike">
                <a:solidFill>
                  <a:srgbClr val="000000"/>
                </a:solidFill>
                <a:latin typeface="Gill Sans"/>
              </a:rPr>
              <a:t>使用规范说明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53720" y="1806480"/>
            <a:ext cx="12696840" cy="7423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Gill Sans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ill Sans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ill Sans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Gill Sans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ill Sans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ill Sans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ill Sans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ill Sans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ill Sans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Gill Sans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Gill Sans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Gill Sans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Gill Sans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Gill Sans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Gill Sans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Gill Sans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Gill Sans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Gill Sans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Gill Sans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Gill Sans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Gill Sans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ill Sans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Gill Sans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  <a:p>
            <a:pPr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0363320" y="474840"/>
            <a:ext cx="1976400" cy="496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ill Sans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739800" y="558720"/>
            <a:ext cx="11515680" cy="863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66600" y="50760"/>
            <a:ext cx="12870000" cy="965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177840" y="136440"/>
            <a:ext cx="12636360" cy="947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333360" y="254160"/>
            <a:ext cx="12327120" cy="924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127080" y="101520"/>
            <a:ext cx="12737880" cy="955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50760" y="787320"/>
            <a:ext cx="12903120" cy="967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-177840" y="-139680"/>
            <a:ext cx="13360320" cy="100202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4T11:27:45Z</dcterms:created>
  <dc:creator>幻灯片之家：www.eeppt.com</dc:creator>
  <dc:description>幻灯片之家：www.eeppt.com</dc:description>
  <cp:keywords>幻灯片之家：www.eeppt.com</cp:keywords>
  <dc:language>en-US</dc:language>
  <cp:lastModifiedBy>SUNNY-PC</cp:lastModifiedBy>
  <dcterms:modified xsi:type="dcterms:W3CDTF">2015-08-17T06:23:54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