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152063" cy="7588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967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520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79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967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520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2538-A38C-4398-A2E1-A7B8B2BB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429A-B755-419E-A7A4-D6F5654E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898B-5363-4457-B3F7-CF85D83A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3341-B10D-41C2-9A17-4A465488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C2B3-C25F-4714-B5AA-69B42214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7960" y="302760"/>
            <a:ext cx="913464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4FBE-C5F4-4F33-A6D6-24FF2D22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9BE5-6307-48BF-94C0-F23141D0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E4BB-D706-4936-B2E9-F79B9F22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16D3-A04A-44AE-8018-F7C0E655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BE8B-2F8F-4FF7-99F6-DEC51030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5827-787E-4E7F-8BF4-6C0F0C1EB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967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8520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79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967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8520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E30D-170D-4AAE-98DB-C2CB144D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7960" y="302760"/>
            <a:ext cx="913464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3200" spc="-1" strike="noStrike">
                <a:solidFill>
                  <a:srgbClr val="002760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92040"/>
            <a:ext cx="8626320" cy="4513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52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1320" indent="-2541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81320" indent="-2541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81320" indent="-2541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tangle 5"/>
          <p:cNvGrpSpPr/>
          <p:nvPr/>
        </p:nvGrpSpPr>
        <p:grpSpPr>
          <a:xfrm>
            <a:off x="5450040" y="6791400"/>
            <a:ext cx="4584600" cy="36360"/>
            <a:chOff x="5450040" y="6791400"/>
            <a:chExt cx="4584600" cy="36360"/>
          </a:xfrm>
        </p:grpSpPr>
        <p:pic>
          <p:nvPicPr>
            <p:cNvPr id="3" name="Rectangle 5" descr=""/>
            <p:cNvPicPr/>
            <p:nvPr/>
          </p:nvPicPr>
          <p:blipFill>
            <a:blip r:embed="rId3"/>
            <a:stretch/>
          </p:blipFill>
          <p:spPr>
            <a:xfrm>
              <a:off x="5450040" y="6791400"/>
              <a:ext cx="4584600" cy="3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5456520" y="6797880"/>
              <a:ext cx="4570200" cy="2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Text Box 8"/>
          <p:cNvSpPr/>
          <p:nvPr/>
        </p:nvSpPr>
        <p:spPr>
          <a:xfrm>
            <a:off x="6810480" y="6894360"/>
            <a:ext cx="30938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resented B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Harry Mills /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PRESENTATIONPR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6684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7336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795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795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795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07600" y="7033680"/>
            <a:ext cx="2368440" cy="4050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468600" y="7033680"/>
            <a:ext cx="3213360" cy="4050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7273800" y="7033680"/>
            <a:ext cx="2368800" cy="4050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EDCC-A3EA-489B-B109-FBA4DFAA71DA}" type="slidenum">
              <a:rPr b="0" lang="en-US" sz="13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4.png"/><Relationship Id="rId3" Type="http://schemas.openxmlformats.org/officeDocument/2006/relationships/hyperlink" Target="http://www.presentationpro.com/power_designs.aspx" TargetMode="External"/><Relationship Id="rId4" Type="http://schemas.openxmlformats.org/officeDocument/2006/relationships/image" Target="../media/image35.png"/><Relationship Id="rId5" Type="http://schemas.openxmlformats.org/officeDocument/2006/relationships/hyperlink" Target="http://www.presentationpro.com/power_designs.aspx" TargetMode="External"/><Relationship Id="rId6" Type="http://schemas.openxmlformats.org/officeDocument/2006/relationships/hyperlink" Target="http://www.presentationpro.com/in/PDATCFT" TargetMode="External"/><Relationship Id="rId7" Type="http://schemas.openxmlformats.org/officeDocument/2006/relationships/image" Target="../media/image35.png"/><Relationship Id="rId8" Type="http://schemas.openxmlformats.org/officeDocument/2006/relationships/hyperlink" Target="http://www.presentationpro.com/in/PDATCFT" TargetMode="External"/><Relationship Id="rId9" Type="http://schemas.openxmlformats.org/officeDocument/2006/relationships/hyperlink" Target="http://www.presentationpro.com/in/PDATCFT" TargetMode="External"/><Relationship Id="rId10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84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" descr="EmailBackground"/>
          <p:cNvPicPr/>
          <p:nvPr/>
        </p:nvPicPr>
        <p:blipFill>
          <a:blip r:embed="rId1"/>
          <a:stretch/>
        </p:blipFill>
        <p:spPr>
          <a:xfrm>
            <a:off x="655560" y="138240"/>
            <a:ext cx="8915400" cy="7449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pdbox.png"/>
          <p:cNvPicPr/>
          <p:nvPr/>
        </p:nvPicPr>
        <p:blipFill>
          <a:blip r:embed="rId2"/>
          <a:stretch/>
        </p:blipFill>
        <p:spPr>
          <a:xfrm>
            <a:off x="884160" y="4253040"/>
            <a:ext cx="2057400" cy="19573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1"/>
          <p:cNvSpPr/>
          <p:nvPr/>
        </p:nvSpPr>
        <p:spPr>
          <a:xfrm>
            <a:off x="579600" y="6310440"/>
            <a:ext cx="891540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7375e"/>
                </a:solidFill>
                <a:latin typeface="Arial"/>
                <a:ea typeface="宋体"/>
              </a:rPr>
              <a:t>FREE PowerDESIGNS template and graphics included in this presentation can be used to enhance your own presentations. Just copy and paste the graphics from this presentation to your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646200" y="1494000"/>
            <a:ext cx="52578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2849f"/>
                </a:solidFill>
                <a:latin typeface="Arial Narrow"/>
                <a:ea typeface="宋体"/>
              </a:rPr>
              <a:t>The Ultimate PowerPoint Design 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674640" y="2619360"/>
            <a:ext cx="6305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宋体"/>
              </a:rPr>
              <a:t>Create stunning visuals</a:t>
            </a: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宋体"/>
              </a:rPr>
              <a:t>that sell, motivate and persu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2637000" y="509112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"/>
                <a:ea typeface="宋体"/>
              </a:rPr>
              <a:t>This presentation was built entirely with templates and graphics from the PowerDESIGNS pack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2" descr="OfficePowerPoint2007_Icon"/>
          <p:cNvPicPr/>
          <p:nvPr/>
        </p:nvPicPr>
        <p:blipFill>
          <a:blip r:embed="rId3"/>
          <a:stretch/>
        </p:blipFill>
        <p:spPr>
          <a:xfrm>
            <a:off x="6218280" y="16621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9040" y="1910880"/>
            <a:ext cx="7162560" cy="8845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en-US" sz="3600" spc="-1" strike="noStrike">
                <a:solidFill>
                  <a:srgbClr val="f27900"/>
                </a:solidFill>
                <a:latin typeface="Arial"/>
                <a:ea typeface="宋体"/>
              </a:rPr>
              <a:t>Free Sample Present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2256840" y="379584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国外演示设计公司幻灯片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680" y="70722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3200" spc="-1" strike="noStrike">
                <a:solidFill>
                  <a:srgbClr val="002760"/>
                </a:solidFill>
                <a:latin typeface="Arial"/>
              </a:rPr>
              <a:t>Use Visual Metaphors</a:t>
            </a:r>
            <a:endParaRPr b="1" i="1" lang="en-US" sz="32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3246480" y="1751040"/>
            <a:ext cx="6827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760"/>
                </a:solidFill>
                <a:latin typeface="Arial"/>
                <a:ea typeface="Arial"/>
              </a:rPr>
              <a:t>Sales forecasts gradually improve over next 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14"/>
          <p:cNvGrpSpPr/>
          <p:nvPr/>
        </p:nvGrpSpPr>
        <p:grpSpPr>
          <a:xfrm>
            <a:off x="293760" y="3033720"/>
            <a:ext cx="3682800" cy="2971800"/>
            <a:chOff x="293760" y="3033720"/>
            <a:chExt cx="3682800" cy="2971800"/>
          </a:xfrm>
        </p:grpSpPr>
        <p:pic>
          <p:nvPicPr>
            <p:cNvPr id="204" name="Picture 5" descr="PPP_CGENE_CLP_Lightningcloud"/>
            <p:cNvPicPr/>
            <p:nvPr/>
          </p:nvPicPr>
          <p:blipFill>
            <a:blip r:embed="rId2"/>
            <a:stretch/>
          </p:blipFill>
          <p:spPr>
            <a:xfrm>
              <a:off x="293760" y="3479760"/>
              <a:ext cx="3682800" cy="25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8"/>
            <p:cNvSpPr/>
            <p:nvPr/>
          </p:nvSpPr>
          <p:spPr>
            <a:xfrm>
              <a:off x="1252080" y="4116240"/>
              <a:ext cx="1676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% Decre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11"/>
            <p:cNvSpPr/>
            <p:nvPr/>
          </p:nvSpPr>
          <p:spPr>
            <a:xfrm>
              <a:off x="1252080" y="3033720"/>
              <a:ext cx="1676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JANUA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15"/>
          <p:cNvGrpSpPr/>
          <p:nvPr/>
        </p:nvGrpSpPr>
        <p:grpSpPr>
          <a:xfrm>
            <a:off x="3321000" y="3033720"/>
            <a:ext cx="3684240" cy="2598840"/>
            <a:chOff x="3321000" y="3033720"/>
            <a:chExt cx="3684240" cy="2598840"/>
          </a:xfrm>
        </p:grpSpPr>
        <p:pic>
          <p:nvPicPr>
            <p:cNvPr id="208" name="Picture 6" descr="PPP_CGENE_CLP_Partlysunny"/>
            <p:cNvPicPr/>
            <p:nvPr/>
          </p:nvPicPr>
          <p:blipFill>
            <a:blip r:embed="rId3"/>
            <a:stretch/>
          </p:blipFill>
          <p:spPr>
            <a:xfrm>
              <a:off x="3321000" y="3052800"/>
              <a:ext cx="36842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9"/>
            <p:cNvSpPr/>
            <p:nvPr/>
          </p:nvSpPr>
          <p:spPr>
            <a:xfrm>
              <a:off x="4359600" y="4584600"/>
              <a:ext cx="1679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% Incre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12"/>
            <p:cNvSpPr/>
            <p:nvPr/>
          </p:nvSpPr>
          <p:spPr>
            <a:xfrm>
              <a:off x="4343760" y="3033720"/>
              <a:ext cx="1679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R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16"/>
          <p:cNvGrpSpPr/>
          <p:nvPr/>
        </p:nvGrpSpPr>
        <p:grpSpPr>
          <a:xfrm>
            <a:off x="6751800" y="2881440"/>
            <a:ext cx="2957400" cy="2970000"/>
            <a:chOff x="6751800" y="2881440"/>
            <a:chExt cx="2957400" cy="2970000"/>
          </a:xfrm>
        </p:grpSpPr>
        <p:pic>
          <p:nvPicPr>
            <p:cNvPr id="212" name="Picture 7" descr="PPP_CGENE_CLP_Sunny"/>
            <p:cNvPicPr/>
            <p:nvPr/>
          </p:nvPicPr>
          <p:blipFill>
            <a:blip r:embed="rId4"/>
            <a:stretch/>
          </p:blipFill>
          <p:spPr>
            <a:xfrm>
              <a:off x="6751800" y="2881440"/>
              <a:ext cx="2957400" cy="29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10"/>
            <p:cNvSpPr/>
            <p:nvPr/>
          </p:nvSpPr>
          <p:spPr>
            <a:xfrm>
              <a:off x="7591680" y="3911040"/>
              <a:ext cx="12952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%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cre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13"/>
            <p:cNvSpPr/>
            <p:nvPr/>
          </p:nvSpPr>
          <p:spPr>
            <a:xfrm>
              <a:off x="7382160" y="3033360"/>
              <a:ext cx="1676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Rectangle 19"/>
          <p:cNvSpPr/>
          <p:nvPr/>
        </p:nvSpPr>
        <p:spPr>
          <a:xfrm>
            <a:off x="3978360" y="5776920"/>
            <a:ext cx="2392200" cy="6094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Gen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7"/>
          <p:cNvGrpSpPr/>
          <p:nvPr/>
        </p:nvGrpSpPr>
        <p:grpSpPr>
          <a:xfrm>
            <a:off x="5213520" y="2728800"/>
            <a:ext cx="4052520" cy="3460680"/>
            <a:chOff x="5213520" y="2728800"/>
            <a:chExt cx="4052520" cy="3460680"/>
          </a:xfrm>
        </p:grpSpPr>
        <p:pic>
          <p:nvPicPr>
            <p:cNvPr id="217" name="Picture 8" descr="PPP_CGENE_CLP_ArrowChartDown_Red"/>
            <p:cNvPicPr/>
            <p:nvPr/>
          </p:nvPicPr>
          <p:blipFill>
            <a:blip r:embed="rId2"/>
            <a:stretch/>
          </p:blipFill>
          <p:spPr>
            <a:xfrm>
              <a:off x="5213520" y="2728800"/>
              <a:ext cx="4052520" cy="34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9"/>
            <p:cNvSpPr/>
            <p:nvPr/>
          </p:nvSpPr>
          <p:spPr>
            <a:xfrm rot="2160000">
              <a:off x="5486400" y="3983760"/>
              <a:ext cx="33778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ut Less Loy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3200" spc="-1" strike="noStrike">
                <a:solidFill>
                  <a:srgbClr val="002760"/>
                </a:solidFill>
                <a:latin typeface="Arial"/>
              </a:rPr>
              <a:t>Use Animation to Create Movement</a:t>
            </a:r>
            <a:endParaRPr b="1" i="1" lang="en-US" sz="32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3246480" y="1751040"/>
            <a:ext cx="6827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760"/>
                </a:solidFill>
                <a:latin typeface="Arial"/>
                <a:ea typeface="Arial"/>
              </a:rPr>
              <a:t>The New Breed of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4"/>
          <p:cNvGrpSpPr/>
          <p:nvPr/>
        </p:nvGrpSpPr>
        <p:grpSpPr>
          <a:xfrm>
            <a:off x="1111320" y="2728800"/>
            <a:ext cx="3677760" cy="3460680"/>
            <a:chOff x="1111320" y="2728800"/>
            <a:chExt cx="3677760" cy="3460680"/>
          </a:xfrm>
        </p:grpSpPr>
        <p:pic>
          <p:nvPicPr>
            <p:cNvPr id="222" name="Picture 5" descr="PPP_CGENE_CLP_ArrowChartUp_Blue"/>
            <p:cNvPicPr/>
            <p:nvPr/>
          </p:nvPicPr>
          <p:blipFill>
            <a:blip r:embed="rId3"/>
            <a:stretch/>
          </p:blipFill>
          <p:spPr>
            <a:xfrm>
              <a:off x="1111320" y="2728800"/>
              <a:ext cx="3677760" cy="34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6"/>
            <p:cNvSpPr/>
            <p:nvPr/>
          </p:nvSpPr>
          <p:spPr>
            <a:xfrm rot="19440000">
              <a:off x="1119960" y="3992400"/>
              <a:ext cx="33789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ore Dema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Rectangle 10"/>
          <p:cNvSpPr/>
          <p:nvPr/>
        </p:nvSpPr>
        <p:spPr>
          <a:xfrm>
            <a:off x="7132680" y="2805120"/>
            <a:ext cx="2394000" cy="6094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Arr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84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9" descr="EmailBackground"/>
          <p:cNvPicPr/>
          <p:nvPr/>
        </p:nvPicPr>
        <p:blipFill>
          <a:blip r:embed="rId1"/>
          <a:stretch/>
        </p:blipFill>
        <p:spPr>
          <a:xfrm>
            <a:off x="1189080" y="636480"/>
            <a:ext cx="7772400" cy="6435720"/>
          </a:xfrm>
          <a:prstGeom prst="rect">
            <a:avLst/>
          </a:prstGeom>
          <a:ln w="0">
            <a:noFill/>
          </a:ln>
        </p:spPr>
      </p:pic>
      <p:grpSp>
        <p:nvGrpSpPr>
          <p:cNvPr id="226" name="Group 17"/>
          <p:cNvGrpSpPr/>
          <p:nvPr/>
        </p:nvGrpSpPr>
        <p:grpSpPr>
          <a:xfrm>
            <a:off x="1494000" y="3719520"/>
            <a:ext cx="2361960" cy="2470320"/>
            <a:chOff x="1494000" y="3719520"/>
            <a:chExt cx="2361960" cy="2470320"/>
          </a:xfrm>
        </p:grpSpPr>
        <p:pic>
          <p:nvPicPr>
            <p:cNvPr id="227" name="Picture 9" descr="PowerTemplates.png"/>
            <p:cNvPicPr/>
            <p:nvPr/>
          </p:nvPicPr>
          <p:blipFill>
            <a:blip r:embed="rId2"/>
            <a:stretch/>
          </p:blipFill>
          <p:spPr>
            <a:xfrm>
              <a:off x="1505520" y="3719520"/>
              <a:ext cx="2317680" cy="24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Box 12"/>
            <p:cNvSpPr/>
            <p:nvPr/>
          </p:nvSpPr>
          <p:spPr>
            <a:xfrm>
              <a:off x="1494000" y="5272200"/>
              <a:ext cx="2361960" cy="77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360" bIns="45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argest collection of professional PowerPoint templat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Group 21"/>
          <p:cNvGrpSpPr/>
          <p:nvPr/>
        </p:nvGrpSpPr>
        <p:grpSpPr>
          <a:xfrm>
            <a:off x="3881520" y="3719520"/>
            <a:ext cx="2363760" cy="2470320"/>
            <a:chOff x="3881520" y="3719520"/>
            <a:chExt cx="2363760" cy="2470320"/>
          </a:xfrm>
        </p:grpSpPr>
        <p:pic>
          <p:nvPicPr>
            <p:cNvPr id="230" name="Picture 19" descr="PowerGraphics.png"/>
            <p:cNvPicPr/>
            <p:nvPr/>
          </p:nvPicPr>
          <p:blipFill>
            <a:blip r:embed="rId3"/>
            <a:stretch/>
          </p:blipFill>
          <p:spPr>
            <a:xfrm>
              <a:off x="3920760" y="3719520"/>
              <a:ext cx="2281680" cy="24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Box 16"/>
            <p:cNvSpPr/>
            <p:nvPr/>
          </p:nvSpPr>
          <p:spPr>
            <a:xfrm>
              <a:off x="3881520" y="5272200"/>
              <a:ext cx="2363760" cy="77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360" bIns="45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宋体"/>
                </a:rPr>
                <a:t>High impact graphic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宋体"/>
                </a:rPr>
                <a:t>visually communicate your messag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Group 22"/>
          <p:cNvGrpSpPr/>
          <p:nvPr/>
        </p:nvGrpSpPr>
        <p:grpSpPr>
          <a:xfrm>
            <a:off x="6237360" y="3719520"/>
            <a:ext cx="2367000" cy="2470320"/>
            <a:chOff x="6237360" y="3719520"/>
            <a:chExt cx="2367000" cy="2470320"/>
          </a:xfrm>
        </p:grpSpPr>
        <p:pic>
          <p:nvPicPr>
            <p:cNvPr id="233" name="Picture 20" descr="PowerIcons.png"/>
            <p:cNvPicPr/>
            <p:nvPr/>
          </p:nvPicPr>
          <p:blipFill>
            <a:blip r:embed="rId4"/>
            <a:stretch/>
          </p:blipFill>
          <p:spPr>
            <a:xfrm>
              <a:off x="6237360" y="3719520"/>
              <a:ext cx="2328480" cy="24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18"/>
            <p:cNvSpPr/>
            <p:nvPr/>
          </p:nvSpPr>
          <p:spPr>
            <a:xfrm>
              <a:off x="6243480" y="5272200"/>
              <a:ext cx="2360880" cy="77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360" bIns="45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宋体"/>
                </a:rPr>
                <a:t>Image based icons emotionally connect with your audien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Rectangle 19"/>
          <p:cNvSpPr/>
          <p:nvPr/>
        </p:nvSpPr>
        <p:spPr>
          <a:xfrm>
            <a:off x="1668600" y="2495520"/>
            <a:ext cx="6797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宋体"/>
              </a:rPr>
              <a:t>PowerDESIGNS includes everything you have just seen in this sample presentation plus over 15,000 other TEMPLATES, GRAPHICS and ICON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12"/>
          <p:cNvSpPr/>
          <p:nvPr/>
        </p:nvSpPr>
        <p:spPr>
          <a:xfrm>
            <a:off x="1284120" y="1811160"/>
            <a:ext cx="52578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2849f"/>
                </a:solidFill>
                <a:latin typeface="Arial Narrow"/>
                <a:ea typeface="宋体"/>
              </a:rPr>
              <a:t>The Ultimate PowerPoint Design 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84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9" descr="EmailBackground"/>
          <p:cNvPicPr/>
          <p:nvPr/>
        </p:nvPicPr>
        <p:blipFill>
          <a:blip r:embed="rId1"/>
          <a:stretch/>
        </p:blipFill>
        <p:spPr>
          <a:xfrm>
            <a:off x="1189080" y="636480"/>
            <a:ext cx="7772400" cy="6435720"/>
          </a:xfrm>
          <a:prstGeom prst="rect">
            <a:avLst/>
          </a:prstGeom>
          <a:ln w="0">
            <a:noFill/>
          </a:ln>
        </p:spPr>
      </p:pic>
      <p:sp>
        <p:nvSpPr>
          <p:cNvPr id="238" name="TextBox 13"/>
          <p:cNvSpPr/>
          <p:nvPr/>
        </p:nvSpPr>
        <p:spPr>
          <a:xfrm>
            <a:off x="2941560" y="2828880"/>
            <a:ext cx="59436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7900"/>
                </a:solidFill>
                <a:latin typeface="Arial Narrow"/>
                <a:ea typeface="宋体"/>
              </a:rPr>
              <a:t>Why Should I Subscrib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itle 13"/>
          <p:cNvSpPr/>
          <p:nvPr/>
        </p:nvSpPr>
        <p:spPr>
          <a:xfrm>
            <a:off x="2994120" y="3683160"/>
            <a:ext cx="55101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Arial"/>
                <a:ea typeface="宋体"/>
              </a:rPr>
              <a:t>Improved Image: </a:t>
            </a: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宋体"/>
              </a:rPr>
              <a:t>Your audience deserves to see a presentation that reflects your energy and professionalis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Arial"/>
                <a:ea typeface="宋体"/>
              </a:rPr>
              <a:t>Increased Impact: </a:t>
            </a: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宋体"/>
              </a:rPr>
              <a:t>Leave a memorable, lasting impression that gets resul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Arial"/>
                <a:ea typeface="宋体"/>
              </a:rPr>
              <a:t>Save Time and Money: </a:t>
            </a: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宋体"/>
              </a:rPr>
              <a:t>Create professional quality slides in a fraction of the ti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9" descr="PPP_CSHAP_CLP_3DCheckMark01_Blue.png"/>
          <p:cNvPicPr/>
          <p:nvPr/>
        </p:nvPicPr>
        <p:blipFill>
          <a:blip r:embed="rId2"/>
          <a:stretch/>
        </p:blipFill>
        <p:spPr>
          <a:xfrm>
            <a:off x="1722600" y="3508200"/>
            <a:ext cx="1098360" cy="12193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PPP_CSHAP_CLP_3DCheckMark01_Blue.png"/>
          <p:cNvPicPr/>
          <p:nvPr/>
        </p:nvPicPr>
        <p:blipFill>
          <a:blip r:embed="rId3"/>
          <a:stretch/>
        </p:blipFill>
        <p:spPr>
          <a:xfrm>
            <a:off x="1722600" y="4363920"/>
            <a:ext cx="1098360" cy="12193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1" descr="PPP_CSHAP_CLP_3DCheckMark01_Blue.png"/>
          <p:cNvPicPr/>
          <p:nvPr/>
        </p:nvPicPr>
        <p:blipFill>
          <a:blip r:embed="rId4"/>
          <a:stretch/>
        </p:blipFill>
        <p:spPr>
          <a:xfrm>
            <a:off x="1722600" y="5245200"/>
            <a:ext cx="1098360" cy="121608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2"/>
          <p:cNvSpPr/>
          <p:nvPr/>
        </p:nvSpPr>
        <p:spPr>
          <a:xfrm>
            <a:off x="1284120" y="1811160"/>
            <a:ext cx="52578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2849f"/>
                </a:solidFill>
                <a:latin typeface="Arial Narrow"/>
                <a:ea typeface="宋体"/>
              </a:rPr>
              <a:t>The Ultimate PowerPoint Design 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84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9" descr="EmailBackground"/>
          <p:cNvPicPr/>
          <p:nvPr/>
        </p:nvPicPr>
        <p:blipFill>
          <a:blip r:embed="rId1"/>
          <a:stretch/>
        </p:blipFill>
        <p:spPr>
          <a:xfrm>
            <a:off x="1189080" y="636480"/>
            <a:ext cx="7772400" cy="64357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13"/>
          <p:cNvSpPr/>
          <p:nvPr/>
        </p:nvSpPr>
        <p:spPr>
          <a:xfrm>
            <a:off x="2941560" y="2828880"/>
            <a:ext cx="59436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7900"/>
                </a:solidFill>
                <a:latin typeface="Arial Narrow"/>
                <a:ea typeface="宋体"/>
              </a:rPr>
              <a:t>What Do I Get When I Subscrib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itle 13"/>
          <p:cNvSpPr/>
          <p:nvPr/>
        </p:nvSpPr>
        <p:spPr>
          <a:xfrm>
            <a:off x="1401840" y="3683160"/>
            <a:ext cx="7354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 marL="457200" indent="-457200">
              <a:lnSpc>
                <a:spcPct val="100000"/>
              </a:lnSpc>
              <a:buClr>
                <a:srgbClr val="17375e"/>
              </a:buClr>
              <a:buFont typeface="Arial"/>
              <a:buAutoNum type="arabicPeriod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Arial"/>
                <a:ea typeface="宋体"/>
              </a:rPr>
              <a:t>Unlimited Access </a:t>
            </a: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宋体"/>
              </a:rPr>
              <a:t>to the World’s largest online collection of professionally designed PowerPoint templates and graphic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17375e"/>
              </a:buClr>
              <a:buFont typeface="Arial"/>
              <a:buAutoNum type="arabicPeriod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17375e"/>
              </a:buClr>
              <a:buFont typeface="Arial"/>
              <a:buAutoNum type="arabicPeriod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Arial"/>
                <a:ea typeface="宋体"/>
              </a:rPr>
              <a:t>FREE Monthly Updates</a:t>
            </a:r>
            <a:r>
              <a:rPr b="0" lang="en-US" sz="1800" spc="-1" strike="noStrike">
                <a:solidFill>
                  <a:srgbClr val="17375e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宋体"/>
              </a:rPr>
              <a:t>keep your presentations fresh and up-to-d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17375e"/>
              </a:buClr>
              <a:buFont typeface="Arial"/>
              <a:buAutoNum type="arabicPeriod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17375e"/>
              </a:buClr>
              <a:buFont typeface="Arial"/>
              <a:buAutoNum type="arabicPeriod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Arial"/>
                <a:ea typeface="宋体"/>
              </a:rPr>
              <a:t>Our Exclusive One-Click-Apply Tool </a:t>
            </a: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宋体"/>
              </a:rPr>
              <a:t>allows you to access the entire PowerDESIGNS library from a button on your PowerPoint toolbar. Creating stunning presentations has never been easie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12"/>
          <p:cNvSpPr/>
          <p:nvPr/>
        </p:nvSpPr>
        <p:spPr>
          <a:xfrm>
            <a:off x="1284120" y="1811160"/>
            <a:ext cx="52578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2849f"/>
                </a:solidFill>
                <a:latin typeface="Arial Narrow"/>
                <a:ea typeface="宋体"/>
              </a:rPr>
              <a:t>The Ultimate PowerPoint Design 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20560" y="209520"/>
            <a:ext cx="9110880" cy="635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zh-CN" sz="49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0600" y="1406160"/>
            <a:ext cx="9909360" cy="57754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8088480" y="368280"/>
            <a:ext cx="1542960" cy="387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D04C-0738-46D8-9051-3532ACB39C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84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9" descr="EmailBackground"/>
          <p:cNvPicPr/>
          <p:nvPr/>
        </p:nvPicPr>
        <p:blipFill>
          <a:blip r:embed="rId1"/>
          <a:stretch/>
        </p:blipFill>
        <p:spPr>
          <a:xfrm>
            <a:off x="1189080" y="636480"/>
            <a:ext cx="7772400" cy="6435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pdbox.png"/>
          <p:cNvPicPr/>
          <p:nvPr/>
        </p:nvPicPr>
        <p:blipFill>
          <a:blip r:embed="rId2"/>
          <a:stretch/>
        </p:blipFill>
        <p:spPr>
          <a:xfrm>
            <a:off x="1816200" y="2833560"/>
            <a:ext cx="3335400" cy="31719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8" descr="PPP_CNAVI_CLP_Button4_Rt_Blue.t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46680" y="3392640"/>
            <a:ext cx="825480" cy="761760"/>
          </a:xfrm>
          <a:prstGeom prst="rect">
            <a:avLst/>
          </a:prstGeom>
          <a:ln w="0">
            <a:noFill/>
          </a:ln>
        </p:spPr>
      </p:pic>
      <p:sp>
        <p:nvSpPr>
          <p:cNvPr id="254" name="TextBox 19">
            <a:hlinkClick r:id="rId5"/>
          </p:cNvPr>
          <p:cNvSpPr/>
          <p:nvPr/>
        </p:nvSpPr>
        <p:spPr>
          <a:xfrm>
            <a:off x="5497560" y="3538440"/>
            <a:ext cx="21337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宋体"/>
              </a:rPr>
              <a:t>MORE IN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20" descr="PPP_CNAVI_CLP_Button4_Rt_Blue.ti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846680" y="4307040"/>
            <a:ext cx="825480" cy="761760"/>
          </a:xfrm>
          <a:prstGeom prst="rect">
            <a:avLst/>
          </a:prstGeom>
          <a:ln w="0">
            <a:noFill/>
          </a:ln>
        </p:spPr>
      </p:pic>
      <p:sp>
        <p:nvSpPr>
          <p:cNvPr id="256" name="TextBox 21">
            <a:hlinkClick r:id="rId8"/>
          </p:cNvPr>
          <p:cNvSpPr/>
          <p:nvPr/>
        </p:nvSpPr>
        <p:spPr>
          <a:xfrm>
            <a:off x="5497560" y="4454640"/>
            <a:ext cx="29718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宋体"/>
              </a:rPr>
              <a:t>PURCHASE N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5">
            <a:hlinkClick r:id="rId9"/>
          </p:cNvPr>
          <p:cNvSpPr/>
          <p:nvPr/>
        </p:nvSpPr>
        <p:spPr>
          <a:xfrm>
            <a:off x="5500800" y="4764240"/>
            <a:ext cx="2927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27900"/>
                </a:solidFill>
                <a:latin typeface="Arial"/>
                <a:ea typeface="宋体"/>
              </a:rPr>
              <a:t>Buy Now for Only $1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12"/>
          <p:cNvSpPr/>
          <p:nvPr/>
        </p:nvSpPr>
        <p:spPr>
          <a:xfrm>
            <a:off x="1284120" y="1811160"/>
            <a:ext cx="52578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2849f"/>
                </a:solidFill>
                <a:latin typeface="Arial Narrow"/>
                <a:ea typeface="宋体"/>
              </a:rPr>
              <a:t>The Ultimate PowerPoint Design 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5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3200" spc="-1" strike="noStrike">
                <a:solidFill>
                  <a:srgbClr val="002760"/>
                </a:solidFill>
                <a:latin typeface="Arial"/>
              </a:rPr>
              <a:t>PowerPoint PowerTIP</a:t>
            </a:r>
            <a:endParaRPr b="1" i="1" lang="en-US" sz="3200" spc="-1" strike="noStrike">
              <a:solidFill>
                <a:srgbClr val="002760"/>
              </a:solidFill>
              <a:latin typeface="Arial"/>
            </a:endParaRPr>
          </a:p>
        </p:txBody>
      </p:sp>
      <p:pic>
        <p:nvPicPr>
          <p:cNvPr id="94" name="Picture 3" descr="PPP_CGENE_CLP_Bulb_Side_Glowing"/>
          <p:cNvPicPr/>
          <p:nvPr/>
        </p:nvPicPr>
        <p:blipFill>
          <a:blip r:embed="rId2"/>
          <a:stretch/>
        </p:blipFill>
        <p:spPr>
          <a:xfrm>
            <a:off x="3267000" y="2914560"/>
            <a:ext cx="5846760" cy="51483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1982880" y="2332080"/>
            <a:ext cx="8121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ow to create stunning visuals –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tha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sell, motivate and persu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008600" y="1674720"/>
            <a:ext cx="446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760"/>
                </a:solidFill>
                <a:latin typeface="Arial"/>
                <a:ea typeface="Arial"/>
              </a:rPr>
              <a:t>Visual Ma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6796080" y="3871800"/>
            <a:ext cx="2394000" cy="6098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Gen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503280" y="3490920"/>
            <a:ext cx="2394000" cy="68580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MPL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TEMPL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Abs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3200" spc="-1" strike="noStrike">
                <a:solidFill>
                  <a:srgbClr val="002760"/>
                </a:solidFill>
                <a:latin typeface="Arial"/>
              </a:rPr>
              <a:t>Visuals Persuade</a:t>
            </a:r>
            <a:endParaRPr b="1" i="1" lang="en-US" sz="32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4008600" y="1751040"/>
            <a:ext cx="446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760"/>
                </a:solidFill>
                <a:latin typeface="Arial"/>
                <a:ea typeface="Arial"/>
              </a:rPr>
              <a:t>Visuals help you sell your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11"/>
          <p:cNvGrpSpPr/>
          <p:nvPr/>
        </p:nvGrpSpPr>
        <p:grpSpPr>
          <a:xfrm>
            <a:off x="2179800" y="2948040"/>
            <a:ext cx="3124080" cy="3073320"/>
            <a:chOff x="2179800" y="2948040"/>
            <a:chExt cx="3124080" cy="3073320"/>
          </a:xfrm>
        </p:grpSpPr>
        <p:pic>
          <p:nvPicPr>
            <p:cNvPr id="102" name="Picture 4" descr="Blue"/>
            <p:cNvPicPr/>
            <p:nvPr/>
          </p:nvPicPr>
          <p:blipFill>
            <a:blip r:embed="rId2"/>
            <a:stretch/>
          </p:blipFill>
          <p:spPr>
            <a:xfrm>
              <a:off x="2179800" y="2948040"/>
              <a:ext cx="3124080" cy="30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5"/>
            <p:cNvSpPr/>
            <p:nvPr/>
          </p:nvSpPr>
          <p:spPr>
            <a:xfrm>
              <a:off x="2926080" y="4802400"/>
              <a:ext cx="16002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ddfbff"/>
                  </a:solidFill>
                  <a:latin typeface="Arial"/>
                  <a:ea typeface="宋体"/>
                </a:rPr>
                <a:t>33%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Text Box 6"/>
          <p:cNvSpPr/>
          <p:nvPr/>
        </p:nvSpPr>
        <p:spPr>
          <a:xfrm>
            <a:off x="274680" y="6950160"/>
            <a:ext cx="312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ource: Decker Presen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884160" y="5624640"/>
            <a:ext cx="3048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60"/>
                </a:solidFill>
                <a:latin typeface="Arial"/>
                <a:ea typeface="Arial"/>
              </a:rPr>
              <a:t>Successful meeting </a:t>
            </a:r>
            <a:r>
              <a:rPr b="1" i="1" lang="en-US" sz="2000" spc="-1" strike="noStrike">
                <a:solidFill>
                  <a:srgbClr val="002760"/>
                </a:solidFill>
                <a:latin typeface="Arial"/>
                <a:ea typeface="Arial"/>
              </a:rPr>
              <a:t>without</a:t>
            </a:r>
            <a:r>
              <a:rPr b="1" lang="en-US" sz="2000" spc="-1" strike="noStrike">
                <a:solidFill>
                  <a:srgbClr val="002760"/>
                </a:solidFill>
                <a:latin typeface="Arial"/>
                <a:ea typeface="Arial"/>
              </a:rPr>
              <a:t> visu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5989680" y="2577960"/>
            <a:ext cx="35812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Successful meeting </a:t>
            </a: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using</a:t>
            </a:r>
            <a:r>
              <a:rPr b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 vis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12"/>
          <p:cNvGrpSpPr/>
          <p:nvPr/>
        </p:nvGrpSpPr>
        <p:grpSpPr>
          <a:xfrm>
            <a:off x="3795840" y="2868480"/>
            <a:ext cx="3578040" cy="3517920"/>
            <a:chOff x="3795840" y="2868480"/>
            <a:chExt cx="3578040" cy="3517920"/>
          </a:xfrm>
        </p:grpSpPr>
        <p:pic>
          <p:nvPicPr>
            <p:cNvPr id="108" name="Picture 9" descr="Blue2"/>
            <p:cNvPicPr/>
            <p:nvPr/>
          </p:nvPicPr>
          <p:blipFill>
            <a:blip r:embed="rId3"/>
            <a:stretch/>
          </p:blipFill>
          <p:spPr>
            <a:xfrm>
              <a:off x="3795840" y="2868480"/>
              <a:ext cx="3578040" cy="35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0"/>
            <p:cNvSpPr/>
            <p:nvPr/>
          </p:nvSpPr>
          <p:spPr>
            <a:xfrm>
              <a:off x="4586040" y="4252680"/>
              <a:ext cx="198576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2760"/>
                  </a:solidFill>
                  <a:latin typeface="Arial"/>
                  <a:ea typeface="宋体"/>
                </a:rPr>
                <a:t>67%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Rectangle 13"/>
          <p:cNvSpPr/>
          <p:nvPr/>
        </p:nvSpPr>
        <p:spPr>
          <a:xfrm>
            <a:off x="7132680" y="5091120"/>
            <a:ext cx="2394000" cy="6094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Circles &amp; Sphe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Rectangle 2"/>
          <p:cNvGrpSpPr/>
          <p:nvPr/>
        </p:nvGrpSpPr>
        <p:grpSpPr>
          <a:xfrm>
            <a:off x="4840200" y="2432160"/>
            <a:ext cx="3773520" cy="3322440"/>
            <a:chOff x="4840200" y="2432160"/>
            <a:chExt cx="3773520" cy="3322440"/>
          </a:xfrm>
        </p:grpSpPr>
        <p:pic>
          <p:nvPicPr>
            <p:cNvPr id="112" name="Rectangle 2" descr=""/>
            <p:cNvPicPr/>
            <p:nvPr/>
          </p:nvPicPr>
          <p:blipFill>
            <a:blip r:embed="rId2"/>
            <a:stretch/>
          </p:blipFill>
          <p:spPr>
            <a:xfrm>
              <a:off x="4840200" y="2432160"/>
              <a:ext cx="3773520" cy="33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846680" y="2436480"/>
              <a:ext cx="3762360" cy="33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3200" spc="-1" strike="noStrike">
                <a:solidFill>
                  <a:srgbClr val="002760"/>
                </a:solidFill>
                <a:latin typeface="Arial"/>
              </a:rPr>
              <a:t>Visuals Increase Retention</a:t>
            </a:r>
            <a:endParaRPr b="1" i="1" lang="en-US" sz="32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246480" y="1751040"/>
            <a:ext cx="6827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760"/>
                </a:solidFill>
                <a:latin typeface="Arial"/>
                <a:ea typeface="Arial"/>
              </a:rPr>
              <a:t>We remember less than 10% of what we hear verb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74680" y="6950160"/>
            <a:ext cx="312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ource: Wharton University S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1798560" y="3535200"/>
            <a:ext cx="32767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Message Retention in 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059440" y="2436840"/>
          <a:ext cx="3352680" cy="3316320"/>
        </p:xfrm>
        <a:graphic>
          <a:graphicData uri="http://schemas.openxmlformats.org/drawingml/2006/table">
            <a:tbl>
              <a:tblPr/>
              <a:tblGrid>
                <a:gridCol w="1614600"/>
                <a:gridCol w="1738080"/>
              </a:tblGrid>
              <a:tr h="66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9" name="Group 46"/>
          <p:cNvGrpSpPr/>
          <p:nvPr/>
        </p:nvGrpSpPr>
        <p:grpSpPr>
          <a:xfrm>
            <a:off x="6461280" y="2921040"/>
            <a:ext cx="455400" cy="2318760"/>
            <a:chOff x="6461280" y="2921040"/>
            <a:chExt cx="455400" cy="2318760"/>
          </a:xfrm>
        </p:grpSpPr>
        <p:sp>
          <p:nvSpPr>
            <p:cNvPr id="120" name="Text Box 37"/>
            <p:cNvSpPr/>
            <p:nvPr/>
          </p:nvSpPr>
          <p:spPr>
            <a:xfrm>
              <a:off x="6461280" y="4935240"/>
              <a:ext cx="455400" cy="304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  <a:ea typeface="宋体"/>
                </a:rPr>
                <a:t>1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38"/>
            <p:cNvSpPr/>
            <p:nvPr/>
          </p:nvSpPr>
          <p:spPr>
            <a:xfrm>
              <a:off x="6461280" y="4264920"/>
              <a:ext cx="455400" cy="304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  <a:ea typeface="宋体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9"/>
            <p:cNvSpPr/>
            <p:nvPr/>
          </p:nvSpPr>
          <p:spPr>
            <a:xfrm>
              <a:off x="6461280" y="3592800"/>
              <a:ext cx="45540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  <a:ea typeface="宋体"/>
                </a:rPr>
                <a:t>3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40"/>
            <p:cNvSpPr/>
            <p:nvPr/>
          </p:nvSpPr>
          <p:spPr>
            <a:xfrm>
              <a:off x="6461280" y="2921040"/>
              <a:ext cx="45540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  <a:ea typeface="宋体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48"/>
          <p:cNvGrpSpPr/>
          <p:nvPr/>
        </p:nvGrpSpPr>
        <p:grpSpPr>
          <a:xfrm>
            <a:off x="6630840" y="2149560"/>
            <a:ext cx="2209680" cy="4509000"/>
            <a:chOff x="6630840" y="2149560"/>
            <a:chExt cx="2209680" cy="4509000"/>
          </a:xfrm>
        </p:grpSpPr>
        <p:sp>
          <p:nvSpPr>
            <p:cNvPr id="125" name="Text Box 42"/>
            <p:cNvSpPr/>
            <p:nvPr/>
          </p:nvSpPr>
          <p:spPr>
            <a:xfrm>
              <a:off x="6630840" y="6080040"/>
              <a:ext cx="220968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rbal Presentation With Vis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Picture 43" descr="PPP_CSHAP_CLP_2in1_Cyl_Orange04"/>
            <p:cNvPicPr/>
            <p:nvPr/>
          </p:nvPicPr>
          <p:blipFill>
            <a:blip r:embed="rId3"/>
            <a:stretch/>
          </p:blipFill>
          <p:spPr>
            <a:xfrm>
              <a:off x="6651360" y="2149560"/>
              <a:ext cx="2157480" cy="446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Group 47"/>
          <p:cNvGrpSpPr/>
          <p:nvPr/>
        </p:nvGrpSpPr>
        <p:grpSpPr>
          <a:xfrm>
            <a:off x="4748040" y="2149560"/>
            <a:ext cx="2156040" cy="4509000"/>
            <a:chOff x="4748040" y="2149560"/>
            <a:chExt cx="2156040" cy="4509000"/>
          </a:xfrm>
        </p:grpSpPr>
        <p:sp>
          <p:nvSpPr>
            <p:cNvPr id="128" name="Text Box 41"/>
            <p:cNvSpPr/>
            <p:nvPr/>
          </p:nvSpPr>
          <p:spPr>
            <a:xfrm>
              <a:off x="4787280" y="6080040"/>
              <a:ext cx="205596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rbal Only Pres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Picture 44" descr="PPP_CSHAP_CLP_2in1_Cyl_Green01"/>
            <p:cNvPicPr/>
            <p:nvPr/>
          </p:nvPicPr>
          <p:blipFill>
            <a:blip r:embed="rId4"/>
            <a:stretch/>
          </p:blipFill>
          <p:spPr>
            <a:xfrm>
              <a:off x="4748040" y="2149560"/>
              <a:ext cx="2156040" cy="446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Rectangle 49"/>
          <p:cNvSpPr/>
          <p:nvPr/>
        </p:nvSpPr>
        <p:spPr>
          <a:xfrm>
            <a:off x="2681280" y="5319720"/>
            <a:ext cx="2394000" cy="6094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Cylin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3200" spc="-1" strike="noStrike">
                <a:solidFill>
                  <a:srgbClr val="002760"/>
                </a:solidFill>
                <a:latin typeface="Arial"/>
              </a:rPr>
              <a:t>A Visual Is Worth a Thousand Words</a:t>
            </a:r>
            <a:endParaRPr b="1" i="1" lang="en-US" sz="32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569960" y="2881440"/>
            <a:ext cx="266724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Visuals Tr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- Mem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-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-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5" descr="PPP_IBUSI_CLP_Clock_B"/>
          <p:cNvPicPr/>
          <p:nvPr/>
        </p:nvPicPr>
        <p:blipFill>
          <a:blip r:embed="rId2"/>
          <a:stretch/>
        </p:blipFill>
        <p:spPr>
          <a:xfrm>
            <a:off x="4748040" y="2225520"/>
            <a:ext cx="3451320" cy="3006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PPP_IBUSI_CLP_Newspaper_B"/>
          <p:cNvPicPr/>
          <p:nvPr/>
        </p:nvPicPr>
        <p:blipFill>
          <a:blip r:embed="rId3"/>
          <a:stretch/>
        </p:blipFill>
        <p:spPr>
          <a:xfrm>
            <a:off x="3551400" y="3886200"/>
            <a:ext cx="3447720" cy="3005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PPP_IBUSI_CLP_LookingAhead_H_B"/>
          <p:cNvPicPr/>
          <p:nvPr/>
        </p:nvPicPr>
        <p:blipFill>
          <a:blip r:embed="rId4"/>
          <a:stretch/>
        </p:blipFill>
        <p:spPr>
          <a:xfrm>
            <a:off x="6523200" y="3184560"/>
            <a:ext cx="3450960" cy="30081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6751800" y="5776920"/>
            <a:ext cx="2393640" cy="6094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IC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7" descr=""/>
          <p:cNvPicPr/>
          <p:nvPr/>
        </p:nvPicPr>
        <p:blipFill>
          <a:blip r:embed="rId2"/>
          <a:stretch/>
        </p:blipFill>
        <p:spPr>
          <a:xfrm>
            <a:off x="6751800" y="2413080"/>
            <a:ext cx="2827080" cy="17413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3200" spc="-1" strike="noStrike">
                <a:solidFill>
                  <a:srgbClr val="002760"/>
                </a:solidFill>
                <a:latin typeface="Arial"/>
              </a:rPr>
              <a:t>Start With a Background Template</a:t>
            </a:r>
            <a:endParaRPr b="1" i="1" lang="en-US" sz="32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687240" y="2516040"/>
            <a:ext cx="350532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Temp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- Provide visual 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- Add pizzaz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- Sav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6" descr=""/>
          <p:cNvPicPr/>
          <p:nvPr/>
        </p:nvPicPr>
        <p:blipFill>
          <a:blip r:embed="rId3"/>
          <a:stretch/>
        </p:blipFill>
        <p:spPr>
          <a:xfrm>
            <a:off x="4008600" y="3121200"/>
            <a:ext cx="2836800" cy="1741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8" descr=""/>
          <p:cNvPicPr/>
          <p:nvPr/>
        </p:nvPicPr>
        <p:blipFill>
          <a:blip r:embed="rId4"/>
          <a:stretch/>
        </p:blipFill>
        <p:spPr>
          <a:xfrm>
            <a:off x="7209000" y="3957480"/>
            <a:ext cx="2827080" cy="1743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5" descr=""/>
          <p:cNvPicPr/>
          <p:nvPr/>
        </p:nvPicPr>
        <p:blipFill>
          <a:blip r:embed="rId5"/>
          <a:stretch/>
        </p:blipFill>
        <p:spPr>
          <a:xfrm>
            <a:off x="4524480" y="4687920"/>
            <a:ext cx="2836800" cy="17431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9"/>
          <p:cNvSpPr/>
          <p:nvPr/>
        </p:nvSpPr>
        <p:spPr>
          <a:xfrm>
            <a:off x="6948360" y="1738440"/>
            <a:ext cx="2392560" cy="6094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TEMPL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Business Con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30"/>
          <p:cNvSpPr/>
          <p:nvPr/>
        </p:nvSpPr>
        <p:spPr>
          <a:xfrm>
            <a:off x="7437600" y="5776920"/>
            <a:ext cx="2393640" cy="6094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TEMPL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Med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1"/>
          <p:cNvSpPr/>
          <p:nvPr/>
        </p:nvSpPr>
        <p:spPr>
          <a:xfrm>
            <a:off x="2332080" y="5243400"/>
            <a:ext cx="2395440" cy="6098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TEMPL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2"/>
          <p:cNvSpPr/>
          <p:nvPr/>
        </p:nvSpPr>
        <p:spPr>
          <a:xfrm>
            <a:off x="4237200" y="2452680"/>
            <a:ext cx="2393640" cy="6094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TEMPL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Glob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3200" spc="-1" strike="noStrike">
                <a:solidFill>
                  <a:srgbClr val="002760"/>
                </a:solidFill>
                <a:latin typeface="Arial"/>
              </a:rPr>
              <a:t>Think KISS (Keep It Short and Simple)</a:t>
            </a:r>
            <a:endParaRPr b="1" i="1" lang="en-US" sz="32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1189080" y="2986200"/>
            <a:ext cx="3505320" cy="27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宋体"/>
              </a:rPr>
              <a:t>Impact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宋体"/>
              </a:rPr>
              <a:t>- Is it simp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宋体"/>
              </a:rPr>
              <a:t>- Is it cle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宋体"/>
              </a:rPr>
              <a:t>- Is it visi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Group 27"/>
          <p:cNvGrpSpPr/>
          <p:nvPr/>
        </p:nvGrpSpPr>
        <p:grpSpPr>
          <a:xfrm>
            <a:off x="4541760" y="2960640"/>
            <a:ext cx="4238640" cy="3549600"/>
            <a:chOff x="4541760" y="2960640"/>
            <a:chExt cx="4238640" cy="3549600"/>
          </a:xfrm>
        </p:grpSpPr>
        <p:sp>
          <p:nvSpPr>
            <p:cNvPr id="150" name="Oval 2"/>
            <p:cNvSpPr/>
            <p:nvPr/>
          </p:nvSpPr>
          <p:spPr>
            <a:xfrm>
              <a:off x="7211880" y="357012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aeaea">
                    <a:alpha val="75294"/>
                  </a:srgbClr>
                </a:gs>
                <a:gs pos="100000">
                  <a:srgbClr val="dddddd">
                    <a:alpha val="7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Oval 3"/>
            <p:cNvSpPr/>
            <p:nvPr/>
          </p:nvSpPr>
          <p:spPr>
            <a:xfrm>
              <a:off x="8323200" y="303372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aeaea">
                    <a:alpha val="75294"/>
                  </a:srgbClr>
                </a:gs>
                <a:gs pos="100000">
                  <a:srgbClr val="dddddd">
                    <a:alpha val="7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Oval 4"/>
            <p:cNvSpPr/>
            <p:nvPr/>
          </p:nvSpPr>
          <p:spPr>
            <a:xfrm>
              <a:off x="8170920" y="43290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aeaea">
                    <a:alpha val="75294"/>
                  </a:srgbClr>
                </a:gs>
                <a:gs pos="100000">
                  <a:srgbClr val="dddddd">
                    <a:alpha val="7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5"/>
            <p:cNvSpPr/>
            <p:nvPr/>
          </p:nvSpPr>
          <p:spPr>
            <a:xfrm>
              <a:off x="8218440" y="521496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aeaea">
                    <a:alpha val="75294"/>
                  </a:srgbClr>
                </a:gs>
                <a:gs pos="100000">
                  <a:srgbClr val="dddddd">
                    <a:alpha val="7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6"/>
            <p:cNvSpPr/>
            <p:nvPr/>
          </p:nvSpPr>
          <p:spPr>
            <a:xfrm>
              <a:off x="7754760" y="561168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aeaea">
                    <a:alpha val="75294"/>
                  </a:srgbClr>
                </a:gs>
                <a:gs pos="100000">
                  <a:srgbClr val="dddddd">
                    <a:alpha val="7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7"/>
            <p:cNvSpPr/>
            <p:nvPr/>
          </p:nvSpPr>
          <p:spPr>
            <a:xfrm>
              <a:off x="6068880" y="587196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aeaea">
                    <a:alpha val="75294"/>
                  </a:srgbClr>
                </a:gs>
                <a:gs pos="100000">
                  <a:srgbClr val="dddddd">
                    <a:alpha val="7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8"/>
            <p:cNvSpPr/>
            <p:nvPr/>
          </p:nvSpPr>
          <p:spPr>
            <a:xfrm>
              <a:off x="4541760" y="605304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aeaea">
                    <a:alpha val="75294"/>
                  </a:srgbClr>
                </a:gs>
                <a:gs pos="100000">
                  <a:srgbClr val="dddddd">
                    <a:alpha val="7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9"/>
            <p:cNvSpPr/>
            <p:nvPr/>
          </p:nvSpPr>
          <p:spPr>
            <a:xfrm>
              <a:off x="4681440" y="41148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aeaea">
                    <a:alpha val="75294"/>
                  </a:srgbClr>
                </a:gs>
                <a:gs pos="100000">
                  <a:srgbClr val="dddddd">
                    <a:alpha val="7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10"/>
            <p:cNvSpPr/>
            <p:nvPr/>
          </p:nvSpPr>
          <p:spPr>
            <a:xfrm>
              <a:off x="4910040" y="296064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aeaea">
                    <a:alpha val="75294"/>
                  </a:srgbClr>
                </a:gs>
                <a:gs pos="100000">
                  <a:srgbClr val="dddddd">
                    <a:alpha val="7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Oval 11"/>
            <p:cNvSpPr/>
            <p:nvPr/>
          </p:nvSpPr>
          <p:spPr>
            <a:xfrm>
              <a:off x="6357960" y="43290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aeaea">
                    <a:alpha val="75294"/>
                  </a:srgbClr>
                </a:gs>
                <a:gs pos="100000">
                  <a:srgbClr val="dddddd">
                    <a:alpha val="7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26"/>
          <p:cNvGrpSpPr/>
          <p:nvPr/>
        </p:nvGrpSpPr>
        <p:grpSpPr>
          <a:xfrm>
            <a:off x="4788000" y="2805120"/>
            <a:ext cx="5094360" cy="3683160"/>
            <a:chOff x="4788000" y="2805120"/>
            <a:chExt cx="5094360" cy="3683160"/>
          </a:xfrm>
        </p:grpSpPr>
        <p:pic>
          <p:nvPicPr>
            <p:cNvPr id="161" name="Picture 15" descr="PPP_CSHAP_CLP_RoundBallGreen"/>
            <p:cNvPicPr/>
            <p:nvPr/>
          </p:nvPicPr>
          <p:blipFill>
            <a:blip r:embed="rId2"/>
            <a:stretch/>
          </p:blipFill>
          <p:spPr>
            <a:xfrm>
              <a:off x="4788000" y="4815000"/>
              <a:ext cx="1192320" cy="167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16" descr="PPP_CSHAP_CLP_RoundBallOrange"/>
            <p:cNvPicPr/>
            <p:nvPr/>
          </p:nvPicPr>
          <p:blipFill>
            <a:blip r:embed="rId3"/>
            <a:stretch/>
          </p:blipFill>
          <p:spPr>
            <a:xfrm>
              <a:off x="5575320" y="2805120"/>
              <a:ext cx="1192320" cy="167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17" descr="PPP_CSHAP_CLP_RoundBallPurple"/>
            <p:cNvPicPr/>
            <p:nvPr/>
          </p:nvPicPr>
          <p:blipFill>
            <a:blip r:embed="rId4"/>
            <a:stretch/>
          </p:blipFill>
          <p:spPr>
            <a:xfrm>
              <a:off x="7007400" y="4408560"/>
              <a:ext cx="119196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Line 18"/>
            <p:cNvSpPr/>
            <p:nvPr/>
          </p:nvSpPr>
          <p:spPr>
            <a:xfrm flipV="1">
              <a:off x="5989680" y="4925880"/>
              <a:ext cx="914400" cy="152640"/>
            </a:xfrm>
            <a:prstGeom prst="line">
              <a:avLst/>
            </a:prstGeom>
            <a:ln w="9360">
              <a:solidFill>
                <a:srgbClr val="0e1194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19"/>
            <p:cNvSpPr/>
            <p:nvPr/>
          </p:nvSpPr>
          <p:spPr>
            <a:xfrm>
              <a:off x="6662880" y="3859200"/>
              <a:ext cx="533520" cy="685800"/>
            </a:xfrm>
            <a:prstGeom prst="line">
              <a:avLst/>
            </a:prstGeom>
            <a:ln w="9360">
              <a:solidFill>
                <a:srgbClr val="0e1194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20"/>
            <p:cNvSpPr/>
            <p:nvPr/>
          </p:nvSpPr>
          <p:spPr>
            <a:xfrm flipH="1">
              <a:off x="5503680" y="3983040"/>
              <a:ext cx="307800" cy="822240"/>
            </a:xfrm>
            <a:prstGeom prst="line">
              <a:avLst/>
            </a:prstGeom>
            <a:ln w="9360">
              <a:solidFill>
                <a:srgbClr val="0e1194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21"/>
            <p:cNvSpPr/>
            <p:nvPr/>
          </p:nvSpPr>
          <p:spPr>
            <a:xfrm>
              <a:off x="5926320" y="3068640"/>
              <a:ext cx="25146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uct Leader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22"/>
            <p:cNvSpPr/>
            <p:nvPr/>
          </p:nvSpPr>
          <p:spPr>
            <a:xfrm>
              <a:off x="7367760" y="4726080"/>
              <a:ext cx="25146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al Excell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23"/>
            <p:cNvSpPr/>
            <p:nvPr/>
          </p:nvSpPr>
          <p:spPr>
            <a:xfrm>
              <a:off x="5075280" y="5126040"/>
              <a:ext cx="25146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stomer Intima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Text Box 24"/>
          <p:cNvSpPr/>
          <p:nvPr/>
        </p:nvSpPr>
        <p:spPr>
          <a:xfrm>
            <a:off x="3246480" y="1751040"/>
            <a:ext cx="6827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760"/>
                </a:solidFill>
                <a:latin typeface="Arial"/>
                <a:ea typeface="Arial"/>
              </a:rPr>
              <a:t>The Three Keys to 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8"/>
          <p:cNvSpPr/>
          <p:nvPr/>
        </p:nvSpPr>
        <p:spPr>
          <a:xfrm>
            <a:off x="7209000" y="3643200"/>
            <a:ext cx="2393640" cy="6098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Circles &amp; Sphe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PPP_CARRO_CLP_Hollow_Dn_Blue"/>
          <p:cNvPicPr/>
          <p:nvPr/>
        </p:nvPicPr>
        <p:blipFill>
          <a:blip r:embed="rId2">
            <a:grayscl/>
          </a:blip>
          <a:stretch/>
        </p:blipFill>
        <p:spPr>
          <a:xfrm>
            <a:off x="6024600" y="2332080"/>
            <a:ext cx="2038320" cy="42670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3200" spc="-1" strike="noStrike">
                <a:solidFill>
                  <a:srgbClr val="002760"/>
                </a:solidFill>
                <a:latin typeface="Arial"/>
              </a:rPr>
              <a:t>Stick to One Idea Per Visual </a:t>
            </a:r>
            <a:endParaRPr b="1" i="1" lang="en-US" sz="32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189080" y="2957400"/>
            <a:ext cx="3505320" cy="27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宋体"/>
              </a:rPr>
              <a:t>Clarity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宋体"/>
              </a:rPr>
              <a:t>- Clear head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宋体"/>
              </a:rPr>
              <a:t>- One point per vis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宋体"/>
              </a:rPr>
              <a:t>- Unclut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6" descr="PPP_CARRO_CLP_Hollow_Dn_Blue"/>
          <p:cNvPicPr/>
          <p:nvPr/>
        </p:nvPicPr>
        <p:blipFill>
          <a:blip r:embed="rId3"/>
          <a:stretch/>
        </p:blipFill>
        <p:spPr>
          <a:xfrm>
            <a:off x="6053040" y="2303640"/>
            <a:ext cx="2038320" cy="426708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14"/>
          <p:cNvGrpSpPr/>
          <p:nvPr/>
        </p:nvGrpSpPr>
        <p:grpSpPr>
          <a:xfrm>
            <a:off x="5989680" y="2941560"/>
            <a:ext cx="2209680" cy="630360"/>
            <a:chOff x="5989680" y="2941560"/>
            <a:chExt cx="2209680" cy="630360"/>
          </a:xfrm>
        </p:grpSpPr>
        <p:sp>
          <p:nvSpPr>
            <p:cNvPr id="177" name="Rectangle 7"/>
            <p:cNvSpPr/>
            <p:nvPr/>
          </p:nvSpPr>
          <p:spPr>
            <a:xfrm>
              <a:off x="5989680" y="2941560"/>
              <a:ext cx="2209680" cy="63036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10"/>
            <p:cNvSpPr/>
            <p:nvPr/>
          </p:nvSpPr>
          <p:spPr>
            <a:xfrm>
              <a:off x="6053040" y="3046320"/>
              <a:ext cx="2057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Group 15"/>
          <p:cNvGrpSpPr/>
          <p:nvPr/>
        </p:nvGrpSpPr>
        <p:grpSpPr>
          <a:xfrm>
            <a:off x="5989680" y="4037040"/>
            <a:ext cx="2209680" cy="631440"/>
            <a:chOff x="5989680" y="4037040"/>
            <a:chExt cx="2209680" cy="631440"/>
          </a:xfrm>
        </p:grpSpPr>
        <p:sp>
          <p:nvSpPr>
            <p:cNvPr id="180" name="Rectangle 8"/>
            <p:cNvSpPr/>
            <p:nvPr/>
          </p:nvSpPr>
          <p:spPr>
            <a:xfrm>
              <a:off x="5989680" y="4037040"/>
              <a:ext cx="2209680" cy="63144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6053040" y="4160880"/>
              <a:ext cx="2057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t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Group 16"/>
          <p:cNvGrpSpPr/>
          <p:nvPr/>
        </p:nvGrpSpPr>
        <p:grpSpPr>
          <a:xfrm>
            <a:off x="5989680" y="5119560"/>
            <a:ext cx="2209680" cy="630360"/>
            <a:chOff x="5989680" y="5119560"/>
            <a:chExt cx="2209680" cy="630360"/>
          </a:xfrm>
        </p:grpSpPr>
        <p:sp>
          <p:nvSpPr>
            <p:cNvPr id="183" name="Rectangle 9"/>
            <p:cNvSpPr/>
            <p:nvPr/>
          </p:nvSpPr>
          <p:spPr>
            <a:xfrm>
              <a:off x="5989680" y="5119560"/>
              <a:ext cx="2209680" cy="63036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12"/>
            <p:cNvSpPr/>
            <p:nvPr/>
          </p:nvSpPr>
          <p:spPr>
            <a:xfrm>
              <a:off x="6053040" y="5243400"/>
              <a:ext cx="2057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pl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Text Box 13"/>
          <p:cNvSpPr/>
          <p:nvPr/>
        </p:nvSpPr>
        <p:spPr>
          <a:xfrm>
            <a:off x="3246480" y="1751040"/>
            <a:ext cx="6827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760"/>
                </a:solidFill>
                <a:latin typeface="Arial"/>
                <a:ea typeface="Arial"/>
              </a:rPr>
              <a:t>The Three Es of Successful Pres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7"/>
          <p:cNvSpPr/>
          <p:nvPr/>
        </p:nvSpPr>
        <p:spPr>
          <a:xfrm>
            <a:off x="4160880" y="5929200"/>
            <a:ext cx="2394000" cy="6098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Arr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500"/>
                            </p:stCondLst>
                            <p:childTnLst>
                              <p:par>
                                <p:cTn id="23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2800" spc="-1" strike="noStrike">
                <a:solidFill>
                  <a:srgbClr val="002760"/>
                </a:solidFill>
                <a:latin typeface="Arial"/>
              </a:rPr>
              <a:t>Search For a Single Visual to Sell your Message</a:t>
            </a:r>
            <a:endParaRPr b="1" i="1" lang="en-US" sz="28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189080" y="2957400"/>
            <a:ext cx="3124080" cy="12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Presentation T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2760"/>
                </a:solidFill>
                <a:latin typeface="Arial"/>
                <a:ea typeface="Arial"/>
              </a:rPr>
              <a:t>Our profits come from a few key cli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3246480" y="1751040"/>
            <a:ext cx="6827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760"/>
                </a:solidFill>
                <a:latin typeface="Arial"/>
                <a:ea typeface="Arial"/>
              </a:rPr>
              <a:t>Profit Pyra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15"/>
          <p:cNvGrpSpPr/>
          <p:nvPr/>
        </p:nvGrpSpPr>
        <p:grpSpPr>
          <a:xfrm>
            <a:off x="3019320" y="2424240"/>
            <a:ext cx="6160680" cy="4198680"/>
            <a:chOff x="3019320" y="2424240"/>
            <a:chExt cx="6160680" cy="4198680"/>
          </a:xfrm>
        </p:grpSpPr>
        <p:pic>
          <p:nvPicPr>
            <p:cNvPr id="191" name="Picture 6" descr="PPP_CPYRA_CLP_Pyramid_A_4Orange"/>
            <p:cNvPicPr/>
            <p:nvPr/>
          </p:nvPicPr>
          <p:blipFill>
            <a:blip r:embed="rId2"/>
            <a:stretch/>
          </p:blipFill>
          <p:spPr>
            <a:xfrm>
              <a:off x="3657240" y="2424240"/>
              <a:ext cx="5522760" cy="41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7"/>
            <p:cNvSpPr/>
            <p:nvPr/>
          </p:nvSpPr>
          <p:spPr>
            <a:xfrm>
              <a:off x="3019320" y="5303520"/>
              <a:ext cx="2361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profi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8"/>
            <p:cNvSpPr/>
            <p:nvPr/>
          </p:nvSpPr>
          <p:spPr>
            <a:xfrm>
              <a:off x="3384000" y="4446360"/>
              <a:ext cx="2513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rginally profi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9"/>
            <p:cNvSpPr/>
            <p:nvPr/>
          </p:nvSpPr>
          <p:spPr>
            <a:xfrm>
              <a:off x="3847680" y="3582720"/>
              <a:ext cx="251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ghly profi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10"/>
            <p:cNvSpPr/>
            <p:nvPr/>
          </p:nvSpPr>
          <p:spPr>
            <a:xfrm>
              <a:off x="4266360" y="2881080"/>
              <a:ext cx="251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er profi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Text Box 11"/>
          <p:cNvSpPr/>
          <p:nvPr/>
        </p:nvSpPr>
        <p:spPr>
          <a:xfrm>
            <a:off x="5626080" y="5148360"/>
            <a:ext cx="1449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80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6040440" y="4341960"/>
            <a:ext cx="1066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6500880" y="3503520"/>
            <a:ext cx="685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6805440" y="2876400"/>
            <a:ext cx="685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7589880" y="2347920"/>
            <a:ext cx="2394000" cy="6094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Pyram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5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6T19:40:15Z</dcterms:created>
  <dc:creator>www.eeppt.com</dc:creator>
  <dc:description>www.eeppt.com</dc:description>
  <dc:language>en-US</dc:language>
  <cp:lastModifiedBy>微软用户</cp:lastModifiedBy>
  <dcterms:modified xsi:type="dcterms:W3CDTF">2015-08-14T12:51:01Z</dcterms:modified>
  <cp:revision>8</cp:revision>
  <dc:subject>PresentationPro Free PowerPoint Download</dc:subject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