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606-855B-4D3A-B77A-9DD5D34E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C40-666D-4FE2-B0CA-77999B0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665-844C-43A9-B3B8-96816003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520-7501-4E6C-B006-BDB78B4E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031-F657-4AD2-8A87-0FE56750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EB6-189A-4DC4-B6B4-5403D6AC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079-613E-4A0B-AE6E-2518FC3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7BB-B1AB-4DCA-8472-D29142C2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D0F-329C-4A18-BBA0-6EC92C60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C80-ABC9-4011-AD9A-F77C148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681-726B-4AD1-8979-81C81C0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22A-F284-4B8C-BF64-6CBF60E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A257-3160-482F-8588-9C69985201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ws_E8E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8480" y="5734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英文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作品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ws_EA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ws_EA2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ws_EA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ws_EA7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ws_EA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ws_EAB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ws_EAD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s_EAF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ws_EB1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ws_EB3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ws_E9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ws_EB5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ws_EB7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ws_EB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872-668B-4CB5-A5D8-E0E9B058DC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ws_EB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ws_E92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ws_E9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ws_E9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ws_E98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ws_E9A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ws_E9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ws_E9E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2:32:36Z</dcterms:created>
  <dc:creator>www.eeppt.com</dc:creator>
  <dc:description>www.eeppt.com</dc:description>
  <dc:language>en-US</dc:language>
  <cp:lastModifiedBy>Windows 用户</cp:lastModifiedBy>
  <dcterms:modified xsi:type="dcterms:W3CDTF">2015-08-14T12:51:08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