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5445-9570-41F7-A82E-59FD9E22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98CD-07CA-4649-8638-63431610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C76A-196A-4457-AFD5-21B0682B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D262-960F-40F2-9EB3-BBD646D4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CCC5-021A-4945-A29C-42FEDDE1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089D-9D7B-489F-A888-184A1D9D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1C35-E2D0-41EC-A672-9E772593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A986-C246-4217-AE8E-A371B8EB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6C86-F64D-48D1-BF88-A6EEE4AC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CB7D-D43B-4F04-B0A0-A9ED6CE6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B9F2-F25D-48BA-9CB3-EF435A61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196-9A14-49D5-8721-30BA8937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fff0e7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028F-789D-4494-B59D-ACF1B0D3761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梅奥国际：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www.mayo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877F-89E8-45BC-A364-7003414B468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497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fff0e7"/>
                </a:solidFill>
                <a:latin typeface="Arial"/>
              </a:rPr>
              <a:t>国外医药医疗行业工作汇报</a:t>
            </a:r>
            <a:r>
              <a:rPr b="1" lang="en-US" sz="4000" spc="-1" strike="noStrike">
                <a:solidFill>
                  <a:srgbClr val="fff0e7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0e7"/>
                </a:solidFill>
                <a:latin typeface="Arial"/>
              </a:rPr>
              <a:t>模版</a:t>
            </a:r>
            <a:endParaRPr b="1" lang="en-US" sz="40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2536560" y="3753000"/>
            <a:ext cx="55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38953"/>
                </a:solidFill>
                <a:latin typeface="Arial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fff2ed"/>
                </a:solidFill>
                <a:latin typeface="Arial"/>
              </a:rPr>
              <a:t>Block Diagram</a:t>
            </a:r>
            <a:endParaRPr b="1" lang="en-US" sz="4000" spc="-1" strike="noStrike">
              <a:solidFill>
                <a:srgbClr val="fff0e7"/>
              </a:solidFill>
              <a:latin typeface="Calibri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214280" y="785880"/>
            <a:ext cx="6715440" cy="5429160"/>
            <a:chOff x="1214280" y="785880"/>
            <a:chExt cx="6715440" cy="5429160"/>
          </a:xfrm>
        </p:grpSpPr>
        <p:sp>
          <p:nvSpPr>
            <p:cNvPr id="46" name=""/>
            <p:cNvSpPr/>
            <p:nvPr/>
          </p:nvSpPr>
          <p:spPr>
            <a:xfrm>
              <a:off x="1214280" y="1669320"/>
              <a:ext cx="1896120" cy="2570400"/>
            </a:xfrm>
            <a:custGeom>
              <a:avLst/>
              <a:gdLst>
                <a:gd name="textAreaLeft" fmla="*/ 55440 w 1896120"/>
                <a:gd name="textAreaRight" fmla="*/ 1840680 w 1896120"/>
                <a:gd name="textAreaTop" fmla="*/ 55440 h 2570400"/>
                <a:gd name="textAreaBottom" fmla="*/ 2514960 h 2570400"/>
              </a:gdLst>
              <a:ahLst/>
              <a:rect l="textAreaLeft" t="textAreaTop" r="textAreaRight" b="textAreaBottom"/>
              <a:pathLst>
                <a:path w="21600" h="29280">
                  <a:moveTo>
                    <a:pt x="2160" y="0"/>
                  </a:moveTo>
                  <a:arcTo wR="2160" hR="2160" stAng="16200000" swAng="-5400000"/>
                  <a:lnTo>
                    <a:pt x="0" y="27120"/>
                  </a:lnTo>
                  <a:arcTo wR="2160" hR="2160" stAng="10800000" swAng="-5400000"/>
                  <a:lnTo>
                    <a:pt x="19440" y="29280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337d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315160" y="3086280"/>
              <a:ext cx="1903680" cy="3128760"/>
            </a:xfrm>
            <a:custGeom>
              <a:avLst/>
              <a:gdLst>
                <a:gd name="textAreaLeft" fmla="*/ 0 w 1903680"/>
                <a:gd name="textAreaRight" fmla="*/ 1904040 w 1903680"/>
                <a:gd name="textAreaTop" fmla="*/ 0 h 3128760"/>
                <a:gd name="textAreaBottom" fmla="*/ 3129120 h 31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232" y="5030"/>
                  </a:moveTo>
                  <a:arcTo wR="-10330" hR="-10330" stAng="-8762578" swAng="-14612933"/>
                  <a:lnTo>
                    <a:pt x="1409" y="16133"/>
                  </a:lnTo>
                  <a:arcTo wR="10800" hR="10800" stAng="9024489" swAng="14612933"/>
                  <a:lnTo>
                    <a:pt x="21998" y="18341"/>
                  </a:lnTo>
                  <a:lnTo>
                    <a:pt x="17924" y="19136"/>
                  </a:lnTo>
                  <a:lnTo>
                    <a:pt x="17129" y="15062"/>
                  </a:lnTo>
                  <a:close/>
                </a:path>
              </a:pathLst>
            </a:custGeom>
            <a:solidFill>
              <a:srgbClr val="46a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35480" y="4285080"/>
              <a:ext cx="1685520" cy="1101600"/>
            </a:xfrm>
            <a:prstGeom prst="roundRect">
              <a:avLst>
                <a:gd name="adj" fmla="val 10000"/>
              </a:avLst>
            </a:prstGeom>
            <a:solidFill>
              <a:srgbClr val="337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55280" y="4317480"/>
              <a:ext cx="1646280" cy="10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880" rIns="20880" tIns="14040" bIns="140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18640" y="2265480"/>
              <a:ext cx="1896120" cy="2570400"/>
            </a:xfrm>
            <a:custGeom>
              <a:avLst/>
              <a:gdLst>
                <a:gd name="textAreaLeft" fmla="*/ 55440 w 1896120"/>
                <a:gd name="textAreaRight" fmla="*/ 1840680 w 1896120"/>
                <a:gd name="textAreaTop" fmla="*/ 55440 h 2570400"/>
                <a:gd name="textAreaBottom" fmla="*/ 2514960 h 2570400"/>
              </a:gdLst>
              <a:ahLst/>
              <a:rect l="textAreaLeft" t="textAreaTop" r="textAreaRight" b="textAreaBottom"/>
              <a:pathLst>
                <a:path w="21600" h="29280">
                  <a:moveTo>
                    <a:pt x="2160" y="0"/>
                  </a:moveTo>
                  <a:arcTo wR="2160" hR="2160" stAng="16200000" swAng="-5400000"/>
                  <a:lnTo>
                    <a:pt x="0" y="27120"/>
                  </a:lnTo>
                  <a:arcTo wR="2160" hR="2160" stAng="10800000" swAng="-5400000"/>
                  <a:lnTo>
                    <a:pt x="19440" y="29280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80b8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54640" y="2875680"/>
              <a:ext cx="1824120" cy="190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960" rIns="39960" tIns="39960" bIns="399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03680" y="785880"/>
              <a:ext cx="2145960" cy="3526920"/>
            </a:xfrm>
            <a:custGeom>
              <a:avLst/>
              <a:gdLst>
                <a:gd name="textAreaLeft" fmla="*/ 0 w 2145960"/>
                <a:gd name="textAreaRight" fmla="*/ 2145960 w 2145960"/>
                <a:gd name="textAreaTop" fmla="*/ 0 h 3526920"/>
                <a:gd name="textAreaBottom" fmla="*/ 3527280 h 352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36" y="16522"/>
                  </a:moveTo>
                  <a:arcTo wR="-10383" hR="-10383" stAng="8793451" swAng="-7017940"/>
                  <a:lnTo>
                    <a:pt x="1409" y="5467"/>
                  </a:lnTo>
                  <a:arcTo wR="10800" hR="10800" stAng="-9024489" swAng="7017940"/>
                  <a:lnTo>
                    <a:pt x="22065" y="3360"/>
                  </a:lnTo>
                  <a:lnTo>
                    <a:pt x="21241" y="7390"/>
                  </a:lnTo>
                  <a:lnTo>
                    <a:pt x="17211" y="6566"/>
                  </a:lnTo>
                  <a:close/>
                </a:path>
              </a:pathLst>
            </a:custGeom>
            <a:solidFill>
              <a:srgbClr val="bcd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39840" y="1714680"/>
              <a:ext cx="1685520" cy="1101600"/>
            </a:xfrm>
            <a:prstGeom prst="roundRect">
              <a:avLst>
                <a:gd name="adj" fmla="val 10000"/>
              </a:avLst>
            </a:prstGeom>
            <a:solidFill>
              <a:srgbClr val="80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959640" y="1747080"/>
              <a:ext cx="1646280" cy="10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880" rIns="20880" tIns="14040" bIns="140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823000" y="2265480"/>
              <a:ext cx="1896120" cy="2570400"/>
            </a:xfrm>
            <a:custGeom>
              <a:avLst/>
              <a:gdLst>
                <a:gd name="textAreaLeft" fmla="*/ 55440 w 1896120"/>
                <a:gd name="textAreaRight" fmla="*/ 1840680 w 1896120"/>
                <a:gd name="textAreaTop" fmla="*/ 55440 h 2570400"/>
                <a:gd name="textAreaBottom" fmla="*/ 2514960 h 2570400"/>
              </a:gdLst>
              <a:ahLst/>
              <a:rect l="textAreaLeft" t="textAreaTop" r="textAreaRight" b="textAreaBottom"/>
              <a:pathLst>
                <a:path w="21600" h="29280">
                  <a:moveTo>
                    <a:pt x="2160" y="0"/>
                  </a:moveTo>
                  <a:arcTo wR="2160" hR="2160" stAng="16200000" swAng="-5400000"/>
                  <a:lnTo>
                    <a:pt x="0" y="27120"/>
                  </a:lnTo>
                  <a:arcTo wR="2160" hR="2160" stAng="10800000" swAng="-5400000"/>
                  <a:lnTo>
                    <a:pt x="19440" y="29280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80b8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859000" y="2324880"/>
              <a:ext cx="1824120" cy="190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960" rIns="39960" tIns="39960" bIns="399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44200" y="4285080"/>
              <a:ext cx="1685520" cy="1101600"/>
            </a:xfrm>
            <a:prstGeom prst="roundRect">
              <a:avLst>
                <a:gd name="adj" fmla="val 10000"/>
              </a:avLst>
            </a:prstGeom>
            <a:solidFill>
              <a:srgbClr val="80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64000" y="4317480"/>
              <a:ext cx="1646280" cy="10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880" rIns="20880" tIns="14040" bIns="140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fff2ed"/>
                </a:solidFill>
                <a:latin typeface="Arial"/>
              </a:rPr>
              <a:t>Block Diagram</a:t>
            </a: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143000" y="1643040"/>
            <a:ext cx="6095880" cy="3992760"/>
            <a:chOff x="1143000" y="1643040"/>
            <a:chExt cx="6095880" cy="3992760"/>
          </a:xfrm>
        </p:grpSpPr>
        <p:sp>
          <p:nvSpPr>
            <p:cNvPr id="61" name=""/>
            <p:cNvSpPr/>
            <p:nvPr/>
          </p:nvSpPr>
          <p:spPr>
            <a:xfrm>
              <a:off x="1682640" y="1856160"/>
              <a:ext cx="5231880" cy="3443760"/>
            </a:xfrm>
            <a:prstGeom prst="pie">
              <a:avLst/>
            </a:prstGeom>
            <a:solidFill>
              <a:srgbClr val="c0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40240" y="2585880"/>
              <a:ext cx="1868400" cy="10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65880" bIns="658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22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st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75000" y="1978920"/>
              <a:ext cx="5231880" cy="3443760"/>
            </a:xfrm>
            <a:prstGeom prst="pie">
              <a:avLst/>
            </a:prstGeom>
            <a:solidFill>
              <a:srgbClr val="bd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20600" y="4213440"/>
              <a:ext cx="2802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65880" bIns="658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22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st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67000" y="1856160"/>
              <a:ext cx="5231880" cy="3443760"/>
            </a:xfrm>
            <a:prstGeom prst="pie">
              <a:avLst/>
            </a:prstGeom>
            <a:solidFill>
              <a:srgbClr val="99b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73240" y="2585880"/>
              <a:ext cx="1868400" cy="10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65880" bIns="658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22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st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59360" y="1643040"/>
              <a:ext cx="5879520" cy="3870000"/>
            </a:xfrm>
            <a:custGeom>
              <a:avLst/>
              <a:gdLst>
                <a:gd name="textAreaLeft" fmla="*/ 0 w 5879520"/>
                <a:gd name="textAreaRight" fmla="*/ 5879880 w 5879520"/>
                <a:gd name="textAreaTop" fmla="*/ 0 h 3870000"/>
                <a:gd name="textAreaBottom" fmla="*/ 3870360 h 38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74" y="6770"/>
                  </a:moveTo>
                  <a:arcTo wR="-9702" hR="-9702" stAng="-9327528" swAng="-6873040"/>
                  <a:lnTo>
                    <a:pt x="10798" y="0"/>
                  </a:lnTo>
                  <a:arcTo wR="10800" hR="10800" stAng="-5400569" swAng="6873040"/>
                  <a:lnTo>
                    <a:pt x="23080" y="16407"/>
                  </a:lnTo>
                  <a:lnTo>
                    <a:pt x="18775" y="18013"/>
                  </a:lnTo>
                  <a:lnTo>
                    <a:pt x="17169" y="13708"/>
                  </a:lnTo>
                  <a:close/>
                </a:path>
              </a:pathLst>
            </a:custGeom>
            <a:solidFill>
              <a:srgbClr val="c0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51000" y="1765800"/>
              <a:ext cx="5879520" cy="3870000"/>
            </a:xfrm>
            <a:custGeom>
              <a:avLst/>
              <a:gdLst>
                <a:gd name="textAreaLeft" fmla="*/ 0 w 5879520"/>
                <a:gd name="textAreaRight" fmla="*/ 5879880 w 5879520"/>
                <a:gd name="textAreaTop" fmla="*/ 0 h 3870000"/>
                <a:gd name="textAreaBottom" fmla="*/ 3870360 h 38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702" y="5171"/>
                  </a:moveTo>
                  <a:arcTo wR="-9702" hR="-9702" stAng="-2128031" swAng="-6871468"/>
                  <a:lnTo>
                    <a:pt x="20152" y="16201"/>
                  </a:lnTo>
                  <a:arcTo wR="10800" hR="10800" stAng="1800502" swAng="6871468"/>
                  <a:lnTo>
                    <a:pt x="-195" y="18633"/>
                  </a:lnTo>
                  <a:lnTo>
                    <a:pt x="566" y="14102"/>
                  </a:lnTo>
                  <a:lnTo>
                    <a:pt x="5097" y="14863"/>
                  </a:lnTo>
                  <a:close/>
                </a:path>
              </a:pathLst>
            </a:custGeom>
            <a:solidFill>
              <a:srgbClr val="bd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43000" y="1643040"/>
              <a:ext cx="5879520" cy="3870000"/>
            </a:xfrm>
            <a:custGeom>
              <a:avLst/>
              <a:gdLst>
                <a:gd name="textAreaLeft" fmla="*/ 0 w 5879520"/>
                <a:gd name="textAreaRight" fmla="*/ 5879880 w 5879520"/>
                <a:gd name="textAreaTop" fmla="*/ 0 h 3870000"/>
                <a:gd name="textAreaBottom" fmla="*/ 3870360 h 38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721" y="20458"/>
                  </a:moveTo>
                  <a:arcTo wR="-9702" hR="-9702" stAng="5073039" swAng="-6873039"/>
                  <a:lnTo>
                    <a:pt x="1447" y="16200"/>
                  </a:lnTo>
                  <a:arcTo wR="10800" hR="10800" stAng="9000000" swAng="6873039"/>
                  <a:lnTo>
                    <a:pt x="9518" y="-2639"/>
                  </a:lnTo>
                  <a:lnTo>
                    <a:pt x="13061" y="287"/>
                  </a:lnTo>
                  <a:lnTo>
                    <a:pt x="10135" y="3830"/>
                  </a:lnTo>
                  <a:close/>
                </a:path>
              </a:pathLst>
            </a:custGeom>
            <a:solidFill>
              <a:srgbClr val="99b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400" spc="-1" strike="noStrike">
                <a:solidFill>
                  <a:srgbClr val="fff0e7"/>
                </a:solidFill>
                <a:latin typeface="Calibri"/>
              </a:rPr>
              <a:t>使用规范说明</a:t>
            </a: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F25D-0386-4C8B-8300-3A6A1F24E5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42760" y="2130120"/>
            <a:ext cx="5815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fff2ed"/>
                </a:solidFill>
                <a:latin typeface="Arial"/>
              </a:rPr>
              <a:t>Thank You!</a:t>
            </a:r>
            <a:endParaRPr b="1" lang="en-US" sz="5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2822400" y="3643200"/>
            <a:ext cx="55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38953"/>
                </a:solidFill>
                <a:latin typeface="Arial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07:48:00Z</dcterms:created>
  <dc:creator>www.eeppt.com</dc:creator>
  <dc:description>www.eeppt.com</dc:description>
  <dc:language>en-US</dc:language>
  <cp:lastModifiedBy>alin</cp:lastModifiedBy>
  <dcterms:modified xsi:type="dcterms:W3CDTF">2015-08-14T12:51:00Z</dcterms:modified>
  <cp:revision>12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