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D28-BF05-4522-BBFE-6376E211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DA7-7816-48F6-906F-A004580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6A5-0D08-4442-915B-B125D0ED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39B-FF8C-4820-AEE5-D518B808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AA-BAE0-4CD7-9B20-AB2A3B5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C07-1750-4F23-AE73-0CF26F9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743-A8D4-4B2F-B88B-C16AC79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D56-41E2-4D7E-B06E-F3F12DC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5FC-9B10-4021-99BC-AC1E75A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DC0-C0D8-4E41-9B4D-999B5D0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66F-EF62-4EF8-8F5D-3ACF7337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68D-E59A-4D28-86BE-097533F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F89-3782-4E1A-A7C9-4D370B9DDB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8A55-ACC4-4E6D-86B6-524A44075B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-583236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RoswellSCThreeITC T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90080" y="152280"/>
            <a:ext cx="71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作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thesocialcustomer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-87480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swellSCThreeITC T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-4394520" y="1828800"/>
            <a:ext cx="161427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RoswellSCThreeITC TT"/>
              </a:rPr>
              <a:t>HOW  DOES  THIS  SHIFT  IN  AUTHORITY  AFFEC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-4326480" y="2476440"/>
            <a:ext cx="1602576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362a4e"/>
                </a:solidFill>
                <a:latin typeface="RoswellSCThreeITC TT"/>
              </a:rPr>
              <a:t>CUSTOMER  SUPPORT  FOR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362a4e"/>
                </a:solidFill>
                <a:latin typeface="RoswellSCThreeITC TT"/>
              </a:rPr>
              <a:t>BUSINESSES?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57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-4367520" y="1098720"/>
            <a:ext cx="157694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RoswellSCThreeITC TT"/>
              </a:rPr>
              <a:t>UNFORTUNATELY,  MANY  ORGANIZATIONS  STILL  DO 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RoswellSCThreeITC TT"/>
              </a:rPr>
              <a:t>BELIEVE  IN  THE  AUTHORITY  OF  THE  SOCIAL  CUSTO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63240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RoswellSCThreeITC T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695700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RoswellSCThreeITC T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-3377520" y="1111320"/>
            <a:ext cx="12882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ba62af"/>
                </a:solidFill>
                <a:latin typeface="RoswellSCThreeITC TT"/>
              </a:rPr>
              <a:t>BUT  THEY’RE  PAYING  FOR  IT.....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-2573280" y="1065240"/>
            <a:ext cx="1391940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ba62af"/>
                </a:solidFill>
                <a:latin typeface="RoswellSCThreeITC TT"/>
              </a:rPr>
              <a:t>THE  MOST  SOCIALLY  PROACTIVE  COMPAN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ba62af"/>
                </a:solidFill>
                <a:latin typeface="RoswellSCThreeITC TT"/>
              </a:rPr>
              <a:t>SEE  SOLIDRE  SULTS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60852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RoswellSCThreeITC T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-4464000" y="1663560"/>
            <a:ext cx="16316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RoswellSCThreeITC TT"/>
              </a:rPr>
              <a:t>HOW  SHOULD  YOU  PREPARE  YOURSELF  FOR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-4679280" y="2443320"/>
            <a:ext cx="168836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362a4e"/>
                </a:solidFill>
                <a:latin typeface="RoswellSCThreeITC TT"/>
              </a:rPr>
              <a:t>THE  COMING  AGE  OF  TH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-5449320" y="3571920"/>
            <a:ext cx="198111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362a4e"/>
                </a:solidFill>
                <a:latin typeface="RoswellSCThreeITC TT"/>
              </a:rPr>
              <a:t>SOCIAL  CUSTOMER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-472644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RoswellSCThreeITC T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-4433400" y="800280"/>
            <a:ext cx="1603008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a62af"/>
                </a:solidFill>
                <a:latin typeface="RoswellSCThreeITC TT"/>
              </a:rPr>
              <a:t>WHEN  RESPONDING  TO  THE  SOCIAL  CUSTOMER,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RoswellSCThreeITC TT"/>
              </a:rPr>
              <a:t>DON’T  FORGET  TO: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-4885920" y="958680"/>
            <a:ext cx="177462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TO  IMPROVE  YOUR  COMPANY’S  OVERALL  PLAN 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SOCIAL  CUSTOMER  SERVICE,  CONSIDER  THESE  TIP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-5569560" y="1071720"/>
            <a:ext cx="20072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EVEN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 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IF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THE 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CHANNELS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(FACEBOOK,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TWITTER,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ETC.)</a:t>
            </a:r>
            <a:r>
              <a:rPr b="0" lang="en-US" sz="5400" spc="-1" strike="noStrike">
                <a:solidFill>
                  <a:srgbClr val="000000"/>
                </a:solidFill>
                <a:latin typeface="RoswellSCThreeITC TT"/>
              </a:rPr>
              <a:t> </a:t>
            </a:r>
            <a:r>
              <a:rPr b="0" lang="en-US" sz="5400" spc="-1" strike="noStrike">
                <a:solidFill>
                  <a:srgbClr val="ba62af"/>
                </a:solidFill>
                <a:latin typeface="RoswellSCThreeITC TT"/>
              </a:rPr>
              <a:t>EVOLV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-5422320" y="1571760"/>
            <a:ext cx="1925028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RoswellSCThreeITC TT"/>
              </a:rPr>
              <a:t>THE  SOCIAL  CUSTOMER  IS  HERE  TO  ST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23360" y="4584600"/>
            <a:ext cx="108514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swellSCThreeITC TT"/>
              </a:rPr>
              <a:t>DON’T  LET  YOUR  CUSTOM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72360" y="5397480"/>
            <a:ext cx="1202364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swellSCThreeITC TT"/>
              </a:rPr>
              <a:t>SERVICE  EFFORTS  FALL  BEHI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-3398400" y="774720"/>
            <a:ext cx="133740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a62af"/>
                </a:solidFill>
                <a:latin typeface="RoswellSCThreeITC TT"/>
              </a:rPr>
              <a:t>THE  DAWN  OF  THEDIGITAL  AGE,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RoswellSCThreeITC TT"/>
              </a:rPr>
              <a:t>THE SOCIAL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RoswellSCThreeITC TT"/>
              </a:rPr>
              <a:t>CUSTOMER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-3758040" y="1676520"/>
            <a:ext cx="1390428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swellSCThreeITC TT"/>
              </a:rPr>
              <a:t>SIGN  UP  FOR  YOUR  FREE  14-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swellSCThreeITC TT"/>
              </a:rPr>
              <a:t>TRIAL  OF  DESK.COM  TODA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115-562B-48FD-93F9-354509455D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-3209400" y="1486080"/>
            <a:ext cx="1197648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362a4e"/>
                </a:solidFill>
                <a:latin typeface="RoswellSCThreeITC TT"/>
              </a:rPr>
              <a:t>WHO IS THE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-5542200" y="3565440"/>
            <a:ext cx="1989504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500" spc="-1" strike="noStrike">
                <a:solidFill>
                  <a:srgbClr val="ffffff"/>
                </a:solidFill>
                <a:latin typeface="RoswellSCThreeITC TT"/>
              </a:rPr>
              <a:t>SOCIAL CUSTOMER?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-4420440" y="1028880"/>
            <a:ext cx="160894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ba62af"/>
                </a:solidFill>
                <a:latin typeface="RoswellSCThreeITC TT"/>
              </a:rPr>
              <a:t>THE  SOCIAL  CUSTOMER  TOUCHE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ba62af"/>
                </a:solidFill>
                <a:latin typeface="RoswellSCThreeITC TT"/>
              </a:rPr>
              <a:t>NEARLY  EVERY  CORNER  OF  THE  GLOBE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-3815640" y="1009800"/>
            <a:ext cx="141814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a62af"/>
                </a:solidFill>
                <a:latin typeface="RoswellSCThreeITC TT"/>
              </a:rPr>
              <a:t>TODAY’S  SOCIAL  CUSTOMER  I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-3170520" y="1015920"/>
            <a:ext cx="116974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a62af"/>
                </a:solidFill>
                <a:latin typeface="RoswellSCThreeITC TT"/>
              </a:rPr>
              <a:t>EXPECTATIONS  ARE  HIG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52520" y="584280"/>
            <a:ext cx="42055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ba62af"/>
                </a:solidFill>
                <a:latin typeface="RoswellSCThreeITC TT"/>
              </a:rPr>
              <a:t>FACEBOO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933840" y="584280"/>
            <a:ext cx="3342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ba62af"/>
                </a:solidFill>
                <a:latin typeface="RoswellSCThreeITC TT"/>
              </a:rPr>
              <a:t>TWITTER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-2968920" y="863640"/>
            <a:ext cx="11088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4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4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4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RoswellSCThreeITC TT"/>
              </a:rPr>
              <a:t>AN  INTIMATE  CONNECTIO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RoswellSCThreeITC TT"/>
              </a:rPr>
              <a:t>AMONG  ALL  CONSUMERS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eeppt.com</dc:creator>
  <dc:description>www.eeppt.com</dc:description>
  <dc:language>en-US</dc:language>
  <cp:lastModifiedBy>陈魁chinakui</cp:lastModifiedBy>
  <dcterms:modified xsi:type="dcterms:W3CDTF">2015-08-14T12:51:02Z</dcterms:modified>
  <cp:revision>26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