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1372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10F-4072-441B-B5D6-2B1AE83E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2ABA-08B7-4FE5-AC0D-EF545FF7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A9314-9912-409B-BB19-78021BCD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88185-147D-451E-9F8D-5A5BD265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45880"/>
            <a:ext cx="82296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83034-6AE2-4326-85E4-AD91F7CE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7FC5E-44EB-46B2-A215-4FC41222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15DCE-2A8B-4264-9386-DDD7ADFE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C83ED-0EE5-42AB-82F6-72937AA0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13113-9FB7-4131-8FB7-7D94E533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08AA9-52D9-42DD-AA4A-0854616E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45934-E756-46F8-A03F-014C2246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7BA2A-DC8D-4809-806A-2BF2B076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046-42D5-4541-8A17-C1E744FF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BCD13-FF0A-4C6B-B7E6-03871373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B78C8-C732-4432-95F8-3A764092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57DA7-E634-4FDC-A6F8-1B86379F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B2077-87B3-4C73-9B02-27A51FD0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45880"/>
            <a:ext cx="82296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8C240-D7DF-4919-AD85-E579A09C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E35DF-36B6-415F-B91E-E32190CF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A499E-C2D3-475A-8CE9-F38F1755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91AB6-56AB-49FE-82E8-5750A96C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D6508-FF10-4636-BF29-84DA20AE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5D78C-49FC-4AB0-9320-D9FE20F6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A440-D4C4-449D-A316-B6B9E0B3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102BC-6A23-457D-BFF4-56DB25F7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F5386-A0D9-43E9-81C8-CB791533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B9052-EA10-432C-8CE2-86675AB0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AE8DC-E927-4123-A3AB-CC7DA150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0C258-5AF3-42CA-B865-F8839F4A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58B56-1DDB-43DC-B7AC-8AF068ED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45880"/>
            <a:ext cx="82296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B3290-F326-4A24-905E-3AAD86EF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1419F-B0C9-4946-A092-B6DA0E78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5B260-2462-4B6A-837A-6EC8EA7D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693AC-1F43-407C-A015-F2D7231A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4BBA-61C2-4B1D-AC09-78E0D254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00F0F-2807-44E1-82D6-68DCBF7D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E8A5E-399A-407C-A091-8C194FDE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386E7-B8BF-4F98-B85F-4A380EC2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D4B29-8D40-4E8A-B50D-05A1E13C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CC5E9-331B-47E7-BB32-E0AE28A0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44702-BAA8-4737-8D3F-91ED9167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9D265-7711-44BC-AA04-EE95C72C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1B272-A901-4D1E-B75C-D25BCFA0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45880"/>
            <a:ext cx="82296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ECDB5-8A2E-4CAE-80C4-73F3B84E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B7B44-05C1-45EF-BF22-5BFDBD10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B188-06AE-4ED9-90E5-9C1C557F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F23A7-D635-4049-AA60-1AB334AE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3B4C6-96B0-447D-A748-6A091631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63DD3-42E6-4A6B-A7A2-E39D6B43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B75AA-0C1A-4ABF-8900-E12C8110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B7E5C-4F3F-40F9-999F-D385DBE6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8D702-EF89-46A1-8F0A-7B24FF9D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85C9A-0BD6-4ED1-9633-9F255B2E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E20B9-8498-40E8-AF70-8B44FE99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3074D-7B0A-42F3-A91F-2D1DE870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01B46-FC5B-40A8-99F3-95F2A07D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7D13-5AF1-4F62-8168-488C26C4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45880"/>
            <a:ext cx="82296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02396-107E-465E-94E4-FCCDA205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7104B-29D2-43EA-A49C-EF1226AE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5809D7-75A7-4C32-B6CB-41A96456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5E671-18E9-4C9F-90D0-5B9F7D46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3DD43C-5E4E-42C9-8DDE-724F09C9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26A4F9-6215-401E-B750-48A6301C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9FE01-ED5B-4706-8930-8908F22F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AB7C-7434-49F4-AC4B-08280535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D23A-AC1C-458D-B89F-3BC58A3A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5880"/>
            <a:ext cx="82296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4C39-D3C8-462F-889A-B21ACBD6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A49A-1119-4A8C-B7F8-B2C9B34A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D60C-C2F8-4B97-AA3B-747C50E9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8BF1-2EA9-483E-98A2-DAB2794B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1BAC-E04D-484E-9A8F-DE92F629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D300-380E-4C2D-8422-CE30599B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721B-D65B-4AD3-80AB-B32CA8B9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2287-B830-45AB-BB8D-C6882FCA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518B1-AD03-44D3-8789-30A9AAF0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7D38E-F8B6-4510-8689-92954BD3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C1441-7527-48B6-A177-FFE9C544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F0B2D-B4E9-4E52-BF3A-F6E0D806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AFDF1-74B3-475D-BCD9-848E0102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194-226E-4309-B6D5-9994E11C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5880"/>
            <a:ext cx="82296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63EF6-FFA4-4CB5-BA96-6FDA6791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094F9-61B9-4E19-989B-29086461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91CB6-053F-446F-AAD1-FF21F6CE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FA5C7-BCF6-4CBF-A9B1-3CE97C0E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F7B1F-2FAC-4F39-9A41-9A032D6F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D478F-900A-452E-8C03-468F6F48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8CB8F-211B-44C3-9DF8-FA49EFB1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41C31-6195-47A6-8C3C-16E66B3E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436CE-8511-4196-A448-F896C52F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55EC4-B594-4EF0-BEAB-4AC3481E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2A1-99B0-4A65-ACE3-BB5246ED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E6935-D815-4B0B-9BE3-DBF86AAA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582CD-9537-4CD3-A1C5-803E9F5C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5880"/>
            <a:ext cx="82296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67D94-16C6-405A-8798-5AB50A0E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B741D-E20A-4F48-9A3E-CCB2755E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38767-7B9F-483E-97E2-E3DA9827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DC070-9C40-4A44-8BAB-32C99267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60A68-4EF5-4FE8-B400-A86E1CC6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2A10A-8808-4559-9192-AB8E6E3A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51527-8C1F-4BB4-9A64-E9680067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E6CF6-CF0D-43F7-B767-9D028C2C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FAB-0F69-4580-9BA7-4B0F2A8C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608EA-E920-4B6B-A9B9-60649F5C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A8041-AF18-4B28-BC83-030F28FF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C267D-0CB8-47F8-8465-CE768F85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09833-35F2-42F6-A7D0-5DAB08B7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5880"/>
            <a:ext cx="82296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3F923-34AD-41CE-B97D-5C357381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D2DDF-FA83-4013-83FC-4D7F12EE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C4B0E-A090-43D1-863E-01FD3423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51BA9-225B-4AC4-A2D5-ACB8BBF4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9B86E-35B3-4882-84B7-159543DD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04E22-30C1-417F-9BDD-8733A07A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5880"/>
            <a:ext cx="82296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4789-B310-409B-AF40-2C23FC3B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A49AA-A734-417D-9BD6-6E791A9B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E9E9A-E1DB-4000-BCA7-66D7F8D6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D8880-CFB1-4517-B584-195D7A86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95319-2DDD-4AC7-A42C-E2B1B8F1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3CC4A-DAD3-4D11-93A3-08808294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EA63A-11A8-43CB-B760-6D9543EF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5880"/>
            <a:ext cx="82296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75830-1D0B-4D6F-8415-7E2FD4B4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2D062-E2B3-447E-BEA6-703333CC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DD864-EDA0-43A8-A427-A8D4E4C1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24E41-3414-4EB3-9782-822DE0AA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3B11-8A46-421C-9B8F-FB31E110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95130-2AD9-4080-87ED-D98A7615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969BD-8B4A-4118-B619-F42CDD8E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176AE-DAB6-45F6-B4E9-76B05AE2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0C020-B3AE-459F-B6F0-CDAD524B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287B4-B7F6-4666-95D5-11AA2069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4622B-F012-482F-B1B0-CD1A22DD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6C3A4-EC49-44F4-BFDA-0F2D0F37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ED80F-92AF-4B98-9A8F-A402D888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5880"/>
            <a:ext cx="82296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D7D1D-FBB4-4D59-AC52-C348C534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F9801-D354-4431-BB83-5427E0CB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D072-4116-4FC4-ADCF-23244658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9B0CA-90D6-4AFA-8C8A-EA8288B8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B6E52-2259-4C25-9A04-C9AB135D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1FA56-D459-4859-8CED-D449F970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F6E41-8B12-4D86-9918-92F08716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55198-653F-4A86-B6EA-30A8F788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29ACC-01A7-4310-9E07-3DBF7166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0D70C-24DC-458F-8CC2-3FAC3E0E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CF97E-50B9-48DA-B7D5-FBDF88D5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265C7-D228-4BF2-AF62-B02EF529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799E2-5383-4020-B5A7-9A51B67D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535-3A76-483C-977A-998C0F45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5880"/>
            <a:ext cx="82296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0146F-6091-4503-8A9C-716AAE1D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85A65-0291-4C7E-8873-1A83F92E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3748C-E953-41D1-B20F-EB978B16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0CA24-98C2-43A7-B5B3-78C38C46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1F430-689F-4114-A56A-FEF6E947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1F315-693E-4585-BD72-6AFCDEAD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A4BD1-EDD8-401A-B4B2-6D98A612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D4EE0-688F-48A2-9C7E-C137CFDC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B63F1-F92D-43E2-86E9-F3F6CEDD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7C4C4-B532-40D1-90CF-91866DFD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89720"/>
            <a:ext cx="21337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89720"/>
            <a:ext cx="289584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89720"/>
            <a:ext cx="21337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BBB2-1AA8-4835-83B8-1A7E8692E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689080"/>
            <a:ext cx="213372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689080"/>
            <a:ext cx="289584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689080"/>
            <a:ext cx="213372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C596-9694-4826-BDF2-44F2C344BE1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689080"/>
            <a:ext cx="213372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689080"/>
            <a:ext cx="289584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689080"/>
            <a:ext cx="213372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7715-1DFC-4D7E-8EBD-C291E33E90F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689080"/>
            <a:ext cx="213372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689080"/>
            <a:ext cx="289584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689080"/>
            <a:ext cx="213372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8F9F-7930-414E-ACB4-AE0B29FB568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432080"/>
            <a:ext cx="82296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59116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59116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59116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3626-8252-4659-BD4E-37CCC1D532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689080"/>
            <a:ext cx="213372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689080"/>
            <a:ext cx="289584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689080"/>
            <a:ext cx="213372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CD80-9EB8-457B-ABC6-AEB54F159B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689080"/>
            <a:ext cx="213372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689080"/>
            <a:ext cx="289584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689080"/>
            <a:ext cx="213372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CF46-BB32-4A82-86CC-068970A0F6E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689080"/>
            <a:ext cx="213372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689080"/>
            <a:ext cx="289584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689080"/>
            <a:ext cx="213372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5D23-D1F0-4F82-ADB1-92CEC1D4253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689080"/>
            <a:ext cx="213372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689080"/>
            <a:ext cx="289584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689080"/>
            <a:ext cx="213372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DD74-44BE-4500-9F53-18DF1DC479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689080"/>
            <a:ext cx="213372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689080"/>
            <a:ext cx="289584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689080"/>
            <a:ext cx="213372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ACF6-9211-4AAB-83C9-F7180CB35F3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689080"/>
            <a:ext cx="213372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689080"/>
            <a:ext cx="289584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689080"/>
            <a:ext cx="213372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4FCA-7447-4C20-A258-E2A85963968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689080"/>
            <a:ext cx="213372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689080"/>
            <a:ext cx="289584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689080"/>
            <a:ext cx="213372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3557-93D8-43E7-9D76-A13DF35A35C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689080"/>
            <a:ext cx="213372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689080"/>
            <a:ext cx="289584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689080"/>
            <a:ext cx="213372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8FD2-73CD-4DD6-A856-A815B248FB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69560"/>
            <a:ext cx="82072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8000" y="1136160"/>
            <a:ext cx="892800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7286760" y="298440"/>
            <a:ext cx="1388880" cy="3128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CD677-B257-41BA-96FA-7C3DC51A76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76320" y="155736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汉真广标"/>
                <a:ea typeface="汉真广标"/>
              </a:rPr>
              <a:t>个性中秋节</a:t>
            </a:r>
            <a:r>
              <a:rPr b="0" lang="en-US" sz="3600" spc="-1" strike="noStrike">
                <a:solidFill>
                  <a:srgbClr val="ffffff"/>
                </a:solidFill>
                <a:latin typeface="汉真广标"/>
                <a:ea typeface="汉真广标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汉真广标"/>
                <a:ea typeface="汉真广标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2340000" y="2060280"/>
            <a:ext cx="640080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汉真广标"/>
              <a:ea typeface="汉真广标"/>
            </a:endParaRPr>
          </a:p>
        </p:txBody>
      </p:sp>
      <p:sp>
        <p:nvSpPr>
          <p:cNvPr id="538" name=""/>
          <p:cNvSpPr/>
          <p:nvPr/>
        </p:nvSpPr>
        <p:spPr>
          <a:xfrm>
            <a:off x="34920" y="5734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226960" y="42940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个性中秋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9:08:18Z</dcterms:created>
  <dc:creator>幻灯片之家 http://www.eeppt.com; pc</dc:creator>
  <dc:description>幻灯片之家 http://www.eeppt.com</dc:description>
  <cp:keywords>幻灯片之家 http:/www.eeppt.com; www.eeppt.com</cp:keywords>
  <dc:language>en-US</dc:language>
  <cp:lastModifiedBy>jccook</cp:lastModifiedBy>
  <dcterms:modified xsi:type="dcterms:W3CDTF">2015-08-14T12:50:34Z</dcterms:modified>
  <cp:revision>3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