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144-5034-4185-965B-E11B1D43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A4D-590A-4F2C-A45C-C71AB42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A81-233E-4D57-84EB-F881A9C3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B0C-6188-45B3-A590-14877CB4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783-BF29-4C38-B230-8B908E7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F64-B878-49F4-A06A-212583D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52E-BA46-408A-85B9-2990495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DE7-6A1D-48CF-9B0B-AC5F118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FCC-5D69-4A7A-B2F6-605A0E2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0D2-B6E5-457A-A999-E21D11A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D32-F969-48AB-BBDF-DA32F16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41C-E1A1-4000-AB16-584CC05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00C-8B99-464E-B81A-92AED1EF19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818-D945-4BAE-841E-11D4958E0E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4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6"/>
          <p:cNvSpPr/>
          <p:nvPr/>
        </p:nvSpPr>
        <p:spPr>
          <a:xfrm>
            <a:off x="-395280" y="3718080"/>
            <a:ext cx="5256360" cy="0"/>
          </a:xfrm>
          <a:prstGeom prst="line">
            <a:avLst/>
          </a:prstGeom>
          <a:ln w="28440">
            <a:solidFill>
              <a:srgbClr val="7f8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760" y="19432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1480320" y="27939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工作汇报简洁商务</a:t>
            </a: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2240" y="37893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汇报人：</a:t>
            </a:r>
            <a:r>
              <a:rPr b="1" lang="en-US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:\Users\Administrator\Desktop\2196977_140348093_2.jpg"/>
          <p:cNvPicPr/>
          <p:nvPr/>
        </p:nvPicPr>
        <p:blipFill>
          <a:blip r:embed="rId1"/>
          <a:stretch/>
        </p:blipFill>
        <p:spPr>
          <a:xfrm>
            <a:off x="5394240" y="1052640"/>
            <a:ext cx="3730680" cy="5256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14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7692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2236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 rot="10800000">
            <a:off x="5364000" y="1268280"/>
            <a:ext cx="2611440" cy="514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2195640" y="263700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1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5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6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27692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7"/>
          <p:cNvSpPr/>
          <p:nvPr/>
        </p:nvSpPr>
        <p:spPr>
          <a:xfrm>
            <a:off x="142236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5573880" y="1268280"/>
            <a:ext cx="3569760" cy="5256360"/>
            <a:chOff x="5573880" y="1268280"/>
            <a:chExt cx="3569760" cy="5256360"/>
          </a:xfrm>
        </p:grpSpPr>
        <p:pic>
          <p:nvPicPr>
            <p:cNvPr id="171" name="Picture 2" descr="C:\Users\Administrator\Desktop\2577733_154020018894_2.jpg"/>
            <p:cNvPicPr/>
            <p:nvPr/>
          </p:nvPicPr>
          <p:blipFill>
            <a:blip r:embed="rId2"/>
            <a:stretch/>
          </p:blipFill>
          <p:spPr>
            <a:xfrm flipH="1">
              <a:off x="5637600" y="1268280"/>
              <a:ext cx="350604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矩形 12"/>
            <p:cNvSpPr/>
            <p:nvPr/>
          </p:nvSpPr>
          <p:spPr>
            <a:xfrm rot="10800000">
              <a:off x="5573880" y="1268280"/>
              <a:ext cx="2610720" cy="5145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1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95640" y="263700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348000" y="2075040"/>
            <a:ext cx="5796000" cy="3827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3"/>
          <p:cNvSpPr/>
          <p:nvPr/>
        </p:nvSpPr>
        <p:spPr>
          <a:xfrm>
            <a:off x="3613320" y="1755720"/>
            <a:ext cx="1828800" cy="146160"/>
          </a:xfrm>
          <a:prstGeom prst="pie">
            <a:avLst/>
          </a:prstGeom>
          <a:noFill/>
          <a:ln w="1908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剪去单角的矩形 24"/>
          <p:cNvSpPr/>
          <p:nvPr/>
        </p:nvSpPr>
        <p:spPr>
          <a:xfrm>
            <a:off x="0" y="2060640"/>
            <a:ext cx="3203640" cy="3816360"/>
          </a:xfrm>
          <a:prstGeom prst="pie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179280" y="2565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4134240" y="14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4920" y="-28440"/>
            <a:ext cx="2160720" cy="2092320"/>
          </a:xfrm>
          <a:prstGeom prst="rect">
            <a:avLst/>
          </a:prstGeom>
          <a:ln w="0">
            <a:noFill/>
          </a:ln>
        </p:spPr>
      </p:pic>
      <p:sp>
        <p:nvSpPr>
          <p:cNvPr id="187" name="椭圆 26"/>
          <p:cNvSpPr/>
          <p:nvPr/>
        </p:nvSpPr>
        <p:spPr>
          <a:xfrm>
            <a:off x="3060720" y="1700280"/>
            <a:ext cx="647640" cy="64908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217440" y="-31428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-75564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3660840" y="1413000"/>
            <a:ext cx="7391160" cy="4752720"/>
          </a:xfrm>
          <a:prstGeom prst="rect">
            <a:avLst/>
          </a:prstGeom>
          <a:ln w="0">
            <a:noFill/>
          </a:ln>
        </p:spPr>
      </p:pic>
      <p:sp>
        <p:nvSpPr>
          <p:cNvPr id="195" name="矩形 37"/>
          <p:cNvSpPr/>
          <p:nvPr/>
        </p:nvSpPr>
        <p:spPr>
          <a:xfrm rot="10800000">
            <a:off x="3634920" y="1267920"/>
            <a:ext cx="3241800" cy="504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4"/>
          <p:cNvSpPr/>
          <p:nvPr/>
        </p:nvSpPr>
        <p:spPr>
          <a:xfrm>
            <a:off x="34308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35"/>
          <p:cNvSpPr/>
          <p:nvPr/>
        </p:nvSpPr>
        <p:spPr>
          <a:xfrm>
            <a:off x="343080" y="3186000"/>
            <a:ext cx="647640" cy="64764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36"/>
          <p:cNvSpPr/>
          <p:nvPr/>
        </p:nvSpPr>
        <p:spPr>
          <a:xfrm>
            <a:off x="343080" y="4292640"/>
            <a:ext cx="647640" cy="64908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1116000" y="205272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116000" y="32130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1116000" y="43560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0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94F-BADC-4DD6-A5D1-0328848C0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4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100160" y="177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谢谢聆听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896400" y="2781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这里输入公司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77220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名字长就两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797760" y="364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汇报人：某某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"/>
          <p:cNvSpPr/>
          <p:nvPr/>
        </p:nvSpPr>
        <p:spPr>
          <a:xfrm>
            <a:off x="-395280" y="2708280"/>
            <a:ext cx="3959280" cy="1440"/>
          </a:xfrm>
          <a:prstGeom prst="line">
            <a:avLst/>
          </a:prstGeom>
          <a:ln w="2844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表 1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83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5292720" y="2133720"/>
            <a:ext cx="316872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8"/>
          <p:cNvSpPr/>
          <p:nvPr/>
        </p:nvSpPr>
        <p:spPr>
          <a:xfrm flipH="1" rot="5691600">
            <a:off x="2655360" y="4493880"/>
            <a:ext cx="654120" cy="314280"/>
          </a:xfrm>
          <a:prstGeom prst="pie">
            <a:avLst/>
          </a:prstGeom>
          <a:solidFill>
            <a:srgbClr val="a8c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482920" y="4076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7fd5"/>
                </a:solidFill>
                <a:latin typeface="Arial"/>
                <a:ea typeface="宋体"/>
              </a:rPr>
              <a:t>37.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3851280" y="2492280"/>
            <a:ext cx="457200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9"/>
          <p:cNvSpPr/>
          <p:nvPr/>
        </p:nvSpPr>
        <p:spPr>
          <a:xfrm>
            <a:off x="3340080" y="3784680"/>
            <a:ext cx="1511280" cy="317520"/>
          </a:xfrm>
          <a:prstGeom prst="pie">
            <a:avLst/>
          </a:prstGeom>
          <a:noFill/>
          <a:ln w="25560">
            <a:solidFill>
              <a:srgbClr val="7cb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0"/>
          <p:cNvSpPr/>
          <p:nvPr/>
        </p:nvSpPr>
        <p:spPr>
          <a:xfrm>
            <a:off x="6804000" y="3784680"/>
            <a:ext cx="1511280" cy="317520"/>
          </a:xfrm>
          <a:prstGeom prst="pie">
            <a:avLst/>
          </a:prstGeom>
          <a:noFill/>
          <a:ln w="25560">
            <a:solidFill>
              <a:srgbClr val="7cb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表 21" descr=""/>
          <p:cNvPicPr/>
          <p:nvPr/>
        </p:nvPicPr>
        <p:blipFill>
          <a:blip r:embed="rId2"/>
          <a:stretch/>
        </p:blipFill>
        <p:spPr>
          <a:xfrm>
            <a:off x="682560" y="32846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图表 22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矩形 23"/>
          <p:cNvSpPr/>
          <p:nvPr/>
        </p:nvSpPr>
        <p:spPr>
          <a:xfrm>
            <a:off x="17658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2431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533304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6964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5729760" y="50767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75108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6"/>
          <p:cNvSpPr/>
          <p:nvPr/>
        </p:nvSpPr>
        <p:spPr>
          <a:xfrm>
            <a:off x="2322360" y="5013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27806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3608280" y="378936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8.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7059600" y="378936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9.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9"/>
          <p:cNvSpPr/>
          <p:nvPr/>
        </p:nvSpPr>
        <p:spPr>
          <a:xfrm>
            <a:off x="2406240" y="530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0"/>
          <p:cNvSpPr/>
          <p:nvPr/>
        </p:nvSpPr>
        <p:spPr>
          <a:xfrm>
            <a:off x="5790960" y="5364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1"/>
          <p:cNvSpPr/>
          <p:nvPr/>
        </p:nvSpPr>
        <p:spPr>
          <a:xfrm>
            <a:off x="2061000" y="313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5574960" y="313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63640" y="2276640"/>
          <a:ext cx="5616720" cy="2430360"/>
        </p:xfrm>
        <a:graphic>
          <a:graphicData uri="http://schemas.openxmlformats.org/drawingml/2006/table">
            <a:tbl>
              <a:tblPr/>
              <a:tblGrid>
                <a:gridCol w="1079640"/>
                <a:gridCol w="1681200"/>
                <a:gridCol w="1631880"/>
                <a:gridCol w="1224000"/>
              </a:tblGrid>
              <a:tr h="439560"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grid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4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30924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6" name="矩形 10"/>
          <p:cNvSpPr/>
          <p:nvPr/>
        </p:nvSpPr>
        <p:spPr>
          <a:xfrm>
            <a:off x="1763640" y="4851360"/>
            <a:ext cx="561672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2050920" y="1413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三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050920" y="1413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四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62200" y="1989000"/>
          <a:ext cx="7127640" cy="3747960"/>
        </p:xfrm>
        <a:graphic>
          <a:graphicData uri="http://schemas.openxmlformats.org/drawingml/2006/table">
            <a:tbl>
              <a:tblPr/>
              <a:tblGrid>
                <a:gridCol w="713880"/>
                <a:gridCol w="716040"/>
                <a:gridCol w="714600"/>
                <a:gridCol w="714240"/>
                <a:gridCol w="714240"/>
                <a:gridCol w="714600"/>
                <a:gridCol w="714240"/>
                <a:gridCol w="714240"/>
                <a:gridCol w="714600"/>
                <a:gridCol w="696960"/>
              </a:tblGrid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8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7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7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8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5" name="矩形 9"/>
          <p:cNvSpPr/>
          <p:nvPr/>
        </p:nvSpPr>
        <p:spPr>
          <a:xfrm>
            <a:off x="250920" y="1989000"/>
            <a:ext cx="136836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17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2200320" cy="468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9"/>
          <p:cNvGrpSpPr/>
          <p:nvPr/>
        </p:nvGrpSpPr>
        <p:grpSpPr>
          <a:xfrm>
            <a:off x="6154920" y="1989000"/>
            <a:ext cx="1003680" cy="1098000"/>
            <a:chOff x="6154920" y="1989000"/>
            <a:chExt cx="1003680" cy="1098000"/>
          </a:xfrm>
        </p:grpSpPr>
        <p:sp>
          <p:nvSpPr>
            <p:cNvPr id="107" name="TextBox 11"/>
            <p:cNvSpPr/>
            <p:nvPr/>
          </p:nvSpPr>
          <p:spPr>
            <a:xfrm>
              <a:off x="6154920" y="2718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2060"/>
                  </a:solidFill>
                  <a:latin typeface="Franklin Gothic Book"/>
                  <a:ea typeface="微软雅黑"/>
                </a:rPr>
                <a:t>这里输入要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2"/>
            <p:cNvSpPr/>
            <p:nvPr/>
          </p:nvSpPr>
          <p:spPr>
            <a:xfrm>
              <a:off x="6300720" y="1989000"/>
              <a:ext cx="647640" cy="648000"/>
            </a:xfrm>
            <a:prstGeom prst="ellipse">
              <a:avLst/>
            </a:prstGeom>
            <a:solidFill>
              <a:srgbClr val="accbf9"/>
            </a:solidFill>
            <a:ln w="25560">
              <a:solidFill>
                <a:srgbClr val="4772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13"/>
          <p:cNvSpPr/>
          <p:nvPr/>
        </p:nvSpPr>
        <p:spPr>
          <a:xfrm>
            <a:off x="414360" y="1989000"/>
            <a:ext cx="5597640" cy="1310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067280" y="1473120"/>
            <a:ext cx="4930560" cy="461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6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11940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"/>
          <p:cNvSpPr/>
          <p:nvPr/>
        </p:nvSpPr>
        <p:spPr>
          <a:xfrm>
            <a:off x="329400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395280" y="2708280"/>
            <a:ext cx="273672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 rot="1581000">
            <a:off x="6983280" y="2881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团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5940360" cy="433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 rot="10800000">
            <a:off x="3203280" y="1973160"/>
            <a:ext cx="4321080" cy="44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4056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属于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48564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403280" y="2057400"/>
            <a:ext cx="273708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4056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48564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1260360" y="263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260360" y="20415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591080" cy="34477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47" name="矩形 12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21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5:31Z</dcterms:modified>
  <cp:revision>1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