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D3F-FF8A-49C4-BAD8-6D1F1D39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F5A-F451-47DB-B0C5-A54DE04C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2D7-D27C-4C5F-BEE8-228B3EC7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FD9-115C-47DF-A3B2-0414F19B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996-F669-427A-BC4C-7A6BB85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12F-8E00-4DDA-8EA5-0C44DA7F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798-325F-45A9-BF57-71ECCDEB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445-D75A-416D-A021-A167267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A16-9819-4A0A-BBB9-AED487FC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E08-4DA8-4902-97E7-4F60FC4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209-DF03-447F-AC99-CBC79DCC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C9A-AB6C-474F-B075-311ACB89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355A-3323-4B37-9D81-E05C5142EF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E878-389E-4253-8416-9E8DE017C9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0" y="2038320"/>
            <a:ext cx="9144000" cy="261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2276640"/>
            <a:ext cx="9144000" cy="216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1860120" y="27874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汇报蓝灰简约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3708360" y="1484280"/>
            <a:ext cx="5184720" cy="484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95280" y="57168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97320" y="2657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282920" y="3789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4282920" y="47671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9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67800" y="260280"/>
            <a:ext cx="119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成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0" y="404640"/>
            <a:ext cx="9144000" cy="431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39640" y="35337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82560" y="5084640"/>
            <a:ext cx="8082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点儿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单圆角矩形 2"/>
          <p:cNvSpPr/>
          <p:nvPr/>
        </p:nvSpPr>
        <p:spPr>
          <a:xfrm>
            <a:off x="8388360" y="189000"/>
            <a:ext cx="576360" cy="5111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单圆角矩形 5"/>
          <p:cNvSpPr/>
          <p:nvPr/>
        </p:nvSpPr>
        <p:spPr>
          <a:xfrm rot="5400000">
            <a:off x="7956000" y="5732280"/>
            <a:ext cx="1440000" cy="576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290080" y="68112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喵喵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十字箭头 14"/>
          <p:cNvSpPr/>
          <p:nvPr/>
        </p:nvSpPr>
        <p:spPr>
          <a:xfrm>
            <a:off x="1025640" y="765000"/>
            <a:ext cx="6659280" cy="5651640"/>
          </a:xfrm>
          <a:custGeom>
            <a:avLst/>
            <a:gdLst>
              <a:gd name="textAreaLeft" fmla="*/ 0 w 6659280"/>
              <a:gd name="textAreaRight" fmla="*/ 6659640 w 6659280"/>
              <a:gd name="textAreaTop" fmla="*/ 0 h 5651640"/>
              <a:gd name="textAreaBottom" fmla="*/ 5652000 h 565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80" y="10067"/>
                </a:lnTo>
                <a:lnTo>
                  <a:pt x="1080" y="10617"/>
                </a:lnTo>
                <a:lnTo>
                  <a:pt x="10617" y="10617"/>
                </a:lnTo>
                <a:lnTo>
                  <a:pt x="10617" y="1080"/>
                </a:lnTo>
                <a:lnTo>
                  <a:pt x="10067" y="1080"/>
                </a:lnTo>
                <a:lnTo>
                  <a:pt x="10800" y="0"/>
                </a:lnTo>
                <a:lnTo>
                  <a:pt x="11533" y="1080"/>
                </a:lnTo>
                <a:lnTo>
                  <a:pt x="10983" y="1080"/>
                </a:lnTo>
                <a:lnTo>
                  <a:pt x="10983" y="10617"/>
                </a:lnTo>
                <a:lnTo>
                  <a:pt x="20520" y="10617"/>
                </a:lnTo>
                <a:lnTo>
                  <a:pt x="20520" y="10067"/>
                </a:lnTo>
                <a:lnTo>
                  <a:pt x="21600" y="10800"/>
                </a:lnTo>
                <a:lnTo>
                  <a:pt x="20520" y="11533"/>
                </a:lnTo>
                <a:lnTo>
                  <a:pt x="20520" y="10983"/>
                </a:lnTo>
                <a:lnTo>
                  <a:pt x="10983" y="10983"/>
                </a:lnTo>
                <a:lnTo>
                  <a:pt x="10983" y="20520"/>
                </a:lnTo>
                <a:lnTo>
                  <a:pt x="11533" y="20520"/>
                </a:lnTo>
                <a:lnTo>
                  <a:pt x="10800" y="21600"/>
                </a:lnTo>
                <a:lnTo>
                  <a:pt x="10067" y="20520"/>
                </a:lnTo>
                <a:lnTo>
                  <a:pt x="10617" y="20520"/>
                </a:lnTo>
                <a:lnTo>
                  <a:pt x="10617" y="10983"/>
                </a:lnTo>
                <a:lnTo>
                  <a:pt x="1080" y="10983"/>
                </a:lnTo>
                <a:lnTo>
                  <a:pt x="1080" y="11533"/>
                </a:lnTo>
                <a:close/>
              </a:path>
            </a:pathLst>
          </a:custGeom>
          <a:solidFill>
            <a:srgbClr val="cfd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5"/>
          <p:cNvSpPr/>
          <p:nvPr/>
        </p:nvSpPr>
        <p:spPr>
          <a:xfrm>
            <a:off x="1413000" y="1131840"/>
            <a:ext cx="2763720" cy="226224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6480" rIns="186480" tIns="186480" bIns="18648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4533840" y="1131840"/>
            <a:ext cx="2763720" cy="226224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6480" rIns="186480" tIns="186480" bIns="18648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7"/>
          <p:cNvSpPr/>
          <p:nvPr/>
        </p:nvSpPr>
        <p:spPr>
          <a:xfrm>
            <a:off x="1413000" y="3789360"/>
            <a:ext cx="2763720" cy="237636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98000" bIns="19800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4535640" y="3760920"/>
            <a:ext cx="2763720" cy="2404800"/>
          </a:xfrm>
          <a:prstGeom prst="pi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0520" rIns="200520" tIns="200520" bIns="200520" anchor="t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单圆角矩形 2"/>
          <p:cNvSpPr/>
          <p:nvPr/>
        </p:nvSpPr>
        <p:spPr>
          <a:xfrm>
            <a:off x="8461440" y="189000"/>
            <a:ext cx="503280" cy="5111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单圆角矩形 5"/>
          <p:cNvSpPr/>
          <p:nvPr/>
        </p:nvSpPr>
        <p:spPr>
          <a:xfrm rot="5400000">
            <a:off x="7991640" y="5767920"/>
            <a:ext cx="1440000" cy="50508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395280" y="765000"/>
            <a:ext cx="144360" cy="71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8388360" y="530064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汪汪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826920" y="1844640"/>
            <a:ext cx="7345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682560" y="765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205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2FB-E435-42E6-A270-0330C36E5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2"/>
          <p:cNvSpPr/>
          <p:nvPr/>
        </p:nvSpPr>
        <p:spPr>
          <a:xfrm>
            <a:off x="0" y="2038320"/>
            <a:ext cx="9144000" cy="2614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0" y="2276640"/>
            <a:ext cx="9144000" cy="2160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44520" y="27874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37:00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5:32Z</dcterms:modified>
  <cp:revision>2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